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284400" cy="69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E0B3BEE8-2141-4E42-843F-32C41F85906F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Img"/>
          </p:nvPr>
        </p:nvSpPr>
        <p:spPr>
          <a:xfrm>
            <a:off x="2898720" y="531360"/>
            <a:ext cx="3487680" cy="261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body"/>
          </p:nvPr>
        </p:nvSpPr>
        <p:spPr>
          <a:xfrm>
            <a:off x="1239840" y="3324240"/>
            <a:ext cx="6802560" cy="3147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562200" y="291960"/>
            <a:ext cx="2565720" cy="1924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45800" y="2274840"/>
            <a:ext cx="8915400" cy="4430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marL="228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1144EBAE-5F28-4814-9EB1-14E356531638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62320" y="407880"/>
            <a:ext cx="3033720" cy="227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0360" y="2736720"/>
            <a:ext cx="861084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F5F9F2EC-1FB9-4F5E-AE67-845B76ADED02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193920" y="374760"/>
            <a:ext cx="2799000" cy="2098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98440" y="250812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11B0-45FB-4656-B34A-6AA17E7C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676D-9E3E-44AB-916B-06C8C037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D24F-C5DD-4BFD-905E-8D6B0EAE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2C3D-05E2-49C0-8E8A-C3D19396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6D7B-DEF8-480F-BF1F-1FBAD456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4DBB-9569-4CA5-8B0B-5269BB52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5B1C-46FB-442B-94C7-84DA5EB1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2B2E-D880-4688-9D59-AFE2A352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3A22-5A05-4790-959F-B355A4F3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6022-1950-495D-9F6B-84EB0AA4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C5BD-806F-4973-B45C-F1F4B547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AA3F-D902-4EAE-B0DD-9D7A7C15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AA92-A1E0-4303-A288-90E13785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D3F9-1658-4CD3-93A0-FEEF01FF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77C3-1E5A-4335-9923-8FCD3A02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8668-1439-4C0C-91D1-C4F8601A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9FA6-A0FA-4D56-BE8A-B54DF74D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E434-980B-45E3-8461-E7CF0061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A0F7-84BD-4C7D-9AD1-B3A0161D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7235-8F76-41E0-8F58-62A9E330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F726-AAE7-47F7-8F2E-7B6B4B8C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F30D-67DD-42E2-AE57-1C2F19C5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411C-1037-464B-B294-4BDC7723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F90B-3F23-4A01-88D4-63C438A2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B4FF-9C43-44AB-AE6E-4DF18A9180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4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AE5F-5DB9-461E-B1EF-FB042F3081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48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19047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Update on Current Status on the Development o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South East Europe Transport Are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6400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Brussels, 10 September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4800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V. N. OLIEVSCH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The World B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498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railway performance is highly dependent of the neighboring rai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for achieving a better quality railway serv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 Gover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Sol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chronized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5715000"/>
            <a:ext cx="7391520" cy="914400"/>
          </a:xfrm>
          <a:prstGeom prst="rect">
            <a:avLst/>
          </a:prstGeom>
          <a:solidFill>
            <a:srgbClr val="fc0128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Railway Transpor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  <a:ea typeface="Times New Roman"/>
              </a:rPr>
              <a:t>Could become the railway a sustainable solution for a larger market share (2) ?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SEE Railway Transport Area Targets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1: -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Effective regulatory institutions for the rail s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2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Separation, management independence, market orientation and social dim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3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Access to the market, inter-operability and railway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4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Financial stability and transpar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5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 – Facilitate border cro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Institutional Framework</a:t>
            </a: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52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andum of Understanding on the Development of the South East Europe Core Regional Transport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ddendum to the MoU for the South East European Railway Transpor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tional Financing Institutions Advisory Group  (IFI AG) – Operational Working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s created by the MoU on the Development of the South East Europe Core Regional Transport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sterial Counc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ering Committe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ariat – SE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 Group on Railway and inter-modal poli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ordination of the implementation of the SEE Railway Transport Are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95800" y="2693880"/>
            <a:ext cx="82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ank you for the kind attention 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880" y="6019920"/>
            <a:ext cx="38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sile Olievsch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-mail: volievschi@worldbank.or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u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46483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ore network defined by MoU (June 2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3 European Corrid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4254 km = 2731 km Corridors + 1533 km ro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3454560"/>
          <a:ext cx="6400800" cy="340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54560"/>
                    <a:ext cx="64008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114800" y="380880"/>
          <a:ext cx="4876920" cy="3962520"/>
        </p:xfrm>
        <a:graphic>
          <a:graphicData uri="http://schemas.openxmlformats.org/drawingml/2006/table">
            <a:tbl>
              <a:tblPr/>
              <a:tblGrid>
                <a:gridCol w="1905120"/>
                <a:gridCol w="1143000"/>
                <a:gridCol w="914400"/>
                <a:gridCol w="914400"/>
              </a:tblGrid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ailway networ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orridor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oute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Total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lban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osnia &amp; Herzegov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roat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7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0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NMIK/Koso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FYR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5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5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Montenegr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Serb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7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6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3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Total Length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,7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,5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2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53360" y="60948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Length of Core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89160" y="4952880"/>
            <a:ext cx="316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technical con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f the Core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(17 % not evaluat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How much does it cost 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the railway infrastructure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80880" y="1981080"/>
          <a:ext cx="8458200" cy="2057400"/>
        </p:xfrm>
        <a:graphic>
          <a:graphicData uri="http://schemas.openxmlformats.org/drawingml/2006/table">
            <a:tbl>
              <a:tblPr/>
              <a:tblGrid>
                <a:gridCol w="6400800"/>
                <a:gridCol w="20574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verage price for 1km modernization on international Corrid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– 2.5 million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verage price for 1 km general overhaul of tr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4 – 0.5 million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541440" y="4565520"/>
            <a:ext cx="8335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alization of the South East European 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ional Transport Development Plan may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nimum 2 billion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fd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The Railway Infrastructure - is it enough for a competitive rail system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Infrastructures are not an end in themselves. They deliver their promises by offering high quality services </a:t>
            </a:r>
            <a:r>
              <a:rPr b="0" i="1" lang="en-US" sz="2800" spc="-1" strike="noStrike" u="sng">
                <a:solidFill>
                  <a:srgbClr val="fafd00"/>
                </a:solidFill>
                <a:uFillTx/>
                <a:latin typeface="Arial"/>
              </a:rPr>
              <a:t>only if efficiently managed</a:t>
            </a: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ailway infrastructure is part of a very complex system including operations of freight and passenger transportation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esently, the response of the railway sector to the challenges of the market development is not very cl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Outlook for Railway Transportation Sector in South East Europe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Railway Reform in the Western Balkans“ – The World Bank Study –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xamines the challenges facing the railways of the Western Balkans region (2006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rastic traffic decrease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10 billion passenger-km in 1990 versus 2.8 billion passenger-km in 200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20 billion ton-km in 1990 versus 8.1 billion ton-km in 200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Poor resource productiv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frastructure and rolling stock - damaged in the conflict and little investment in the last 15 yea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bearable need of operating and capital subsidies from the state bud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way Labor Productivity [UIC – 2005]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458200" cy="602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847960" y="3990960"/>
            <a:ext cx="106668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52640" y="4343400"/>
            <a:ext cx="149076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7960" y="4695840"/>
            <a:ext cx="167652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057640"/>
            <a:ext cx="2238480" cy="1526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2360" y="5410080"/>
            <a:ext cx="1676160" cy="1526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47960" y="5776920"/>
            <a:ext cx="38088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52640" y="1114560"/>
            <a:ext cx="502920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lway Traffic Intensity [UIC – 2005]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184400"/>
            <a:ext cx="9144000" cy="5673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00200" y="4572000"/>
            <a:ext cx="257040" cy="2095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81280" y="3552840"/>
            <a:ext cx="228600" cy="12193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14800" y="4010040"/>
            <a:ext cx="228600" cy="7621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47960" y="3857760"/>
            <a:ext cx="228600" cy="91440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81480" y="3933720"/>
            <a:ext cx="228600" cy="8384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2160" y="3552840"/>
            <a:ext cx="228600" cy="12193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534520" y="1800360"/>
            <a:ext cx="228600" cy="297180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  <a:ea typeface="Times New Roman"/>
              </a:rPr>
              <a:t>Could become the railway a sustainable solution for a larger market share (1) ?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reight forwarders and logistic services work on a competitive basi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or most of the railways being more competitive means to overcome the problems existing toda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ow quality servic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ack of capac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ost disadvant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mall dimension of each railway in S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0T14:29:12Z</dcterms:created>
  <dc:creator>teo</dc:creator>
  <dc:description/>
  <cp:keywords/>
  <dc:language>en-US</dc:language>
  <cp:lastModifiedBy>Vasile Olievschi</cp:lastModifiedBy>
  <cp:lastPrinted>2006-11-27T18:36:02Z</cp:lastPrinted>
  <dcterms:modified xsi:type="dcterms:W3CDTF">2007-09-09T21:46:13Z</dcterms:modified>
  <cp:revision>807</cp:revision>
  <dc:subject>proces resturcturare</dc:subject>
  <dc:title>SNCFR</dc:title>
</cp:coreProperties>
</file>