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15138" cy="995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DD38-4310-4902-9B08-0CEAEEAD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4C7-806A-40C3-A915-A310CEAC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797-84CF-44F3-ABB7-4B7D25B9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4BB7-D191-4FED-8CD1-123AE6E9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D047-BEE6-425B-BF02-A6990C6C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33C6-70B0-4CE4-9E63-A8311F4D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A621-F7FA-4548-A23D-965EE996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2538-727F-47B8-8B4C-39EAFEEA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46EC-4583-4B86-B75A-3B61A03F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2989-D14B-42A3-A602-15338165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AB32-EE86-4193-B60F-580B0E13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5800-8353-4ABF-82D0-C3C70D33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1263-BEE0-4C0C-AB98-A5BE8A46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586C-CDAC-4A11-A3B0-5DD00E6B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69A1-8C6C-4C2E-9ABE-338580D8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7467-3028-4EAB-AD7B-8BD1128C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AE45-5C60-4BA6-9EB4-B5AA7219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83D6-98C6-4DA6-B9D4-4D12E71C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CF53-6579-4D42-9A14-1FECCF08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235A-30CB-434A-AD8C-A93EF14C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7213-5B60-4A26-ABD6-578F8274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8E1B-AAA5-4E9A-A656-8B3CB509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25D-F9E6-4106-AD11-4BB46F32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B866-289F-45BA-AA52-01A92B24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789F-B09A-48D6-A2F1-DDE05D4DA57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48640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86A8-7EFD-4FBD-8CD6-2DB18D0710E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486400" cy="568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FI AG Meeting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ussel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0 September 2007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ulti Annual Plan for the Development of the South East Europe Core Transport Network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008-201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9F46-AB01-4C39-BC86-4FF88CCA2D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ilways and other mo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ew RW bottleneck limits introduced and discussion on capac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Limitations and Further Needs Outlined everywhe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ew indicators for Seaports and Airport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Border crossings extended with Transport agreements in the reg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Table with RW border crossing time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C80F-886D-49BD-AAA5-7B2EE4A2E1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Border Cross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13 external and 18 internal road border crossings on the Core Net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omplex procedures, difficult data colle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oad waiting times impro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Verdana"/>
              </a:rPr>
              <a:t>Rail waiting times much greater than those at road border cross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367-DBCD-4DFA-82CB-9ACC134744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nsport Policy and Sector Reform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2920" indent="-412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port sector reforms necessary for achieving EU policies and for efficient use of infrastructure and invest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-412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in issue is not what or how to reform but w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7967-DD54-4337-A355-8ABE07F1A3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ecific Objectives for soft measures 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ogramm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in MAP 2008-12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oad Reform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Enhancing regional interest through coherence with actions in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Providing safer – and consequently better managed roa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order crossing facil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ail Reform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Regional approach to infrastructure manage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ommon Network Statement in line with EU Dir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eveloping common conditions for access to the network and scale of user charg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 eliminate delays for freight and passengers at border crossing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EC94-C09E-4A18-9A26-63B0DE956D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dicative Priority Project Lis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350 projects submitt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SEETO until MAP 2008-2012 of which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228 projects evaluated and prioritize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30 projects in priority project list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ed in the MAP 2008-12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 project groups with 39 individual subprojec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B48D-1060-420D-98B2-CB7B9652BB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gramm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priority list of projects takes into accoun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e most </a:t>
            </a: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strategically important individual projects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Balanced network development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rridors (16 projects); Routes (9) terminals (5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Modal balance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Road (13), Rail (11) Waterway (1), Airports (4) Sea Port (1) 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Regional balance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roject </a:t>
            </a: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preparatory status: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easibility studies or completed design 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20, but 10 at early stag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A7DD-000C-467C-8063-7BA287A91F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Results, Monitoring and Eval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Verdana"/>
              </a:rPr>
              <a:t>Important to appreciate result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Verdana"/>
              </a:rPr>
              <a:t>Related to strategic objectives for the MAP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1. Enhancing regional interest, coop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mmon regulations, common rail network statement, open access, common levels of service for road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tegrated border management, regional agreements, negligible waiting tim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2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Stimulating Economi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condition of infrastructu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travel times on route and border crossing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creased traffic, more on rai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3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Efficient / Effective Management / modal bala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Deregulation of sector advanced / complete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New independent regulatory authorities in place and workin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Autonomous and commercially orientated sub-sectoral organisations in plac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Equitable tolls/user charges in place for road and rail covering expens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More long distance passenger movements by public transport, more long distance freight by train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2719-71C7-4F5D-9EAE-520385D5FE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Results, Monitoring and Eval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sults expected cont.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4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Social Integration, improving living conditions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 accessibility to services, better connectivity between social group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Less congestion, more efficient operations, minimal waiting times at border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nsumer protection laws for all transport user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etter energy efficiency, lower carbon us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latively lower emission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5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Improved safety and secur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afer operations, road fatalities approaching that of EU average 3 per million vehicl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afer train operation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etter public transport securit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6.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Adopting common technical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nically interoperable transport and communications system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mon inter-modal transport plan, equipment, terminals common operating standards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6CD4-B538-4890-87EB-BABFEA2B18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UTCOME OF MA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nhance credibility of beneficiaries to negotiate necessary funding for the proj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ternally justify allocation of available resour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ttract donors (esp. financial/ technical   assistance for soft measures) and attention of  IF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itiate possible private sector involv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Raise interest of users, enhance cooperation in cross- border funding and promote PP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Core Network as vehicle for peace, stability and development in South-East Europ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SEETO to continue implementation and monitor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60A8-CEA0-4FD6-8333-51E4616508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nitoring Implement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Important to monitor result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Developing indicators and monitoring historic results continuousl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SEETO web site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s a focal point for data dissemination and sharing informat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C78C-51A3-4AC1-8341-006B2DFF28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U establishes requirement for annual MAP prepa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eering Committee had 3 meetings in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 Chairman elected at the 1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C Meeting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ational Coordinators have met for the 6th times at Ohri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il and Intermodal Working Group has met 3 times in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6-10 adopted by SC in April, 2006, Montenegr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7-11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pproved by the SC  (November 2006, Croati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dopted at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Verdana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 A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3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rd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8-12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pproval by the SC  (October 2006, Croati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doption at the 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Verdana"/>
              </a:rPr>
              <a:t>rd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 A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0E6-77C5-4D4C-938B-29895980E7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Verdana"/>
              </a:rPr>
              <a:t>Thank you for your attention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2485-0582-408B-8E82-F799424892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bjectives for the MAP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der obj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 facilitate social and economic development in South East  Europ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pecific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put focus on regional coop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rovide</a:t>
            </a: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 a base of information on the performance of the core net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provide a programme of soft mesur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list the projects with the highest priority investment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provide a regional planning and programming too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encourage and harmonise reform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408F-A350-4544-96CA-BA9462CA52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rovements MAP 2007-11 to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P 2008-1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Regional emphasis on projects by introducing Chapter 4 focusing on CN corridor and road leve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eparate Chapter dedicated to priority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everal project pools according to matur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roject Cycle Management as a monitoring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ocus on regional approach, missing links, intermodal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dditional information from the new Questionnaire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Core Network Modification Propos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New (sub)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85F2-5DED-4877-9745-56097A801E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Condition and performance of the Core Networ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Core road network: 43% is classified as good or very good. Improvement of 15% since the REBIS assesment. Bottlenecks can affect about 8 % of roa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Core railway network: 10% of network was graded as good condition. On 20% of network there are up to 20 trains per day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Inland waterways traffic flows for 2005 were 14,3 million tons of cargo and 60000 passenger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7 Sea Ports – over 2 million passengers; over 22 million tons, over 150,000 teus container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11 airports, 8 million passengers, 20,000 tons of carg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782E-FFBC-479E-BAD1-F139327554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ttleneck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New better methodology, Based on Road Capacity and Level of Service (LO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ssuming that LOS worst than “C” is a bottlenec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dentifying Bottlenecks for 201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63D2-2323-4BBA-A2AD-27424584A2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affic Forecast for 20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recast based on GDP and Population (REBIS methodology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recasted traffic calculated per section, with accepted elasticity of 1.5 for roa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dentifying future traffic we are forecasting Bottlenecks which coud occur in the futu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95FC-4959-4F39-A666-B035BB4DFF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ad Safe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8600" y="1266840"/>
          <a:ext cx="866916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66840"/>
                    <a:ext cx="866916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17A7-9372-4C58-A78B-B2F02035A9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cessibi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In terms of travel time needed to reach a specific destination from a specific origin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Along specific corridor and route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rom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border to border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along Core Network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Between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major pole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of the region, along the Core Network, i.e. major cities and/or ports and airport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s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travel time contour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(of 1h, 2h, 4h, 6h, etc)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around the major po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40FD-122E-46E7-841A-5472A04B17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8:12:10Z</dcterms:created>
  <dc:creator> </dc:creator>
  <dc:description/>
  <dc:language>en-US</dc:language>
  <cp:lastModifiedBy> </cp:lastModifiedBy>
  <dcterms:modified xsi:type="dcterms:W3CDTF">2007-09-10T07:16:43Z</dcterms:modified>
  <cp:revision>78</cp:revision>
  <dc:subject/>
  <dc:title>ISG Presentation for MAP 2008-12</dc:title>
</cp:coreProperties>
</file>