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130BB-C5AD-43AD-837E-070D9E5B2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484C2-D989-4700-9E8D-B7F19FD2C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92048-0DAD-437D-8527-A687E7940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84400-1CA2-4557-B648-F1A5B0797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CAB88-FA9A-4B0C-B042-953799BE7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1732B-BA39-4DD5-B514-1C1581BFF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1CF64-F98D-41C8-9798-7383C37DF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4C05D-48E2-422E-A24D-77227A020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6994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487EB-CA3A-494F-97B0-AC3D738E1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47742-1C7C-4031-9F54-4EB9D190C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CE252-042A-4931-B9B2-78ED77636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0A0CB-1849-43F3-8A71-EF2194E51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BD68B-2874-423E-ADAE-9048B55E55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" name=""/>
          <p:cNvGraphicFramePr/>
          <p:nvPr/>
        </p:nvGraphicFramePr>
        <p:xfrm>
          <a:off x="7667640" y="0"/>
          <a:ext cx="1476360" cy="836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67640" y="0"/>
                    <a:ext cx="1476360" cy="83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EIB FUNDING FOR TRANSPORT PROJECTS </a:t>
            </a:r>
            <a:br>
              <a:rPr sz="4000"/>
            </a:b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Western Balkans 2003-2007</a:t>
            </a:r>
            <a:br>
              <a:rPr sz="40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10/09/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403280" y="4508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-396720" y="549360"/>
          <a:ext cx="9144000" cy="5737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96720" y="549360"/>
                    <a:ext cx="9144000" cy="573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324000" y="-27000"/>
          <a:ext cx="8364240" cy="634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-27000"/>
                    <a:ext cx="8364240" cy="634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-181080" y="476280"/>
          <a:ext cx="9144000" cy="600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81080" y="476280"/>
                    <a:ext cx="9144000" cy="600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833400" y="695160"/>
          <a:ext cx="7964640" cy="499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3400" y="695160"/>
                    <a:ext cx="7964640" cy="499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399960" y="512640"/>
          <a:ext cx="8012160" cy="604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9960" y="512640"/>
                    <a:ext cx="8012160" cy="604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463680" y="1600200"/>
          <a:ext cx="821520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3680" y="1600200"/>
                    <a:ext cx="821520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/>
          <p:nvPr/>
        </p:nvSpPr>
        <p:spPr>
          <a:xfrm>
            <a:off x="395280" y="692280"/>
            <a:ext cx="828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GNED TRANSPORT FUNDING VOLUMES IN THE WESTERN BALKANS BY SECTOR 2003-20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971640" y="692280"/>
            <a:ext cx="770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BURSED TRANSPORT FUNDING VOLUMES IN THE WESTERN BALKANS BY SECTOR 2003-20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468360" y="1495440"/>
          <a:ext cx="821520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495440"/>
                    <a:ext cx="821520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5T08:25:45Z</dcterms:created>
  <dc:creator>MIHALJCI</dc:creator>
  <dc:description/>
  <dc:language>en-US</dc:language>
  <cp:lastModifiedBy>MARTINK</cp:lastModifiedBy>
  <dcterms:modified xsi:type="dcterms:W3CDTF">2007-09-10T10:43:07Z</dcterms:modified>
  <cp:revision>21</cp:revision>
  <dc:subject/>
  <dc:title>Slide 1</dc:title>
</cp:coreProperties>
</file>