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DC5E-B01F-4255-ACD2-E448816B4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D98E-3AA4-4B7E-A972-6FC332AB9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CA99-5935-4068-96F2-17E4DAC55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343A-B9A8-4935-B6BF-15F451013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5AAD-0981-4101-85F3-1C2B77223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5971-CFB9-4326-83E8-1AE280065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6A39-DA85-4463-B171-CB03F13ED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85C1-3053-4EA5-A0FB-D54489A2A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4C91-496D-4F14-AE0C-9EEB22D2E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8685-994C-40BE-85A6-6AC887C9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D5BB-B32D-4270-8DA9-230EDFF1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092F-A0B1-4A6C-A6A7-2A942F8F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17ADE-7B9D-4DC5-848E-EC97880C9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667640" y="0"/>
          <a:ext cx="1476360" cy="83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67640" y="0"/>
                    <a:ext cx="147636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EIB FUNDING FOR TRANSPORT PROJECTS 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Western Balkans 2003-2007</a:t>
            </a:r>
            <a:br>
              <a:rPr sz="40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10/09/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-396720" y="549360"/>
          <a:ext cx="9144000" cy="573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96720" y="549360"/>
                    <a:ext cx="9144000" cy="57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24000" y="-27000"/>
          <a:ext cx="8364240" cy="634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-27000"/>
                    <a:ext cx="8364240" cy="63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-181080" y="476280"/>
          <a:ext cx="9144000" cy="600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1080" y="476280"/>
                    <a:ext cx="9144000" cy="60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833400" y="695160"/>
          <a:ext cx="7964640" cy="499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3400" y="695160"/>
                    <a:ext cx="7964640" cy="499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99960" y="512640"/>
          <a:ext cx="8012160" cy="604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512640"/>
                    <a:ext cx="8012160" cy="604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63680" y="1600200"/>
          <a:ext cx="82152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600200"/>
                    <a:ext cx="82152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395280" y="69228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GNED TRANSPORT FUNDING VOLUMES IN THE WESTERN BALKANS BY SECTOR 2003-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71640" y="69228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BURSED TRANSPORT FUNDING VOLUMES IN THE WESTERN BALKANS BY SECTOR 2003-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68360" y="1495440"/>
          <a:ext cx="82152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95440"/>
                    <a:ext cx="82152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08:25:45Z</dcterms:created>
  <dc:creator>MIHALJCI</dc:creator>
  <dc:description/>
  <dc:language>en-US</dc:language>
  <cp:lastModifiedBy>MARTINK</cp:lastModifiedBy>
  <dcterms:modified xsi:type="dcterms:W3CDTF">2007-09-10T10:43:07Z</dcterms:modified>
  <cp:revision>21</cp:revision>
  <dc:subject/>
  <dc:title>Slide 1</dc:title>
</cp:coreProperties>
</file>