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15138" cy="995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9922-4DA1-40EF-A905-F41915979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330B-20F0-4B30-BE3B-0F950DA3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1443-3688-4828-8535-BBE22BC3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234F-7B02-43D9-85CF-60091B950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BEBF-C053-49BA-9232-3D44E9A0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DF7C-BC86-431A-8DAF-0D7A5343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AABC-85EC-4A18-B09B-1224DD8D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7A06-FAF9-4FEC-A7BA-0D632C42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C17C-71CC-48E6-B389-7666BC29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7A8E-4B73-47DE-9D45-F17BE552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4167-9E53-424F-AFB9-ADBB4BF9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AAE7-55B4-427F-9704-EC060A14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4C83-C9B7-41B3-971B-6B2369E3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B074-7546-4B50-B4F5-2F7E57A8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0BF4-77D7-4162-A5F7-3E39ED54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1DB8-BFA6-46CD-883D-A66702C11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25E0-EF8A-4414-BD17-BABAB99AB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662A-9D40-4163-A973-D2A5C895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F736-51C4-4695-9BC1-F4E64144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ABC2-CD37-4309-8E81-B7C80AB3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9C5C-1FDF-4756-BAC1-17D8D787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FB86-EDA6-4F99-A0D1-668DAD79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041E-D368-4A5D-AC2E-9D0286B0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9280-90BD-4BCB-AEFB-D2910227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ETO South East Europe Transport Observat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E322-8290-4A11-8435-90C0BF855DF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5486400" cy="56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ETO South East Europe Transport Observat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CA51-2CCC-4859-A45A-A6645B20DDF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5486400" cy="568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FI AG Meeting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ussels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0 September 2007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ulti Annual Plan for the Development of the South East Europe Core Transport Network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2008-201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DD6F-D706-413F-98D9-6091017D7A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ilways and other mod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New RW bottleneck limits introduced and discussion on capac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Limitations and Further Needs Outlined everywhe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New indicators for Seaports and Airports introduc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Border crossings extended with Transport agreements in the reg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Table with RW border crossing times introduc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3120-8E2F-4E00-801F-366379ED60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Border Crossing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13 external and 18 internal road border crossings on the Core Netw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omplex procedures, difficult data colle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Road waiting times improv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Verdana"/>
              </a:rPr>
              <a:t>Rail waiting times much greater than those at road border crossing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7BA1-47FF-481E-86D8-801CEEBEF4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ansport Policy and Sector Reform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2920" indent="-4129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nsport sector reforms necessary for achieving EU policies and for efficient use of infrastructure and invest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-4129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in issue is not what or how to reform but wh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789B-C4FF-4DE0-BC88-14DFC3A1F8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pecific Objectives for soft measures 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rogramm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in MAP 2008-12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Road Reform Obj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Enhancing regional interest through coherence with actions in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Providing safer – and consequently better managed roa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Border crossing facil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Rail Reform Obj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Regional approach to infrastructure manage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Common Network Statement in line with EU Dir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Developing common conditions for access to the network and scale of user charg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To eliminate delays for freight and passengers at border crossing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B01A-3367-460C-B980-02D83BF1E7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dicative Priority Project Lis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350 projects submitt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o SEETO until MAP 2008-2012 of which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228 projects evaluated and prioritized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30 projects in priority project list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ed in the MAP 2008-12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9 project groups with 39 individual subproject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591A-1A30-4F5D-BE82-CAA044FC9D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gramm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priority list of projects takes into account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he most </a:t>
            </a: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strategically important individual projects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Balanced network development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orridors (16 projects); Routes (9) terminals (5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Modal balance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: Road (13), Rail (11) Waterway (1), Airports (4) Sea Port (1) 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Regional balance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roject </a:t>
            </a: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preparatory status: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feasibility studies or completed design 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20, but 10 at early stag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790F-9538-4320-BFEB-801167351B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ected Results, Monitoring and Evalua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Verdana"/>
              </a:rPr>
              <a:t>Important to appreciate result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Verdana"/>
              </a:rPr>
              <a:t>Related to strategic objectives for the MAP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1. Enhancing regional interest, coope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Common regulations, common rail network statement, open access, common levels of service for road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ntegrated border management, regional agreements, negligible waiting tim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2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Stimulating Economic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mproved condition of infrastructu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mproved travel times on route and border crossing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ncreased traffic, more on rai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3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Efficient / Effective Management / modal bala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Deregulation of sector advanced / completed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New independent regulatory authorities in place and working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Autonomous and commercially orientated sub-sectoral organisations in plac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Equitable tolls/user charges in place for road and rail covering expens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More long distance passenger movements by public transport, more long distance freight by train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BFAB-19D1-467D-8B8F-7E1BF8511B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ected Results, Monitoring and Evalua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sults expected cont.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4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Social Integration, improving living conditions environ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mproved  accessibility to services, better connectivity between social group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Less congestion, more efficient operations, minimal waiting times at border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consumer protection laws for all transport user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Better energy efficiency, lower carbon use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latively lower emission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5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Improved safety and secur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Safer operations, road fatalities approaching that of EU average 3 per million vehicl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Safer train operation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Better public transport securit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6.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Adopting common technical stand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chnically interoperable transport and communications system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mon inter-modal transport plan, equipment, terminals common operating standards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F2C1-A5FC-4431-8BFB-4AB4D3387B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UTCOME OF MA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Enhance credibility of beneficiaries to negotiate necessary funding for the proje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Internally justify allocation of available resour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ttract donors (esp. financial/ technical   assistance for soft measures) and attention of  IF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Initiate possible private sector involv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Raise interest of users, enhance cooperation in cross- border funding and promote PP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Core Network as vehicle for peace, stability and development in South-East Europ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SEETO to continue implementation and monitor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C569-0012-42F4-97D6-430D5996B1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nitoring Implement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Important to monitor results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(Developing indicators and monitoring historic results continuously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SEETO web site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s a focal point for data dissemination and sharing informat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1E3A-42BB-4626-AF88-777FDE4B0C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ackgroun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U establishes requirement for annual MAP prepar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teering Committee had 3 meetings in 200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w Chairman elected at the 1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SC Meeting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ational Coordinators have met for the 6th times at Ohri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ail and Intermodal Working Group has met 3 times in 200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1</a:t>
            </a:r>
            <a:r>
              <a:rPr b="0" lang="en-US" sz="1800" spc="-1" strike="noStrike" baseline="30000">
                <a:solidFill>
                  <a:srgbClr val="ffff00"/>
                </a:solidFill>
                <a:latin typeface="Verdana"/>
              </a:rPr>
              <a:t>st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MAP 2006-10 adopted by SC in April, 2006, Montenegr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Map 2007-11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pproved by the SC  (November 2006, Croatia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dopted at the 2</a:t>
            </a:r>
            <a:r>
              <a:rPr b="0" lang="en-US" sz="1600" spc="-1" strike="noStrike" baseline="30000">
                <a:solidFill>
                  <a:srgbClr val="ffff00"/>
                </a:solidFill>
                <a:latin typeface="Verdana"/>
              </a:rPr>
              <a:t>nd</a:t>
            </a: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 A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3</a:t>
            </a:r>
            <a:r>
              <a:rPr b="0" lang="en-US" sz="1800" spc="-1" strike="noStrike" baseline="30000">
                <a:solidFill>
                  <a:srgbClr val="ffff00"/>
                </a:solidFill>
                <a:latin typeface="Verdana"/>
              </a:rPr>
              <a:t>rd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Map 2008-12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pproval by the SC  (October 2006, Croatia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doption at the 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Verdana"/>
              </a:rPr>
              <a:t>rd</a:t>
            </a: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 A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3A7D-13CB-48BA-B400-618DFF46E2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Verdana"/>
              </a:rPr>
              <a:t>Thank you for your attention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3976-CA80-430F-8282-56FD4BE6BD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bjectives for the MAP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ider objecti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To facilitate social and economic development in South East  Europ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pecific Obj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To put focus on regional coope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To 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provide</a:t>
            </a: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 a base of information on the performance of the core net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To provide a programme of soft mesure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To list the projects with the highest priority investment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To provide a regional planning and programming too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To encourage and harmonise reform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4C26-A1C8-4B07-B755-6CADC70A50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rovements MAP 2007-11 to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P 2008-12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Regional emphasis on projects by introducing Chapter 4 focusing on CN corridor and road leve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Separate Chapter dedicated to priority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Several project pools according to matur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Project Cycle Management as a monitoring 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Focus on regional approach, missing links, intermodal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Additional information from the new Questionnaires introduc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Core Network Modification Propos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New (sub)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852B-C489-4CB0-8AA5-629D22B40A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Condition and performance of the Core Networ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Core road network: 43% is classified as good or very good. Improvement of 15% since the REBIS assesment. Bottlenecks can affect about 8 % of road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Core railway network: 10% of network was graded as good condition. On 20% of network there are up to 20 trains per day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Inland waterways traffic flows for 2005 were 14,3 million tons of cargo and 60000 passenger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7 Sea Ports – over 2 million passengers; over 22 million tons, over 150,000 teus containers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11 airports, 8 million passengers, 20,000 tons of carg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2C90-6BB1-44D2-98A3-15A962490F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ottleneck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New better methodology, Based on Road Capacity and Level of Service (LO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Assuming that LOS worst than “C” is a bottlenec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Identifying Bottlenecks for 201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EA77-5EFE-4AB4-869B-A11990B159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affic Forecast for 201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orecast based on GDP and Population (REBIS methodology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orecasted traffic calculated per section, with accepted elasticity of 1.5 for road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Identifying future traffic we are forecasting Bottlenecks which coud occur in the futur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CC12-509B-48C1-9D39-C926986E04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ad Safe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28600" y="1266840"/>
          <a:ext cx="8669160" cy="434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66840"/>
                    <a:ext cx="866916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2526-6D4D-457D-A74E-96B72EDCCB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cessibil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In terms of travel time needed to reach a specific destination from a specific origin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Along specific corridor and routes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From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border to border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along Core Network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Between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major poles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of the region, along the Core Network, i.e. major cities and/or ports and airports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as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travel time contours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(of 1h, 2h, 4h, 6h, etc)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around the major pol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CA71-A202-4FFB-A61F-B34954A98F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08:12:10Z</dcterms:created>
  <dc:creator> </dc:creator>
  <dc:description/>
  <dc:language>en-US</dc:language>
  <cp:lastModifiedBy> </cp:lastModifiedBy>
  <dcterms:modified xsi:type="dcterms:W3CDTF">2007-09-10T07:16:43Z</dcterms:modified>
  <cp:revision>78</cp:revision>
  <dc:subject/>
  <dc:title>ISG Presentation for MAP 2008-12</dc:title>
</cp:coreProperties>
</file>