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BDA-BDC6-41AF-A029-597673F6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782-E608-4AD9-9F58-359E9A3F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302-F7A1-4E3B-A3B8-13E28271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842C-B57C-4B8F-A82A-DEBCBD65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921-E0F5-4785-A043-3A8201C2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CBB6-5110-4754-9763-FA34BEB0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1603-59EA-4BE4-B1E9-769FC835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B43A-475D-4A2B-8484-C3DCDB92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B74F-FB0E-44DF-AE15-AC05684A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EA9-785D-4189-A473-B6C013CE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F48-FC27-40D5-866F-8F108192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03A-7C92-42FD-865A-9336228A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887C-C6C7-420D-90A3-A5C0084B1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67640" y="0"/>
          <a:ext cx="147636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0"/>
                    <a:ext cx="14763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IB FUNDING FOR TRANSPORT PROJECTS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estern Balkans 2003-2007</a:t>
            </a:r>
            <a:br>
              <a:rPr sz="4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0/09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396720" y="549360"/>
          <a:ext cx="9144000" cy="57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549360"/>
                    <a:ext cx="9144000" cy="57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-27000"/>
          <a:ext cx="8364240" cy="63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-27000"/>
                    <a:ext cx="836424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-181080" y="476280"/>
          <a:ext cx="914400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476280"/>
                    <a:ext cx="914400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33400" y="695160"/>
          <a:ext cx="7964640" cy="49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695160"/>
                    <a:ext cx="796464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9960" y="512640"/>
          <a:ext cx="8012160" cy="604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512640"/>
                    <a:ext cx="8012160" cy="60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5280" y="692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1640" y="692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49544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9544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8:25:45Z</dcterms:created>
  <dc:creator>MIHALJCI</dc:creator>
  <dc:description/>
  <dc:language>en-US</dc:language>
  <cp:lastModifiedBy>MARTINK</cp:lastModifiedBy>
  <dcterms:modified xsi:type="dcterms:W3CDTF">2007-09-10T10:43:07Z</dcterms:modified>
  <cp:revision>21</cp:revision>
  <dc:subject/>
  <dc:title>Slide 1</dc:title>
</cp:coreProperties>
</file>