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284400" cy="69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C8880A4F-65E3-4432-B99B-744EC465EF3F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Img"/>
          </p:nvPr>
        </p:nvSpPr>
        <p:spPr>
          <a:xfrm>
            <a:off x="2898720" y="531360"/>
            <a:ext cx="3487680" cy="261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body"/>
          </p:nvPr>
        </p:nvSpPr>
        <p:spPr>
          <a:xfrm>
            <a:off x="1239840" y="3324240"/>
            <a:ext cx="6802560" cy="3147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562200" y="291960"/>
            <a:ext cx="2565720" cy="19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45800" y="2274840"/>
            <a:ext cx="8915400" cy="443088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marL="228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37D0DD73-F5C4-407B-959C-F725B1E4C633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62320" y="407880"/>
            <a:ext cx="3033720" cy="227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0360" y="2736720"/>
            <a:ext cx="861084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29236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C9CF4FE4-29D5-485C-8CA0-DD93874FC81C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0" y="6608520"/>
            <a:ext cx="3979800" cy="392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292360" y="-3240"/>
            <a:ext cx="3979800" cy="3110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193920" y="374760"/>
            <a:ext cx="2799000" cy="2098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98440" y="250812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192-429E-44EE-82B4-F5509241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ECD-32CE-4C8F-A805-B75CC921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D6D-4856-4B87-9F64-D8856F50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BF2-964F-4899-853C-5D242D81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0532-D6F5-4B27-96BD-065B2D76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C390-EC00-4098-BAE9-D788BF87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88AC-8388-4C35-B1CD-E5B6EBA1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6F8D-C4DE-420E-B7EB-5C3EC79D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491B-9F92-4B3F-875E-1D02EB87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73E7-25F2-495B-B809-00AB6F9D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C143-D95A-477F-9F66-B597335F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0CD-DDCE-451E-B4C1-36618017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B463-1FC4-4C21-8824-C1BBFDD8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32AB-7E9F-4469-8752-C53A452E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31B0-C3AD-4AE9-9125-15B6E4D6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DDFC-8474-461A-8A5F-41B297DD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2E5E-4CD2-4838-BA65-3F37F820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022-2EAC-4445-8DF3-D2244278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759-BEC7-4C18-9DD2-6CD94FC5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D71-6516-4D27-B557-390CA524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F8C1-EE82-4404-B63F-E91E821E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AE4-7759-4872-B76C-A26CC9B7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F5B4-5AA0-47EE-A523-245781FF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32D3-7070-4A6D-A18A-98B33551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DB3D-6B27-4355-BAB6-8CB503F34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BE5C-D061-47AF-BC70-C5B7D6CBE6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8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19047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Update on Current Status on the Developmen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vantGarde Bk BT"/>
              </a:rPr>
              <a:t>South East Europe Transport Are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6400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Brussels, 10 September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4800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. N. OLIEVSCH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he World 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498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railway performance is highly dependent of the neighboring rai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s for achieving a better quality railway serv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 Gover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nized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715000"/>
            <a:ext cx="7391520" cy="914400"/>
          </a:xfrm>
          <a:prstGeom prst="rect">
            <a:avLst/>
          </a:prstGeom>
          <a:solidFill>
            <a:srgbClr val="fc012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2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SEE Railway Transport Area Targets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1: -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Effective regulatory institutions for the rail s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2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eparation, management independence, market orientation and social 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3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Access to the market, inter-operability and railway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4 –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Financial stability and transpar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afd00"/>
                </a:solidFill>
                <a:latin typeface="Arial"/>
              </a:rPr>
              <a:t>Target 5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– Facilitate border cro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he Institutional Framework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andum of Understanding on the Development of the South East Europe Core Regional Transport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ddendum to the MoU for the South East European Railway Transpor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 Financing Institutions Advisory Group  (IFI AG) – Operational Work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s created by the MoU on the Development of the South East Europe Core Regional Transport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sterial 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ering Committ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iat – SE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Group on Railway and inter-modal poli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ordination of the implementation of the SEE Railway Transport Are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5800" y="2693880"/>
            <a:ext cx="82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ank you for the kind attention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880" y="601992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sile Olievsch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-mail: volievschi@worldbank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Core network defined by MoU (June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3 European Corrid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4254 km = 2731 km Corridors + 1533 km ro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3454560"/>
          <a:ext cx="6400800" cy="340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54560"/>
                    <a:ext cx="64008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114800" y="380880"/>
          <a:ext cx="4876920" cy="3962520"/>
        </p:xfrm>
        <a:graphic>
          <a:graphicData uri="http://schemas.openxmlformats.org/drawingml/2006/table">
            <a:tbl>
              <a:tblPr/>
              <a:tblGrid>
                <a:gridCol w="1905120"/>
                <a:gridCol w="1143000"/>
                <a:gridCol w="914400"/>
                <a:gridCol w="91440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ailway net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orridor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oute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s [k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lban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Bosnia &amp; Herzegov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roat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0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NMIK/Koso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FYR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5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ontenegr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erb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7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6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3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otal Lengt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,7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1,5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42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53360" y="6094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Length of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89160" y="4952880"/>
            <a:ext cx="31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technical 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f the Core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(17 % not evalua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How much does it cost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1981080"/>
          <a:ext cx="8458200" cy="2057400"/>
        </p:xfrm>
        <a:graphic>
          <a:graphicData uri="http://schemas.openxmlformats.org/drawingml/2006/table">
            <a:tbl>
              <a:tblPr/>
              <a:tblGrid>
                <a:gridCol w="6400800"/>
                <a:gridCol w="20574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km modernization on international Corrid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– 2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rice for 1 km general overhaul of tr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 – 0.5 millio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1440" y="4565520"/>
            <a:ext cx="8335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alization of the South East European 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onal Transport Development Plan may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nimum 2 billio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fd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The Railway Infrastructure - is it enough for a competitive rail system ?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Infrastructures are not an end in themselves. They deliver their promises by offering high quality services </a:t>
            </a:r>
            <a:r>
              <a:rPr b="0" i="1" lang="en-US" sz="2800" spc="-1" strike="noStrike" u="sng">
                <a:solidFill>
                  <a:srgbClr val="fafd00"/>
                </a:solidFill>
                <a:uFillTx/>
                <a:latin typeface="Arial"/>
              </a:rPr>
              <a:t>only if efficiently managed</a:t>
            </a:r>
            <a:r>
              <a:rPr b="0" i="1" lang="en-US" sz="2800" spc="-1" strike="noStrike">
                <a:solidFill>
                  <a:srgbClr val="fafd00"/>
                </a:solidFill>
                <a:latin typeface="Arial"/>
              </a:rPr>
              <a:t>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ilway infrastructure is part of a very complex system including operations of freight and passenger transportatio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resently, the response of the railway sector to the challenges of the market development is not very cl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utlook for Railway Transportation Sector in South East Europe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Railway Reform in the Western Balkans“ – The World Bank Study –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xamines the challenges facing the railways of the Western Balkans region (2006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Drastic traffic decrease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10 billion passenger-km in 1990 versus 2.8 billion passenger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20 billion ton-km in 1990 versus 8.1 billion ton-km in 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Poor resource productiv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rastructure and rolling stock - damaged in the conflict and little investment in the last 15 ye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bearable need of operating and capital subsidies from the state bud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way Labor Productivity [UIC – 2005]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58200" cy="602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47960" y="3990960"/>
            <a:ext cx="10666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52640" y="4343400"/>
            <a:ext cx="149076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7960" y="4695840"/>
            <a:ext cx="167652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057640"/>
            <a:ext cx="223848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2360" y="5410080"/>
            <a:ext cx="1676160" cy="1526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7960" y="5776920"/>
            <a:ext cx="38088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52640" y="1114560"/>
            <a:ext cx="502920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lway Traffic Intensity [UIC – 2005]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00200" y="4572000"/>
            <a:ext cx="257040" cy="2095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8128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14800" y="4010040"/>
            <a:ext cx="228600" cy="7621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47960" y="3857760"/>
            <a:ext cx="228600" cy="9144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81480" y="3933720"/>
            <a:ext cx="228600" cy="83844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2160" y="3552840"/>
            <a:ext cx="228600" cy="121932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1800360"/>
            <a:ext cx="228600" cy="2971800"/>
          </a:xfrm>
          <a:prstGeom prst="rect">
            <a:avLst/>
          </a:pr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  <a:ea typeface="Times New Roman"/>
              </a:rPr>
              <a:t>Could become the railway a sustainable solution for a larger market share (1) ?</a:t>
            </a:r>
            <a:r>
              <a:rPr b="0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reight forwarders and logistic services work on a competitive basi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or most of the railways being more competitive means to overcome the problems existing toda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ow quality servic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k of capac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st disadvan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mall dimension of each railway in S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14:29:12Z</dcterms:created>
  <dc:creator>teo</dc:creator>
  <dc:description/>
  <cp:keywords/>
  <dc:language>en-US</dc:language>
  <cp:lastModifiedBy>Vasile Olievschi</cp:lastModifiedBy>
  <cp:lastPrinted>2006-11-27T18:36:02Z</cp:lastPrinted>
  <dcterms:modified xsi:type="dcterms:W3CDTF">2007-09-09T21:46:13Z</dcterms:modified>
  <cp:revision>807</cp:revision>
  <dc:subject>proces resturcturare</dc:subject>
  <dc:title>SNCFR</dc:title>
</cp:coreProperties>
</file>