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ECA-7914-4898-BF31-CA3C536F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17B-F3BA-45EF-919B-A1EF39F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262-9002-4B0F-AC95-965920B2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4FA-FBE8-4E52-A6DC-ECBF12EA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AC2D-C6B8-4152-A164-B8531D2E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285-A0A1-42E4-BAFD-3C15AA5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5484-3708-48A6-A4D9-4574FEBE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1CF9-2D51-4B4B-89BC-778A50F7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1EA7-D827-4F4E-BFEF-C088584B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7D29-C75B-4A8A-BC6E-D2872D0C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182F-34E8-42AD-9DE0-62672A8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D36-38C0-4474-AC3D-939CFDF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EAC4-B1E4-4CFB-A718-61ABF8DA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790-52AA-445A-B0E8-F12DD4D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FC2D-457D-45FE-9FB6-8449E518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64B1-BF0C-4387-A990-46AAF073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8DB6-1148-47DB-8E74-B1F50C7B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9DF-34EB-40DC-B4B5-DC6928F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69E-A548-42AB-8653-041BE59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FF0-12B4-4ED1-8352-69B4446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8BC-E536-40F0-A68C-ACDC45A9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E39-9BBF-40BB-B61F-BF69EE8D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0B7-D585-4327-9D82-C8596F6C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2B5-0AE3-47C1-B09C-55199A1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8A4-07E1-40EF-9BC3-635F2C3F75C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65FF-1C6B-44E7-A5EA-400B84339B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FI AG Mee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ussel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September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ulti Annual Plan for the Development of the South East Europe Core Transport Network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008-201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ED70-D0E7-47C2-BE82-76E91459F2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ways and other mo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RW bottleneck limits introduced and discussion on capac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imitations and Further Needs Outlined everywhe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ew indicators for Seaports and Airport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Border crossings extended with Transport agreements in the reg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able with RW border crossing tim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DD3-F892-43DB-944C-C314413E2F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Border Cross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13 external and 18 internal road border crossings on the Core Net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lex procedures, difficult data colle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ad waiting times impro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Rail waiting times much greater than those at road border cross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283-EAE4-4AAE-9B09-B4559AE76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nsport Policy and Sector Refor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 sector reforms necessary for achieving EU policies and for efficient use of infrastructure and invest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-4129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in issue is not what or how to reform but wh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12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9B6-EF6D-4D5C-A7DB-F1E404C16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fic Objectives for soft measures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gramm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in MAP 2008-12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oad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Enhancing regional interest through coherence with actions in other count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viding safer – and consequently better managed roa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order crossing facili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ail Reform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egional approach to infrastructure manag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mmon Network Statement in line with EU Dir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Developing common conditions for access to the network and scale of user char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eliminate delays for freight and passengers at border cross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DE6-42B8-43F0-A58B-1FD20EAAD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icative Priority Project Li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50 projects submitte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to SEETO until MAP 2008-2012 of which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228 projects evaluated and prioritiz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30 projects in priority project list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ed in the MAP 2008-1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 project groups with 39 individual subprojec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4DE-40BE-414A-BDE6-1308B4B11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iority list of projects takes into accou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The mos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strategically important individual projects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Balanced network development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rridors (16 projects); Routes (9) terminals (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Modal balance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: Road (13), Rail (11) Waterway (1), Airports (4) Sea Port (1)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Regional balanc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Project </a:t>
            </a:r>
            <a:r>
              <a:rPr b="0" lang="en-GB" sz="2600" spc="-1" strike="noStrike">
                <a:solidFill>
                  <a:srgbClr val="ffff00"/>
                </a:solidFill>
                <a:latin typeface="Verdana"/>
              </a:rPr>
              <a:t>preparatory status: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feasibility studies or completed design </a:t>
            </a:r>
            <a:r>
              <a:rPr b="0" lang="en-GB" sz="2600" spc="-1" strike="noStrike">
                <a:solidFill>
                  <a:srgbClr val="ffffff"/>
                </a:solidFill>
                <a:latin typeface="Verdana"/>
              </a:rPr>
              <a:t>20, but 10 at early stag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EA8-6621-4728-8B34-DDEACAB86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Important to appreciate resul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Verdana"/>
              </a:rPr>
              <a:t>Related to strategic objectives for the MA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1. Enhancing regional interest,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mmon regulations, common rail network statement, open access, common levels of service for road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tegrated border management, regional agreements, negligible waiting tim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2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timulating Economi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condition of infrastruc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travel times on route and border crossing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ncreased traffic, more on ra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3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Efficient / Effective Management / modal bal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eregulation of sector advanced / complet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ew independent regulatory authorities in place and wor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Autonomous and commercially orientated sub-sectoral organisations in pla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quitable tolls/user charges in place for road and rail covering expens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More long distance passenger movements by public transport, more long distance freight by train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BC9-D782-46A9-A2DD-692E706BF7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pected Results, Monitoring and Evalua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sults expected cont.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4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Social Integration, improving living conditions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Improved  accessibility to services, better connectivity between social group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Less congestion, more efficient operations, minimal waiting times at border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consumer protection laws for all transport us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energy efficiency, lower carbon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latively lower emission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5.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Verdana"/>
              </a:rPr>
              <a:t>Improved safety and securit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operations, road fatalities approaching that of EU average 3 per million vehic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Safer train opera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etter public transport securi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6.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Adopting common technical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ically interoperable transport and communications syste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mon inter-modal transport plan, equipment, terminals common operating standards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2E5-E115-480C-AE53-9636E27B1E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 OF M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nhance credibility of beneficiaries to negotiate necessary funding for the proj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ally justify allocation of available re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tract donors (esp. financial/ technical   assistance for soft measures) and attention of  IF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itiate possible private sector invol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aise interest of users, enhance cooperation in cross- border funding and promote PP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Core Network as vehicle for peace, stability and development in South-East Europ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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Verdana"/>
              </a:rPr>
              <a:t>SEETO to continue implementation and monito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A8B-A48A-453B-ADE9-9B9DCE89A8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nitoring Implement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Important to monitor result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Developing indicators and monitoring historic results continuousl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SEETO web site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s a focal point for data dissemination and sharing inform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B93-44BE-423A-9C88-38AF68688C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U establishes requirement for annual MAP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ering Committee had 3 meeting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Chairman elected at the 1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ional Coordinators have met for the 6th times at Ohr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il and Intermodal Working Group has met 3 times in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st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6-10 adopted by SC in April, 2006, Montenegr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7-11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ed by the SC  (Novem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ed at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18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Map 2008-12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pproval by the SC  (October 2006, Croatia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adoption at the 3</a:t>
            </a:r>
            <a:r>
              <a:rPr b="0" lang="en-US" sz="1600" spc="-1" strike="noStrike" baseline="30000">
                <a:solidFill>
                  <a:srgbClr val="ffff00"/>
                </a:solidFill>
                <a:latin typeface="Verdana"/>
              </a:rPr>
              <a:t>rd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 A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E14-3347-47F6-9B2C-362F62176A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Verdana"/>
              </a:rPr>
              <a:t>Thank you for your attention!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F6A-7C0F-4662-99A5-938C060ECA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 for the MA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der obj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o facilitate social and economic development in South East  Europ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pecific Objectiv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ut focus on regional coope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vide</a:t>
            </a: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 a base of information on the performance of the core net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provide a programme of soft mesu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To list the projects with the highest priority invest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provide a regional planning and programming too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To encourage and harmonise reform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48332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61D-4CCF-4E24-A745-142DC493D0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rovements MAP 2007-11 to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2008-1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Regional emphasis on projects by introducing Chapter 4 focusing on CN corridor and road leve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parate Chapter dedicated to priority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Several project pools according to matur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Project Cycle Management as a monitor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ocus on regional approach, missing links, intermodal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dditional information from the new Questionnaires introduc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Core Network Modification Propo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New (sub)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271-523B-4E9C-BBD1-DB9FFD745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ccecff"/>
                </a:solidFill>
                <a:latin typeface="Arial"/>
              </a:rPr>
              <a:t>Condition and performance of the Core Networ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oad network: 43% is classified as good or very good. Improvement of 15% since the REBIS assesment. Bottlenecks can affect about 8 % of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00"/>
                </a:solidFill>
                <a:latin typeface="Verdana"/>
              </a:rPr>
              <a:t>Core railway network: 10% of network was graded as good condition. On 20% of network there are up to 20 trains per day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Inland waterways traffic flows for 2005 were 14,3 million tons of cargo and 60000 passeng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7 Sea Ports – over 2 million passengers; over 22 million tons, over 150,000 teus container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11 airports, 8 million passengers, 20,000 tons of car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253-8A46-4810-BB97-D5032E9BA9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ottleneck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New better methodology, Based on Road Capacity and Level of Service (L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ssuming that LOS worst than “C” is a bottlenec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Bottlenecks for 20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C81-BDAA-4617-AF56-ECE7C0ED2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ffic Forecast for 201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 based on GDP and Population (REBIS methodolog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recasted traffic calculated per section, with accepted elasticity of 1.5 for roa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Identifying future traffic we are forecasting Bottlenecks which coud occur in the futu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7BB-4E9C-450A-9E5B-F6741E5B4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ad Safe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" y="1266840"/>
          <a:ext cx="866916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66916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AC1-BD94-4947-8162-D541A2457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ces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n terms of travel time needed to reach a specific destination from a specific origin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long specific corridor and rout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From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border to border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along Core Network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Between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major pole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of the region, along the Core Network, i.e. major cities and/or ports and airports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as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travel time contours</a:t>
            </a:r>
            <a:r>
              <a:rPr b="0" lang="en-GB" sz="2000" spc="-1" strike="noStrike">
                <a:solidFill>
                  <a:srgbClr val="ffff00"/>
                </a:solidFill>
                <a:latin typeface="Verdana"/>
              </a:rPr>
              <a:t> (of 1h, 2h, 4h, 6h, etc) </a:t>
            </a:r>
            <a:r>
              <a:rPr b="1" lang="en-GB" sz="2000" spc="-1" strike="noStrike">
                <a:solidFill>
                  <a:srgbClr val="ffff00"/>
                </a:solidFill>
                <a:latin typeface="Verdana"/>
              </a:rPr>
              <a:t>around the major po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464-126D-44D7-8A57-2CE441B9E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 </cp:lastModifiedBy>
  <dcterms:modified xsi:type="dcterms:W3CDTF">2007-09-10T07:16:43Z</dcterms:modified>
  <cp:revision>78</cp:revision>
  <dc:subject/>
  <dc:title>ISG Presentation for MAP 2008-12</dc:title>
</cp:coreProperties>
</file>