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A70-13F8-4D3F-94CA-C5B55BB3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34E-AD90-4468-AD59-41E71D3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6F9-9142-4CD7-A83B-CBA0DA25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E88-D551-4911-B98D-31187E97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DF4-36EE-4932-BC86-9996FEC4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A1E-B0A9-4454-985D-E2E7FFDE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467-8583-4F42-9BB7-4D14C558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306-BD35-48DD-AB7D-D0284808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E79-27B6-487D-BA04-17F0EA2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2E8-10EF-4C44-AD9C-9EC3699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180-CEC0-43B6-8521-BA42412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25A-59F8-44A8-AD5A-B4BB60EF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B710-E15C-4CE4-9162-9038E6BAD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67640" y="0"/>
          <a:ext cx="147636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0"/>
                    <a:ext cx="1476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IB FUNDING FOR TRANSPORT PROJECTS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estern Balkans 2003-2007</a:t>
            </a:r>
            <a:br>
              <a:rPr sz="4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0/09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396720" y="549360"/>
          <a:ext cx="914400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549360"/>
                    <a:ext cx="914400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-27000"/>
          <a:ext cx="8364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-27000"/>
                    <a:ext cx="8364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-181080" y="476280"/>
          <a:ext cx="9144000" cy="60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76280"/>
                    <a:ext cx="9144000" cy="60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3400" y="695160"/>
          <a:ext cx="79646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695160"/>
                    <a:ext cx="7964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9960" y="512640"/>
          <a:ext cx="801216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512640"/>
                    <a:ext cx="801216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692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692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BURSED TRANSPORT FUNDING VOLUMES IN THE WESTERN BALKANS BY SECTOR 2003-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4954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954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25:45Z</dcterms:created>
  <dc:creator>MIHALJCI</dc:creator>
  <dc:description/>
  <dc:language>en-US</dc:language>
  <cp:lastModifiedBy>MARTINK</cp:lastModifiedBy>
  <dcterms:modified xsi:type="dcterms:W3CDTF">2007-09-10T10:43:07Z</dcterms:modified>
  <cp:revision>21</cp:revision>
  <dc:subject/>
  <dc:title>Slide 1</dc:title>
</cp:coreProperties>
</file>