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604891D9-5EB5-4804-B62A-EEB37C7AD992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Img"/>
          </p:nvPr>
        </p:nvSpPr>
        <p:spPr>
          <a:xfrm>
            <a:off x="2898720" y="531360"/>
            <a:ext cx="348768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body"/>
          </p:nvPr>
        </p:nvSpPr>
        <p:spPr>
          <a:xfrm>
            <a:off x="1239840" y="3324240"/>
            <a:ext cx="6802560" cy="3147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562200" y="291960"/>
            <a:ext cx="2565720" cy="19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45800" y="2274840"/>
            <a:ext cx="8915400" cy="4430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marL="228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6D853DEE-7C0A-4E2E-BBEC-3DA1569761D1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62320" y="407880"/>
            <a:ext cx="3033720" cy="227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0360" y="2736720"/>
            <a:ext cx="86108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EF68AB63-C3F9-4AB5-9F47-A07EE43619A0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193920" y="374760"/>
            <a:ext cx="2799000" cy="2098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98440" y="250812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424-FC28-4642-B541-C3593BFC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B30-C4FC-45CA-801F-10B9A84D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066-8E17-4B75-9248-4E161665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6C0-C0D1-4609-B760-9E599C72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AF0F-05A2-4915-9870-9A5C9FDE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F428-17C8-4D6C-B63F-5DFBEE66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2EFA-A8B1-4693-89A5-1C62BBD4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6D36-27EF-4195-B8E3-9AE17AE6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D652-860E-4F4D-9750-241993A6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2E7C-3DCF-4304-B21F-E0D780FC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EA9F-6AC4-45E6-9CC8-DE429F52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1D3-47E1-4D36-A5D4-771EA38F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EA54-7030-4D3E-8FDF-FE02BEB6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242A-6093-444B-AC8A-793F1029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657A-444A-46F6-866F-2C61BF7D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680E-ED56-4167-8BFB-0B99A5D2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D65D-056B-419C-8D36-997EBB16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018-8280-4D77-93DB-5419CFD0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DAC-6365-429C-94BB-BC17FD46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2CE-1637-40BB-AB6C-8A4DCDB7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C6C-3B76-4BA3-8F7B-834E2D1C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FCF-23AC-4090-9E66-BD04D1FA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111-1CEA-43FB-BF26-C81193C4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F59-F2AA-4C4D-BAD1-F457088B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53F8-BCF9-46CA-9C0D-975F8EFA1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EBF9-256B-42B8-9ABC-8233BEBBA6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8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Update on Current Status on the Developmen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South East Europe Transport Are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6400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russels, 10 September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. N. OLIEVSC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he World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49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railway performance is highly dependent of the neighboring rai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for achieving a better quality railway serv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 Gover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ed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715000"/>
            <a:ext cx="7391520" cy="914400"/>
          </a:xfrm>
          <a:prstGeom prst="rect">
            <a:avLst/>
          </a:prstGeom>
          <a:solidFill>
            <a:srgbClr val="fc012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2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EE Railway Transport Area Targets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1: -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Effective regulatory institutions for the rail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2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eparation, management independence, market orientation and social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3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ccess to the market, inter-operability and railway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4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Financial stability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5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– Facilitate border cro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Institutional Framework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andum of Understanding on the Development of the South East Europe Core Regional Transport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ddendum to the MoU for the South East European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Financing Institutions Advisory Group  (IFI AG) – Operational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created by the MoU on the Development of the South East Europe Core Regional Transport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erial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ering Committ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iat – SE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Group on Railway and inter-modal poli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ordination of the implementation of the SEE Railway Transport Are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5800" y="2693880"/>
            <a:ext cx="82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ank you for the kind attention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880" y="60199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sile Olievsc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-mail: volievschi@worldbank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ore network defined by MoU (June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 European Corrid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254 km = 2731 km Corridors + 1533 km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3454560"/>
          <a:ext cx="6400800" cy="340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54560"/>
                    <a:ext cx="64008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14800" y="380880"/>
          <a:ext cx="4876920" cy="3962520"/>
        </p:xfrm>
        <a:graphic>
          <a:graphicData uri="http://schemas.openxmlformats.org/drawingml/2006/table">
            <a:tbl>
              <a:tblPr/>
              <a:tblGrid>
                <a:gridCol w="1905120"/>
                <a:gridCol w="1143000"/>
                <a:gridCol w="914400"/>
                <a:gridCol w="914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ailway net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rridor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oute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lban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osnia &amp; Herzegov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roat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0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NMIK/Koso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YR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ontenegr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erb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6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 Leng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,7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,5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53360" y="6094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Length of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89160" y="495288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technical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f the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17 % not evalua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ow much does it cost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981080"/>
          <a:ext cx="8458200" cy="2057400"/>
        </p:xfrm>
        <a:graphic>
          <a:graphicData uri="http://schemas.openxmlformats.org/drawingml/2006/table">
            <a:tbl>
              <a:tblPr/>
              <a:tblGrid>
                <a:gridCol w="6400800"/>
                <a:gridCol w="2057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km modernization on international Corrid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– 2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 km general overhaul of tr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 – 0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1440" y="4565520"/>
            <a:ext cx="8335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alization of the South East European 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Transport Development Plan may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imum 2 billi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fd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- is it enough for a competitive rail system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Infrastructures are not an end in themselves. They deliver their promises by offering high quality services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only if efficiently managed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ilway infrastructure is part of a very complex system including operations of freight and passenger transporta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sently, the response of the railway sector to the challenges of the market development is not very 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utlook for Railway Transportation Sector in South East Europe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Railway Reform in the Western Balkans“ – The World Bank Study –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xamines the challenges facing the railways of the Western Balkans region (2006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astic traffic decreas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10 billion passenger-km in 1990 versus 2.8 billion passenger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20 billion ton-km in 1990 versus 8.1 billion ton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Poor resource productiv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rastructure and rolling stock - damaged in the conflict and little investment in the last 15 ye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bearable need of operating and capital subsidies from the state bud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way Labor Productivity [UIC – 2005]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58200" cy="602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47960" y="3990960"/>
            <a:ext cx="10666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2640" y="4343400"/>
            <a:ext cx="149076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7960" y="4695840"/>
            <a:ext cx="167652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057640"/>
            <a:ext cx="223848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360" y="5410080"/>
            <a:ext cx="167616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7960" y="5776920"/>
            <a:ext cx="3808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52640" y="1114560"/>
            <a:ext cx="502920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lway Traffic Intensity [UIC – 2005]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4572000"/>
            <a:ext cx="257040" cy="2095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8128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4800" y="4010040"/>
            <a:ext cx="228600" cy="7621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960" y="3857760"/>
            <a:ext cx="228600" cy="9144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1480" y="3933720"/>
            <a:ext cx="228600" cy="8384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216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1800360"/>
            <a:ext cx="228600" cy="29718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1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reight forwarders and logistic services work on a competitive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or most of the railways being more competitive means to overcome the problems existing toda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ow quality servic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k of capac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st dis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mall dimension of each railway in S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14:29:12Z</dcterms:created>
  <dc:creator>teo</dc:creator>
  <dc:description/>
  <cp:keywords/>
  <dc:language>en-US</dc:language>
  <cp:lastModifiedBy>Vasile Olievschi</cp:lastModifiedBy>
  <cp:lastPrinted>2006-11-27T18:36:02Z</cp:lastPrinted>
  <dcterms:modified xsi:type="dcterms:W3CDTF">2007-09-09T21:46:13Z</dcterms:modified>
  <cp:revision>807</cp:revision>
  <dc:subject>proces resturcturare</dc:subject>
  <dc:title>SNCFR</dc:title>
</cp:coreProperties>
</file>