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18300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17600" cy="101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838080" y="768240"/>
            <a:ext cx="5042160" cy="378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92080" y="4806720"/>
            <a:ext cx="4934160" cy="4554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700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700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61704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11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31960" y="760320"/>
            <a:ext cx="5059080" cy="3794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2080" y="4805280"/>
            <a:ext cx="493416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2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9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5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2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9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07640" y="50760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99"/>
                </a:solidFill>
                <a:latin typeface="Arial"/>
              </a:rPr>
              <a:t>International Financial Institutions Advisory Group Meeting on Transport</a:t>
            </a:r>
            <a:br>
              <a:rPr sz="3300"/>
            </a:br>
            <a:r>
              <a:rPr b="1" i="1" lang="en-US" sz="3300" spc="-1" strike="noStrike">
                <a:solidFill>
                  <a:srgbClr val="ffff99"/>
                </a:solidFill>
                <a:latin typeface="Arial"/>
              </a:rPr>
              <a:t>September 10, 2007</a:t>
            </a:r>
            <a:br>
              <a:rPr sz="3300"/>
            </a:br>
            <a:br>
              <a:rPr sz="3300"/>
            </a:b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rivate Sector Involvement in Infrastructure Financing:</a:t>
            </a:r>
            <a:br>
              <a:rPr sz="3300"/>
            </a:b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Opportunities and Constrain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560" y="5157360"/>
            <a:ext cx="705636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hristopher Ousey, Senior Advis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ransport Team, Infrastructure Business Group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An example in Serbia:</a:t>
            </a:r>
            <a:br>
              <a:rPr sz="33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echnical assistance from EBRD with funds from CIDA – Canadian International Development Agency</a:t>
            </a: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749600"/>
          <a:ext cx="475164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49600"/>
                    <a:ext cx="475164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IFI participation in projec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When an IFI is part of a PPP it c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lp structure the deal, assist with the tendering process, and help resolv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I presence reassures private inves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BRD offers a variety of financiaI products: debt, equity, hedges, guarantee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Not just PPPs !</a:t>
            </a: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n addition to PPPs, IFIs have been assisting Governments to involve the private sector in transport infrastructure through the use of various types of concessions, e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ormance Based Maintenance (PBM) contracts where  payment are based on meeting defined performance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se do not bring in private sector finance but transfer risk, reduce state sector costs, and play to private sector strengths (efficiency, innovation, 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5840" cy="6834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3691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view of SEE Countr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recent developments and future opportunit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RD involved in the successful Tirana Airport Concession; this was an excellent example of what can be achieved even in an environment which might appear not to be propitiou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ds: the Government has shown a general interest in developing PP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ld Bank is about to launch road PBM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Concession:  e.g. MinEcon developing a strategy for terminal concessions at the Port of Durres with the help of IFC-funded consulta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Albani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past the Govt has provided sovereign guarantees for infrastructure projects, but now sees PPPs as feasible, e.g., for large road sector projects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tender for a PPP concession has been announced in BiH for the road section from Zenica – Sarajevo – Mostar, which forms part of Corridor V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RD, in collaboration with IBRD, is about to launch road PBM contrac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</a:t>
            </a:r>
            <a:br>
              <a:rPr sz="3300"/>
            </a:b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Bosnia and Herzegovina 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697040" y="1890720"/>
            <a:ext cx="6326280" cy="4965840"/>
            <a:chOff x="1697040" y="1890720"/>
            <a:chExt cx="6326280" cy="4965840"/>
          </a:xfrm>
        </p:grpSpPr>
        <p:sp>
          <p:nvSpPr>
            <p:cNvPr id="82" name=""/>
            <p:cNvSpPr/>
            <p:nvPr/>
          </p:nvSpPr>
          <p:spPr>
            <a:xfrm>
              <a:off x="1697040" y="4478760"/>
              <a:ext cx="3648600" cy="2377800"/>
            </a:xfrm>
            <a:custGeom>
              <a:avLst/>
              <a:gdLst/>
              <a:ahLst/>
              <a:rect l="l" t="t" r="r" b="b"/>
              <a:pathLst>
                <a:path w="1324" h="806">
                  <a:moveTo>
                    <a:pt x="1181" y="624"/>
                  </a:moveTo>
                  <a:lnTo>
                    <a:pt x="1163" y="631"/>
                  </a:lnTo>
                  <a:lnTo>
                    <a:pt x="1145" y="638"/>
                  </a:lnTo>
                  <a:lnTo>
                    <a:pt x="1130" y="646"/>
                  </a:lnTo>
                  <a:lnTo>
                    <a:pt x="1116" y="652"/>
                  </a:lnTo>
                  <a:lnTo>
                    <a:pt x="1104" y="655"/>
                  </a:lnTo>
                  <a:lnTo>
                    <a:pt x="1091" y="654"/>
                  </a:lnTo>
                  <a:lnTo>
                    <a:pt x="1078" y="647"/>
                  </a:lnTo>
                  <a:lnTo>
                    <a:pt x="1066" y="633"/>
                  </a:lnTo>
                  <a:lnTo>
                    <a:pt x="1053" y="617"/>
                  </a:lnTo>
                  <a:lnTo>
                    <a:pt x="1039" y="605"/>
                  </a:lnTo>
                  <a:lnTo>
                    <a:pt x="1025" y="599"/>
                  </a:lnTo>
                  <a:lnTo>
                    <a:pt x="1013" y="593"/>
                  </a:lnTo>
                  <a:lnTo>
                    <a:pt x="1000" y="590"/>
                  </a:lnTo>
                  <a:lnTo>
                    <a:pt x="990" y="589"/>
                  </a:lnTo>
                  <a:lnTo>
                    <a:pt x="981" y="589"/>
                  </a:lnTo>
                  <a:lnTo>
                    <a:pt x="975" y="589"/>
                  </a:lnTo>
                  <a:lnTo>
                    <a:pt x="970" y="588"/>
                  </a:lnTo>
                  <a:lnTo>
                    <a:pt x="966" y="587"/>
                  </a:lnTo>
                  <a:lnTo>
                    <a:pt x="962" y="585"/>
                  </a:lnTo>
                  <a:lnTo>
                    <a:pt x="957" y="584"/>
                  </a:lnTo>
                  <a:lnTo>
                    <a:pt x="953" y="582"/>
                  </a:lnTo>
                  <a:lnTo>
                    <a:pt x="948" y="584"/>
                  </a:lnTo>
                  <a:lnTo>
                    <a:pt x="941" y="587"/>
                  </a:lnTo>
                  <a:lnTo>
                    <a:pt x="934" y="594"/>
                  </a:lnTo>
                  <a:lnTo>
                    <a:pt x="926" y="599"/>
                  </a:lnTo>
                  <a:lnTo>
                    <a:pt x="917" y="597"/>
                  </a:lnTo>
                  <a:lnTo>
                    <a:pt x="908" y="593"/>
                  </a:lnTo>
                  <a:lnTo>
                    <a:pt x="900" y="585"/>
                  </a:lnTo>
                  <a:lnTo>
                    <a:pt x="893" y="575"/>
                  </a:lnTo>
                  <a:lnTo>
                    <a:pt x="887" y="567"/>
                  </a:lnTo>
                  <a:lnTo>
                    <a:pt x="883" y="560"/>
                  </a:lnTo>
                  <a:lnTo>
                    <a:pt x="881" y="558"/>
                  </a:lnTo>
                  <a:lnTo>
                    <a:pt x="879" y="558"/>
                  </a:lnTo>
                  <a:lnTo>
                    <a:pt x="873" y="559"/>
                  </a:lnTo>
                  <a:lnTo>
                    <a:pt x="866" y="559"/>
                  </a:lnTo>
                  <a:lnTo>
                    <a:pt x="857" y="558"/>
                  </a:lnTo>
                  <a:lnTo>
                    <a:pt x="847" y="556"/>
                  </a:lnTo>
                  <a:lnTo>
                    <a:pt x="839" y="551"/>
                  </a:lnTo>
                  <a:lnTo>
                    <a:pt x="832" y="543"/>
                  </a:lnTo>
                  <a:lnTo>
                    <a:pt x="828" y="532"/>
                  </a:lnTo>
                  <a:lnTo>
                    <a:pt x="826" y="520"/>
                  </a:lnTo>
                  <a:lnTo>
                    <a:pt x="823" y="513"/>
                  </a:lnTo>
                  <a:lnTo>
                    <a:pt x="819" y="510"/>
                  </a:lnTo>
                  <a:lnTo>
                    <a:pt x="815" y="509"/>
                  </a:lnTo>
                  <a:lnTo>
                    <a:pt x="809" y="510"/>
                  </a:lnTo>
                  <a:lnTo>
                    <a:pt x="804" y="512"/>
                  </a:lnTo>
                  <a:lnTo>
                    <a:pt x="799" y="516"/>
                  </a:lnTo>
                  <a:lnTo>
                    <a:pt x="794" y="519"/>
                  </a:lnTo>
                  <a:lnTo>
                    <a:pt x="788" y="521"/>
                  </a:lnTo>
                  <a:lnTo>
                    <a:pt x="782" y="521"/>
                  </a:lnTo>
                  <a:lnTo>
                    <a:pt x="777" y="519"/>
                  </a:lnTo>
                  <a:lnTo>
                    <a:pt x="771" y="517"/>
                  </a:lnTo>
                  <a:lnTo>
                    <a:pt x="764" y="513"/>
                  </a:lnTo>
                  <a:lnTo>
                    <a:pt x="758" y="511"/>
                  </a:lnTo>
                  <a:lnTo>
                    <a:pt x="751" y="507"/>
                  </a:lnTo>
                  <a:lnTo>
                    <a:pt x="744" y="505"/>
                  </a:lnTo>
                  <a:lnTo>
                    <a:pt x="739" y="504"/>
                  </a:lnTo>
                  <a:lnTo>
                    <a:pt x="732" y="506"/>
                  </a:lnTo>
                  <a:lnTo>
                    <a:pt x="726" y="509"/>
                  </a:lnTo>
                  <a:lnTo>
                    <a:pt x="720" y="511"/>
                  </a:lnTo>
                  <a:lnTo>
                    <a:pt x="713" y="513"/>
                  </a:lnTo>
                  <a:lnTo>
                    <a:pt x="705" y="516"/>
                  </a:lnTo>
                  <a:lnTo>
                    <a:pt x="697" y="517"/>
                  </a:lnTo>
                  <a:lnTo>
                    <a:pt x="688" y="514"/>
                  </a:lnTo>
                  <a:lnTo>
                    <a:pt x="680" y="513"/>
                  </a:lnTo>
                  <a:lnTo>
                    <a:pt x="675" y="516"/>
                  </a:lnTo>
                  <a:lnTo>
                    <a:pt x="672" y="520"/>
                  </a:lnTo>
                  <a:lnTo>
                    <a:pt x="669" y="527"/>
                  </a:lnTo>
                  <a:lnTo>
                    <a:pt x="666" y="534"/>
                  </a:lnTo>
                  <a:lnTo>
                    <a:pt x="661" y="541"/>
                  </a:lnTo>
                  <a:lnTo>
                    <a:pt x="655" y="547"/>
                  </a:lnTo>
                  <a:lnTo>
                    <a:pt x="643" y="549"/>
                  </a:lnTo>
                  <a:lnTo>
                    <a:pt x="630" y="550"/>
                  </a:lnTo>
                  <a:lnTo>
                    <a:pt x="620" y="551"/>
                  </a:lnTo>
                  <a:lnTo>
                    <a:pt x="610" y="551"/>
                  </a:lnTo>
                  <a:lnTo>
                    <a:pt x="602" y="552"/>
                  </a:lnTo>
                  <a:lnTo>
                    <a:pt x="593" y="554"/>
                  </a:lnTo>
                  <a:lnTo>
                    <a:pt x="587" y="556"/>
                  </a:lnTo>
                  <a:lnTo>
                    <a:pt x="580" y="558"/>
                  </a:lnTo>
                  <a:lnTo>
                    <a:pt x="573" y="563"/>
                  </a:lnTo>
                  <a:lnTo>
                    <a:pt x="566" y="567"/>
                  </a:lnTo>
                  <a:lnTo>
                    <a:pt x="557" y="572"/>
                  </a:lnTo>
                  <a:lnTo>
                    <a:pt x="546" y="575"/>
                  </a:lnTo>
                  <a:lnTo>
                    <a:pt x="536" y="579"/>
                  </a:lnTo>
                  <a:lnTo>
                    <a:pt x="524" y="581"/>
                  </a:lnTo>
                  <a:lnTo>
                    <a:pt x="513" y="581"/>
                  </a:lnTo>
                  <a:lnTo>
                    <a:pt x="500" y="579"/>
                  </a:lnTo>
                  <a:lnTo>
                    <a:pt x="489" y="575"/>
                  </a:lnTo>
                  <a:lnTo>
                    <a:pt x="478" y="572"/>
                  </a:lnTo>
                  <a:lnTo>
                    <a:pt x="468" y="569"/>
                  </a:lnTo>
                  <a:lnTo>
                    <a:pt x="460" y="569"/>
                  </a:lnTo>
                  <a:lnTo>
                    <a:pt x="453" y="569"/>
                  </a:lnTo>
                  <a:lnTo>
                    <a:pt x="447" y="570"/>
                  </a:lnTo>
                  <a:lnTo>
                    <a:pt x="441" y="572"/>
                  </a:lnTo>
                  <a:lnTo>
                    <a:pt x="436" y="575"/>
                  </a:lnTo>
                  <a:lnTo>
                    <a:pt x="431" y="580"/>
                  </a:lnTo>
                  <a:lnTo>
                    <a:pt x="426" y="584"/>
                  </a:lnTo>
                  <a:lnTo>
                    <a:pt x="421" y="582"/>
                  </a:lnTo>
                  <a:lnTo>
                    <a:pt x="415" y="580"/>
                  </a:lnTo>
                  <a:lnTo>
                    <a:pt x="409" y="578"/>
                  </a:lnTo>
                  <a:lnTo>
                    <a:pt x="402" y="575"/>
                  </a:lnTo>
                  <a:lnTo>
                    <a:pt x="396" y="574"/>
                  </a:lnTo>
                  <a:lnTo>
                    <a:pt x="390" y="578"/>
                  </a:lnTo>
                  <a:lnTo>
                    <a:pt x="383" y="585"/>
                  </a:lnTo>
                  <a:lnTo>
                    <a:pt x="376" y="593"/>
                  </a:lnTo>
                  <a:lnTo>
                    <a:pt x="366" y="600"/>
                  </a:lnTo>
                  <a:lnTo>
                    <a:pt x="356" y="603"/>
                  </a:lnTo>
                  <a:lnTo>
                    <a:pt x="346" y="604"/>
                  </a:lnTo>
                  <a:lnTo>
                    <a:pt x="333" y="604"/>
                  </a:lnTo>
                  <a:lnTo>
                    <a:pt x="320" y="603"/>
                  </a:lnTo>
                  <a:lnTo>
                    <a:pt x="308" y="601"/>
                  </a:lnTo>
                  <a:lnTo>
                    <a:pt x="295" y="599"/>
                  </a:lnTo>
                  <a:lnTo>
                    <a:pt x="272" y="589"/>
                  </a:lnTo>
                  <a:lnTo>
                    <a:pt x="269" y="435"/>
                  </a:lnTo>
                  <a:lnTo>
                    <a:pt x="271" y="434"/>
                  </a:lnTo>
                  <a:lnTo>
                    <a:pt x="275" y="431"/>
                  </a:lnTo>
                  <a:lnTo>
                    <a:pt x="281" y="427"/>
                  </a:lnTo>
                  <a:lnTo>
                    <a:pt x="287" y="421"/>
                  </a:lnTo>
                  <a:lnTo>
                    <a:pt x="292" y="414"/>
                  </a:lnTo>
                  <a:lnTo>
                    <a:pt x="294" y="407"/>
                  </a:lnTo>
                  <a:lnTo>
                    <a:pt x="293" y="398"/>
                  </a:lnTo>
                  <a:lnTo>
                    <a:pt x="286" y="390"/>
                  </a:lnTo>
                  <a:lnTo>
                    <a:pt x="270" y="370"/>
                  </a:lnTo>
                  <a:lnTo>
                    <a:pt x="261" y="345"/>
                  </a:lnTo>
                  <a:lnTo>
                    <a:pt x="256" y="318"/>
                  </a:lnTo>
                  <a:lnTo>
                    <a:pt x="255" y="293"/>
                  </a:lnTo>
                  <a:lnTo>
                    <a:pt x="254" y="283"/>
                  </a:lnTo>
                  <a:lnTo>
                    <a:pt x="250" y="275"/>
                  </a:lnTo>
                  <a:lnTo>
                    <a:pt x="246" y="269"/>
                  </a:lnTo>
                  <a:lnTo>
                    <a:pt x="239" y="264"/>
                  </a:lnTo>
                  <a:lnTo>
                    <a:pt x="232" y="262"/>
                  </a:lnTo>
                  <a:lnTo>
                    <a:pt x="224" y="258"/>
                  </a:lnTo>
                  <a:lnTo>
                    <a:pt x="214" y="256"/>
                  </a:lnTo>
                  <a:lnTo>
                    <a:pt x="206" y="254"/>
                  </a:lnTo>
                  <a:lnTo>
                    <a:pt x="197" y="249"/>
                  </a:lnTo>
                  <a:lnTo>
                    <a:pt x="186" y="245"/>
                  </a:lnTo>
                  <a:lnTo>
                    <a:pt x="173" y="238"/>
                  </a:lnTo>
                  <a:lnTo>
                    <a:pt x="159" y="231"/>
                  </a:lnTo>
                  <a:lnTo>
                    <a:pt x="148" y="222"/>
                  </a:lnTo>
                  <a:lnTo>
                    <a:pt x="136" y="211"/>
                  </a:lnTo>
                  <a:lnTo>
                    <a:pt x="128" y="200"/>
                  </a:lnTo>
                  <a:lnTo>
                    <a:pt x="122" y="187"/>
                  </a:lnTo>
                  <a:lnTo>
                    <a:pt x="117" y="174"/>
                  </a:lnTo>
                  <a:lnTo>
                    <a:pt x="108" y="163"/>
                  </a:lnTo>
                  <a:lnTo>
                    <a:pt x="99" y="151"/>
                  </a:lnTo>
                  <a:lnTo>
                    <a:pt x="92" y="141"/>
                  </a:lnTo>
                  <a:lnTo>
                    <a:pt x="89" y="132"/>
                  </a:lnTo>
                  <a:lnTo>
                    <a:pt x="91" y="122"/>
                  </a:lnTo>
                  <a:lnTo>
                    <a:pt x="102" y="112"/>
                  </a:lnTo>
                  <a:lnTo>
                    <a:pt x="122" y="103"/>
                  </a:lnTo>
                  <a:lnTo>
                    <a:pt x="123" y="101"/>
                  </a:lnTo>
                  <a:lnTo>
                    <a:pt x="128" y="96"/>
                  </a:lnTo>
                  <a:lnTo>
                    <a:pt x="134" y="89"/>
                  </a:lnTo>
                  <a:lnTo>
                    <a:pt x="140" y="80"/>
                  </a:lnTo>
                  <a:lnTo>
                    <a:pt x="143" y="68"/>
                  </a:lnTo>
                  <a:lnTo>
                    <a:pt x="145" y="57"/>
                  </a:lnTo>
                  <a:lnTo>
                    <a:pt x="143" y="44"/>
                  </a:lnTo>
                  <a:lnTo>
                    <a:pt x="136" y="33"/>
                  </a:lnTo>
                  <a:lnTo>
                    <a:pt x="130" y="25"/>
                  </a:lnTo>
                  <a:lnTo>
                    <a:pt x="125" y="16"/>
                  </a:lnTo>
                  <a:lnTo>
                    <a:pt x="121" y="8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105" y="3"/>
                  </a:lnTo>
                  <a:lnTo>
                    <a:pt x="98" y="4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3" y="6"/>
                  </a:lnTo>
                  <a:lnTo>
                    <a:pt x="65" y="8"/>
                  </a:lnTo>
                  <a:lnTo>
                    <a:pt x="55" y="11"/>
                  </a:lnTo>
                  <a:lnTo>
                    <a:pt x="40" y="18"/>
                  </a:lnTo>
                  <a:lnTo>
                    <a:pt x="32" y="26"/>
                  </a:lnTo>
                  <a:lnTo>
                    <a:pt x="30" y="37"/>
                  </a:lnTo>
                  <a:lnTo>
                    <a:pt x="30" y="49"/>
                  </a:lnTo>
                  <a:lnTo>
                    <a:pt x="31" y="61"/>
                  </a:lnTo>
                  <a:lnTo>
                    <a:pt x="34" y="74"/>
                  </a:lnTo>
                  <a:lnTo>
                    <a:pt x="35" y="86"/>
                  </a:lnTo>
                  <a:lnTo>
                    <a:pt x="34" y="95"/>
                  </a:lnTo>
                  <a:lnTo>
                    <a:pt x="29" y="113"/>
                  </a:lnTo>
                  <a:lnTo>
                    <a:pt x="28" y="135"/>
                  </a:lnTo>
                  <a:lnTo>
                    <a:pt x="32" y="159"/>
                  </a:lnTo>
                  <a:lnTo>
                    <a:pt x="47" y="182"/>
                  </a:lnTo>
                  <a:lnTo>
                    <a:pt x="54" y="194"/>
                  </a:lnTo>
                  <a:lnTo>
                    <a:pt x="57" y="207"/>
                  </a:lnTo>
                  <a:lnTo>
                    <a:pt x="54" y="218"/>
                  </a:lnTo>
                  <a:lnTo>
                    <a:pt x="51" y="230"/>
                  </a:lnTo>
                  <a:lnTo>
                    <a:pt x="45" y="240"/>
                  </a:lnTo>
                  <a:lnTo>
                    <a:pt x="39" y="247"/>
                  </a:lnTo>
                  <a:lnTo>
                    <a:pt x="35" y="252"/>
                  </a:lnTo>
                  <a:lnTo>
                    <a:pt x="34" y="254"/>
                  </a:lnTo>
                  <a:lnTo>
                    <a:pt x="24" y="257"/>
                  </a:lnTo>
                  <a:lnTo>
                    <a:pt x="17" y="261"/>
                  </a:lnTo>
                  <a:lnTo>
                    <a:pt x="11" y="264"/>
                  </a:lnTo>
                  <a:lnTo>
                    <a:pt x="7" y="268"/>
                  </a:lnTo>
                  <a:lnTo>
                    <a:pt x="4" y="271"/>
                  </a:lnTo>
                  <a:lnTo>
                    <a:pt x="1" y="275"/>
                  </a:lnTo>
                  <a:lnTo>
                    <a:pt x="0" y="279"/>
                  </a:lnTo>
                  <a:lnTo>
                    <a:pt x="0" y="283"/>
                  </a:lnTo>
                  <a:lnTo>
                    <a:pt x="6" y="295"/>
                  </a:lnTo>
                  <a:lnTo>
                    <a:pt x="16" y="308"/>
                  </a:lnTo>
                  <a:lnTo>
                    <a:pt x="27" y="322"/>
                  </a:lnTo>
                  <a:lnTo>
                    <a:pt x="34" y="338"/>
                  </a:lnTo>
                  <a:lnTo>
                    <a:pt x="39" y="351"/>
                  </a:lnTo>
                  <a:lnTo>
                    <a:pt x="47" y="361"/>
                  </a:lnTo>
                  <a:lnTo>
                    <a:pt x="59" y="371"/>
                  </a:lnTo>
                  <a:lnTo>
                    <a:pt x="70" y="381"/>
                  </a:lnTo>
                  <a:lnTo>
                    <a:pt x="84" y="388"/>
                  </a:lnTo>
                  <a:lnTo>
                    <a:pt x="97" y="395"/>
                  </a:lnTo>
                  <a:lnTo>
                    <a:pt x="108" y="399"/>
                  </a:lnTo>
                  <a:lnTo>
                    <a:pt x="118" y="404"/>
                  </a:lnTo>
                  <a:lnTo>
                    <a:pt x="126" y="407"/>
                  </a:lnTo>
                  <a:lnTo>
                    <a:pt x="135" y="409"/>
                  </a:lnTo>
                  <a:lnTo>
                    <a:pt x="143" y="412"/>
                  </a:lnTo>
                  <a:lnTo>
                    <a:pt x="150" y="415"/>
                  </a:lnTo>
                  <a:lnTo>
                    <a:pt x="157" y="420"/>
                  </a:lnTo>
                  <a:lnTo>
                    <a:pt x="161" y="426"/>
                  </a:lnTo>
                  <a:lnTo>
                    <a:pt x="165" y="434"/>
                  </a:lnTo>
                  <a:lnTo>
                    <a:pt x="166" y="444"/>
                  </a:lnTo>
                  <a:lnTo>
                    <a:pt x="167" y="468"/>
                  </a:lnTo>
                  <a:lnTo>
                    <a:pt x="172" y="496"/>
                  </a:lnTo>
                  <a:lnTo>
                    <a:pt x="181" y="521"/>
                  </a:lnTo>
                  <a:lnTo>
                    <a:pt x="197" y="541"/>
                  </a:lnTo>
                  <a:lnTo>
                    <a:pt x="204" y="549"/>
                  </a:lnTo>
                  <a:lnTo>
                    <a:pt x="205" y="557"/>
                  </a:lnTo>
                  <a:lnTo>
                    <a:pt x="203" y="564"/>
                  </a:lnTo>
                  <a:lnTo>
                    <a:pt x="198" y="571"/>
                  </a:lnTo>
                  <a:lnTo>
                    <a:pt x="193" y="577"/>
                  </a:lnTo>
                  <a:lnTo>
                    <a:pt x="187" y="581"/>
                  </a:lnTo>
                  <a:lnTo>
                    <a:pt x="182" y="584"/>
                  </a:lnTo>
                  <a:lnTo>
                    <a:pt x="180" y="585"/>
                  </a:lnTo>
                  <a:lnTo>
                    <a:pt x="184" y="739"/>
                  </a:lnTo>
                  <a:lnTo>
                    <a:pt x="206" y="748"/>
                  </a:lnTo>
                  <a:lnTo>
                    <a:pt x="213" y="750"/>
                  </a:lnTo>
                  <a:lnTo>
                    <a:pt x="219" y="752"/>
                  </a:lnTo>
                  <a:lnTo>
                    <a:pt x="226" y="753"/>
                  </a:lnTo>
                  <a:lnTo>
                    <a:pt x="232" y="754"/>
                  </a:lnTo>
                  <a:lnTo>
                    <a:pt x="239" y="755"/>
                  </a:lnTo>
                  <a:lnTo>
                    <a:pt x="244" y="755"/>
                  </a:lnTo>
                  <a:lnTo>
                    <a:pt x="251" y="755"/>
                  </a:lnTo>
                  <a:lnTo>
                    <a:pt x="257" y="755"/>
                  </a:lnTo>
                  <a:lnTo>
                    <a:pt x="263" y="754"/>
                  </a:lnTo>
                  <a:lnTo>
                    <a:pt x="269" y="753"/>
                  </a:lnTo>
                  <a:lnTo>
                    <a:pt x="273" y="752"/>
                  </a:lnTo>
                  <a:lnTo>
                    <a:pt x="278" y="750"/>
                  </a:lnTo>
                  <a:lnTo>
                    <a:pt x="282" y="747"/>
                  </a:lnTo>
                  <a:lnTo>
                    <a:pt x="287" y="744"/>
                  </a:lnTo>
                  <a:lnTo>
                    <a:pt x="290" y="739"/>
                  </a:lnTo>
                  <a:lnTo>
                    <a:pt x="294" y="735"/>
                  </a:lnTo>
                  <a:lnTo>
                    <a:pt x="301" y="728"/>
                  </a:lnTo>
                  <a:lnTo>
                    <a:pt x="308" y="725"/>
                  </a:lnTo>
                  <a:lnTo>
                    <a:pt x="314" y="725"/>
                  </a:lnTo>
                  <a:lnTo>
                    <a:pt x="320" y="728"/>
                  </a:lnTo>
                  <a:lnTo>
                    <a:pt x="326" y="731"/>
                  </a:lnTo>
                  <a:lnTo>
                    <a:pt x="332" y="733"/>
                  </a:lnTo>
                  <a:lnTo>
                    <a:pt x="338" y="733"/>
                  </a:lnTo>
                  <a:lnTo>
                    <a:pt x="343" y="731"/>
                  </a:lnTo>
                  <a:lnTo>
                    <a:pt x="348" y="726"/>
                  </a:lnTo>
                  <a:lnTo>
                    <a:pt x="354" y="723"/>
                  </a:lnTo>
                  <a:lnTo>
                    <a:pt x="358" y="720"/>
                  </a:lnTo>
                  <a:lnTo>
                    <a:pt x="365" y="718"/>
                  </a:lnTo>
                  <a:lnTo>
                    <a:pt x="372" y="718"/>
                  </a:lnTo>
                  <a:lnTo>
                    <a:pt x="380" y="720"/>
                  </a:lnTo>
                  <a:lnTo>
                    <a:pt x="390" y="722"/>
                  </a:lnTo>
                  <a:lnTo>
                    <a:pt x="400" y="726"/>
                  </a:lnTo>
                  <a:lnTo>
                    <a:pt x="411" y="730"/>
                  </a:lnTo>
                  <a:lnTo>
                    <a:pt x="424" y="731"/>
                  </a:lnTo>
                  <a:lnTo>
                    <a:pt x="436" y="731"/>
                  </a:lnTo>
                  <a:lnTo>
                    <a:pt x="447" y="730"/>
                  </a:lnTo>
                  <a:lnTo>
                    <a:pt x="458" y="726"/>
                  </a:lnTo>
                  <a:lnTo>
                    <a:pt x="468" y="722"/>
                  </a:lnTo>
                  <a:lnTo>
                    <a:pt x="477" y="717"/>
                  </a:lnTo>
                  <a:lnTo>
                    <a:pt x="484" y="713"/>
                  </a:lnTo>
                  <a:lnTo>
                    <a:pt x="491" y="709"/>
                  </a:lnTo>
                  <a:lnTo>
                    <a:pt x="498" y="706"/>
                  </a:lnTo>
                  <a:lnTo>
                    <a:pt x="505" y="705"/>
                  </a:lnTo>
                  <a:lnTo>
                    <a:pt x="513" y="703"/>
                  </a:lnTo>
                  <a:lnTo>
                    <a:pt x="522" y="702"/>
                  </a:lnTo>
                  <a:lnTo>
                    <a:pt x="531" y="702"/>
                  </a:lnTo>
                  <a:lnTo>
                    <a:pt x="543" y="701"/>
                  </a:lnTo>
                  <a:lnTo>
                    <a:pt x="555" y="700"/>
                  </a:lnTo>
                  <a:lnTo>
                    <a:pt x="566" y="696"/>
                  </a:lnTo>
                  <a:lnTo>
                    <a:pt x="573" y="691"/>
                  </a:lnTo>
                  <a:lnTo>
                    <a:pt x="577" y="685"/>
                  </a:lnTo>
                  <a:lnTo>
                    <a:pt x="581" y="677"/>
                  </a:lnTo>
                  <a:lnTo>
                    <a:pt x="583" y="671"/>
                  </a:lnTo>
                  <a:lnTo>
                    <a:pt x="587" y="665"/>
                  </a:lnTo>
                  <a:lnTo>
                    <a:pt x="591" y="663"/>
                  </a:lnTo>
                  <a:lnTo>
                    <a:pt x="599" y="664"/>
                  </a:lnTo>
                  <a:lnTo>
                    <a:pt x="608" y="667"/>
                  </a:lnTo>
                  <a:lnTo>
                    <a:pt x="616" y="667"/>
                  </a:lnTo>
                  <a:lnTo>
                    <a:pt x="625" y="664"/>
                  </a:lnTo>
                  <a:lnTo>
                    <a:pt x="631" y="662"/>
                  </a:lnTo>
                  <a:lnTo>
                    <a:pt x="637" y="660"/>
                  </a:lnTo>
                  <a:lnTo>
                    <a:pt x="644" y="657"/>
                  </a:lnTo>
                  <a:lnTo>
                    <a:pt x="650" y="655"/>
                  </a:lnTo>
                  <a:lnTo>
                    <a:pt x="657" y="656"/>
                  </a:lnTo>
                  <a:lnTo>
                    <a:pt x="664" y="658"/>
                  </a:lnTo>
                  <a:lnTo>
                    <a:pt x="669" y="661"/>
                  </a:lnTo>
                  <a:lnTo>
                    <a:pt x="676" y="664"/>
                  </a:lnTo>
                  <a:lnTo>
                    <a:pt x="682" y="668"/>
                  </a:lnTo>
                  <a:lnTo>
                    <a:pt x="688" y="670"/>
                  </a:lnTo>
                  <a:lnTo>
                    <a:pt x="694" y="671"/>
                  </a:lnTo>
                  <a:lnTo>
                    <a:pt x="699" y="671"/>
                  </a:lnTo>
                  <a:lnTo>
                    <a:pt x="705" y="669"/>
                  </a:lnTo>
                  <a:lnTo>
                    <a:pt x="710" y="665"/>
                  </a:lnTo>
                  <a:lnTo>
                    <a:pt x="716" y="662"/>
                  </a:lnTo>
                  <a:lnTo>
                    <a:pt x="721" y="660"/>
                  </a:lnTo>
                  <a:lnTo>
                    <a:pt x="726" y="658"/>
                  </a:lnTo>
                  <a:lnTo>
                    <a:pt x="731" y="660"/>
                  </a:lnTo>
                  <a:lnTo>
                    <a:pt x="735" y="664"/>
                  </a:lnTo>
                  <a:lnTo>
                    <a:pt x="737" y="671"/>
                  </a:lnTo>
                  <a:lnTo>
                    <a:pt x="740" y="683"/>
                  </a:lnTo>
                  <a:lnTo>
                    <a:pt x="743" y="694"/>
                  </a:lnTo>
                  <a:lnTo>
                    <a:pt x="750" y="701"/>
                  </a:lnTo>
                  <a:lnTo>
                    <a:pt x="758" y="706"/>
                  </a:lnTo>
                  <a:lnTo>
                    <a:pt x="769" y="709"/>
                  </a:lnTo>
                  <a:lnTo>
                    <a:pt x="778" y="710"/>
                  </a:lnTo>
                  <a:lnTo>
                    <a:pt x="785" y="710"/>
                  </a:lnTo>
                  <a:lnTo>
                    <a:pt x="790" y="709"/>
                  </a:lnTo>
                  <a:lnTo>
                    <a:pt x="793" y="709"/>
                  </a:lnTo>
                  <a:lnTo>
                    <a:pt x="794" y="711"/>
                  </a:lnTo>
                  <a:lnTo>
                    <a:pt x="799" y="717"/>
                  </a:lnTo>
                  <a:lnTo>
                    <a:pt x="804" y="726"/>
                  </a:lnTo>
                  <a:lnTo>
                    <a:pt x="811" y="735"/>
                  </a:lnTo>
                  <a:lnTo>
                    <a:pt x="819" y="743"/>
                  </a:lnTo>
                  <a:lnTo>
                    <a:pt x="828" y="747"/>
                  </a:lnTo>
                  <a:lnTo>
                    <a:pt x="838" y="748"/>
                  </a:lnTo>
                  <a:lnTo>
                    <a:pt x="846" y="744"/>
                  </a:lnTo>
                  <a:lnTo>
                    <a:pt x="854" y="737"/>
                  </a:lnTo>
                  <a:lnTo>
                    <a:pt x="860" y="733"/>
                  </a:lnTo>
                  <a:lnTo>
                    <a:pt x="865" y="732"/>
                  </a:lnTo>
                  <a:lnTo>
                    <a:pt x="870" y="733"/>
                  </a:lnTo>
                  <a:lnTo>
                    <a:pt x="873" y="735"/>
                  </a:lnTo>
                  <a:lnTo>
                    <a:pt x="877" y="737"/>
                  </a:lnTo>
                  <a:lnTo>
                    <a:pt x="881" y="738"/>
                  </a:lnTo>
                  <a:lnTo>
                    <a:pt x="886" y="739"/>
                  </a:lnTo>
                  <a:lnTo>
                    <a:pt x="892" y="739"/>
                  </a:lnTo>
                  <a:lnTo>
                    <a:pt x="901" y="739"/>
                  </a:lnTo>
                  <a:lnTo>
                    <a:pt x="911" y="740"/>
                  </a:lnTo>
                  <a:lnTo>
                    <a:pt x="924" y="743"/>
                  </a:lnTo>
                  <a:lnTo>
                    <a:pt x="937" y="748"/>
                  </a:lnTo>
                  <a:lnTo>
                    <a:pt x="951" y="756"/>
                  </a:lnTo>
                  <a:lnTo>
                    <a:pt x="964" y="768"/>
                  </a:lnTo>
                  <a:lnTo>
                    <a:pt x="978" y="784"/>
                  </a:lnTo>
                  <a:lnTo>
                    <a:pt x="985" y="792"/>
                  </a:lnTo>
                  <a:lnTo>
                    <a:pt x="991" y="798"/>
                  </a:lnTo>
                  <a:lnTo>
                    <a:pt x="998" y="803"/>
                  </a:lnTo>
                  <a:lnTo>
                    <a:pt x="1004" y="805"/>
                  </a:lnTo>
                  <a:lnTo>
                    <a:pt x="1007" y="806"/>
                  </a:lnTo>
                  <a:lnTo>
                    <a:pt x="1009" y="806"/>
                  </a:lnTo>
                  <a:lnTo>
                    <a:pt x="1013" y="806"/>
                  </a:lnTo>
                  <a:lnTo>
                    <a:pt x="1015" y="806"/>
                  </a:lnTo>
                  <a:lnTo>
                    <a:pt x="1023" y="805"/>
                  </a:lnTo>
                  <a:lnTo>
                    <a:pt x="1031" y="801"/>
                  </a:lnTo>
                  <a:lnTo>
                    <a:pt x="1040" y="797"/>
                  </a:lnTo>
                  <a:lnTo>
                    <a:pt x="1050" y="792"/>
                  </a:lnTo>
                  <a:lnTo>
                    <a:pt x="1059" y="788"/>
                  </a:lnTo>
                  <a:lnTo>
                    <a:pt x="1069" y="783"/>
                  </a:lnTo>
                  <a:lnTo>
                    <a:pt x="1081" y="778"/>
                  </a:lnTo>
                  <a:lnTo>
                    <a:pt x="1092" y="775"/>
                  </a:lnTo>
                  <a:lnTo>
                    <a:pt x="1112" y="770"/>
                  </a:lnTo>
                  <a:lnTo>
                    <a:pt x="1131" y="768"/>
                  </a:lnTo>
                  <a:lnTo>
                    <a:pt x="1150" y="766"/>
                  </a:lnTo>
                  <a:lnTo>
                    <a:pt x="1167" y="765"/>
                  </a:lnTo>
                  <a:lnTo>
                    <a:pt x="1184" y="765"/>
                  </a:lnTo>
                  <a:lnTo>
                    <a:pt x="1201" y="766"/>
                  </a:lnTo>
                  <a:lnTo>
                    <a:pt x="1216" y="766"/>
                  </a:lnTo>
                  <a:lnTo>
                    <a:pt x="1229" y="766"/>
                  </a:lnTo>
                  <a:lnTo>
                    <a:pt x="1242" y="766"/>
                  </a:lnTo>
                  <a:lnTo>
                    <a:pt x="1255" y="766"/>
                  </a:lnTo>
                  <a:lnTo>
                    <a:pt x="1266" y="765"/>
                  </a:lnTo>
                  <a:lnTo>
                    <a:pt x="1277" y="763"/>
                  </a:lnTo>
                  <a:lnTo>
                    <a:pt x="1286" y="759"/>
                  </a:lnTo>
                  <a:lnTo>
                    <a:pt x="1294" y="753"/>
                  </a:lnTo>
                  <a:lnTo>
                    <a:pt x="1302" y="744"/>
                  </a:lnTo>
                  <a:lnTo>
                    <a:pt x="1309" y="731"/>
                  </a:lnTo>
                  <a:lnTo>
                    <a:pt x="1315" y="716"/>
                  </a:lnTo>
                  <a:lnTo>
                    <a:pt x="1319" y="700"/>
                  </a:lnTo>
                  <a:lnTo>
                    <a:pt x="1323" y="685"/>
                  </a:lnTo>
                  <a:lnTo>
                    <a:pt x="1324" y="670"/>
                  </a:lnTo>
                  <a:lnTo>
                    <a:pt x="1323" y="655"/>
                  </a:lnTo>
                  <a:lnTo>
                    <a:pt x="1318" y="641"/>
                  </a:lnTo>
                  <a:lnTo>
                    <a:pt x="1311" y="628"/>
                  </a:lnTo>
                  <a:lnTo>
                    <a:pt x="1300" y="616"/>
                  </a:lnTo>
                  <a:lnTo>
                    <a:pt x="1300" y="616"/>
                  </a:lnTo>
                  <a:lnTo>
                    <a:pt x="1300" y="616"/>
                  </a:lnTo>
                  <a:lnTo>
                    <a:pt x="1300" y="616"/>
                  </a:lnTo>
                  <a:lnTo>
                    <a:pt x="1300" y="616"/>
                  </a:lnTo>
                  <a:lnTo>
                    <a:pt x="1287" y="616"/>
                  </a:lnTo>
                  <a:lnTo>
                    <a:pt x="1273" y="615"/>
                  </a:lnTo>
                  <a:lnTo>
                    <a:pt x="1259" y="615"/>
                  </a:lnTo>
                  <a:lnTo>
                    <a:pt x="1244" y="616"/>
                  </a:lnTo>
                  <a:lnTo>
                    <a:pt x="1229" y="617"/>
                  </a:lnTo>
                  <a:lnTo>
                    <a:pt x="1213" y="618"/>
                  </a:lnTo>
                  <a:lnTo>
                    <a:pt x="1197" y="620"/>
                  </a:lnTo>
                  <a:lnTo>
                    <a:pt x="1181" y="6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8600" y="2686320"/>
              <a:ext cx="756000" cy="1362600"/>
            </a:xfrm>
            <a:custGeom>
              <a:avLst/>
              <a:gdLst/>
              <a:ahLst/>
              <a:rect l="l" t="t" r="r" b="b"/>
              <a:pathLst>
                <a:path w="274" h="461">
                  <a:moveTo>
                    <a:pt x="215" y="429"/>
                  </a:moveTo>
                  <a:lnTo>
                    <a:pt x="219" y="417"/>
                  </a:lnTo>
                  <a:lnTo>
                    <a:pt x="224" y="411"/>
                  </a:lnTo>
                  <a:lnTo>
                    <a:pt x="230" y="409"/>
                  </a:lnTo>
                  <a:lnTo>
                    <a:pt x="239" y="408"/>
                  </a:lnTo>
                  <a:lnTo>
                    <a:pt x="248" y="406"/>
                  </a:lnTo>
                  <a:lnTo>
                    <a:pt x="257" y="401"/>
                  </a:lnTo>
                  <a:lnTo>
                    <a:pt x="265" y="389"/>
                  </a:lnTo>
                  <a:lnTo>
                    <a:pt x="273" y="371"/>
                  </a:lnTo>
                  <a:lnTo>
                    <a:pt x="274" y="354"/>
                  </a:lnTo>
                  <a:lnTo>
                    <a:pt x="271" y="335"/>
                  </a:lnTo>
                  <a:lnTo>
                    <a:pt x="262" y="316"/>
                  </a:lnTo>
                  <a:lnTo>
                    <a:pt x="249" y="297"/>
                  </a:lnTo>
                  <a:lnTo>
                    <a:pt x="235" y="281"/>
                  </a:lnTo>
                  <a:lnTo>
                    <a:pt x="220" y="266"/>
                  </a:lnTo>
                  <a:lnTo>
                    <a:pt x="206" y="255"/>
                  </a:lnTo>
                  <a:lnTo>
                    <a:pt x="194" y="248"/>
                  </a:lnTo>
                  <a:lnTo>
                    <a:pt x="181" y="242"/>
                  </a:lnTo>
                  <a:lnTo>
                    <a:pt x="168" y="234"/>
                  </a:lnTo>
                  <a:lnTo>
                    <a:pt x="154" y="223"/>
                  </a:lnTo>
                  <a:lnTo>
                    <a:pt x="143" y="211"/>
                  </a:lnTo>
                  <a:lnTo>
                    <a:pt x="131" y="196"/>
                  </a:lnTo>
                  <a:lnTo>
                    <a:pt x="123" y="176"/>
                  </a:lnTo>
                  <a:lnTo>
                    <a:pt x="119" y="154"/>
                  </a:lnTo>
                  <a:lnTo>
                    <a:pt x="118" y="128"/>
                  </a:lnTo>
                  <a:lnTo>
                    <a:pt x="115" y="126"/>
                  </a:lnTo>
                  <a:lnTo>
                    <a:pt x="111" y="121"/>
                  </a:lnTo>
                  <a:lnTo>
                    <a:pt x="104" y="111"/>
                  </a:lnTo>
                  <a:lnTo>
                    <a:pt x="97" y="98"/>
                  </a:lnTo>
                  <a:lnTo>
                    <a:pt x="91" y="81"/>
                  </a:lnTo>
                  <a:lnTo>
                    <a:pt x="88" y="60"/>
                  </a:lnTo>
                  <a:lnTo>
                    <a:pt x="89" y="34"/>
                  </a:lnTo>
                  <a:lnTo>
                    <a:pt x="96" y="4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2" y="4"/>
                  </a:lnTo>
                  <a:lnTo>
                    <a:pt x="89" y="7"/>
                  </a:lnTo>
                  <a:lnTo>
                    <a:pt x="86" y="9"/>
                  </a:lnTo>
                  <a:lnTo>
                    <a:pt x="81" y="17"/>
                  </a:lnTo>
                  <a:lnTo>
                    <a:pt x="77" y="26"/>
                  </a:lnTo>
                  <a:lnTo>
                    <a:pt x="75" y="36"/>
                  </a:lnTo>
                  <a:lnTo>
                    <a:pt x="73" y="44"/>
                  </a:lnTo>
                  <a:lnTo>
                    <a:pt x="70" y="53"/>
                  </a:lnTo>
                  <a:lnTo>
                    <a:pt x="66" y="62"/>
                  </a:lnTo>
                  <a:lnTo>
                    <a:pt x="60" y="71"/>
                  </a:lnTo>
                  <a:lnTo>
                    <a:pt x="52" y="79"/>
                  </a:lnTo>
                  <a:lnTo>
                    <a:pt x="44" y="86"/>
                  </a:lnTo>
                  <a:lnTo>
                    <a:pt x="37" y="89"/>
                  </a:lnTo>
                  <a:lnTo>
                    <a:pt x="33" y="91"/>
                  </a:lnTo>
                  <a:lnTo>
                    <a:pt x="30" y="94"/>
                  </a:lnTo>
                  <a:lnTo>
                    <a:pt x="25" y="100"/>
                  </a:lnTo>
                  <a:lnTo>
                    <a:pt x="22" y="112"/>
                  </a:lnTo>
                  <a:lnTo>
                    <a:pt x="15" y="129"/>
                  </a:lnTo>
                  <a:lnTo>
                    <a:pt x="7" y="155"/>
                  </a:lnTo>
                  <a:lnTo>
                    <a:pt x="3" y="169"/>
                  </a:lnTo>
                  <a:lnTo>
                    <a:pt x="1" y="182"/>
                  </a:lnTo>
                  <a:lnTo>
                    <a:pt x="0" y="194"/>
                  </a:lnTo>
                  <a:lnTo>
                    <a:pt x="0" y="205"/>
                  </a:lnTo>
                  <a:lnTo>
                    <a:pt x="5" y="237"/>
                  </a:lnTo>
                  <a:lnTo>
                    <a:pt x="15" y="260"/>
                  </a:lnTo>
                  <a:lnTo>
                    <a:pt x="25" y="274"/>
                  </a:lnTo>
                  <a:lnTo>
                    <a:pt x="30" y="279"/>
                  </a:lnTo>
                  <a:lnTo>
                    <a:pt x="31" y="305"/>
                  </a:lnTo>
                  <a:lnTo>
                    <a:pt x="36" y="327"/>
                  </a:lnTo>
                  <a:lnTo>
                    <a:pt x="44" y="346"/>
                  </a:lnTo>
                  <a:lnTo>
                    <a:pt x="54" y="362"/>
                  </a:lnTo>
                  <a:lnTo>
                    <a:pt x="67" y="374"/>
                  </a:lnTo>
                  <a:lnTo>
                    <a:pt x="80" y="384"/>
                  </a:lnTo>
                  <a:lnTo>
                    <a:pt x="92" y="392"/>
                  </a:lnTo>
                  <a:lnTo>
                    <a:pt x="105" y="398"/>
                  </a:lnTo>
                  <a:lnTo>
                    <a:pt x="112" y="401"/>
                  </a:lnTo>
                  <a:lnTo>
                    <a:pt x="120" y="407"/>
                  </a:lnTo>
                  <a:lnTo>
                    <a:pt x="129" y="414"/>
                  </a:lnTo>
                  <a:lnTo>
                    <a:pt x="137" y="422"/>
                  </a:lnTo>
                  <a:lnTo>
                    <a:pt x="145" y="430"/>
                  </a:lnTo>
                  <a:lnTo>
                    <a:pt x="154" y="440"/>
                  </a:lnTo>
                  <a:lnTo>
                    <a:pt x="162" y="451"/>
                  </a:lnTo>
                  <a:lnTo>
                    <a:pt x="169" y="461"/>
                  </a:lnTo>
                  <a:lnTo>
                    <a:pt x="179" y="460"/>
                  </a:lnTo>
                  <a:lnTo>
                    <a:pt x="187" y="457"/>
                  </a:lnTo>
                  <a:lnTo>
                    <a:pt x="195" y="456"/>
                  </a:lnTo>
                  <a:lnTo>
                    <a:pt x="200" y="453"/>
                  </a:lnTo>
                  <a:lnTo>
                    <a:pt x="206" y="449"/>
                  </a:lnTo>
                  <a:lnTo>
                    <a:pt x="211" y="444"/>
                  </a:lnTo>
                  <a:lnTo>
                    <a:pt x="213" y="437"/>
                  </a:lnTo>
                  <a:lnTo>
                    <a:pt x="215" y="4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0000" y="5234400"/>
              <a:ext cx="1594440" cy="772920"/>
            </a:xfrm>
            <a:custGeom>
              <a:avLst/>
              <a:gdLst/>
              <a:ahLst/>
              <a:rect l="l" t="t" r="r" b="b"/>
              <a:pathLst>
                <a:path w="578" h="264">
                  <a:moveTo>
                    <a:pt x="464" y="65"/>
                  </a:moveTo>
                  <a:lnTo>
                    <a:pt x="458" y="60"/>
                  </a:lnTo>
                  <a:lnTo>
                    <a:pt x="453" y="57"/>
                  </a:lnTo>
                  <a:lnTo>
                    <a:pt x="448" y="53"/>
                  </a:lnTo>
                  <a:lnTo>
                    <a:pt x="443" y="48"/>
                  </a:lnTo>
                  <a:lnTo>
                    <a:pt x="437" y="45"/>
                  </a:lnTo>
                  <a:lnTo>
                    <a:pt x="434" y="40"/>
                  </a:lnTo>
                  <a:lnTo>
                    <a:pt x="430" y="35"/>
                  </a:lnTo>
                  <a:lnTo>
                    <a:pt x="428" y="29"/>
                  </a:lnTo>
                  <a:lnTo>
                    <a:pt x="426" y="22"/>
                  </a:lnTo>
                  <a:lnTo>
                    <a:pt x="423" y="16"/>
                  </a:lnTo>
                  <a:lnTo>
                    <a:pt x="420" y="10"/>
                  </a:lnTo>
                  <a:lnTo>
                    <a:pt x="415" y="6"/>
                  </a:lnTo>
                  <a:lnTo>
                    <a:pt x="411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4" y="2"/>
                  </a:lnTo>
                  <a:lnTo>
                    <a:pt x="387" y="5"/>
                  </a:lnTo>
                  <a:lnTo>
                    <a:pt x="377" y="7"/>
                  </a:lnTo>
                  <a:lnTo>
                    <a:pt x="369" y="8"/>
                  </a:lnTo>
                  <a:lnTo>
                    <a:pt x="360" y="8"/>
                  </a:lnTo>
                  <a:lnTo>
                    <a:pt x="352" y="8"/>
                  </a:lnTo>
                  <a:lnTo>
                    <a:pt x="344" y="7"/>
                  </a:lnTo>
                  <a:lnTo>
                    <a:pt x="337" y="7"/>
                  </a:lnTo>
                  <a:lnTo>
                    <a:pt x="331" y="7"/>
                  </a:lnTo>
                  <a:lnTo>
                    <a:pt x="326" y="8"/>
                  </a:lnTo>
                  <a:lnTo>
                    <a:pt x="321" y="10"/>
                  </a:lnTo>
                  <a:lnTo>
                    <a:pt x="315" y="15"/>
                  </a:lnTo>
                  <a:lnTo>
                    <a:pt x="311" y="20"/>
                  </a:lnTo>
                  <a:lnTo>
                    <a:pt x="305" y="25"/>
                  </a:lnTo>
                  <a:lnTo>
                    <a:pt x="301" y="31"/>
                  </a:lnTo>
                  <a:lnTo>
                    <a:pt x="298" y="37"/>
                  </a:lnTo>
                  <a:lnTo>
                    <a:pt x="296" y="43"/>
                  </a:lnTo>
                  <a:lnTo>
                    <a:pt x="291" y="46"/>
                  </a:lnTo>
                  <a:lnTo>
                    <a:pt x="283" y="48"/>
                  </a:lnTo>
                  <a:lnTo>
                    <a:pt x="271" y="50"/>
                  </a:lnTo>
                  <a:lnTo>
                    <a:pt x="258" y="51"/>
                  </a:lnTo>
                  <a:lnTo>
                    <a:pt x="243" y="51"/>
                  </a:lnTo>
                  <a:lnTo>
                    <a:pt x="229" y="51"/>
                  </a:lnTo>
                  <a:lnTo>
                    <a:pt x="215" y="51"/>
                  </a:lnTo>
                  <a:lnTo>
                    <a:pt x="203" y="52"/>
                  </a:lnTo>
                  <a:lnTo>
                    <a:pt x="194" y="54"/>
                  </a:lnTo>
                  <a:lnTo>
                    <a:pt x="188" y="60"/>
                  </a:lnTo>
                  <a:lnTo>
                    <a:pt x="183" y="67"/>
                  </a:lnTo>
                  <a:lnTo>
                    <a:pt x="178" y="75"/>
                  </a:lnTo>
                  <a:lnTo>
                    <a:pt x="175" y="83"/>
                  </a:lnTo>
                  <a:lnTo>
                    <a:pt x="171" y="91"/>
                  </a:lnTo>
                  <a:lnTo>
                    <a:pt x="168" y="99"/>
                  </a:lnTo>
                  <a:lnTo>
                    <a:pt x="163" y="105"/>
                  </a:lnTo>
                  <a:lnTo>
                    <a:pt x="156" y="108"/>
                  </a:lnTo>
                  <a:lnTo>
                    <a:pt x="147" y="111"/>
                  </a:lnTo>
                  <a:lnTo>
                    <a:pt x="137" y="112"/>
                  </a:lnTo>
                  <a:lnTo>
                    <a:pt x="125" y="114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6" y="129"/>
                  </a:lnTo>
                  <a:lnTo>
                    <a:pt x="93" y="140"/>
                  </a:lnTo>
                  <a:lnTo>
                    <a:pt x="91" y="151"/>
                  </a:lnTo>
                  <a:lnTo>
                    <a:pt x="86" y="160"/>
                  </a:lnTo>
                  <a:lnTo>
                    <a:pt x="80" y="167"/>
                  </a:lnTo>
                  <a:lnTo>
                    <a:pt x="73" y="172"/>
                  </a:lnTo>
                  <a:lnTo>
                    <a:pt x="65" y="174"/>
                  </a:lnTo>
                  <a:lnTo>
                    <a:pt x="57" y="175"/>
                  </a:lnTo>
                  <a:lnTo>
                    <a:pt x="48" y="173"/>
                  </a:lnTo>
                  <a:lnTo>
                    <a:pt x="40" y="171"/>
                  </a:lnTo>
                  <a:lnTo>
                    <a:pt x="31" y="168"/>
                  </a:lnTo>
                  <a:lnTo>
                    <a:pt x="21" y="168"/>
                  </a:lnTo>
                  <a:lnTo>
                    <a:pt x="12" y="171"/>
                  </a:lnTo>
                  <a:lnTo>
                    <a:pt x="5" y="175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3" y="199"/>
                  </a:lnTo>
                  <a:lnTo>
                    <a:pt x="13" y="211"/>
                  </a:lnTo>
                  <a:lnTo>
                    <a:pt x="25" y="222"/>
                  </a:lnTo>
                  <a:lnTo>
                    <a:pt x="32" y="235"/>
                  </a:lnTo>
                  <a:lnTo>
                    <a:pt x="36" y="249"/>
                  </a:lnTo>
                  <a:lnTo>
                    <a:pt x="38" y="264"/>
                  </a:lnTo>
                  <a:lnTo>
                    <a:pt x="43" y="263"/>
                  </a:lnTo>
                  <a:lnTo>
                    <a:pt x="49" y="263"/>
                  </a:lnTo>
                  <a:lnTo>
                    <a:pt x="55" y="262"/>
                  </a:lnTo>
                  <a:lnTo>
                    <a:pt x="59" y="261"/>
                  </a:lnTo>
                  <a:lnTo>
                    <a:pt x="64" y="261"/>
                  </a:lnTo>
                  <a:lnTo>
                    <a:pt x="69" y="258"/>
                  </a:lnTo>
                  <a:lnTo>
                    <a:pt x="72" y="257"/>
                  </a:lnTo>
                  <a:lnTo>
                    <a:pt x="76" y="255"/>
                  </a:lnTo>
                  <a:lnTo>
                    <a:pt x="80" y="249"/>
                  </a:lnTo>
                  <a:lnTo>
                    <a:pt x="84" y="242"/>
                  </a:lnTo>
                  <a:lnTo>
                    <a:pt x="87" y="234"/>
                  </a:lnTo>
                  <a:lnTo>
                    <a:pt x="91" y="225"/>
                  </a:lnTo>
                  <a:lnTo>
                    <a:pt x="94" y="217"/>
                  </a:lnTo>
                  <a:lnTo>
                    <a:pt x="100" y="210"/>
                  </a:lnTo>
                  <a:lnTo>
                    <a:pt x="106" y="205"/>
                  </a:lnTo>
                  <a:lnTo>
                    <a:pt x="115" y="202"/>
                  </a:lnTo>
                  <a:lnTo>
                    <a:pt x="126" y="201"/>
                  </a:lnTo>
                  <a:lnTo>
                    <a:pt x="140" y="201"/>
                  </a:lnTo>
                  <a:lnTo>
                    <a:pt x="155" y="201"/>
                  </a:lnTo>
                  <a:lnTo>
                    <a:pt x="170" y="201"/>
                  </a:lnTo>
                  <a:lnTo>
                    <a:pt x="184" y="201"/>
                  </a:lnTo>
                  <a:lnTo>
                    <a:pt x="195" y="199"/>
                  </a:lnTo>
                  <a:lnTo>
                    <a:pt x="203" y="197"/>
                  </a:lnTo>
                  <a:lnTo>
                    <a:pt x="208" y="193"/>
                  </a:lnTo>
                  <a:lnTo>
                    <a:pt x="210" y="188"/>
                  </a:lnTo>
                  <a:lnTo>
                    <a:pt x="213" y="182"/>
                  </a:lnTo>
                  <a:lnTo>
                    <a:pt x="217" y="176"/>
                  </a:lnTo>
                  <a:lnTo>
                    <a:pt x="222" y="171"/>
                  </a:lnTo>
                  <a:lnTo>
                    <a:pt x="226" y="166"/>
                  </a:lnTo>
                  <a:lnTo>
                    <a:pt x="232" y="161"/>
                  </a:lnTo>
                  <a:lnTo>
                    <a:pt x="238" y="159"/>
                  </a:lnTo>
                  <a:lnTo>
                    <a:pt x="243" y="158"/>
                  </a:lnTo>
                  <a:lnTo>
                    <a:pt x="248" y="158"/>
                  </a:lnTo>
                  <a:lnTo>
                    <a:pt x="255" y="158"/>
                  </a:lnTo>
                  <a:lnTo>
                    <a:pt x="263" y="159"/>
                  </a:lnTo>
                  <a:lnTo>
                    <a:pt x="273" y="159"/>
                  </a:lnTo>
                  <a:lnTo>
                    <a:pt x="281" y="159"/>
                  </a:lnTo>
                  <a:lnTo>
                    <a:pt x="290" y="158"/>
                  </a:lnTo>
                  <a:lnTo>
                    <a:pt x="298" y="156"/>
                  </a:lnTo>
                  <a:lnTo>
                    <a:pt x="305" y="153"/>
                  </a:lnTo>
                  <a:lnTo>
                    <a:pt x="311" y="151"/>
                  </a:lnTo>
                  <a:lnTo>
                    <a:pt x="317" y="151"/>
                  </a:lnTo>
                  <a:lnTo>
                    <a:pt x="322" y="153"/>
                  </a:lnTo>
                  <a:lnTo>
                    <a:pt x="328" y="157"/>
                  </a:lnTo>
                  <a:lnTo>
                    <a:pt x="331" y="161"/>
                  </a:lnTo>
                  <a:lnTo>
                    <a:pt x="335" y="167"/>
                  </a:lnTo>
                  <a:lnTo>
                    <a:pt x="337" y="173"/>
                  </a:lnTo>
                  <a:lnTo>
                    <a:pt x="339" y="180"/>
                  </a:lnTo>
                  <a:lnTo>
                    <a:pt x="342" y="186"/>
                  </a:lnTo>
                  <a:lnTo>
                    <a:pt x="345" y="190"/>
                  </a:lnTo>
                  <a:lnTo>
                    <a:pt x="350" y="195"/>
                  </a:lnTo>
                  <a:lnTo>
                    <a:pt x="354" y="199"/>
                  </a:lnTo>
                  <a:lnTo>
                    <a:pt x="359" y="203"/>
                  </a:lnTo>
                  <a:lnTo>
                    <a:pt x="365" y="206"/>
                  </a:lnTo>
                  <a:lnTo>
                    <a:pt x="370" y="211"/>
                  </a:lnTo>
                  <a:lnTo>
                    <a:pt x="375" y="216"/>
                  </a:lnTo>
                  <a:lnTo>
                    <a:pt x="381" y="220"/>
                  </a:lnTo>
                  <a:lnTo>
                    <a:pt x="387" y="226"/>
                  </a:lnTo>
                  <a:lnTo>
                    <a:pt x="392" y="231"/>
                  </a:lnTo>
                  <a:lnTo>
                    <a:pt x="399" y="234"/>
                  </a:lnTo>
                  <a:lnTo>
                    <a:pt x="405" y="235"/>
                  </a:lnTo>
                  <a:lnTo>
                    <a:pt x="411" y="233"/>
                  </a:lnTo>
                  <a:lnTo>
                    <a:pt x="415" y="228"/>
                  </a:lnTo>
                  <a:lnTo>
                    <a:pt x="419" y="219"/>
                  </a:lnTo>
                  <a:lnTo>
                    <a:pt x="423" y="210"/>
                  </a:lnTo>
                  <a:lnTo>
                    <a:pt x="432" y="205"/>
                  </a:lnTo>
                  <a:lnTo>
                    <a:pt x="441" y="204"/>
                  </a:lnTo>
                  <a:lnTo>
                    <a:pt x="452" y="204"/>
                  </a:lnTo>
                  <a:lnTo>
                    <a:pt x="463" y="205"/>
                  </a:lnTo>
                  <a:lnTo>
                    <a:pt x="474" y="206"/>
                  </a:lnTo>
                  <a:lnTo>
                    <a:pt x="486" y="205"/>
                  </a:lnTo>
                  <a:lnTo>
                    <a:pt x="495" y="202"/>
                  </a:lnTo>
                  <a:lnTo>
                    <a:pt x="504" y="198"/>
                  </a:lnTo>
                  <a:lnTo>
                    <a:pt x="514" y="198"/>
                  </a:lnTo>
                  <a:lnTo>
                    <a:pt x="525" y="199"/>
                  </a:lnTo>
                  <a:lnTo>
                    <a:pt x="536" y="202"/>
                  </a:lnTo>
                  <a:lnTo>
                    <a:pt x="547" y="203"/>
                  </a:lnTo>
                  <a:lnTo>
                    <a:pt x="557" y="204"/>
                  </a:lnTo>
                  <a:lnTo>
                    <a:pt x="566" y="202"/>
                  </a:lnTo>
                  <a:lnTo>
                    <a:pt x="574" y="197"/>
                  </a:lnTo>
                  <a:lnTo>
                    <a:pt x="577" y="195"/>
                  </a:lnTo>
                  <a:lnTo>
                    <a:pt x="578" y="191"/>
                  </a:lnTo>
                  <a:lnTo>
                    <a:pt x="578" y="187"/>
                  </a:lnTo>
                  <a:lnTo>
                    <a:pt x="578" y="182"/>
                  </a:lnTo>
                  <a:lnTo>
                    <a:pt x="576" y="173"/>
                  </a:lnTo>
                  <a:lnTo>
                    <a:pt x="571" y="164"/>
                  </a:lnTo>
                  <a:lnTo>
                    <a:pt x="564" y="153"/>
                  </a:lnTo>
                  <a:lnTo>
                    <a:pt x="556" y="143"/>
                  </a:lnTo>
                  <a:lnTo>
                    <a:pt x="548" y="133"/>
                  </a:lnTo>
                  <a:lnTo>
                    <a:pt x="539" y="122"/>
                  </a:lnTo>
                  <a:lnTo>
                    <a:pt x="529" y="113"/>
                  </a:lnTo>
                  <a:lnTo>
                    <a:pt x="521" y="105"/>
                  </a:lnTo>
                  <a:lnTo>
                    <a:pt x="516" y="99"/>
                  </a:lnTo>
                  <a:lnTo>
                    <a:pt x="510" y="93"/>
                  </a:lnTo>
                  <a:lnTo>
                    <a:pt x="505" y="89"/>
                  </a:lnTo>
                  <a:lnTo>
                    <a:pt x="500" y="83"/>
                  </a:lnTo>
                  <a:lnTo>
                    <a:pt x="495" y="82"/>
                  </a:lnTo>
                  <a:lnTo>
                    <a:pt x="491" y="80"/>
                  </a:lnTo>
                  <a:lnTo>
                    <a:pt x="487" y="78"/>
                  </a:lnTo>
                  <a:lnTo>
                    <a:pt x="482" y="76"/>
                  </a:lnTo>
                  <a:lnTo>
                    <a:pt x="476" y="74"/>
                  </a:lnTo>
                  <a:lnTo>
                    <a:pt x="472" y="72"/>
                  </a:lnTo>
                  <a:lnTo>
                    <a:pt x="468" y="68"/>
                  </a:lnTo>
                  <a:lnTo>
                    <a:pt x="464" y="6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12160" y="3399120"/>
              <a:ext cx="501840" cy="478800"/>
            </a:xfrm>
            <a:custGeom>
              <a:avLst/>
              <a:gdLst/>
              <a:ahLst/>
              <a:rect l="l" t="t" r="r" b="b"/>
              <a:pathLst>
                <a:path w="181" h="160">
                  <a:moveTo>
                    <a:pt x="102" y="24"/>
                  </a:moveTo>
                  <a:lnTo>
                    <a:pt x="97" y="43"/>
                  </a:lnTo>
                  <a:lnTo>
                    <a:pt x="94" y="63"/>
                  </a:lnTo>
                  <a:lnTo>
                    <a:pt x="87" y="81"/>
                  </a:lnTo>
                  <a:lnTo>
                    <a:pt x="75" y="90"/>
                  </a:lnTo>
                  <a:lnTo>
                    <a:pt x="66" y="91"/>
                  </a:lnTo>
                  <a:lnTo>
                    <a:pt x="54" y="92"/>
                  </a:lnTo>
                  <a:lnTo>
                    <a:pt x="4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8"/>
                  </a:lnTo>
                  <a:lnTo>
                    <a:pt x="4" y="103"/>
                  </a:lnTo>
                  <a:lnTo>
                    <a:pt x="0" y="108"/>
                  </a:lnTo>
                  <a:lnTo>
                    <a:pt x="1" y="113"/>
                  </a:lnTo>
                  <a:lnTo>
                    <a:pt x="7" y="113"/>
                  </a:lnTo>
                  <a:lnTo>
                    <a:pt x="17" y="111"/>
                  </a:lnTo>
                  <a:lnTo>
                    <a:pt x="28" y="108"/>
                  </a:lnTo>
                  <a:lnTo>
                    <a:pt x="38" y="107"/>
                  </a:lnTo>
                  <a:lnTo>
                    <a:pt x="47" y="108"/>
                  </a:lnTo>
                  <a:lnTo>
                    <a:pt x="53" y="114"/>
                  </a:lnTo>
                  <a:lnTo>
                    <a:pt x="53" y="126"/>
                  </a:lnTo>
                  <a:lnTo>
                    <a:pt x="52" y="134"/>
                  </a:lnTo>
                  <a:lnTo>
                    <a:pt x="50" y="141"/>
                  </a:lnTo>
                  <a:lnTo>
                    <a:pt x="49" y="147"/>
                  </a:lnTo>
                  <a:lnTo>
                    <a:pt x="47" y="154"/>
                  </a:lnTo>
                  <a:lnTo>
                    <a:pt x="57" y="152"/>
                  </a:lnTo>
                  <a:lnTo>
                    <a:pt x="67" y="151"/>
                  </a:lnTo>
                  <a:lnTo>
                    <a:pt x="77" y="151"/>
                  </a:lnTo>
                  <a:lnTo>
                    <a:pt x="87" y="150"/>
                  </a:lnTo>
                  <a:lnTo>
                    <a:pt x="95" y="151"/>
                  </a:lnTo>
                  <a:lnTo>
                    <a:pt x="103" y="152"/>
                  </a:lnTo>
                  <a:lnTo>
                    <a:pt x="110" y="154"/>
                  </a:lnTo>
                  <a:lnTo>
                    <a:pt x="114" y="157"/>
                  </a:lnTo>
                  <a:lnTo>
                    <a:pt x="121" y="160"/>
                  </a:lnTo>
                  <a:lnTo>
                    <a:pt x="127" y="160"/>
                  </a:lnTo>
                  <a:lnTo>
                    <a:pt x="133" y="159"/>
                  </a:lnTo>
                  <a:lnTo>
                    <a:pt x="138" y="154"/>
                  </a:lnTo>
                  <a:lnTo>
                    <a:pt x="144" y="150"/>
                  </a:lnTo>
                  <a:lnTo>
                    <a:pt x="150" y="143"/>
                  </a:lnTo>
                  <a:lnTo>
                    <a:pt x="157" y="137"/>
                  </a:lnTo>
                  <a:lnTo>
                    <a:pt x="163" y="130"/>
                  </a:lnTo>
                  <a:lnTo>
                    <a:pt x="174" y="114"/>
                  </a:lnTo>
                  <a:lnTo>
                    <a:pt x="180" y="96"/>
                  </a:lnTo>
                  <a:lnTo>
                    <a:pt x="181" y="77"/>
                  </a:lnTo>
                  <a:lnTo>
                    <a:pt x="176" y="63"/>
                  </a:lnTo>
                  <a:lnTo>
                    <a:pt x="171" y="51"/>
                  </a:lnTo>
                  <a:lnTo>
                    <a:pt x="167" y="31"/>
                  </a:lnTo>
                  <a:lnTo>
                    <a:pt x="165" y="13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4" y="2"/>
                  </a:lnTo>
                  <a:lnTo>
                    <a:pt x="134" y="5"/>
                  </a:lnTo>
                  <a:lnTo>
                    <a:pt x="125" y="8"/>
                  </a:lnTo>
                  <a:lnTo>
                    <a:pt x="117" y="11"/>
                  </a:lnTo>
                  <a:lnTo>
                    <a:pt x="110" y="15"/>
                  </a:lnTo>
                  <a:lnTo>
                    <a:pt x="105" y="20"/>
                  </a:lnTo>
                  <a:lnTo>
                    <a:pt x="102" y="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9240" y="1890720"/>
              <a:ext cx="5824080" cy="4175640"/>
            </a:xfrm>
            <a:custGeom>
              <a:avLst/>
              <a:gdLst/>
              <a:ahLst/>
              <a:rect l="l" t="t" r="r" b="b"/>
              <a:pathLst>
                <a:path w="2112" h="1417">
                  <a:moveTo>
                    <a:pt x="2095" y="234"/>
                  </a:moveTo>
                  <a:lnTo>
                    <a:pt x="2096" y="242"/>
                  </a:lnTo>
                  <a:lnTo>
                    <a:pt x="2098" y="262"/>
                  </a:lnTo>
                  <a:lnTo>
                    <a:pt x="2103" y="284"/>
                  </a:lnTo>
                  <a:lnTo>
                    <a:pt x="2108" y="300"/>
                  </a:lnTo>
                  <a:lnTo>
                    <a:pt x="2110" y="304"/>
                  </a:lnTo>
                  <a:lnTo>
                    <a:pt x="2112" y="309"/>
                  </a:lnTo>
                  <a:lnTo>
                    <a:pt x="2112" y="315"/>
                  </a:lnTo>
                  <a:lnTo>
                    <a:pt x="2112" y="322"/>
                  </a:lnTo>
                  <a:lnTo>
                    <a:pt x="2111" y="333"/>
                  </a:lnTo>
                  <a:lnTo>
                    <a:pt x="2107" y="346"/>
                  </a:lnTo>
                  <a:lnTo>
                    <a:pt x="2103" y="357"/>
                  </a:lnTo>
                  <a:lnTo>
                    <a:pt x="2095" y="367"/>
                  </a:lnTo>
                  <a:lnTo>
                    <a:pt x="2089" y="373"/>
                  </a:lnTo>
                  <a:lnTo>
                    <a:pt x="2082" y="379"/>
                  </a:lnTo>
                  <a:lnTo>
                    <a:pt x="2076" y="386"/>
                  </a:lnTo>
                  <a:lnTo>
                    <a:pt x="2070" y="391"/>
                  </a:lnTo>
                  <a:lnTo>
                    <a:pt x="2065" y="395"/>
                  </a:lnTo>
                  <a:lnTo>
                    <a:pt x="2059" y="397"/>
                  </a:lnTo>
                  <a:lnTo>
                    <a:pt x="2052" y="397"/>
                  </a:lnTo>
                  <a:lnTo>
                    <a:pt x="2046" y="393"/>
                  </a:lnTo>
                  <a:lnTo>
                    <a:pt x="2037" y="388"/>
                  </a:lnTo>
                  <a:lnTo>
                    <a:pt x="2024" y="387"/>
                  </a:lnTo>
                  <a:lnTo>
                    <a:pt x="2008" y="386"/>
                  </a:lnTo>
                  <a:lnTo>
                    <a:pt x="1992" y="388"/>
                  </a:lnTo>
                  <a:lnTo>
                    <a:pt x="1976" y="392"/>
                  </a:lnTo>
                  <a:lnTo>
                    <a:pt x="1962" y="397"/>
                  </a:lnTo>
                  <a:lnTo>
                    <a:pt x="1951" y="402"/>
                  </a:lnTo>
                  <a:lnTo>
                    <a:pt x="1945" y="410"/>
                  </a:lnTo>
                  <a:lnTo>
                    <a:pt x="1940" y="430"/>
                  </a:lnTo>
                  <a:lnTo>
                    <a:pt x="1937" y="451"/>
                  </a:lnTo>
                  <a:lnTo>
                    <a:pt x="1930" y="468"/>
                  </a:lnTo>
                  <a:lnTo>
                    <a:pt x="1918" y="477"/>
                  </a:lnTo>
                  <a:lnTo>
                    <a:pt x="1909" y="478"/>
                  </a:lnTo>
                  <a:lnTo>
                    <a:pt x="1898" y="478"/>
                  </a:lnTo>
                  <a:lnTo>
                    <a:pt x="1886" y="479"/>
                  </a:lnTo>
                  <a:lnTo>
                    <a:pt x="1875" y="481"/>
                  </a:lnTo>
                  <a:lnTo>
                    <a:pt x="1863" y="482"/>
                  </a:lnTo>
                  <a:lnTo>
                    <a:pt x="1854" y="485"/>
                  </a:lnTo>
                  <a:lnTo>
                    <a:pt x="1847" y="489"/>
                  </a:lnTo>
                  <a:lnTo>
                    <a:pt x="1843" y="494"/>
                  </a:lnTo>
                  <a:lnTo>
                    <a:pt x="1845" y="499"/>
                  </a:lnTo>
                  <a:lnTo>
                    <a:pt x="1850" y="499"/>
                  </a:lnTo>
                  <a:lnTo>
                    <a:pt x="1861" y="497"/>
                  </a:lnTo>
                  <a:lnTo>
                    <a:pt x="1871" y="494"/>
                  </a:lnTo>
                  <a:lnTo>
                    <a:pt x="1881" y="493"/>
                  </a:lnTo>
                  <a:lnTo>
                    <a:pt x="1891" y="494"/>
                  </a:lnTo>
                  <a:lnTo>
                    <a:pt x="1896" y="500"/>
                  </a:lnTo>
                  <a:lnTo>
                    <a:pt x="1896" y="512"/>
                  </a:lnTo>
                  <a:lnTo>
                    <a:pt x="1891" y="541"/>
                  </a:lnTo>
                  <a:lnTo>
                    <a:pt x="1887" y="568"/>
                  </a:lnTo>
                  <a:lnTo>
                    <a:pt x="1885" y="598"/>
                  </a:lnTo>
                  <a:lnTo>
                    <a:pt x="1887" y="632"/>
                  </a:lnTo>
                  <a:lnTo>
                    <a:pt x="1888" y="650"/>
                  </a:lnTo>
                  <a:lnTo>
                    <a:pt x="1890" y="667"/>
                  </a:lnTo>
                  <a:lnTo>
                    <a:pt x="1890" y="684"/>
                  </a:lnTo>
                  <a:lnTo>
                    <a:pt x="1888" y="697"/>
                  </a:lnTo>
                  <a:lnTo>
                    <a:pt x="1885" y="709"/>
                  </a:lnTo>
                  <a:lnTo>
                    <a:pt x="1879" y="716"/>
                  </a:lnTo>
                  <a:lnTo>
                    <a:pt x="1869" y="720"/>
                  </a:lnTo>
                  <a:lnTo>
                    <a:pt x="1856" y="719"/>
                  </a:lnTo>
                  <a:lnTo>
                    <a:pt x="1842" y="718"/>
                  </a:lnTo>
                  <a:lnTo>
                    <a:pt x="1831" y="720"/>
                  </a:lnTo>
                  <a:lnTo>
                    <a:pt x="1822" y="726"/>
                  </a:lnTo>
                  <a:lnTo>
                    <a:pt x="1813" y="733"/>
                  </a:lnTo>
                  <a:lnTo>
                    <a:pt x="1808" y="742"/>
                  </a:lnTo>
                  <a:lnTo>
                    <a:pt x="1802" y="753"/>
                  </a:lnTo>
                  <a:lnTo>
                    <a:pt x="1797" y="764"/>
                  </a:lnTo>
                  <a:lnTo>
                    <a:pt x="1794" y="776"/>
                  </a:lnTo>
                  <a:lnTo>
                    <a:pt x="1789" y="786"/>
                  </a:lnTo>
                  <a:lnTo>
                    <a:pt x="1780" y="794"/>
                  </a:lnTo>
                  <a:lnTo>
                    <a:pt x="1769" y="800"/>
                  </a:lnTo>
                  <a:lnTo>
                    <a:pt x="1756" y="805"/>
                  </a:lnTo>
                  <a:lnTo>
                    <a:pt x="1743" y="808"/>
                  </a:lnTo>
                  <a:lnTo>
                    <a:pt x="1732" y="810"/>
                  </a:lnTo>
                  <a:lnTo>
                    <a:pt x="1721" y="813"/>
                  </a:lnTo>
                  <a:lnTo>
                    <a:pt x="1714" y="816"/>
                  </a:lnTo>
                  <a:lnTo>
                    <a:pt x="1713" y="820"/>
                  </a:lnTo>
                  <a:lnTo>
                    <a:pt x="1718" y="823"/>
                  </a:lnTo>
                  <a:lnTo>
                    <a:pt x="1727" y="828"/>
                  </a:lnTo>
                  <a:lnTo>
                    <a:pt x="1739" y="831"/>
                  </a:lnTo>
                  <a:lnTo>
                    <a:pt x="1752" y="833"/>
                  </a:lnTo>
                  <a:lnTo>
                    <a:pt x="1767" y="833"/>
                  </a:lnTo>
                  <a:lnTo>
                    <a:pt x="1780" y="832"/>
                  </a:lnTo>
                  <a:lnTo>
                    <a:pt x="1790" y="829"/>
                  </a:lnTo>
                  <a:lnTo>
                    <a:pt x="1800" y="826"/>
                  </a:lnTo>
                  <a:lnTo>
                    <a:pt x="1809" y="830"/>
                  </a:lnTo>
                  <a:lnTo>
                    <a:pt x="1818" y="836"/>
                  </a:lnTo>
                  <a:lnTo>
                    <a:pt x="1827" y="846"/>
                  </a:lnTo>
                  <a:lnTo>
                    <a:pt x="1835" y="858"/>
                  </a:lnTo>
                  <a:lnTo>
                    <a:pt x="1841" y="870"/>
                  </a:lnTo>
                  <a:lnTo>
                    <a:pt x="1846" y="883"/>
                  </a:lnTo>
                  <a:lnTo>
                    <a:pt x="1847" y="896"/>
                  </a:lnTo>
                  <a:lnTo>
                    <a:pt x="1848" y="906"/>
                  </a:lnTo>
                  <a:lnTo>
                    <a:pt x="1850" y="916"/>
                  </a:lnTo>
                  <a:lnTo>
                    <a:pt x="1856" y="926"/>
                  </a:lnTo>
                  <a:lnTo>
                    <a:pt x="1862" y="935"/>
                  </a:lnTo>
                  <a:lnTo>
                    <a:pt x="1869" y="943"/>
                  </a:lnTo>
                  <a:lnTo>
                    <a:pt x="1878" y="952"/>
                  </a:lnTo>
                  <a:lnTo>
                    <a:pt x="1887" y="961"/>
                  </a:lnTo>
                  <a:lnTo>
                    <a:pt x="1896" y="971"/>
                  </a:lnTo>
                  <a:lnTo>
                    <a:pt x="1904" y="979"/>
                  </a:lnTo>
                  <a:lnTo>
                    <a:pt x="1913" y="987"/>
                  </a:lnTo>
                  <a:lnTo>
                    <a:pt x="1921" y="997"/>
                  </a:lnTo>
                  <a:lnTo>
                    <a:pt x="1930" y="1006"/>
                  </a:lnTo>
                  <a:lnTo>
                    <a:pt x="1937" y="1017"/>
                  </a:lnTo>
                  <a:lnTo>
                    <a:pt x="1944" y="1026"/>
                  </a:lnTo>
                  <a:lnTo>
                    <a:pt x="1948" y="1035"/>
                  </a:lnTo>
                  <a:lnTo>
                    <a:pt x="1952" y="1044"/>
                  </a:lnTo>
                  <a:lnTo>
                    <a:pt x="1953" y="1050"/>
                  </a:lnTo>
                  <a:lnTo>
                    <a:pt x="1953" y="1055"/>
                  </a:lnTo>
                  <a:lnTo>
                    <a:pt x="1952" y="1059"/>
                  </a:lnTo>
                  <a:lnTo>
                    <a:pt x="1949" y="1063"/>
                  </a:lnTo>
                  <a:lnTo>
                    <a:pt x="1941" y="1067"/>
                  </a:lnTo>
                  <a:lnTo>
                    <a:pt x="1932" y="1070"/>
                  </a:lnTo>
                  <a:lnTo>
                    <a:pt x="1922" y="1068"/>
                  </a:lnTo>
                  <a:lnTo>
                    <a:pt x="1911" y="1067"/>
                  </a:lnTo>
                  <a:lnTo>
                    <a:pt x="1900" y="1065"/>
                  </a:lnTo>
                  <a:lnTo>
                    <a:pt x="1890" y="1064"/>
                  </a:lnTo>
                  <a:lnTo>
                    <a:pt x="1879" y="1064"/>
                  </a:lnTo>
                  <a:lnTo>
                    <a:pt x="1870" y="1067"/>
                  </a:lnTo>
                  <a:lnTo>
                    <a:pt x="1861" y="1071"/>
                  </a:lnTo>
                  <a:lnTo>
                    <a:pt x="1849" y="1072"/>
                  </a:lnTo>
                  <a:lnTo>
                    <a:pt x="1838" y="1071"/>
                  </a:lnTo>
                  <a:lnTo>
                    <a:pt x="1827" y="1070"/>
                  </a:lnTo>
                  <a:lnTo>
                    <a:pt x="1816" y="1070"/>
                  </a:lnTo>
                  <a:lnTo>
                    <a:pt x="1807" y="1071"/>
                  </a:lnTo>
                  <a:lnTo>
                    <a:pt x="1798" y="1075"/>
                  </a:lnTo>
                  <a:lnTo>
                    <a:pt x="1794" y="1085"/>
                  </a:lnTo>
                  <a:lnTo>
                    <a:pt x="1790" y="1094"/>
                  </a:lnTo>
                  <a:lnTo>
                    <a:pt x="1786" y="1098"/>
                  </a:lnTo>
                  <a:lnTo>
                    <a:pt x="1780" y="1101"/>
                  </a:lnTo>
                  <a:lnTo>
                    <a:pt x="1774" y="1100"/>
                  </a:lnTo>
                  <a:lnTo>
                    <a:pt x="1767" y="1096"/>
                  </a:lnTo>
                  <a:lnTo>
                    <a:pt x="1762" y="1092"/>
                  </a:lnTo>
                  <a:lnTo>
                    <a:pt x="1756" y="1086"/>
                  </a:lnTo>
                  <a:lnTo>
                    <a:pt x="1750" y="1081"/>
                  </a:lnTo>
                  <a:lnTo>
                    <a:pt x="1746" y="1077"/>
                  </a:lnTo>
                  <a:lnTo>
                    <a:pt x="1740" y="1072"/>
                  </a:lnTo>
                  <a:lnTo>
                    <a:pt x="1734" y="1068"/>
                  </a:lnTo>
                  <a:lnTo>
                    <a:pt x="1729" y="1065"/>
                  </a:lnTo>
                  <a:lnTo>
                    <a:pt x="1725" y="1060"/>
                  </a:lnTo>
                  <a:lnTo>
                    <a:pt x="1720" y="1056"/>
                  </a:lnTo>
                  <a:lnTo>
                    <a:pt x="1717" y="1051"/>
                  </a:lnTo>
                  <a:lnTo>
                    <a:pt x="1714" y="1045"/>
                  </a:lnTo>
                  <a:lnTo>
                    <a:pt x="1712" y="1039"/>
                  </a:lnTo>
                  <a:lnTo>
                    <a:pt x="1710" y="1033"/>
                  </a:lnTo>
                  <a:lnTo>
                    <a:pt x="1706" y="1027"/>
                  </a:lnTo>
                  <a:lnTo>
                    <a:pt x="1703" y="1022"/>
                  </a:lnTo>
                  <a:lnTo>
                    <a:pt x="1697" y="1019"/>
                  </a:lnTo>
                  <a:lnTo>
                    <a:pt x="1693" y="1017"/>
                  </a:lnTo>
                  <a:lnTo>
                    <a:pt x="1686" y="1017"/>
                  </a:lnTo>
                  <a:lnTo>
                    <a:pt x="1680" y="1019"/>
                  </a:lnTo>
                  <a:lnTo>
                    <a:pt x="1673" y="1021"/>
                  </a:lnTo>
                  <a:lnTo>
                    <a:pt x="1665" y="1024"/>
                  </a:lnTo>
                  <a:lnTo>
                    <a:pt x="1656" y="1025"/>
                  </a:lnTo>
                  <a:lnTo>
                    <a:pt x="1648" y="1025"/>
                  </a:lnTo>
                  <a:lnTo>
                    <a:pt x="1638" y="1025"/>
                  </a:lnTo>
                  <a:lnTo>
                    <a:pt x="1630" y="1024"/>
                  </a:lnTo>
                  <a:lnTo>
                    <a:pt x="1623" y="1024"/>
                  </a:lnTo>
                  <a:lnTo>
                    <a:pt x="1618" y="1024"/>
                  </a:lnTo>
                  <a:lnTo>
                    <a:pt x="1613" y="1025"/>
                  </a:lnTo>
                  <a:lnTo>
                    <a:pt x="1607" y="1027"/>
                  </a:lnTo>
                  <a:lnTo>
                    <a:pt x="1601" y="1032"/>
                  </a:lnTo>
                  <a:lnTo>
                    <a:pt x="1597" y="1036"/>
                  </a:lnTo>
                  <a:lnTo>
                    <a:pt x="1592" y="1042"/>
                  </a:lnTo>
                  <a:lnTo>
                    <a:pt x="1588" y="1048"/>
                  </a:lnTo>
                  <a:lnTo>
                    <a:pt x="1584" y="1054"/>
                  </a:lnTo>
                  <a:lnTo>
                    <a:pt x="1582" y="1058"/>
                  </a:lnTo>
                  <a:lnTo>
                    <a:pt x="1578" y="1063"/>
                  </a:lnTo>
                  <a:lnTo>
                    <a:pt x="1569" y="1065"/>
                  </a:lnTo>
                  <a:lnTo>
                    <a:pt x="1558" y="1066"/>
                  </a:lnTo>
                  <a:lnTo>
                    <a:pt x="1545" y="1066"/>
                  </a:lnTo>
                  <a:lnTo>
                    <a:pt x="1530" y="1066"/>
                  </a:lnTo>
                  <a:lnTo>
                    <a:pt x="1515" y="1066"/>
                  </a:lnTo>
                  <a:lnTo>
                    <a:pt x="1501" y="1066"/>
                  </a:lnTo>
                  <a:lnTo>
                    <a:pt x="1490" y="1067"/>
                  </a:lnTo>
                  <a:lnTo>
                    <a:pt x="1481" y="1071"/>
                  </a:lnTo>
                  <a:lnTo>
                    <a:pt x="1475" y="1075"/>
                  </a:lnTo>
                  <a:lnTo>
                    <a:pt x="1469" y="1082"/>
                  </a:lnTo>
                  <a:lnTo>
                    <a:pt x="1464" y="1090"/>
                  </a:lnTo>
                  <a:lnTo>
                    <a:pt x="1461" y="1100"/>
                  </a:lnTo>
                  <a:lnTo>
                    <a:pt x="1457" y="1108"/>
                  </a:lnTo>
                  <a:lnTo>
                    <a:pt x="1454" y="1115"/>
                  </a:lnTo>
                  <a:lnTo>
                    <a:pt x="1449" y="1120"/>
                  </a:lnTo>
                  <a:lnTo>
                    <a:pt x="1443" y="1125"/>
                  </a:lnTo>
                  <a:lnTo>
                    <a:pt x="1433" y="1127"/>
                  </a:lnTo>
                  <a:lnTo>
                    <a:pt x="1423" y="1128"/>
                  </a:lnTo>
                  <a:lnTo>
                    <a:pt x="1411" y="1130"/>
                  </a:lnTo>
                  <a:lnTo>
                    <a:pt x="1400" y="1133"/>
                  </a:lnTo>
                  <a:lnTo>
                    <a:pt x="1391" y="1138"/>
                  </a:lnTo>
                  <a:lnTo>
                    <a:pt x="1383" y="1145"/>
                  </a:lnTo>
                  <a:lnTo>
                    <a:pt x="1379" y="1156"/>
                  </a:lnTo>
                  <a:lnTo>
                    <a:pt x="1377" y="1168"/>
                  </a:lnTo>
                  <a:lnTo>
                    <a:pt x="1372" y="1177"/>
                  </a:lnTo>
                  <a:lnTo>
                    <a:pt x="1366" y="1184"/>
                  </a:lnTo>
                  <a:lnTo>
                    <a:pt x="1360" y="1187"/>
                  </a:lnTo>
                  <a:lnTo>
                    <a:pt x="1352" y="1190"/>
                  </a:lnTo>
                  <a:lnTo>
                    <a:pt x="1343" y="1191"/>
                  </a:lnTo>
                  <a:lnTo>
                    <a:pt x="1334" y="1190"/>
                  </a:lnTo>
                  <a:lnTo>
                    <a:pt x="1326" y="1187"/>
                  </a:lnTo>
                  <a:lnTo>
                    <a:pt x="1317" y="1185"/>
                  </a:lnTo>
                  <a:lnTo>
                    <a:pt x="1308" y="1185"/>
                  </a:lnTo>
                  <a:lnTo>
                    <a:pt x="1299" y="1187"/>
                  </a:lnTo>
                  <a:lnTo>
                    <a:pt x="1292" y="1192"/>
                  </a:lnTo>
                  <a:lnTo>
                    <a:pt x="1287" y="1198"/>
                  </a:lnTo>
                  <a:lnTo>
                    <a:pt x="1286" y="1206"/>
                  </a:lnTo>
                  <a:lnTo>
                    <a:pt x="1289" y="1215"/>
                  </a:lnTo>
                  <a:lnTo>
                    <a:pt x="1300" y="1226"/>
                  </a:lnTo>
                  <a:lnTo>
                    <a:pt x="1311" y="1239"/>
                  </a:lnTo>
                  <a:lnTo>
                    <a:pt x="1318" y="1252"/>
                  </a:lnTo>
                  <a:lnTo>
                    <a:pt x="1323" y="1266"/>
                  </a:lnTo>
                  <a:lnTo>
                    <a:pt x="1324" y="1281"/>
                  </a:lnTo>
                  <a:lnTo>
                    <a:pt x="1323" y="1296"/>
                  </a:lnTo>
                  <a:lnTo>
                    <a:pt x="1319" y="1311"/>
                  </a:lnTo>
                  <a:lnTo>
                    <a:pt x="1315" y="1327"/>
                  </a:lnTo>
                  <a:lnTo>
                    <a:pt x="1309" y="1342"/>
                  </a:lnTo>
                  <a:lnTo>
                    <a:pt x="1302" y="1354"/>
                  </a:lnTo>
                  <a:lnTo>
                    <a:pt x="1294" y="1364"/>
                  </a:lnTo>
                  <a:lnTo>
                    <a:pt x="1285" y="1369"/>
                  </a:lnTo>
                  <a:lnTo>
                    <a:pt x="1275" y="1374"/>
                  </a:lnTo>
                  <a:lnTo>
                    <a:pt x="1265" y="1375"/>
                  </a:lnTo>
                  <a:lnTo>
                    <a:pt x="1254" y="1376"/>
                  </a:lnTo>
                  <a:lnTo>
                    <a:pt x="1242" y="1376"/>
                  </a:lnTo>
                  <a:lnTo>
                    <a:pt x="1229" y="1376"/>
                  </a:lnTo>
                  <a:lnTo>
                    <a:pt x="1216" y="1376"/>
                  </a:lnTo>
                  <a:lnTo>
                    <a:pt x="1201" y="1376"/>
                  </a:lnTo>
                  <a:lnTo>
                    <a:pt x="1184" y="1376"/>
                  </a:lnTo>
                  <a:lnTo>
                    <a:pt x="1167" y="1376"/>
                  </a:lnTo>
                  <a:lnTo>
                    <a:pt x="1150" y="1377"/>
                  </a:lnTo>
                  <a:lnTo>
                    <a:pt x="1131" y="1379"/>
                  </a:lnTo>
                  <a:lnTo>
                    <a:pt x="1112" y="1381"/>
                  </a:lnTo>
                  <a:lnTo>
                    <a:pt x="1092" y="1385"/>
                  </a:lnTo>
                  <a:lnTo>
                    <a:pt x="1074" y="1392"/>
                  </a:lnTo>
                  <a:lnTo>
                    <a:pt x="1057" y="1399"/>
                  </a:lnTo>
                  <a:lnTo>
                    <a:pt x="1042" y="1407"/>
                  </a:lnTo>
                  <a:lnTo>
                    <a:pt x="1028" y="1413"/>
                  </a:lnTo>
                  <a:lnTo>
                    <a:pt x="1015" y="1417"/>
                  </a:lnTo>
                  <a:lnTo>
                    <a:pt x="1002" y="1415"/>
                  </a:lnTo>
                  <a:lnTo>
                    <a:pt x="990" y="1409"/>
                  </a:lnTo>
                  <a:lnTo>
                    <a:pt x="977" y="1395"/>
                  </a:lnTo>
                  <a:lnTo>
                    <a:pt x="963" y="1379"/>
                  </a:lnTo>
                  <a:lnTo>
                    <a:pt x="949" y="1367"/>
                  </a:lnTo>
                  <a:lnTo>
                    <a:pt x="936" y="1359"/>
                  </a:lnTo>
                  <a:lnTo>
                    <a:pt x="923" y="1354"/>
                  </a:lnTo>
                  <a:lnTo>
                    <a:pt x="910" y="1351"/>
                  </a:lnTo>
                  <a:lnTo>
                    <a:pt x="900" y="1350"/>
                  </a:lnTo>
                  <a:lnTo>
                    <a:pt x="891" y="1350"/>
                  </a:lnTo>
                  <a:lnTo>
                    <a:pt x="885" y="1350"/>
                  </a:lnTo>
                  <a:lnTo>
                    <a:pt x="880" y="1349"/>
                  </a:lnTo>
                  <a:lnTo>
                    <a:pt x="877" y="1347"/>
                  </a:lnTo>
                  <a:lnTo>
                    <a:pt x="873" y="1345"/>
                  </a:lnTo>
                  <a:lnTo>
                    <a:pt x="869" y="1344"/>
                  </a:lnTo>
                  <a:lnTo>
                    <a:pt x="865" y="1343"/>
                  </a:lnTo>
                  <a:lnTo>
                    <a:pt x="860" y="1344"/>
                  </a:lnTo>
                  <a:lnTo>
                    <a:pt x="854" y="1347"/>
                  </a:lnTo>
                  <a:lnTo>
                    <a:pt x="846" y="1354"/>
                  </a:lnTo>
                  <a:lnTo>
                    <a:pt x="838" y="1359"/>
                  </a:lnTo>
                  <a:lnTo>
                    <a:pt x="828" y="1358"/>
                  </a:lnTo>
                  <a:lnTo>
                    <a:pt x="819" y="1353"/>
                  </a:lnTo>
                  <a:lnTo>
                    <a:pt x="811" y="1345"/>
                  </a:lnTo>
                  <a:lnTo>
                    <a:pt x="804" y="1337"/>
                  </a:lnTo>
                  <a:lnTo>
                    <a:pt x="799" y="1328"/>
                  </a:lnTo>
                  <a:lnTo>
                    <a:pt x="794" y="1322"/>
                  </a:lnTo>
                  <a:lnTo>
                    <a:pt x="793" y="1320"/>
                  </a:lnTo>
                  <a:lnTo>
                    <a:pt x="790" y="1320"/>
                  </a:lnTo>
                  <a:lnTo>
                    <a:pt x="785" y="1321"/>
                  </a:lnTo>
                  <a:lnTo>
                    <a:pt x="778" y="1321"/>
                  </a:lnTo>
                  <a:lnTo>
                    <a:pt x="769" y="1320"/>
                  </a:lnTo>
                  <a:lnTo>
                    <a:pt x="758" y="1316"/>
                  </a:lnTo>
                  <a:lnTo>
                    <a:pt x="750" y="1312"/>
                  </a:lnTo>
                  <a:lnTo>
                    <a:pt x="743" y="1305"/>
                  </a:lnTo>
                  <a:lnTo>
                    <a:pt x="740" y="1293"/>
                  </a:lnTo>
                  <a:lnTo>
                    <a:pt x="737" y="1282"/>
                  </a:lnTo>
                  <a:lnTo>
                    <a:pt x="735" y="1275"/>
                  </a:lnTo>
                  <a:lnTo>
                    <a:pt x="731" y="1270"/>
                  </a:lnTo>
                  <a:lnTo>
                    <a:pt x="726" y="1269"/>
                  </a:lnTo>
                  <a:lnTo>
                    <a:pt x="721" y="1270"/>
                  </a:lnTo>
                  <a:lnTo>
                    <a:pt x="716" y="1273"/>
                  </a:lnTo>
                  <a:lnTo>
                    <a:pt x="710" y="1276"/>
                  </a:lnTo>
                  <a:lnTo>
                    <a:pt x="705" y="1279"/>
                  </a:lnTo>
                  <a:lnTo>
                    <a:pt x="699" y="1282"/>
                  </a:lnTo>
                  <a:lnTo>
                    <a:pt x="694" y="1282"/>
                  </a:lnTo>
                  <a:lnTo>
                    <a:pt x="688" y="1281"/>
                  </a:lnTo>
                  <a:lnTo>
                    <a:pt x="682" y="1278"/>
                  </a:lnTo>
                  <a:lnTo>
                    <a:pt x="676" y="1275"/>
                  </a:lnTo>
                  <a:lnTo>
                    <a:pt x="670" y="1271"/>
                  </a:lnTo>
                  <a:lnTo>
                    <a:pt x="664" y="1269"/>
                  </a:lnTo>
                  <a:lnTo>
                    <a:pt x="657" y="1267"/>
                  </a:lnTo>
                  <a:lnTo>
                    <a:pt x="650" y="1266"/>
                  </a:lnTo>
                  <a:lnTo>
                    <a:pt x="644" y="1268"/>
                  </a:lnTo>
                  <a:lnTo>
                    <a:pt x="637" y="1270"/>
                  </a:lnTo>
                  <a:lnTo>
                    <a:pt x="631" y="1273"/>
                  </a:lnTo>
                  <a:lnTo>
                    <a:pt x="625" y="1275"/>
                  </a:lnTo>
                  <a:lnTo>
                    <a:pt x="617" y="1277"/>
                  </a:lnTo>
                  <a:lnTo>
                    <a:pt x="608" y="1277"/>
                  </a:lnTo>
                  <a:lnTo>
                    <a:pt x="599" y="1275"/>
                  </a:lnTo>
                  <a:lnTo>
                    <a:pt x="591" y="1274"/>
                  </a:lnTo>
                  <a:lnTo>
                    <a:pt x="587" y="1276"/>
                  </a:lnTo>
                  <a:lnTo>
                    <a:pt x="583" y="1282"/>
                  </a:lnTo>
                  <a:lnTo>
                    <a:pt x="581" y="1287"/>
                  </a:lnTo>
                  <a:lnTo>
                    <a:pt x="577" y="1296"/>
                  </a:lnTo>
                  <a:lnTo>
                    <a:pt x="573" y="1301"/>
                  </a:lnTo>
                  <a:lnTo>
                    <a:pt x="566" y="1307"/>
                  </a:lnTo>
                  <a:lnTo>
                    <a:pt x="554" y="1311"/>
                  </a:lnTo>
                  <a:lnTo>
                    <a:pt x="542" y="1312"/>
                  </a:lnTo>
                  <a:lnTo>
                    <a:pt x="531" y="1313"/>
                  </a:lnTo>
                  <a:lnTo>
                    <a:pt x="521" y="1313"/>
                  </a:lnTo>
                  <a:lnTo>
                    <a:pt x="513" y="1314"/>
                  </a:lnTo>
                  <a:lnTo>
                    <a:pt x="505" y="1315"/>
                  </a:lnTo>
                  <a:lnTo>
                    <a:pt x="498" y="1316"/>
                  </a:lnTo>
                  <a:lnTo>
                    <a:pt x="491" y="1320"/>
                  </a:lnTo>
                  <a:lnTo>
                    <a:pt x="484" y="1323"/>
                  </a:lnTo>
                  <a:lnTo>
                    <a:pt x="477" y="1328"/>
                  </a:lnTo>
                  <a:lnTo>
                    <a:pt x="468" y="1332"/>
                  </a:lnTo>
                  <a:lnTo>
                    <a:pt x="458" y="1337"/>
                  </a:lnTo>
                  <a:lnTo>
                    <a:pt x="447" y="1341"/>
                  </a:lnTo>
                  <a:lnTo>
                    <a:pt x="436" y="1342"/>
                  </a:lnTo>
                  <a:lnTo>
                    <a:pt x="424" y="1342"/>
                  </a:lnTo>
                  <a:lnTo>
                    <a:pt x="411" y="1341"/>
                  </a:lnTo>
                  <a:lnTo>
                    <a:pt x="400" y="1337"/>
                  </a:lnTo>
                  <a:lnTo>
                    <a:pt x="390" y="1332"/>
                  </a:lnTo>
                  <a:lnTo>
                    <a:pt x="379" y="1330"/>
                  </a:lnTo>
                  <a:lnTo>
                    <a:pt x="371" y="1329"/>
                  </a:lnTo>
                  <a:lnTo>
                    <a:pt x="364" y="1329"/>
                  </a:lnTo>
                  <a:lnTo>
                    <a:pt x="358" y="1330"/>
                  </a:lnTo>
                  <a:lnTo>
                    <a:pt x="353" y="1334"/>
                  </a:lnTo>
                  <a:lnTo>
                    <a:pt x="347" y="1337"/>
                  </a:lnTo>
                  <a:lnTo>
                    <a:pt x="342" y="1342"/>
                  </a:lnTo>
                  <a:lnTo>
                    <a:pt x="338" y="1344"/>
                  </a:lnTo>
                  <a:lnTo>
                    <a:pt x="332" y="1344"/>
                  </a:lnTo>
                  <a:lnTo>
                    <a:pt x="326" y="1342"/>
                  </a:lnTo>
                  <a:lnTo>
                    <a:pt x="320" y="1338"/>
                  </a:lnTo>
                  <a:lnTo>
                    <a:pt x="314" y="1337"/>
                  </a:lnTo>
                  <a:lnTo>
                    <a:pt x="308" y="1336"/>
                  </a:lnTo>
                  <a:lnTo>
                    <a:pt x="301" y="1339"/>
                  </a:lnTo>
                  <a:lnTo>
                    <a:pt x="294" y="1346"/>
                  </a:lnTo>
                  <a:lnTo>
                    <a:pt x="287" y="1354"/>
                  </a:lnTo>
                  <a:lnTo>
                    <a:pt x="278" y="1361"/>
                  </a:lnTo>
                  <a:lnTo>
                    <a:pt x="267" y="1365"/>
                  </a:lnTo>
                  <a:lnTo>
                    <a:pt x="257" y="1366"/>
                  </a:lnTo>
                  <a:lnTo>
                    <a:pt x="244" y="1366"/>
                  </a:lnTo>
                  <a:lnTo>
                    <a:pt x="232" y="1365"/>
                  </a:lnTo>
                  <a:lnTo>
                    <a:pt x="219" y="1362"/>
                  </a:lnTo>
                  <a:lnTo>
                    <a:pt x="206" y="1359"/>
                  </a:lnTo>
                  <a:lnTo>
                    <a:pt x="184" y="1350"/>
                  </a:lnTo>
                  <a:lnTo>
                    <a:pt x="180" y="1195"/>
                  </a:lnTo>
                  <a:lnTo>
                    <a:pt x="182" y="1194"/>
                  </a:lnTo>
                  <a:lnTo>
                    <a:pt x="187" y="1192"/>
                  </a:lnTo>
                  <a:lnTo>
                    <a:pt x="193" y="1187"/>
                  </a:lnTo>
                  <a:lnTo>
                    <a:pt x="198" y="1181"/>
                  </a:lnTo>
                  <a:lnTo>
                    <a:pt x="203" y="1175"/>
                  </a:lnTo>
                  <a:lnTo>
                    <a:pt x="205" y="1168"/>
                  </a:lnTo>
                  <a:lnTo>
                    <a:pt x="204" y="1160"/>
                  </a:lnTo>
                  <a:lnTo>
                    <a:pt x="197" y="1151"/>
                  </a:lnTo>
                  <a:lnTo>
                    <a:pt x="181" y="1132"/>
                  </a:lnTo>
                  <a:lnTo>
                    <a:pt x="172" y="1107"/>
                  </a:lnTo>
                  <a:lnTo>
                    <a:pt x="167" y="1079"/>
                  </a:lnTo>
                  <a:lnTo>
                    <a:pt x="166" y="1055"/>
                  </a:lnTo>
                  <a:lnTo>
                    <a:pt x="165" y="1044"/>
                  </a:lnTo>
                  <a:lnTo>
                    <a:pt x="161" y="1036"/>
                  </a:lnTo>
                  <a:lnTo>
                    <a:pt x="157" y="1030"/>
                  </a:lnTo>
                  <a:lnTo>
                    <a:pt x="150" y="1026"/>
                  </a:lnTo>
                  <a:lnTo>
                    <a:pt x="143" y="1022"/>
                  </a:lnTo>
                  <a:lnTo>
                    <a:pt x="135" y="1020"/>
                  </a:lnTo>
                  <a:lnTo>
                    <a:pt x="126" y="1018"/>
                  </a:lnTo>
                  <a:lnTo>
                    <a:pt x="118" y="1014"/>
                  </a:lnTo>
                  <a:lnTo>
                    <a:pt x="108" y="1010"/>
                  </a:lnTo>
                  <a:lnTo>
                    <a:pt x="97" y="1005"/>
                  </a:lnTo>
                  <a:lnTo>
                    <a:pt x="84" y="998"/>
                  </a:lnTo>
                  <a:lnTo>
                    <a:pt x="70" y="991"/>
                  </a:lnTo>
                  <a:lnTo>
                    <a:pt x="59" y="982"/>
                  </a:lnTo>
                  <a:lnTo>
                    <a:pt x="47" y="972"/>
                  </a:lnTo>
                  <a:lnTo>
                    <a:pt x="39" y="961"/>
                  </a:lnTo>
                  <a:lnTo>
                    <a:pt x="34" y="949"/>
                  </a:lnTo>
                  <a:lnTo>
                    <a:pt x="28" y="936"/>
                  </a:lnTo>
                  <a:lnTo>
                    <a:pt x="20" y="924"/>
                  </a:lnTo>
                  <a:lnTo>
                    <a:pt x="12" y="913"/>
                  </a:lnTo>
                  <a:lnTo>
                    <a:pt x="5" y="903"/>
                  </a:lnTo>
                  <a:lnTo>
                    <a:pt x="0" y="893"/>
                  </a:lnTo>
                  <a:lnTo>
                    <a:pt x="2" y="884"/>
                  </a:lnTo>
                  <a:lnTo>
                    <a:pt x="13" y="874"/>
                  </a:lnTo>
                  <a:lnTo>
                    <a:pt x="34" y="864"/>
                  </a:lnTo>
                  <a:lnTo>
                    <a:pt x="35" y="862"/>
                  </a:lnTo>
                  <a:lnTo>
                    <a:pt x="39" y="858"/>
                  </a:lnTo>
                  <a:lnTo>
                    <a:pt x="45" y="851"/>
                  </a:lnTo>
                  <a:lnTo>
                    <a:pt x="51" y="840"/>
                  </a:lnTo>
                  <a:lnTo>
                    <a:pt x="54" y="829"/>
                  </a:lnTo>
                  <a:lnTo>
                    <a:pt x="57" y="817"/>
                  </a:lnTo>
                  <a:lnTo>
                    <a:pt x="54" y="805"/>
                  </a:lnTo>
                  <a:lnTo>
                    <a:pt x="47" y="793"/>
                  </a:lnTo>
                  <a:lnTo>
                    <a:pt x="32" y="770"/>
                  </a:lnTo>
                  <a:lnTo>
                    <a:pt x="28" y="747"/>
                  </a:lnTo>
                  <a:lnTo>
                    <a:pt x="29" y="725"/>
                  </a:lnTo>
                  <a:lnTo>
                    <a:pt x="34" y="707"/>
                  </a:lnTo>
                  <a:lnTo>
                    <a:pt x="35" y="697"/>
                  </a:lnTo>
                  <a:lnTo>
                    <a:pt x="34" y="686"/>
                  </a:lnTo>
                  <a:lnTo>
                    <a:pt x="31" y="673"/>
                  </a:lnTo>
                  <a:lnTo>
                    <a:pt x="30" y="660"/>
                  </a:lnTo>
                  <a:lnTo>
                    <a:pt x="30" y="649"/>
                  </a:lnTo>
                  <a:lnTo>
                    <a:pt x="32" y="637"/>
                  </a:lnTo>
                  <a:lnTo>
                    <a:pt x="40" y="629"/>
                  </a:lnTo>
                  <a:lnTo>
                    <a:pt x="55" y="622"/>
                  </a:lnTo>
                  <a:lnTo>
                    <a:pt x="74" y="619"/>
                  </a:lnTo>
                  <a:lnTo>
                    <a:pt x="90" y="617"/>
                  </a:lnTo>
                  <a:lnTo>
                    <a:pt x="105" y="614"/>
                  </a:lnTo>
                  <a:lnTo>
                    <a:pt x="119" y="613"/>
                  </a:lnTo>
                  <a:lnTo>
                    <a:pt x="130" y="610"/>
                  </a:lnTo>
                  <a:lnTo>
                    <a:pt x="140" y="604"/>
                  </a:lnTo>
                  <a:lnTo>
                    <a:pt x="145" y="596"/>
                  </a:lnTo>
                  <a:lnTo>
                    <a:pt x="149" y="583"/>
                  </a:lnTo>
                  <a:lnTo>
                    <a:pt x="152" y="572"/>
                  </a:lnTo>
                  <a:lnTo>
                    <a:pt x="157" y="566"/>
                  </a:lnTo>
                  <a:lnTo>
                    <a:pt x="164" y="564"/>
                  </a:lnTo>
                  <a:lnTo>
                    <a:pt x="173" y="562"/>
                  </a:lnTo>
                  <a:lnTo>
                    <a:pt x="181" y="560"/>
                  </a:lnTo>
                  <a:lnTo>
                    <a:pt x="190" y="554"/>
                  </a:lnTo>
                  <a:lnTo>
                    <a:pt x="198" y="544"/>
                  </a:lnTo>
                  <a:lnTo>
                    <a:pt x="206" y="526"/>
                  </a:lnTo>
                  <a:lnTo>
                    <a:pt x="208" y="508"/>
                  </a:lnTo>
                  <a:lnTo>
                    <a:pt x="204" y="489"/>
                  </a:lnTo>
                  <a:lnTo>
                    <a:pt x="195" y="470"/>
                  </a:lnTo>
                  <a:lnTo>
                    <a:pt x="183" y="452"/>
                  </a:lnTo>
                  <a:lnTo>
                    <a:pt x="170" y="435"/>
                  </a:lnTo>
                  <a:lnTo>
                    <a:pt x="155" y="420"/>
                  </a:lnTo>
                  <a:lnTo>
                    <a:pt x="140" y="408"/>
                  </a:lnTo>
                  <a:lnTo>
                    <a:pt x="127" y="401"/>
                  </a:lnTo>
                  <a:lnTo>
                    <a:pt x="114" y="395"/>
                  </a:lnTo>
                  <a:lnTo>
                    <a:pt x="102" y="387"/>
                  </a:lnTo>
                  <a:lnTo>
                    <a:pt x="89" y="378"/>
                  </a:lnTo>
                  <a:lnTo>
                    <a:pt x="76" y="365"/>
                  </a:lnTo>
                  <a:lnTo>
                    <a:pt x="66" y="349"/>
                  </a:lnTo>
                  <a:lnTo>
                    <a:pt x="58" y="331"/>
                  </a:lnTo>
                  <a:lnTo>
                    <a:pt x="53" y="309"/>
                  </a:lnTo>
                  <a:lnTo>
                    <a:pt x="52" y="282"/>
                  </a:lnTo>
                  <a:lnTo>
                    <a:pt x="50" y="280"/>
                  </a:lnTo>
                  <a:lnTo>
                    <a:pt x="45" y="274"/>
                  </a:lnTo>
                  <a:lnTo>
                    <a:pt x="38" y="265"/>
                  </a:lnTo>
                  <a:lnTo>
                    <a:pt x="30" y="251"/>
                  </a:lnTo>
                  <a:lnTo>
                    <a:pt x="24" y="234"/>
                  </a:lnTo>
                  <a:lnTo>
                    <a:pt x="21" y="213"/>
                  </a:lnTo>
                  <a:lnTo>
                    <a:pt x="22" y="188"/>
                  </a:lnTo>
                  <a:lnTo>
                    <a:pt x="29" y="159"/>
                  </a:lnTo>
                  <a:lnTo>
                    <a:pt x="37" y="133"/>
                  </a:lnTo>
                  <a:lnTo>
                    <a:pt x="44" y="115"/>
                  </a:lnTo>
                  <a:lnTo>
                    <a:pt x="47" y="104"/>
                  </a:lnTo>
                  <a:lnTo>
                    <a:pt x="52" y="98"/>
                  </a:lnTo>
                  <a:lnTo>
                    <a:pt x="55" y="95"/>
                  </a:lnTo>
                  <a:lnTo>
                    <a:pt x="59" y="92"/>
                  </a:lnTo>
                  <a:lnTo>
                    <a:pt x="66" y="90"/>
                  </a:lnTo>
                  <a:lnTo>
                    <a:pt x="74" y="83"/>
                  </a:lnTo>
                  <a:lnTo>
                    <a:pt x="82" y="75"/>
                  </a:lnTo>
                  <a:lnTo>
                    <a:pt x="88" y="66"/>
                  </a:lnTo>
                  <a:lnTo>
                    <a:pt x="92" y="56"/>
                  </a:lnTo>
                  <a:lnTo>
                    <a:pt x="95" y="47"/>
                  </a:lnTo>
                  <a:lnTo>
                    <a:pt x="97" y="39"/>
                  </a:lnTo>
                  <a:lnTo>
                    <a:pt x="99" y="30"/>
                  </a:lnTo>
                  <a:lnTo>
                    <a:pt x="103" y="21"/>
                  </a:lnTo>
                  <a:lnTo>
                    <a:pt x="108" y="13"/>
                  </a:lnTo>
                  <a:lnTo>
                    <a:pt x="114" y="7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7" y="6"/>
                  </a:lnTo>
                  <a:lnTo>
                    <a:pt x="163" y="9"/>
                  </a:lnTo>
                  <a:lnTo>
                    <a:pt x="168" y="13"/>
                  </a:lnTo>
                  <a:lnTo>
                    <a:pt x="174" y="17"/>
                  </a:lnTo>
                  <a:lnTo>
                    <a:pt x="180" y="22"/>
                  </a:lnTo>
                  <a:lnTo>
                    <a:pt x="189" y="29"/>
                  </a:lnTo>
                  <a:lnTo>
                    <a:pt x="196" y="36"/>
                  </a:lnTo>
                  <a:lnTo>
                    <a:pt x="203" y="40"/>
                  </a:lnTo>
                  <a:lnTo>
                    <a:pt x="209" y="44"/>
                  </a:lnTo>
                  <a:lnTo>
                    <a:pt x="214" y="47"/>
                  </a:lnTo>
                  <a:lnTo>
                    <a:pt x="221" y="50"/>
                  </a:lnTo>
                  <a:lnTo>
                    <a:pt x="228" y="51"/>
                  </a:lnTo>
                  <a:lnTo>
                    <a:pt x="237" y="53"/>
                  </a:lnTo>
                  <a:lnTo>
                    <a:pt x="247" y="55"/>
                  </a:lnTo>
                  <a:lnTo>
                    <a:pt x="256" y="61"/>
                  </a:lnTo>
                  <a:lnTo>
                    <a:pt x="262" y="68"/>
                  </a:lnTo>
                  <a:lnTo>
                    <a:pt x="266" y="76"/>
                  </a:lnTo>
                  <a:lnTo>
                    <a:pt x="266" y="85"/>
                  </a:lnTo>
                  <a:lnTo>
                    <a:pt x="263" y="93"/>
                  </a:lnTo>
                  <a:lnTo>
                    <a:pt x="255" y="103"/>
                  </a:lnTo>
                  <a:lnTo>
                    <a:pt x="241" y="110"/>
                  </a:lnTo>
                  <a:lnTo>
                    <a:pt x="225" y="118"/>
                  </a:lnTo>
                  <a:lnTo>
                    <a:pt x="212" y="129"/>
                  </a:lnTo>
                  <a:lnTo>
                    <a:pt x="202" y="141"/>
                  </a:lnTo>
                  <a:lnTo>
                    <a:pt x="197" y="153"/>
                  </a:lnTo>
                  <a:lnTo>
                    <a:pt x="197" y="165"/>
                  </a:lnTo>
                  <a:lnTo>
                    <a:pt x="205" y="176"/>
                  </a:lnTo>
                  <a:lnTo>
                    <a:pt x="220" y="184"/>
                  </a:lnTo>
                  <a:lnTo>
                    <a:pt x="246" y="189"/>
                  </a:lnTo>
                  <a:lnTo>
                    <a:pt x="273" y="190"/>
                  </a:lnTo>
                  <a:lnTo>
                    <a:pt x="296" y="188"/>
                  </a:lnTo>
                  <a:lnTo>
                    <a:pt x="317" y="183"/>
                  </a:lnTo>
                  <a:lnTo>
                    <a:pt x="335" y="179"/>
                  </a:lnTo>
                  <a:lnTo>
                    <a:pt x="352" y="174"/>
                  </a:lnTo>
                  <a:lnTo>
                    <a:pt x="369" y="173"/>
                  </a:lnTo>
                  <a:lnTo>
                    <a:pt x="386" y="174"/>
                  </a:lnTo>
                  <a:lnTo>
                    <a:pt x="405" y="181"/>
                  </a:lnTo>
                  <a:lnTo>
                    <a:pt x="424" y="189"/>
                  </a:lnTo>
                  <a:lnTo>
                    <a:pt x="444" y="195"/>
                  </a:lnTo>
                  <a:lnTo>
                    <a:pt x="462" y="199"/>
                  </a:lnTo>
                  <a:lnTo>
                    <a:pt x="481" y="203"/>
                  </a:lnTo>
                  <a:lnTo>
                    <a:pt x="499" y="206"/>
                  </a:lnTo>
                  <a:lnTo>
                    <a:pt x="516" y="211"/>
                  </a:lnTo>
                  <a:lnTo>
                    <a:pt x="534" y="217"/>
                  </a:lnTo>
                  <a:lnTo>
                    <a:pt x="551" y="225"/>
                  </a:lnTo>
                  <a:lnTo>
                    <a:pt x="568" y="234"/>
                  </a:lnTo>
                  <a:lnTo>
                    <a:pt x="587" y="242"/>
                  </a:lnTo>
                  <a:lnTo>
                    <a:pt x="606" y="248"/>
                  </a:lnTo>
                  <a:lnTo>
                    <a:pt x="627" y="252"/>
                  </a:lnTo>
                  <a:lnTo>
                    <a:pt x="646" y="254"/>
                  </a:lnTo>
                  <a:lnTo>
                    <a:pt x="667" y="252"/>
                  </a:lnTo>
                  <a:lnTo>
                    <a:pt x="687" y="249"/>
                  </a:lnTo>
                  <a:lnTo>
                    <a:pt x="705" y="242"/>
                  </a:lnTo>
                  <a:lnTo>
                    <a:pt x="722" y="235"/>
                  </a:lnTo>
                  <a:lnTo>
                    <a:pt x="737" y="232"/>
                  </a:lnTo>
                  <a:lnTo>
                    <a:pt x="752" y="231"/>
                  </a:lnTo>
                  <a:lnTo>
                    <a:pt x="766" y="231"/>
                  </a:lnTo>
                  <a:lnTo>
                    <a:pt x="780" y="233"/>
                  </a:lnTo>
                  <a:lnTo>
                    <a:pt x="794" y="235"/>
                  </a:lnTo>
                  <a:lnTo>
                    <a:pt x="808" y="239"/>
                  </a:lnTo>
                  <a:lnTo>
                    <a:pt x="824" y="242"/>
                  </a:lnTo>
                  <a:lnTo>
                    <a:pt x="840" y="244"/>
                  </a:lnTo>
                  <a:lnTo>
                    <a:pt x="855" y="244"/>
                  </a:lnTo>
                  <a:lnTo>
                    <a:pt x="870" y="244"/>
                  </a:lnTo>
                  <a:lnTo>
                    <a:pt x="883" y="243"/>
                  </a:lnTo>
                  <a:lnTo>
                    <a:pt x="894" y="242"/>
                  </a:lnTo>
                  <a:lnTo>
                    <a:pt x="906" y="242"/>
                  </a:lnTo>
                  <a:lnTo>
                    <a:pt x="915" y="243"/>
                  </a:lnTo>
                  <a:lnTo>
                    <a:pt x="924" y="247"/>
                  </a:lnTo>
                  <a:lnTo>
                    <a:pt x="933" y="251"/>
                  </a:lnTo>
                  <a:lnTo>
                    <a:pt x="945" y="254"/>
                  </a:lnTo>
                  <a:lnTo>
                    <a:pt x="958" y="256"/>
                  </a:lnTo>
                  <a:lnTo>
                    <a:pt x="971" y="257"/>
                  </a:lnTo>
                  <a:lnTo>
                    <a:pt x="984" y="259"/>
                  </a:lnTo>
                  <a:lnTo>
                    <a:pt x="997" y="262"/>
                  </a:lnTo>
                  <a:lnTo>
                    <a:pt x="1008" y="266"/>
                  </a:lnTo>
                  <a:lnTo>
                    <a:pt x="1017" y="273"/>
                  </a:lnTo>
                  <a:lnTo>
                    <a:pt x="1028" y="280"/>
                  </a:lnTo>
                  <a:lnTo>
                    <a:pt x="1040" y="285"/>
                  </a:lnTo>
                  <a:lnTo>
                    <a:pt x="1055" y="287"/>
                  </a:lnTo>
                  <a:lnTo>
                    <a:pt x="1073" y="286"/>
                  </a:lnTo>
                  <a:lnTo>
                    <a:pt x="1092" y="281"/>
                  </a:lnTo>
                  <a:lnTo>
                    <a:pt x="1114" y="272"/>
                  </a:lnTo>
                  <a:lnTo>
                    <a:pt x="1136" y="259"/>
                  </a:lnTo>
                  <a:lnTo>
                    <a:pt x="1159" y="242"/>
                  </a:lnTo>
                  <a:lnTo>
                    <a:pt x="1181" y="221"/>
                  </a:lnTo>
                  <a:lnTo>
                    <a:pt x="1199" y="201"/>
                  </a:lnTo>
                  <a:lnTo>
                    <a:pt x="1217" y="180"/>
                  </a:lnTo>
                  <a:lnTo>
                    <a:pt x="1233" y="159"/>
                  </a:lnTo>
                  <a:lnTo>
                    <a:pt x="1248" y="142"/>
                  </a:lnTo>
                  <a:lnTo>
                    <a:pt x="1264" y="127"/>
                  </a:lnTo>
                  <a:lnTo>
                    <a:pt x="1281" y="115"/>
                  </a:lnTo>
                  <a:lnTo>
                    <a:pt x="1300" y="110"/>
                  </a:lnTo>
                  <a:lnTo>
                    <a:pt x="1310" y="108"/>
                  </a:lnTo>
                  <a:lnTo>
                    <a:pt x="1322" y="106"/>
                  </a:lnTo>
                  <a:lnTo>
                    <a:pt x="1334" y="105"/>
                  </a:lnTo>
                  <a:lnTo>
                    <a:pt x="1348" y="104"/>
                  </a:lnTo>
                  <a:lnTo>
                    <a:pt x="1362" y="101"/>
                  </a:lnTo>
                  <a:lnTo>
                    <a:pt x="1376" y="100"/>
                  </a:lnTo>
                  <a:lnTo>
                    <a:pt x="1390" y="98"/>
                  </a:lnTo>
                  <a:lnTo>
                    <a:pt x="1405" y="96"/>
                  </a:lnTo>
                  <a:lnTo>
                    <a:pt x="1417" y="95"/>
                  </a:lnTo>
                  <a:lnTo>
                    <a:pt x="1431" y="92"/>
                  </a:lnTo>
                  <a:lnTo>
                    <a:pt x="1444" y="90"/>
                  </a:lnTo>
                  <a:lnTo>
                    <a:pt x="1454" y="89"/>
                  </a:lnTo>
                  <a:lnTo>
                    <a:pt x="1464" y="86"/>
                  </a:lnTo>
                  <a:lnTo>
                    <a:pt x="1474" y="84"/>
                  </a:lnTo>
                  <a:lnTo>
                    <a:pt x="1481" y="82"/>
                  </a:lnTo>
                  <a:lnTo>
                    <a:pt x="1485" y="80"/>
                  </a:lnTo>
                  <a:lnTo>
                    <a:pt x="1493" y="74"/>
                  </a:lnTo>
                  <a:lnTo>
                    <a:pt x="1501" y="68"/>
                  </a:lnTo>
                  <a:lnTo>
                    <a:pt x="1510" y="62"/>
                  </a:lnTo>
                  <a:lnTo>
                    <a:pt x="1520" y="56"/>
                  </a:lnTo>
                  <a:lnTo>
                    <a:pt x="1530" y="52"/>
                  </a:lnTo>
                  <a:lnTo>
                    <a:pt x="1543" y="47"/>
                  </a:lnTo>
                  <a:lnTo>
                    <a:pt x="1557" y="45"/>
                  </a:lnTo>
                  <a:lnTo>
                    <a:pt x="1574" y="44"/>
                  </a:lnTo>
                  <a:lnTo>
                    <a:pt x="1592" y="44"/>
                  </a:lnTo>
                  <a:lnTo>
                    <a:pt x="1610" y="45"/>
                  </a:lnTo>
                  <a:lnTo>
                    <a:pt x="1627" y="46"/>
                  </a:lnTo>
                  <a:lnTo>
                    <a:pt x="1642" y="47"/>
                  </a:lnTo>
                  <a:lnTo>
                    <a:pt x="1656" y="50"/>
                  </a:lnTo>
                  <a:lnTo>
                    <a:pt x="1668" y="53"/>
                  </a:lnTo>
                  <a:lnTo>
                    <a:pt x="1678" y="56"/>
                  </a:lnTo>
                  <a:lnTo>
                    <a:pt x="1684" y="61"/>
                  </a:lnTo>
                  <a:lnTo>
                    <a:pt x="1690" y="67"/>
                  </a:lnTo>
                  <a:lnTo>
                    <a:pt x="1696" y="73"/>
                  </a:lnTo>
                  <a:lnTo>
                    <a:pt x="1703" y="80"/>
                  </a:lnTo>
                  <a:lnTo>
                    <a:pt x="1712" y="85"/>
                  </a:lnTo>
                  <a:lnTo>
                    <a:pt x="1721" y="91"/>
                  </a:lnTo>
                  <a:lnTo>
                    <a:pt x="1733" y="96"/>
                  </a:lnTo>
                  <a:lnTo>
                    <a:pt x="1746" y="97"/>
                  </a:lnTo>
                  <a:lnTo>
                    <a:pt x="1759" y="97"/>
                  </a:lnTo>
                  <a:lnTo>
                    <a:pt x="1773" y="96"/>
                  </a:lnTo>
                  <a:lnTo>
                    <a:pt x="1785" y="98"/>
                  </a:lnTo>
                  <a:lnTo>
                    <a:pt x="1795" y="100"/>
                  </a:lnTo>
                  <a:lnTo>
                    <a:pt x="1803" y="104"/>
                  </a:lnTo>
                  <a:lnTo>
                    <a:pt x="1809" y="107"/>
                  </a:lnTo>
                  <a:lnTo>
                    <a:pt x="1813" y="111"/>
                  </a:lnTo>
                  <a:lnTo>
                    <a:pt x="1816" y="113"/>
                  </a:lnTo>
                  <a:lnTo>
                    <a:pt x="1817" y="114"/>
                  </a:lnTo>
                  <a:lnTo>
                    <a:pt x="1818" y="115"/>
                  </a:lnTo>
                  <a:lnTo>
                    <a:pt x="1822" y="116"/>
                  </a:lnTo>
                  <a:lnTo>
                    <a:pt x="1826" y="119"/>
                  </a:lnTo>
                  <a:lnTo>
                    <a:pt x="1832" y="121"/>
                  </a:lnTo>
                  <a:lnTo>
                    <a:pt x="1838" y="122"/>
                  </a:lnTo>
                  <a:lnTo>
                    <a:pt x="1845" y="122"/>
                  </a:lnTo>
                  <a:lnTo>
                    <a:pt x="1850" y="120"/>
                  </a:lnTo>
                  <a:lnTo>
                    <a:pt x="1856" y="114"/>
                  </a:lnTo>
                  <a:lnTo>
                    <a:pt x="1862" y="108"/>
                  </a:lnTo>
                  <a:lnTo>
                    <a:pt x="1869" y="105"/>
                  </a:lnTo>
                  <a:lnTo>
                    <a:pt x="1876" y="104"/>
                  </a:lnTo>
                  <a:lnTo>
                    <a:pt x="1884" y="105"/>
                  </a:lnTo>
                  <a:lnTo>
                    <a:pt x="1890" y="107"/>
                  </a:lnTo>
                  <a:lnTo>
                    <a:pt x="1895" y="112"/>
                  </a:lnTo>
                  <a:lnTo>
                    <a:pt x="1899" y="119"/>
                  </a:lnTo>
                  <a:lnTo>
                    <a:pt x="1900" y="128"/>
                  </a:lnTo>
                  <a:lnTo>
                    <a:pt x="1900" y="134"/>
                  </a:lnTo>
                  <a:lnTo>
                    <a:pt x="1901" y="139"/>
                  </a:lnTo>
                  <a:lnTo>
                    <a:pt x="1902" y="145"/>
                  </a:lnTo>
                  <a:lnTo>
                    <a:pt x="1904" y="152"/>
                  </a:lnTo>
                  <a:lnTo>
                    <a:pt x="1908" y="160"/>
                  </a:lnTo>
                  <a:lnTo>
                    <a:pt x="1913" y="167"/>
                  </a:lnTo>
                  <a:lnTo>
                    <a:pt x="1919" y="175"/>
                  </a:lnTo>
                  <a:lnTo>
                    <a:pt x="1928" y="182"/>
                  </a:lnTo>
                  <a:lnTo>
                    <a:pt x="1938" y="190"/>
                  </a:lnTo>
                  <a:lnTo>
                    <a:pt x="1952" y="198"/>
                  </a:lnTo>
                  <a:lnTo>
                    <a:pt x="1967" y="205"/>
                  </a:lnTo>
                  <a:lnTo>
                    <a:pt x="1986" y="212"/>
                  </a:lnTo>
                  <a:lnTo>
                    <a:pt x="2008" y="218"/>
                  </a:lnTo>
                  <a:lnTo>
                    <a:pt x="2034" y="225"/>
                  </a:lnTo>
                  <a:lnTo>
                    <a:pt x="2062" y="229"/>
                  </a:lnTo>
                  <a:lnTo>
                    <a:pt x="2095" y="23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vt has pursued PPPs on a non-competitive, negotiated ba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Trakia motorway appears now to be proceeding after long de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Hemus (Sofia – Varna) Toll Road 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irport privatisation: concessions at Varna and Bourgas awarded to Fra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asibility studies on two motorway concessions to be competitively awar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Bulgari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90920" y="1844640"/>
            <a:ext cx="4155840" cy="4073400"/>
            <a:chOff x="2590920" y="1844640"/>
            <a:chExt cx="4155840" cy="4073400"/>
          </a:xfrm>
        </p:grpSpPr>
        <p:sp>
          <p:nvSpPr>
            <p:cNvPr id="90" name=""/>
            <p:cNvSpPr/>
            <p:nvPr/>
          </p:nvSpPr>
          <p:spPr>
            <a:xfrm>
              <a:off x="4884840" y="568944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2" y="1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0920" y="3222720"/>
              <a:ext cx="438120" cy="689040"/>
            </a:xfrm>
            <a:custGeom>
              <a:avLst/>
              <a:gdLst/>
              <a:ahLst/>
              <a:rect l="l" t="t" r="r" b="b"/>
              <a:pathLst>
                <a:path w="276" h="434">
                  <a:moveTo>
                    <a:pt x="265" y="278"/>
                  </a:moveTo>
                  <a:lnTo>
                    <a:pt x="255" y="274"/>
                  </a:lnTo>
                  <a:lnTo>
                    <a:pt x="251" y="277"/>
                  </a:lnTo>
                  <a:lnTo>
                    <a:pt x="247" y="284"/>
                  </a:lnTo>
                  <a:lnTo>
                    <a:pt x="238" y="285"/>
                  </a:lnTo>
                  <a:lnTo>
                    <a:pt x="233" y="282"/>
                  </a:lnTo>
                  <a:lnTo>
                    <a:pt x="227" y="278"/>
                  </a:lnTo>
                  <a:lnTo>
                    <a:pt x="222" y="273"/>
                  </a:lnTo>
                  <a:lnTo>
                    <a:pt x="216" y="264"/>
                  </a:lnTo>
                  <a:lnTo>
                    <a:pt x="211" y="255"/>
                  </a:lnTo>
                  <a:lnTo>
                    <a:pt x="207" y="244"/>
                  </a:lnTo>
                  <a:lnTo>
                    <a:pt x="201" y="230"/>
                  </a:lnTo>
                  <a:lnTo>
                    <a:pt x="197" y="213"/>
                  </a:lnTo>
                  <a:lnTo>
                    <a:pt x="189" y="187"/>
                  </a:lnTo>
                  <a:lnTo>
                    <a:pt x="179" y="173"/>
                  </a:lnTo>
                  <a:lnTo>
                    <a:pt x="168" y="165"/>
                  </a:lnTo>
                  <a:lnTo>
                    <a:pt x="160" y="158"/>
                  </a:lnTo>
                  <a:lnTo>
                    <a:pt x="156" y="153"/>
                  </a:lnTo>
                  <a:lnTo>
                    <a:pt x="150" y="144"/>
                  </a:lnTo>
                  <a:lnTo>
                    <a:pt x="143" y="135"/>
                  </a:lnTo>
                  <a:lnTo>
                    <a:pt x="138" y="125"/>
                  </a:lnTo>
                  <a:lnTo>
                    <a:pt x="131" y="114"/>
                  </a:lnTo>
                  <a:lnTo>
                    <a:pt x="124" y="102"/>
                  </a:lnTo>
                  <a:lnTo>
                    <a:pt x="118" y="89"/>
                  </a:lnTo>
                  <a:lnTo>
                    <a:pt x="114" y="78"/>
                  </a:lnTo>
                  <a:lnTo>
                    <a:pt x="110" y="62"/>
                  </a:lnTo>
                  <a:lnTo>
                    <a:pt x="107" y="43"/>
                  </a:lnTo>
                  <a:lnTo>
                    <a:pt x="107" y="22"/>
                  </a:lnTo>
                  <a:lnTo>
                    <a:pt x="107" y="3"/>
                  </a:lnTo>
                  <a:lnTo>
                    <a:pt x="99" y="1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0" y="3"/>
                  </a:lnTo>
                  <a:lnTo>
                    <a:pt x="22" y="3"/>
                  </a:lnTo>
                  <a:lnTo>
                    <a:pt x="15" y="3"/>
                  </a:lnTo>
                  <a:lnTo>
                    <a:pt x="8" y="3"/>
                  </a:lnTo>
                  <a:lnTo>
                    <a:pt x="4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12"/>
                  </a:lnTo>
                  <a:lnTo>
                    <a:pt x="7" y="33"/>
                  </a:lnTo>
                  <a:lnTo>
                    <a:pt x="11" y="58"/>
                  </a:lnTo>
                  <a:lnTo>
                    <a:pt x="15" y="78"/>
                  </a:lnTo>
                  <a:lnTo>
                    <a:pt x="19" y="91"/>
                  </a:lnTo>
                  <a:lnTo>
                    <a:pt x="26" y="103"/>
                  </a:lnTo>
                  <a:lnTo>
                    <a:pt x="30" y="116"/>
                  </a:lnTo>
                  <a:lnTo>
                    <a:pt x="30" y="127"/>
                  </a:lnTo>
                  <a:lnTo>
                    <a:pt x="28" y="144"/>
                  </a:lnTo>
                  <a:lnTo>
                    <a:pt x="26" y="172"/>
                  </a:lnTo>
                  <a:lnTo>
                    <a:pt x="29" y="202"/>
                  </a:lnTo>
                  <a:lnTo>
                    <a:pt x="34" y="229"/>
                  </a:lnTo>
                  <a:lnTo>
                    <a:pt x="39" y="240"/>
                  </a:lnTo>
                  <a:lnTo>
                    <a:pt x="44" y="252"/>
                  </a:lnTo>
                  <a:lnTo>
                    <a:pt x="51" y="263"/>
                  </a:lnTo>
                  <a:lnTo>
                    <a:pt x="56" y="274"/>
                  </a:lnTo>
                  <a:lnTo>
                    <a:pt x="63" y="285"/>
                  </a:lnTo>
                  <a:lnTo>
                    <a:pt x="69" y="295"/>
                  </a:lnTo>
                  <a:lnTo>
                    <a:pt x="74" y="302"/>
                  </a:lnTo>
                  <a:lnTo>
                    <a:pt x="80" y="307"/>
                  </a:lnTo>
                  <a:lnTo>
                    <a:pt x="88" y="314"/>
                  </a:lnTo>
                  <a:lnTo>
                    <a:pt x="99" y="322"/>
                  </a:lnTo>
                  <a:lnTo>
                    <a:pt x="109" y="337"/>
                  </a:lnTo>
                  <a:lnTo>
                    <a:pt x="117" y="364"/>
                  </a:lnTo>
                  <a:lnTo>
                    <a:pt x="121" y="379"/>
                  </a:lnTo>
                  <a:lnTo>
                    <a:pt x="127" y="392"/>
                  </a:lnTo>
                  <a:lnTo>
                    <a:pt x="131" y="403"/>
                  </a:lnTo>
                  <a:lnTo>
                    <a:pt x="136" y="413"/>
                  </a:lnTo>
                  <a:lnTo>
                    <a:pt x="142" y="421"/>
                  </a:lnTo>
                  <a:lnTo>
                    <a:pt x="147" y="427"/>
                  </a:lnTo>
                  <a:lnTo>
                    <a:pt x="153" y="431"/>
                  </a:lnTo>
                  <a:lnTo>
                    <a:pt x="158" y="434"/>
                  </a:lnTo>
                  <a:lnTo>
                    <a:pt x="167" y="431"/>
                  </a:lnTo>
                  <a:lnTo>
                    <a:pt x="169" y="426"/>
                  </a:lnTo>
                  <a:lnTo>
                    <a:pt x="175" y="421"/>
                  </a:lnTo>
                  <a:lnTo>
                    <a:pt x="185" y="426"/>
                  </a:lnTo>
                  <a:lnTo>
                    <a:pt x="196" y="426"/>
                  </a:lnTo>
                  <a:lnTo>
                    <a:pt x="201" y="408"/>
                  </a:lnTo>
                  <a:lnTo>
                    <a:pt x="207" y="383"/>
                  </a:lnTo>
                  <a:lnTo>
                    <a:pt x="215" y="359"/>
                  </a:lnTo>
                  <a:lnTo>
                    <a:pt x="225" y="344"/>
                  </a:lnTo>
                  <a:lnTo>
                    <a:pt x="231" y="335"/>
                  </a:lnTo>
                  <a:lnTo>
                    <a:pt x="240" y="332"/>
                  </a:lnTo>
                  <a:lnTo>
                    <a:pt x="252" y="333"/>
                  </a:lnTo>
                  <a:lnTo>
                    <a:pt x="263" y="332"/>
                  </a:lnTo>
                  <a:lnTo>
                    <a:pt x="270" y="321"/>
                  </a:lnTo>
                  <a:lnTo>
                    <a:pt x="273" y="306"/>
                  </a:lnTo>
                  <a:lnTo>
                    <a:pt x="274" y="285"/>
                  </a:lnTo>
                  <a:lnTo>
                    <a:pt x="274" y="284"/>
                  </a:lnTo>
                  <a:lnTo>
                    <a:pt x="274" y="281"/>
                  </a:lnTo>
                  <a:lnTo>
                    <a:pt x="274" y="279"/>
                  </a:lnTo>
                  <a:lnTo>
                    <a:pt x="276" y="278"/>
                  </a:lnTo>
                  <a:lnTo>
                    <a:pt x="273" y="279"/>
                  </a:lnTo>
                  <a:lnTo>
                    <a:pt x="271" y="279"/>
                  </a:lnTo>
                  <a:lnTo>
                    <a:pt x="269" y="279"/>
                  </a:lnTo>
                  <a:lnTo>
                    <a:pt x="265" y="27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0080" y="3274920"/>
              <a:ext cx="2144880" cy="584280"/>
            </a:xfrm>
            <a:custGeom>
              <a:avLst/>
              <a:gdLst/>
              <a:ahLst/>
              <a:rect l="l" t="t" r="r" b="b"/>
              <a:pathLst>
                <a:path w="1351" h="368">
                  <a:moveTo>
                    <a:pt x="1309" y="219"/>
                  </a:moveTo>
                  <a:lnTo>
                    <a:pt x="1298" y="216"/>
                  </a:lnTo>
                  <a:lnTo>
                    <a:pt x="1287" y="212"/>
                  </a:lnTo>
                  <a:lnTo>
                    <a:pt x="1276" y="205"/>
                  </a:lnTo>
                  <a:lnTo>
                    <a:pt x="1267" y="197"/>
                  </a:lnTo>
                  <a:lnTo>
                    <a:pt x="1259" y="189"/>
                  </a:lnTo>
                  <a:lnTo>
                    <a:pt x="1253" y="180"/>
                  </a:lnTo>
                  <a:lnTo>
                    <a:pt x="1249" y="171"/>
                  </a:lnTo>
                  <a:lnTo>
                    <a:pt x="1248" y="162"/>
                  </a:lnTo>
                  <a:lnTo>
                    <a:pt x="1247" y="147"/>
                  </a:lnTo>
                  <a:lnTo>
                    <a:pt x="1242" y="134"/>
                  </a:lnTo>
                  <a:lnTo>
                    <a:pt x="1234" y="121"/>
                  </a:lnTo>
                  <a:lnTo>
                    <a:pt x="1222" y="106"/>
                  </a:lnTo>
                  <a:lnTo>
                    <a:pt x="1215" y="98"/>
                  </a:lnTo>
                  <a:lnTo>
                    <a:pt x="1208" y="91"/>
                  </a:lnTo>
                  <a:lnTo>
                    <a:pt x="1201" y="85"/>
                  </a:lnTo>
                  <a:lnTo>
                    <a:pt x="1194" y="81"/>
                  </a:lnTo>
                  <a:lnTo>
                    <a:pt x="1187" y="78"/>
                  </a:lnTo>
                  <a:lnTo>
                    <a:pt x="1179" y="78"/>
                  </a:lnTo>
                  <a:lnTo>
                    <a:pt x="1172" y="81"/>
                  </a:lnTo>
                  <a:lnTo>
                    <a:pt x="1165" y="87"/>
                  </a:lnTo>
                  <a:lnTo>
                    <a:pt x="1158" y="92"/>
                  </a:lnTo>
                  <a:lnTo>
                    <a:pt x="1149" y="92"/>
                  </a:lnTo>
                  <a:lnTo>
                    <a:pt x="1139" y="91"/>
                  </a:lnTo>
                  <a:lnTo>
                    <a:pt x="1131" y="87"/>
                  </a:lnTo>
                  <a:lnTo>
                    <a:pt x="1123" y="81"/>
                  </a:lnTo>
                  <a:lnTo>
                    <a:pt x="1116" y="77"/>
                  </a:lnTo>
                  <a:lnTo>
                    <a:pt x="1110" y="73"/>
                  </a:lnTo>
                  <a:lnTo>
                    <a:pt x="1109" y="72"/>
                  </a:lnTo>
                  <a:lnTo>
                    <a:pt x="1065" y="65"/>
                  </a:lnTo>
                  <a:lnTo>
                    <a:pt x="1061" y="65"/>
                  </a:lnTo>
                  <a:lnTo>
                    <a:pt x="1050" y="63"/>
                  </a:lnTo>
                  <a:lnTo>
                    <a:pt x="1039" y="66"/>
                  </a:lnTo>
                  <a:lnTo>
                    <a:pt x="1034" y="72"/>
                  </a:lnTo>
                  <a:lnTo>
                    <a:pt x="1032" y="77"/>
                  </a:lnTo>
                  <a:lnTo>
                    <a:pt x="1025" y="81"/>
                  </a:lnTo>
                  <a:lnTo>
                    <a:pt x="1014" y="87"/>
                  </a:lnTo>
                  <a:lnTo>
                    <a:pt x="1001" y="89"/>
                  </a:lnTo>
                  <a:lnTo>
                    <a:pt x="988" y="89"/>
                  </a:lnTo>
                  <a:lnTo>
                    <a:pt x="975" y="88"/>
                  </a:lnTo>
                  <a:lnTo>
                    <a:pt x="966" y="83"/>
                  </a:lnTo>
                  <a:lnTo>
                    <a:pt x="959" y="72"/>
                  </a:lnTo>
                  <a:lnTo>
                    <a:pt x="949" y="56"/>
                  </a:lnTo>
                  <a:lnTo>
                    <a:pt x="941" y="55"/>
                  </a:lnTo>
                  <a:lnTo>
                    <a:pt x="932" y="61"/>
                  </a:lnTo>
                  <a:lnTo>
                    <a:pt x="930" y="65"/>
                  </a:lnTo>
                  <a:lnTo>
                    <a:pt x="919" y="80"/>
                  </a:lnTo>
                  <a:lnTo>
                    <a:pt x="905" y="91"/>
                  </a:lnTo>
                  <a:lnTo>
                    <a:pt x="888" y="98"/>
                  </a:lnTo>
                  <a:lnTo>
                    <a:pt x="872" y="100"/>
                  </a:lnTo>
                  <a:lnTo>
                    <a:pt x="855" y="99"/>
                  </a:lnTo>
                  <a:lnTo>
                    <a:pt x="842" y="95"/>
                  </a:lnTo>
                  <a:lnTo>
                    <a:pt x="829" y="88"/>
                  </a:lnTo>
                  <a:lnTo>
                    <a:pt x="821" y="80"/>
                  </a:lnTo>
                  <a:lnTo>
                    <a:pt x="815" y="72"/>
                  </a:lnTo>
                  <a:lnTo>
                    <a:pt x="808" y="66"/>
                  </a:lnTo>
                  <a:lnTo>
                    <a:pt x="802" y="63"/>
                  </a:lnTo>
                  <a:lnTo>
                    <a:pt x="795" y="62"/>
                  </a:lnTo>
                  <a:lnTo>
                    <a:pt x="789" y="62"/>
                  </a:lnTo>
                  <a:lnTo>
                    <a:pt x="784" y="63"/>
                  </a:lnTo>
                  <a:lnTo>
                    <a:pt x="781" y="65"/>
                  </a:lnTo>
                  <a:lnTo>
                    <a:pt x="780" y="65"/>
                  </a:lnTo>
                  <a:lnTo>
                    <a:pt x="763" y="72"/>
                  </a:lnTo>
                  <a:lnTo>
                    <a:pt x="748" y="73"/>
                  </a:lnTo>
                  <a:lnTo>
                    <a:pt x="731" y="72"/>
                  </a:lnTo>
                  <a:lnTo>
                    <a:pt x="716" y="67"/>
                  </a:lnTo>
                  <a:lnTo>
                    <a:pt x="704" y="61"/>
                  </a:lnTo>
                  <a:lnTo>
                    <a:pt x="694" y="55"/>
                  </a:lnTo>
                  <a:lnTo>
                    <a:pt x="687" y="51"/>
                  </a:lnTo>
                  <a:lnTo>
                    <a:pt x="684" y="49"/>
                  </a:lnTo>
                  <a:lnTo>
                    <a:pt x="676" y="52"/>
                  </a:lnTo>
                  <a:lnTo>
                    <a:pt x="667" y="54"/>
                  </a:lnTo>
                  <a:lnTo>
                    <a:pt x="657" y="52"/>
                  </a:lnTo>
                  <a:lnTo>
                    <a:pt x="649" y="49"/>
                  </a:lnTo>
                  <a:lnTo>
                    <a:pt x="640" y="48"/>
                  </a:lnTo>
                  <a:lnTo>
                    <a:pt x="635" y="45"/>
                  </a:lnTo>
                  <a:lnTo>
                    <a:pt x="631" y="44"/>
                  </a:lnTo>
                  <a:lnTo>
                    <a:pt x="629" y="43"/>
                  </a:lnTo>
                  <a:lnTo>
                    <a:pt x="616" y="48"/>
                  </a:lnTo>
                  <a:lnTo>
                    <a:pt x="602" y="51"/>
                  </a:lnTo>
                  <a:lnTo>
                    <a:pt x="588" y="52"/>
                  </a:lnTo>
                  <a:lnTo>
                    <a:pt x="576" y="51"/>
                  </a:lnTo>
                  <a:lnTo>
                    <a:pt x="563" y="49"/>
                  </a:lnTo>
                  <a:lnTo>
                    <a:pt x="552" y="47"/>
                  </a:lnTo>
                  <a:lnTo>
                    <a:pt x="544" y="43"/>
                  </a:lnTo>
                  <a:lnTo>
                    <a:pt x="538" y="38"/>
                  </a:lnTo>
                  <a:lnTo>
                    <a:pt x="533" y="33"/>
                  </a:lnTo>
                  <a:lnTo>
                    <a:pt x="526" y="26"/>
                  </a:lnTo>
                  <a:lnTo>
                    <a:pt x="518" y="18"/>
                  </a:lnTo>
                  <a:lnTo>
                    <a:pt x="508" y="10"/>
                  </a:lnTo>
                  <a:lnTo>
                    <a:pt x="499" y="4"/>
                  </a:lnTo>
                  <a:lnTo>
                    <a:pt x="487" y="0"/>
                  </a:lnTo>
                  <a:lnTo>
                    <a:pt x="475" y="1"/>
                  </a:lnTo>
                  <a:lnTo>
                    <a:pt x="464" y="8"/>
                  </a:lnTo>
                  <a:lnTo>
                    <a:pt x="452" y="16"/>
                  </a:lnTo>
                  <a:lnTo>
                    <a:pt x="438" y="22"/>
                  </a:lnTo>
                  <a:lnTo>
                    <a:pt x="424" y="23"/>
                  </a:lnTo>
                  <a:lnTo>
                    <a:pt x="410" y="25"/>
                  </a:lnTo>
                  <a:lnTo>
                    <a:pt x="397" y="23"/>
                  </a:lnTo>
                  <a:lnTo>
                    <a:pt x="383" y="21"/>
                  </a:lnTo>
                  <a:lnTo>
                    <a:pt x="372" y="16"/>
                  </a:lnTo>
                  <a:lnTo>
                    <a:pt x="362" y="12"/>
                  </a:lnTo>
                  <a:lnTo>
                    <a:pt x="354" y="8"/>
                  </a:lnTo>
                  <a:lnTo>
                    <a:pt x="346" y="7"/>
                  </a:lnTo>
                  <a:lnTo>
                    <a:pt x="339" y="5"/>
                  </a:lnTo>
                  <a:lnTo>
                    <a:pt x="332" y="5"/>
                  </a:lnTo>
                  <a:lnTo>
                    <a:pt x="325" y="7"/>
                  </a:lnTo>
                  <a:lnTo>
                    <a:pt x="319" y="8"/>
                  </a:lnTo>
                  <a:lnTo>
                    <a:pt x="314" y="11"/>
                  </a:lnTo>
                  <a:lnTo>
                    <a:pt x="310" y="15"/>
                  </a:lnTo>
                  <a:lnTo>
                    <a:pt x="304" y="22"/>
                  </a:lnTo>
                  <a:lnTo>
                    <a:pt x="299" y="32"/>
                  </a:lnTo>
                  <a:lnTo>
                    <a:pt x="292" y="43"/>
                  </a:lnTo>
                  <a:lnTo>
                    <a:pt x="285" y="56"/>
                  </a:lnTo>
                  <a:lnTo>
                    <a:pt x="278" y="70"/>
                  </a:lnTo>
                  <a:lnTo>
                    <a:pt x="271" y="83"/>
                  </a:lnTo>
                  <a:lnTo>
                    <a:pt x="267" y="94"/>
                  </a:lnTo>
                  <a:lnTo>
                    <a:pt x="264" y="102"/>
                  </a:lnTo>
                  <a:lnTo>
                    <a:pt x="263" y="109"/>
                  </a:lnTo>
                  <a:lnTo>
                    <a:pt x="259" y="117"/>
                  </a:lnTo>
                  <a:lnTo>
                    <a:pt x="255" y="124"/>
                  </a:lnTo>
                  <a:lnTo>
                    <a:pt x="249" y="129"/>
                  </a:lnTo>
                  <a:lnTo>
                    <a:pt x="242" y="135"/>
                  </a:lnTo>
                  <a:lnTo>
                    <a:pt x="234" y="139"/>
                  </a:lnTo>
                  <a:lnTo>
                    <a:pt x="226" y="142"/>
                  </a:lnTo>
                  <a:lnTo>
                    <a:pt x="216" y="143"/>
                  </a:lnTo>
                  <a:lnTo>
                    <a:pt x="206" y="143"/>
                  </a:lnTo>
                  <a:lnTo>
                    <a:pt x="197" y="142"/>
                  </a:lnTo>
                  <a:lnTo>
                    <a:pt x="189" y="139"/>
                  </a:lnTo>
                  <a:lnTo>
                    <a:pt x="180" y="135"/>
                  </a:lnTo>
                  <a:lnTo>
                    <a:pt x="172" y="131"/>
                  </a:lnTo>
                  <a:lnTo>
                    <a:pt x="166" y="125"/>
                  </a:lnTo>
                  <a:lnTo>
                    <a:pt x="161" y="120"/>
                  </a:lnTo>
                  <a:lnTo>
                    <a:pt x="157" y="113"/>
                  </a:lnTo>
                  <a:lnTo>
                    <a:pt x="154" y="106"/>
                  </a:lnTo>
                  <a:lnTo>
                    <a:pt x="151" y="99"/>
                  </a:lnTo>
                  <a:lnTo>
                    <a:pt x="147" y="94"/>
                  </a:lnTo>
                  <a:lnTo>
                    <a:pt x="142" y="87"/>
                  </a:lnTo>
                  <a:lnTo>
                    <a:pt x="136" y="80"/>
                  </a:lnTo>
                  <a:lnTo>
                    <a:pt x="129" y="73"/>
                  </a:lnTo>
                  <a:lnTo>
                    <a:pt x="122" y="65"/>
                  </a:lnTo>
                  <a:lnTo>
                    <a:pt x="113" y="56"/>
                  </a:lnTo>
                  <a:lnTo>
                    <a:pt x="98" y="40"/>
                  </a:lnTo>
                  <a:lnTo>
                    <a:pt x="91" y="26"/>
                  </a:lnTo>
                  <a:lnTo>
                    <a:pt x="89" y="16"/>
                  </a:lnTo>
                  <a:lnTo>
                    <a:pt x="89" y="12"/>
                  </a:lnTo>
                  <a:lnTo>
                    <a:pt x="22" y="8"/>
                  </a:lnTo>
                  <a:lnTo>
                    <a:pt x="3" y="43"/>
                  </a:lnTo>
                  <a:lnTo>
                    <a:pt x="3" y="55"/>
                  </a:lnTo>
                  <a:lnTo>
                    <a:pt x="1" y="87"/>
                  </a:lnTo>
                  <a:lnTo>
                    <a:pt x="0" y="127"/>
                  </a:lnTo>
                  <a:lnTo>
                    <a:pt x="1" y="161"/>
                  </a:lnTo>
                  <a:lnTo>
                    <a:pt x="9" y="161"/>
                  </a:lnTo>
                  <a:lnTo>
                    <a:pt x="9" y="165"/>
                  </a:lnTo>
                  <a:lnTo>
                    <a:pt x="11" y="175"/>
                  </a:lnTo>
                  <a:lnTo>
                    <a:pt x="16" y="190"/>
                  </a:lnTo>
                  <a:lnTo>
                    <a:pt x="31" y="207"/>
                  </a:lnTo>
                  <a:lnTo>
                    <a:pt x="41" y="215"/>
                  </a:lnTo>
                  <a:lnTo>
                    <a:pt x="48" y="222"/>
                  </a:lnTo>
                  <a:lnTo>
                    <a:pt x="55" y="229"/>
                  </a:lnTo>
                  <a:lnTo>
                    <a:pt x="60" y="235"/>
                  </a:lnTo>
                  <a:lnTo>
                    <a:pt x="66" y="242"/>
                  </a:lnTo>
                  <a:lnTo>
                    <a:pt x="70" y="249"/>
                  </a:lnTo>
                  <a:lnTo>
                    <a:pt x="74" y="256"/>
                  </a:lnTo>
                  <a:lnTo>
                    <a:pt x="77" y="263"/>
                  </a:lnTo>
                  <a:lnTo>
                    <a:pt x="81" y="270"/>
                  </a:lnTo>
                  <a:lnTo>
                    <a:pt x="85" y="275"/>
                  </a:lnTo>
                  <a:lnTo>
                    <a:pt x="92" y="281"/>
                  </a:lnTo>
                  <a:lnTo>
                    <a:pt x="99" y="285"/>
                  </a:lnTo>
                  <a:lnTo>
                    <a:pt x="107" y="288"/>
                  </a:lnTo>
                  <a:lnTo>
                    <a:pt x="117" y="291"/>
                  </a:lnTo>
                  <a:lnTo>
                    <a:pt x="127" y="293"/>
                  </a:lnTo>
                  <a:lnTo>
                    <a:pt x="136" y="293"/>
                  </a:lnTo>
                  <a:lnTo>
                    <a:pt x="146" y="292"/>
                  </a:lnTo>
                  <a:lnTo>
                    <a:pt x="154" y="289"/>
                  </a:lnTo>
                  <a:lnTo>
                    <a:pt x="162" y="285"/>
                  </a:lnTo>
                  <a:lnTo>
                    <a:pt x="169" y="280"/>
                  </a:lnTo>
                  <a:lnTo>
                    <a:pt x="175" y="273"/>
                  </a:lnTo>
                  <a:lnTo>
                    <a:pt x="179" y="266"/>
                  </a:lnTo>
                  <a:lnTo>
                    <a:pt x="182" y="259"/>
                  </a:lnTo>
                  <a:lnTo>
                    <a:pt x="184" y="252"/>
                  </a:lnTo>
                  <a:lnTo>
                    <a:pt x="187" y="244"/>
                  </a:lnTo>
                  <a:lnTo>
                    <a:pt x="191" y="231"/>
                  </a:lnTo>
                  <a:lnTo>
                    <a:pt x="197" y="219"/>
                  </a:lnTo>
                  <a:lnTo>
                    <a:pt x="204" y="205"/>
                  </a:lnTo>
                  <a:lnTo>
                    <a:pt x="211" y="193"/>
                  </a:lnTo>
                  <a:lnTo>
                    <a:pt x="217" y="180"/>
                  </a:lnTo>
                  <a:lnTo>
                    <a:pt x="224" y="171"/>
                  </a:lnTo>
                  <a:lnTo>
                    <a:pt x="230" y="165"/>
                  </a:lnTo>
                  <a:lnTo>
                    <a:pt x="234" y="161"/>
                  </a:lnTo>
                  <a:lnTo>
                    <a:pt x="240" y="158"/>
                  </a:lnTo>
                  <a:lnTo>
                    <a:pt x="245" y="156"/>
                  </a:lnTo>
                  <a:lnTo>
                    <a:pt x="252" y="154"/>
                  </a:lnTo>
                  <a:lnTo>
                    <a:pt x="259" y="154"/>
                  </a:lnTo>
                  <a:lnTo>
                    <a:pt x="266" y="156"/>
                  </a:lnTo>
                  <a:lnTo>
                    <a:pt x="274" y="158"/>
                  </a:lnTo>
                  <a:lnTo>
                    <a:pt x="282" y="161"/>
                  </a:lnTo>
                  <a:lnTo>
                    <a:pt x="292" y="165"/>
                  </a:lnTo>
                  <a:lnTo>
                    <a:pt x="303" y="169"/>
                  </a:lnTo>
                  <a:lnTo>
                    <a:pt x="317" y="172"/>
                  </a:lnTo>
                  <a:lnTo>
                    <a:pt x="330" y="173"/>
                  </a:lnTo>
                  <a:lnTo>
                    <a:pt x="344" y="173"/>
                  </a:lnTo>
                  <a:lnTo>
                    <a:pt x="358" y="171"/>
                  </a:lnTo>
                  <a:lnTo>
                    <a:pt x="370" y="165"/>
                  </a:lnTo>
                  <a:lnTo>
                    <a:pt x="383" y="157"/>
                  </a:lnTo>
                  <a:lnTo>
                    <a:pt x="394" y="150"/>
                  </a:lnTo>
                  <a:lnTo>
                    <a:pt x="406" y="149"/>
                  </a:lnTo>
                  <a:lnTo>
                    <a:pt x="417" y="153"/>
                  </a:lnTo>
                  <a:lnTo>
                    <a:pt x="428" y="158"/>
                  </a:lnTo>
                  <a:lnTo>
                    <a:pt x="438" y="167"/>
                  </a:lnTo>
                  <a:lnTo>
                    <a:pt x="446" y="175"/>
                  </a:lnTo>
                  <a:lnTo>
                    <a:pt x="453" y="182"/>
                  </a:lnTo>
                  <a:lnTo>
                    <a:pt x="459" y="187"/>
                  </a:lnTo>
                  <a:lnTo>
                    <a:pt x="464" y="191"/>
                  </a:lnTo>
                  <a:lnTo>
                    <a:pt x="472" y="196"/>
                  </a:lnTo>
                  <a:lnTo>
                    <a:pt x="483" y="198"/>
                  </a:lnTo>
                  <a:lnTo>
                    <a:pt x="496" y="201"/>
                  </a:lnTo>
                  <a:lnTo>
                    <a:pt x="508" y="201"/>
                  </a:lnTo>
                  <a:lnTo>
                    <a:pt x="522" y="201"/>
                  </a:lnTo>
                  <a:lnTo>
                    <a:pt x="536" y="197"/>
                  </a:lnTo>
                  <a:lnTo>
                    <a:pt x="548" y="191"/>
                  </a:lnTo>
                  <a:lnTo>
                    <a:pt x="549" y="193"/>
                  </a:lnTo>
                  <a:lnTo>
                    <a:pt x="554" y="194"/>
                  </a:lnTo>
                  <a:lnTo>
                    <a:pt x="561" y="197"/>
                  </a:lnTo>
                  <a:lnTo>
                    <a:pt x="569" y="200"/>
                  </a:lnTo>
                  <a:lnTo>
                    <a:pt x="577" y="201"/>
                  </a:lnTo>
                  <a:lnTo>
                    <a:pt x="587" y="202"/>
                  </a:lnTo>
                  <a:lnTo>
                    <a:pt x="596" y="201"/>
                  </a:lnTo>
                  <a:lnTo>
                    <a:pt x="605" y="198"/>
                  </a:lnTo>
                  <a:lnTo>
                    <a:pt x="607" y="200"/>
                  </a:lnTo>
                  <a:lnTo>
                    <a:pt x="613" y="204"/>
                  </a:lnTo>
                  <a:lnTo>
                    <a:pt x="624" y="209"/>
                  </a:lnTo>
                  <a:lnTo>
                    <a:pt x="636" y="216"/>
                  </a:lnTo>
                  <a:lnTo>
                    <a:pt x="650" y="220"/>
                  </a:lnTo>
                  <a:lnTo>
                    <a:pt x="667" y="222"/>
                  </a:lnTo>
                  <a:lnTo>
                    <a:pt x="682" y="220"/>
                  </a:lnTo>
                  <a:lnTo>
                    <a:pt x="698" y="213"/>
                  </a:lnTo>
                  <a:lnTo>
                    <a:pt x="700" y="213"/>
                  </a:lnTo>
                  <a:lnTo>
                    <a:pt x="702" y="212"/>
                  </a:lnTo>
                  <a:lnTo>
                    <a:pt x="708" y="211"/>
                  </a:lnTo>
                  <a:lnTo>
                    <a:pt x="713" y="211"/>
                  </a:lnTo>
                  <a:lnTo>
                    <a:pt x="720" y="212"/>
                  </a:lnTo>
                  <a:lnTo>
                    <a:pt x="727" y="215"/>
                  </a:lnTo>
                  <a:lnTo>
                    <a:pt x="734" y="220"/>
                  </a:lnTo>
                  <a:lnTo>
                    <a:pt x="740" y="229"/>
                  </a:lnTo>
                  <a:lnTo>
                    <a:pt x="748" y="237"/>
                  </a:lnTo>
                  <a:lnTo>
                    <a:pt x="760" y="244"/>
                  </a:lnTo>
                  <a:lnTo>
                    <a:pt x="775" y="248"/>
                  </a:lnTo>
                  <a:lnTo>
                    <a:pt x="792" y="249"/>
                  </a:lnTo>
                  <a:lnTo>
                    <a:pt x="808" y="246"/>
                  </a:lnTo>
                  <a:lnTo>
                    <a:pt x="824" y="241"/>
                  </a:lnTo>
                  <a:lnTo>
                    <a:pt x="837" y="230"/>
                  </a:lnTo>
                  <a:lnTo>
                    <a:pt x="848" y="213"/>
                  </a:lnTo>
                  <a:lnTo>
                    <a:pt x="851" y="209"/>
                  </a:lnTo>
                  <a:lnTo>
                    <a:pt x="859" y="205"/>
                  </a:lnTo>
                  <a:lnTo>
                    <a:pt x="869" y="207"/>
                  </a:lnTo>
                  <a:lnTo>
                    <a:pt x="879" y="222"/>
                  </a:lnTo>
                  <a:lnTo>
                    <a:pt x="886" y="231"/>
                  </a:lnTo>
                  <a:lnTo>
                    <a:pt x="895" y="237"/>
                  </a:lnTo>
                  <a:lnTo>
                    <a:pt x="908" y="240"/>
                  </a:lnTo>
                  <a:lnTo>
                    <a:pt x="921" y="238"/>
                  </a:lnTo>
                  <a:lnTo>
                    <a:pt x="934" y="235"/>
                  </a:lnTo>
                  <a:lnTo>
                    <a:pt x="945" y="231"/>
                  </a:lnTo>
                  <a:lnTo>
                    <a:pt x="952" y="226"/>
                  </a:lnTo>
                  <a:lnTo>
                    <a:pt x="955" y="222"/>
                  </a:lnTo>
                  <a:lnTo>
                    <a:pt x="959" y="216"/>
                  </a:lnTo>
                  <a:lnTo>
                    <a:pt x="970" y="213"/>
                  </a:lnTo>
                  <a:lnTo>
                    <a:pt x="979" y="213"/>
                  </a:lnTo>
                  <a:lnTo>
                    <a:pt x="983" y="213"/>
                  </a:lnTo>
                  <a:lnTo>
                    <a:pt x="1029" y="222"/>
                  </a:lnTo>
                  <a:lnTo>
                    <a:pt x="1030" y="223"/>
                  </a:lnTo>
                  <a:lnTo>
                    <a:pt x="1034" y="227"/>
                  </a:lnTo>
                  <a:lnTo>
                    <a:pt x="1041" y="231"/>
                  </a:lnTo>
                  <a:lnTo>
                    <a:pt x="1050" y="235"/>
                  </a:lnTo>
                  <a:lnTo>
                    <a:pt x="1059" y="240"/>
                  </a:lnTo>
                  <a:lnTo>
                    <a:pt x="1069" y="242"/>
                  </a:lnTo>
                  <a:lnTo>
                    <a:pt x="1077" y="241"/>
                  </a:lnTo>
                  <a:lnTo>
                    <a:pt x="1085" y="237"/>
                  </a:lnTo>
                  <a:lnTo>
                    <a:pt x="1092" y="231"/>
                  </a:lnTo>
                  <a:lnTo>
                    <a:pt x="1099" y="229"/>
                  </a:lnTo>
                  <a:lnTo>
                    <a:pt x="1106" y="229"/>
                  </a:lnTo>
                  <a:lnTo>
                    <a:pt x="1114" y="230"/>
                  </a:lnTo>
                  <a:lnTo>
                    <a:pt x="1121" y="234"/>
                  </a:lnTo>
                  <a:lnTo>
                    <a:pt x="1128" y="240"/>
                  </a:lnTo>
                  <a:lnTo>
                    <a:pt x="1135" y="246"/>
                  </a:lnTo>
                  <a:lnTo>
                    <a:pt x="1142" y="255"/>
                  </a:lnTo>
                  <a:lnTo>
                    <a:pt x="1153" y="270"/>
                  </a:lnTo>
                  <a:lnTo>
                    <a:pt x="1161" y="284"/>
                  </a:lnTo>
                  <a:lnTo>
                    <a:pt x="1167" y="296"/>
                  </a:lnTo>
                  <a:lnTo>
                    <a:pt x="1168" y="311"/>
                  </a:lnTo>
                  <a:lnTo>
                    <a:pt x="1169" y="319"/>
                  </a:lnTo>
                  <a:lnTo>
                    <a:pt x="1174" y="329"/>
                  </a:lnTo>
                  <a:lnTo>
                    <a:pt x="1179" y="337"/>
                  </a:lnTo>
                  <a:lnTo>
                    <a:pt x="1187" y="346"/>
                  </a:lnTo>
                  <a:lnTo>
                    <a:pt x="1196" y="354"/>
                  </a:lnTo>
                  <a:lnTo>
                    <a:pt x="1207" y="359"/>
                  </a:lnTo>
                  <a:lnTo>
                    <a:pt x="1218" y="364"/>
                  </a:lnTo>
                  <a:lnTo>
                    <a:pt x="1229" y="366"/>
                  </a:lnTo>
                  <a:lnTo>
                    <a:pt x="1240" y="368"/>
                  </a:lnTo>
                  <a:lnTo>
                    <a:pt x="1249" y="368"/>
                  </a:lnTo>
                  <a:lnTo>
                    <a:pt x="1259" y="366"/>
                  </a:lnTo>
                  <a:lnTo>
                    <a:pt x="1267" y="364"/>
                  </a:lnTo>
                  <a:lnTo>
                    <a:pt x="1274" y="361"/>
                  </a:lnTo>
                  <a:lnTo>
                    <a:pt x="1281" y="357"/>
                  </a:lnTo>
                  <a:lnTo>
                    <a:pt x="1288" y="351"/>
                  </a:lnTo>
                  <a:lnTo>
                    <a:pt x="1292" y="346"/>
                  </a:lnTo>
                  <a:lnTo>
                    <a:pt x="1299" y="339"/>
                  </a:lnTo>
                  <a:lnTo>
                    <a:pt x="1307" y="335"/>
                  </a:lnTo>
                  <a:lnTo>
                    <a:pt x="1318" y="331"/>
                  </a:lnTo>
                  <a:lnTo>
                    <a:pt x="1331" y="326"/>
                  </a:lnTo>
                  <a:lnTo>
                    <a:pt x="1340" y="321"/>
                  </a:lnTo>
                  <a:lnTo>
                    <a:pt x="1347" y="314"/>
                  </a:lnTo>
                  <a:lnTo>
                    <a:pt x="1351" y="306"/>
                  </a:lnTo>
                  <a:lnTo>
                    <a:pt x="1349" y="293"/>
                  </a:lnTo>
                  <a:lnTo>
                    <a:pt x="1343" y="277"/>
                  </a:lnTo>
                  <a:lnTo>
                    <a:pt x="1338" y="258"/>
                  </a:lnTo>
                  <a:lnTo>
                    <a:pt x="1333" y="238"/>
                  </a:lnTo>
                  <a:lnTo>
                    <a:pt x="1331" y="219"/>
                  </a:lnTo>
                  <a:lnTo>
                    <a:pt x="1325" y="219"/>
                  </a:lnTo>
                  <a:lnTo>
                    <a:pt x="1320" y="219"/>
                  </a:lnTo>
                  <a:lnTo>
                    <a:pt x="1314" y="219"/>
                  </a:lnTo>
                  <a:lnTo>
                    <a:pt x="1309" y="21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92480" y="3171960"/>
              <a:ext cx="2246400" cy="2520720"/>
            </a:xfrm>
            <a:custGeom>
              <a:avLst/>
              <a:gdLst/>
              <a:ahLst/>
              <a:rect l="l" t="t" r="r" b="b"/>
              <a:pathLst>
                <a:path w="1415" h="1588">
                  <a:moveTo>
                    <a:pt x="948" y="1101"/>
                  </a:moveTo>
                  <a:lnTo>
                    <a:pt x="931" y="1099"/>
                  </a:lnTo>
                  <a:lnTo>
                    <a:pt x="923" y="1098"/>
                  </a:lnTo>
                  <a:lnTo>
                    <a:pt x="924" y="1094"/>
                  </a:lnTo>
                  <a:lnTo>
                    <a:pt x="935" y="1090"/>
                  </a:lnTo>
                  <a:lnTo>
                    <a:pt x="941" y="1087"/>
                  </a:lnTo>
                  <a:lnTo>
                    <a:pt x="938" y="1083"/>
                  </a:lnTo>
                  <a:lnTo>
                    <a:pt x="931" y="1080"/>
                  </a:lnTo>
                  <a:lnTo>
                    <a:pt x="919" y="1079"/>
                  </a:lnTo>
                  <a:lnTo>
                    <a:pt x="904" y="1077"/>
                  </a:lnTo>
                  <a:lnTo>
                    <a:pt x="886" y="1080"/>
                  </a:lnTo>
                  <a:lnTo>
                    <a:pt x="865" y="1084"/>
                  </a:lnTo>
                  <a:lnTo>
                    <a:pt x="846" y="1093"/>
                  </a:lnTo>
                  <a:lnTo>
                    <a:pt x="828" y="1101"/>
                  </a:lnTo>
                  <a:lnTo>
                    <a:pt x="811" y="1106"/>
                  </a:lnTo>
                  <a:lnTo>
                    <a:pt x="796" y="1110"/>
                  </a:lnTo>
                  <a:lnTo>
                    <a:pt x="782" y="1112"/>
                  </a:lnTo>
                  <a:lnTo>
                    <a:pt x="769" y="1110"/>
                  </a:lnTo>
                  <a:lnTo>
                    <a:pt x="756" y="1108"/>
                  </a:lnTo>
                  <a:lnTo>
                    <a:pt x="744" y="1104"/>
                  </a:lnTo>
                  <a:lnTo>
                    <a:pt x="731" y="1097"/>
                  </a:lnTo>
                  <a:lnTo>
                    <a:pt x="714" y="1079"/>
                  </a:lnTo>
                  <a:lnTo>
                    <a:pt x="707" y="1057"/>
                  </a:lnTo>
                  <a:lnTo>
                    <a:pt x="707" y="1033"/>
                  </a:lnTo>
                  <a:lnTo>
                    <a:pt x="708" y="1010"/>
                  </a:lnTo>
                  <a:lnTo>
                    <a:pt x="707" y="991"/>
                  </a:lnTo>
                  <a:lnTo>
                    <a:pt x="700" y="977"/>
                  </a:lnTo>
                  <a:lnTo>
                    <a:pt x="690" y="967"/>
                  </a:lnTo>
                  <a:lnTo>
                    <a:pt x="678" y="962"/>
                  </a:lnTo>
                  <a:lnTo>
                    <a:pt x="671" y="960"/>
                  </a:lnTo>
                  <a:lnTo>
                    <a:pt x="664" y="958"/>
                  </a:lnTo>
                  <a:lnTo>
                    <a:pt x="656" y="956"/>
                  </a:lnTo>
                  <a:lnTo>
                    <a:pt x="649" y="953"/>
                  </a:lnTo>
                  <a:lnTo>
                    <a:pt x="640" y="951"/>
                  </a:lnTo>
                  <a:lnTo>
                    <a:pt x="632" y="947"/>
                  </a:lnTo>
                  <a:lnTo>
                    <a:pt x="625" y="944"/>
                  </a:lnTo>
                  <a:lnTo>
                    <a:pt x="618" y="940"/>
                  </a:lnTo>
                  <a:lnTo>
                    <a:pt x="607" y="933"/>
                  </a:lnTo>
                  <a:lnTo>
                    <a:pt x="602" y="931"/>
                  </a:lnTo>
                  <a:lnTo>
                    <a:pt x="595" y="931"/>
                  </a:lnTo>
                  <a:lnTo>
                    <a:pt x="584" y="931"/>
                  </a:lnTo>
                  <a:lnTo>
                    <a:pt x="574" y="929"/>
                  </a:lnTo>
                  <a:lnTo>
                    <a:pt x="570" y="919"/>
                  </a:lnTo>
                  <a:lnTo>
                    <a:pt x="565" y="902"/>
                  </a:lnTo>
                  <a:lnTo>
                    <a:pt x="551" y="879"/>
                  </a:lnTo>
                  <a:lnTo>
                    <a:pt x="540" y="865"/>
                  </a:lnTo>
                  <a:lnTo>
                    <a:pt x="526" y="850"/>
                  </a:lnTo>
                  <a:lnTo>
                    <a:pt x="511" y="835"/>
                  </a:lnTo>
                  <a:lnTo>
                    <a:pt x="494" y="820"/>
                  </a:lnTo>
                  <a:lnTo>
                    <a:pt x="478" y="803"/>
                  </a:lnTo>
                  <a:lnTo>
                    <a:pt x="460" y="787"/>
                  </a:lnTo>
                  <a:lnTo>
                    <a:pt x="443" y="769"/>
                  </a:lnTo>
                  <a:lnTo>
                    <a:pt x="427" y="751"/>
                  </a:lnTo>
                  <a:lnTo>
                    <a:pt x="413" y="734"/>
                  </a:lnTo>
                  <a:lnTo>
                    <a:pt x="404" y="718"/>
                  </a:lnTo>
                  <a:lnTo>
                    <a:pt x="395" y="705"/>
                  </a:lnTo>
                  <a:lnTo>
                    <a:pt x="390" y="692"/>
                  </a:lnTo>
                  <a:lnTo>
                    <a:pt x="386" y="681"/>
                  </a:lnTo>
                  <a:lnTo>
                    <a:pt x="381" y="670"/>
                  </a:lnTo>
                  <a:lnTo>
                    <a:pt x="379" y="660"/>
                  </a:lnTo>
                  <a:lnTo>
                    <a:pt x="375" y="650"/>
                  </a:lnTo>
                  <a:lnTo>
                    <a:pt x="372" y="637"/>
                  </a:lnTo>
                  <a:lnTo>
                    <a:pt x="377" y="634"/>
                  </a:lnTo>
                  <a:lnTo>
                    <a:pt x="388" y="638"/>
                  </a:lnTo>
                  <a:lnTo>
                    <a:pt x="401" y="646"/>
                  </a:lnTo>
                  <a:lnTo>
                    <a:pt x="409" y="650"/>
                  </a:lnTo>
                  <a:lnTo>
                    <a:pt x="415" y="646"/>
                  </a:lnTo>
                  <a:lnTo>
                    <a:pt x="420" y="638"/>
                  </a:lnTo>
                  <a:lnTo>
                    <a:pt x="430" y="627"/>
                  </a:lnTo>
                  <a:lnTo>
                    <a:pt x="438" y="623"/>
                  </a:lnTo>
                  <a:lnTo>
                    <a:pt x="449" y="623"/>
                  </a:lnTo>
                  <a:lnTo>
                    <a:pt x="460" y="626"/>
                  </a:lnTo>
                  <a:lnTo>
                    <a:pt x="472" y="630"/>
                  </a:lnTo>
                  <a:lnTo>
                    <a:pt x="485" y="635"/>
                  </a:lnTo>
                  <a:lnTo>
                    <a:pt x="496" y="639"/>
                  </a:lnTo>
                  <a:lnTo>
                    <a:pt x="504" y="642"/>
                  </a:lnTo>
                  <a:lnTo>
                    <a:pt x="510" y="642"/>
                  </a:lnTo>
                  <a:lnTo>
                    <a:pt x="510" y="638"/>
                  </a:lnTo>
                  <a:lnTo>
                    <a:pt x="500" y="628"/>
                  </a:lnTo>
                  <a:lnTo>
                    <a:pt x="485" y="613"/>
                  </a:lnTo>
                  <a:lnTo>
                    <a:pt x="464" y="595"/>
                  </a:lnTo>
                  <a:lnTo>
                    <a:pt x="442" y="575"/>
                  </a:lnTo>
                  <a:lnTo>
                    <a:pt x="419" y="554"/>
                  </a:lnTo>
                  <a:lnTo>
                    <a:pt x="397" y="532"/>
                  </a:lnTo>
                  <a:lnTo>
                    <a:pt x="377" y="511"/>
                  </a:lnTo>
                  <a:lnTo>
                    <a:pt x="361" y="492"/>
                  </a:lnTo>
                  <a:lnTo>
                    <a:pt x="343" y="474"/>
                  </a:lnTo>
                  <a:lnTo>
                    <a:pt x="326" y="455"/>
                  </a:lnTo>
                  <a:lnTo>
                    <a:pt x="311" y="437"/>
                  </a:lnTo>
                  <a:lnTo>
                    <a:pt x="299" y="416"/>
                  </a:lnTo>
                  <a:lnTo>
                    <a:pt x="288" y="396"/>
                  </a:lnTo>
                  <a:lnTo>
                    <a:pt x="280" y="372"/>
                  </a:lnTo>
                  <a:lnTo>
                    <a:pt x="277" y="347"/>
                  </a:lnTo>
                  <a:lnTo>
                    <a:pt x="278" y="300"/>
                  </a:lnTo>
                  <a:lnTo>
                    <a:pt x="285" y="266"/>
                  </a:lnTo>
                  <a:lnTo>
                    <a:pt x="291" y="240"/>
                  </a:lnTo>
                  <a:lnTo>
                    <a:pt x="288" y="219"/>
                  </a:lnTo>
                  <a:lnTo>
                    <a:pt x="281" y="196"/>
                  </a:lnTo>
                  <a:lnTo>
                    <a:pt x="277" y="170"/>
                  </a:lnTo>
                  <a:lnTo>
                    <a:pt x="271" y="148"/>
                  </a:lnTo>
                  <a:lnTo>
                    <a:pt x="262" y="137"/>
                  </a:lnTo>
                  <a:lnTo>
                    <a:pt x="253" y="135"/>
                  </a:lnTo>
                  <a:lnTo>
                    <a:pt x="245" y="131"/>
                  </a:lnTo>
                  <a:lnTo>
                    <a:pt x="237" y="126"/>
                  </a:lnTo>
                  <a:lnTo>
                    <a:pt x="227" y="119"/>
                  </a:lnTo>
                  <a:lnTo>
                    <a:pt x="218" y="110"/>
                  </a:lnTo>
                  <a:lnTo>
                    <a:pt x="208" y="101"/>
                  </a:lnTo>
                  <a:lnTo>
                    <a:pt x="198" y="90"/>
                  </a:lnTo>
                  <a:lnTo>
                    <a:pt x="190" y="77"/>
                  </a:lnTo>
                  <a:lnTo>
                    <a:pt x="182" y="65"/>
                  </a:lnTo>
                  <a:lnTo>
                    <a:pt x="172" y="55"/>
                  </a:lnTo>
                  <a:lnTo>
                    <a:pt x="162" y="47"/>
                  </a:lnTo>
                  <a:lnTo>
                    <a:pt x="151" y="40"/>
                  </a:lnTo>
                  <a:lnTo>
                    <a:pt x="140" y="33"/>
                  </a:lnTo>
                  <a:lnTo>
                    <a:pt x="128" y="26"/>
                  </a:lnTo>
                  <a:lnTo>
                    <a:pt x="114" y="19"/>
                  </a:lnTo>
                  <a:lnTo>
                    <a:pt x="100" y="11"/>
                  </a:lnTo>
                  <a:lnTo>
                    <a:pt x="88" y="4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58" y="8"/>
                  </a:lnTo>
                  <a:lnTo>
                    <a:pt x="52" y="17"/>
                  </a:lnTo>
                  <a:lnTo>
                    <a:pt x="48" y="28"/>
                  </a:lnTo>
                  <a:lnTo>
                    <a:pt x="44" y="41"/>
                  </a:lnTo>
                  <a:lnTo>
                    <a:pt x="38" y="66"/>
                  </a:lnTo>
                  <a:lnTo>
                    <a:pt x="34" y="84"/>
                  </a:lnTo>
                  <a:lnTo>
                    <a:pt x="30" y="98"/>
                  </a:lnTo>
                  <a:lnTo>
                    <a:pt x="22" y="112"/>
                  </a:lnTo>
                  <a:lnTo>
                    <a:pt x="15" y="121"/>
                  </a:lnTo>
                  <a:lnTo>
                    <a:pt x="10" y="131"/>
                  </a:lnTo>
                  <a:lnTo>
                    <a:pt x="4" y="141"/>
                  </a:lnTo>
                  <a:lnTo>
                    <a:pt x="0" y="150"/>
                  </a:lnTo>
                  <a:lnTo>
                    <a:pt x="4" y="152"/>
                  </a:lnTo>
                  <a:lnTo>
                    <a:pt x="10" y="154"/>
                  </a:lnTo>
                  <a:lnTo>
                    <a:pt x="15" y="157"/>
                  </a:lnTo>
                  <a:lnTo>
                    <a:pt x="21" y="160"/>
                  </a:lnTo>
                  <a:lnTo>
                    <a:pt x="34" y="168"/>
                  </a:lnTo>
                  <a:lnTo>
                    <a:pt x="47" y="175"/>
                  </a:lnTo>
                  <a:lnTo>
                    <a:pt x="59" y="182"/>
                  </a:lnTo>
                  <a:lnTo>
                    <a:pt x="70" y="189"/>
                  </a:lnTo>
                  <a:lnTo>
                    <a:pt x="81" y="196"/>
                  </a:lnTo>
                  <a:lnTo>
                    <a:pt x="91" y="205"/>
                  </a:lnTo>
                  <a:lnTo>
                    <a:pt x="100" y="215"/>
                  </a:lnTo>
                  <a:lnTo>
                    <a:pt x="110" y="226"/>
                  </a:lnTo>
                  <a:lnTo>
                    <a:pt x="118" y="238"/>
                  </a:lnTo>
                  <a:lnTo>
                    <a:pt x="128" y="249"/>
                  </a:lnTo>
                  <a:lnTo>
                    <a:pt x="138" y="259"/>
                  </a:lnTo>
                  <a:lnTo>
                    <a:pt x="147" y="267"/>
                  </a:lnTo>
                  <a:lnTo>
                    <a:pt x="156" y="274"/>
                  </a:lnTo>
                  <a:lnTo>
                    <a:pt x="165" y="280"/>
                  </a:lnTo>
                  <a:lnTo>
                    <a:pt x="173" y="284"/>
                  </a:lnTo>
                  <a:lnTo>
                    <a:pt x="180" y="287"/>
                  </a:lnTo>
                  <a:lnTo>
                    <a:pt x="191" y="298"/>
                  </a:lnTo>
                  <a:lnTo>
                    <a:pt x="197" y="320"/>
                  </a:lnTo>
                  <a:lnTo>
                    <a:pt x="201" y="346"/>
                  </a:lnTo>
                  <a:lnTo>
                    <a:pt x="208" y="369"/>
                  </a:lnTo>
                  <a:lnTo>
                    <a:pt x="211" y="390"/>
                  </a:lnTo>
                  <a:lnTo>
                    <a:pt x="205" y="416"/>
                  </a:lnTo>
                  <a:lnTo>
                    <a:pt x="198" y="449"/>
                  </a:lnTo>
                  <a:lnTo>
                    <a:pt x="195" y="495"/>
                  </a:lnTo>
                  <a:lnTo>
                    <a:pt x="200" y="521"/>
                  </a:lnTo>
                  <a:lnTo>
                    <a:pt x="207" y="543"/>
                  </a:lnTo>
                  <a:lnTo>
                    <a:pt x="218" y="565"/>
                  </a:lnTo>
                  <a:lnTo>
                    <a:pt x="231" y="584"/>
                  </a:lnTo>
                  <a:lnTo>
                    <a:pt x="246" y="604"/>
                  </a:lnTo>
                  <a:lnTo>
                    <a:pt x="263" y="623"/>
                  </a:lnTo>
                  <a:lnTo>
                    <a:pt x="280" y="641"/>
                  </a:lnTo>
                  <a:lnTo>
                    <a:pt x="297" y="660"/>
                  </a:lnTo>
                  <a:lnTo>
                    <a:pt x="317" y="681"/>
                  </a:lnTo>
                  <a:lnTo>
                    <a:pt x="339" y="703"/>
                  </a:lnTo>
                  <a:lnTo>
                    <a:pt x="362" y="723"/>
                  </a:lnTo>
                  <a:lnTo>
                    <a:pt x="384" y="744"/>
                  </a:lnTo>
                  <a:lnTo>
                    <a:pt x="405" y="762"/>
                  </a:lnTo>
                  <a:lnTo>
                    <a:pt x="420" y="777"/>
                  </a:lnTo>
                  <a:lnTo>
                    <a:pt x="428" y="788"/>
                  </a:lnTo>
                  <a:lnTo>
                    <a:pt x="428" y="792"/>
                  </a:lnTo>
                  <a:lnTo>
                    <a:pt x="423" y="792"/>
                  </a:lnTo>
                  <a:lnTo>
                    <a:pt x="415" y="789"/>
                  </a:lnTo>
                  <a:lnTo>
                    <a:pt x="404" y="784"/>
                  </a:lnTo>
                  <a:lnTo>
                    <a:pt x="393" y="780"/>
                  </a:lnTo>
                  <a:lnTo>
                    <a:pt x="380" y="776"/>
                  </a:lnTo>
                  <a:lnTo>
                    <a:pt x="369" y="773"/>
                  </a:lnTo>
                  <a:lnTo>
                    <a:pt x="358" y="773"/>
                  </a:lnTo>
                  <a:lnTo>
                    <a:pt x="350" y="777"/>
                  </a:lnTo>
                  <a:lnTo>
                    <a:pt x="340" y="788"/>
                  </a:lnTo>
                  <a:lnTo>
                    <a:pt x="333" y="796"/>
                  </a:lnTo>
                  <a:lnTo>
                    <a:pt x="328" y="799"/>
                  </a:lnTo>
                  <a:lnTo>
                    <a:pt x="319" y="795"/>
                  </a:lnTo>
                  <a:lnTo>
                    <a:pt x="307" y="787"/>
                  </a:lnTo>
                  <a:lnTo>
                    <a:pt x="296" y="783"/>
                  </a:lnTo>
                  <a:lnTo>
                    <a:pt x="291" y="785"/>
                  </a:lnTo>
                  <a:lnTo>
                    <a:pt x="293" y="799"/>
                  </a:lnTo>
                  <a:lnTo>
                    <a:pt x="297" y="809"/>
                  </a:lnTo>
                  <a:lnTo>
                    <a:pt x="300" y="820"/>
                  </a:lnTo>
                  <a:lnTo>
                    <a:pt x="304" y="829"/>
                  </a:lnTo>
                  <a:lnTo>
                    <a:pt x="308" y="842"/>
                  </a:lnTo>
                  <a:lnTo>
                    <a:pt x="314" y="854"/>
                  </a:lnTo>
                  <a:lnTo>
                    <a:pt x="322" y="868"/>
                  </a:lnTo>
                  <a:lnTo>
                    <a:pt x="332" y="883"/>
                  </a:lnTo>
                  <a:lnTo>
                    <a:pt x="346" y="901"/>
                  </a:lnTo>
                  <a:lnTo>
                    <a:pt x="362" y="919"/>
                  </a:lnTo>
                  <a:lnTo>
                    <a:pt x="379" y="936"/>
                  </a:lnTo>
                  <a:lnTo>
                    <a:pt x="397" y="952"/>
                  </a:lnTo>
                  <a:lnTo>
                    <a:pt x="413" y="969"/>
                  </a:lnTo>
                  <a:lnTo>
                    <a:pt x="430" y="984"/>
                  </a:lnTo>
                  <a:lnTo>
                    <a:pt x="445" y="999"/>
                  </a:lnTo>
                  <a:lnTo>
                    <a:pt x="459" y="1014"/>
                  </a:lnTo>
                  <a:lnTo>
                    <a:pt x="470" y="1028"/>
                  </a:lnTo>
                  <a:lnTo>
                    <a:pt x="483" y="1053"/>
                  </a:lnTo>
                  <a:lnTo>
                    <a:pt x="489" y="1069"/>
                  </a:lnTo>
                  <a:lnTo>
                    <a:pt x="494" y="1079"/>
                  </a:lnTo>
                  <a:lnTo>
                    <a:pt x="504" y="1082"/>
                  </a:lnTo>
                  <a:lnTo>
                    <a:pt x="515" y="1082"/>
                  </a:lnTo>
                  <a:lnTo>
                    <a:pt x="521" y="1080"/>
                  </a:lnTo>
                  <a:lnTo>
                    <a:pt x="528" y="1083"/>
                  </a:lnTo>
                  <a:lnTo>
                    <a:pt x="537" y="1088"/>
                  </a:lnTo>
                  <a:lnTo>
                    <a:pt x="544" y="1093"/>
                  </a:lnTo>
                  <a:lnTo>
                    <a:pt x="552" y="1097"/>
                  </a:lnTo>
                  <a:lnTo>
                    <a:pt x="559" y="1099"/>
                  </a:lnTo>
                  <a:lnTo>
                    <a:pt x="567" y="1102"/>
                  </a:lnTo>
                  <a:lnTo>
                    <a:pt x="576" y="1105"/>
                  </a:lnTo>
                  <a:lnTo>
                    <a:pt x="583" y="1108"/>
                  </a:lnTo>
                  <a:lnTo>
                    <a:pt x="591" y="1109"/>
                  </a:lnTo>
                  <a:lnTo>
                    <a:pt x="598" y="1110"/>
                  </a:lnTo>
                  <a:lnTo>
                    <a:pt x="610" y="1116"/>
                  </a:lnTo>
                  <a:lnTo>
                    <a:pt x="620" y="1126"/>
                  </a:lnTo>
                  <a:lnTo>
                    <a:pt x="627" y="1141"/>
                  </a:lnTo>
                  <a:lnTo>
                    <a:pt x="628" y="1160"/>
                  </a:lnTo>
                  <a:lnTo>
                    <a:pt x="627" y="1183"/>
                  </a:lnTo>
                  <a:lnTo>
                    <a:pt x="627" y="1207"/>
                  </a:lnTo>
                  <a:lnTo>
                    <a:pt x="632" y="1229"/>
                  </a:lnTo>
                  <a:lnTo>
                    <a:pt x="650" y="1245"/>
                  </a:lnTo>
                  <a:lnTo>
                    <a:pt x="663" y="1252"/>
                  </a:lnTo>
                  <a:lnTo>
                    <a:pt x="675" y="1256"/>
                  </a:lnTo>
                  <a:lnTo>
                    <a:pt x="689" y="1261"/>
                  </a:lnTo>
                  <a:lnTo>
                    <a:pt x="701" y="1261"/>
                  </a:lnTo>
                  <a:lnTo>
                    <a:pt x="716" y="1261"/>
                  </a:lnTo>
                  <a:lnTo>
                    <a:pt x="731" y="1256"/>
                  </a:lnTo>
                  <a:lnTo>
                    <a:pt x="748" y="1251"/>
                  </a:lnTo>
                  <a:lnTo>
                    <a:pt x="767" y="1243"/>
                  </a:lnTo>
                  <a:lnTo>
                    <a:pt x="787" y="1234"/>
                  </a:lnTo>
                  <a:lnTo>
                    <a:pt x="806" y="1230"/>
                  </a:lnTo>
                  <a:lnTo>
                    <a:pt x="824" y="1228"/>
                  </a:lnTo>
                  <a:lnTo>
                    <a:pt x="839" y="1228"/>
                  </a:lnTo>
                  <a:lnTo>
                    <a:pt x="851" y="1230"/>
                  </a:lnTo>
                  <a:lnTo>
                    <a:pt x="858" y="1233"/>
                  </a:lnTo>
                  <a:lnTo>
                    <a:pt x="860" y="1236"/>
                  </a:lnTo>
                  <a:lnTo>
                    <a:pt x="855" y="1239"/>
                  </a:lnTo>
                  <a:lnTo>
                    <a:pt x="844" y="1243"/>
                  </a:lnTo>
                  <a:lnTo>
                    <a:pt x="843" y="1247"/>
                  </a:lnTo>
                  <a:lnTo>
                    <a:pt x="850" y="1248"/>
                  </a:lnTo>
                  <a:lnTo>
                    <a:pt x="866" y="1250"/>
                  </a:lnTo>
                  <a:lnTo>
                    <a:pt x="876" y="1251"/>
                  </a:lnTo>
                  <a:lnTo>
                    <a:pt x="884" y="1254"/>
                  </a:lnTo>
                  <a:lnTo>
                    <a:pt x="893" y="1258"/>
                  </a:lnTo>
                  <a:lnTo>
                    <a:pt x="901" y="1263"/>
                  </a:lnTo>
                  <a:lnTo>
                    <a:pt x="908" y="1269"/>
                  </a:lnTo>
                  <a:lnTo>
                    <a:pt x="916" y="1276"/>
                  </a:lnTo>
                  <a:lnTo>
                    <a:pt x="924" y="1280"/>
                  </a:lnTo>
                  <a:lnTo>
                    <a:pt x="934" y="1284"/>
                  </a:lnTo>
                  <a:lnTo>
                    <a:pt x="946" y="1287"/>
                  </a:lnTo>
                  <a:lnTo>
                    <a:pt x="964" y="1291"/>
                  </a:lnTo>
                  <a:lnTo>
                    <a:pt x="984" y="1296"/>
                  </a:lnTo>
                  <a:lnTo>
                    <a:pt x="1006" y="1302"/>
                  </a:lnTo>
                  <a:lnTo>
                    <a:pt x="1026" y="1310"/>
                  </a:lnTo>
                  <a:lnTo>
                    <a:pt x="1046" y="1320"/>
                  </a:lnTo>
                  <a:lnTo>
                    <a:pt x="1062" y="1331"/>
                  </a:lnTo>
                  <a:lnTo>
                    <a:pt x="1073" y="1343"/>
                  </a:lnTo>
                  <a:lnTo>
                    <a:pt x="1083" y="1358"/>
                  </a:lnTo>
                  <a:lnTo>
                    <a:pt x="1095" y="1375"/>
                  </a:lnTo>
                  <a:lnTo>
                    <a:pt x="1109" y="1391"/>
                  </a:lnTo>
                  <a:lnTo>
                    <a:pt x="1125" y="1408"/>
                  </a:lnTo>
                  <a:lnTo>
                    <a:pt x="1141" y="1425"/>
                  </a:lnTo>
                  <a:lnTo>
                    <a:pt x="1157" y="1437"/>
                  </a:lnTo>
                  <a:lnTo>
                    <a:pt x="1172" y="1448"/>
                  </a:lnTo>
                  <a:lnTo>
                    <a:pt x="1186" y="1456"/>
                  </a:lnTo>
                  <a:lnTo>
                    <a:pt x="1198" y="1462"/>
                  </a:lnTo>
                  <a:lnTo>
                    <a:pt x="1208" y="1466"/>
                  </a:lnTo>
                  <a:lnTo>
                    <a:pt x="1218" y="1470"/>
                  </a:lnTo>
                  <a:lnTo>
                    <a:pt x="1226" y="1474"/>
                  </a:lnTo>
                  <a:lnTo>
                    <a:pt x="1234" y="1480"/>
                  </a:lnTo>
                  <a:lnTo>
                    <a:pt x="1241" y="1485"/>
                  </a:lnTo>
                  <a:lnTo>
                    <a:pt x="1248" y="1493"/>
                  </a:lnTo>
                  <a:lnTo>
                    <a:pt x="1254" y="1502"/>
                  </a:lnTo>
                  <a:lnTo>
                    <a:pt x="1259" y="1510"/>
                  </a:lnTo>
                  <a:lnTo>
                    <a:pt x="1267" y="1515"/>
                  </a:lnTo>
                  <a:lnTo>
                    <a:pt x="1274" y="1521"/>
                  </a:lnTo>
                  <a:lnTo>
                    <a:pt x="1283" y="1525"/>
                  </a:lnTo>
                  <a:lnTo>
                    <a:pt x="1289" y="1529"/>
                  </a:lnTo>
                  <a:lnTo>
                    <a:pt x="1298" y="1535"/>
                  </a:lnTo>
                  <a:lnTo>
                    <a:pt x="1305" y="1543"/>
                  </a:lnTo>
                  <a:lnTo>
                    <a:pt x="1310" y="1554"/>
                  </a:lnTo>
                  <a:lnTo>
                    <a:pt x="1316" y="1565"/>
                  </a:lnTo>
                  <a:lnTo>
                    <a:pt x="1322" y="1573"/>
                  </a:lnTo>
                  <a:lnTo>
                    <a:pt x="1328" y="1579"/>
                  </a:lnTo>
                  <a:lnTo>
                    <a:pt x="1335" y="1582"/>
                  </a:lnTo>
                  <a:lnTo>
                    <a:pt x="1342" y="1584"/>
                  </a:lnTo>
                  <a:lnTo>
                    <a:pt x="1349" y="1586"/>
                  </a:lnTo>
                  <a:lnTo>
                    <a:pt x="1356" y="1586"/>
                  </a:lnTo>
                  <a:lnTo>
                    <a:pt x="1362" y="1587"/>
                  </a:lnTo>
                  <a:lnTo>
                    <a:pt x="1371" y="1588"/>
                  </a:lnTo>
                  <a:lnTo>
                    <a:pt x="1379" y="1587"/>
                  </a:lnTo>
                  <a:lnTo>
                    <a:pt x="1387" y="1586"/>
                  </a:lnTo>
                  <a:lnTo>
                    <a:pt x="1395" y="1583"/>
                  </a:lnTo>
                  <a:lnTo>
                    <a:pt x="1404" y="1577"/>
                  </a:lnTo>
                  <a:lnTo>
                    <a:pt x="1409" y="1572"/>
                  </a:lnTo>
                  <a:lnTo>
                    <a:pt x="1413" y="1566"/>
                  </a:lnTo>
                  <a:lnTo>
                    <a:pt x="1415" y="1558"/>
                  </a:lnTo>
                  <a:lnTo>
                    <a:pt x="1415" y="1549"/>
                  </a:lnTo>
                  <a:lnTo>
                    <a:pt x="1412" y="1540"/>
                  </a:lnTo>
                  <a:lnTo>
                    <a:pt x="1409" y="1531"/>
                  </a:lnTo>
                  <a:lnTo>
                    <a:pt x="1405" y="1521"/>
                  </a:lnTo>
                  <a:lnTo>
                    <a:pt x="1398" y="1513"/>
                  </a:lnTo>
                  <a:lnTo>
                    <a:pt x="1391" y="1504"/>
                  </a:lnTo>
                  <a:lnTo>
                    <a:pt x="1382" y="1498"/>
                  </a:lnTo>
                  <a:lnTo>
                    <a:pt x="1369" y="1491"/>
                  </a:lnTo>
                  <a:lnTo>
                    <a:pt x="1357" y="1484"/>
                  </a:lnTo>
                  <a:lnTo>
                    <a:pt x="1344" y="1477"/>
                  </a:lnTo>
                  <a:lnTo>
                    <a:pt x="1332" y="1469"/>
                  </a:lnTo>
                  <a:lnTo>
                    <a:pt x="1321" y="1460"/>
                  </a:lnTo>
                  <a:lnTo>
                    <a:pt x="1310" y="1451"/>
                  </a:lnTo>
                  <a:lnTo>
                    <a:pt x="1302" y="1442"/>
                  </a:lnTo>
                  <a:lnTo>
                    <a:pt x="1295" y="1434"/>
                  </a:lnTo>
                  <a:lnTo>
                    <a:pt x="1291" y="1426"/>
                  </a:lnTo>
                  <a:lnTo>
                    <a:pt x="1285" y="1415"/>
                  </a:lnTo>
                  <a:lnTo>
                    <a:pt x="1277" y="1408"/>
                  </a:lnTo>
                  <a:lnTo>
                    <a:pt x="1266" y="1402"/>
                  </a:lnTo>
                  <a:lnTo>
                    <a:pt x="1254" y="1393"/>
                  </a:lnTo>
                  <a:lnTo>
                    <a:pt x="1247" y="1385"/>
                  </a:lnTo>
                  <a:lnTo>
                    <a:pt x="1241" y="1369"/>
                  </a:lnTo>
                  <a:lnTo>
                    <a:pt x="1237" y="1352"/>
                  </a:lnTo>
                  <a:lnTo>
                    <a:pt x="1233" y="1331"/>
                  </a:lnTo>
                  <a:lnTo>
                    <a:pt x="1227" y="1312"/>
                  </a:lnTo>
                  <a:lnTo>
                    <a:pt x="1222" y="1292"/>
                  </a:lnTo>
                  <a:lnTo>
                    <a:pt x="1216" y="1276"/>
                  </a:lnTo>
                  <a:lnTo>
                    <a:pt x="1208" y="1265"/>
                  </a:lnTo>
                  <a:lnTo>
                    <a:pt x="1198" y="1256"/>
                  </a:lnTo>
                  <a:lnTo>
                    <a:pt x="1186" y="1248"/>
                  </a:lnTo>
                  <a:lnTo>
                    <a:pt x="1171" y="1240"/>
                  </a:lnTo>
                  <a:lnTo>
                    <a:pt x="1157" y="1233"/>
                  </a:lnTo>
                  <a:lnTo>
                    <a:pt x="1142" y="1225"/>
                  </a:lnTo>
                  <a:lnTo>
                    <a:pt x="1128" y="1215"/>
                  </a:lnTo>
                  <a:lnTo>
                    <a:pt x="1119" y="1207"/>
                  </a:lnTo>
                  <a:lnTo>
                    <a:pt x="1110" y="1197"/>
                  </a:lnTo>
                  <a:lnTo>
                    <a:pt x="1106" y="1190"/>
                  </a:lnTo>
                  <a:lnTo>
                    <a:pt x="1101" y="1183"/>
                  </a:lnTo>
                  <a:lnTo>
                    <a:pt x="1094" y="1178"/>
                  </a:lnTo>
                  <a:lnTo>
                    <a:pt x="1085" y="1171"/>
                  </a:lnTo>
                  <a:lnTo>
                    <a:pt x="1077" y="1164"/>
                  </a:lnTo>
                  <a:lnTo>
                    <a:pt x="1069" y="1157"/>
                  </a:lnTo>
                  <a:lnTo>
                    <a:pt x="1061" y="1150"/>
                  </a:lnTo>
                  <a:lnTo>
                    <a:pt x="1052" y="1144"/>
                  </a:lnTo>
                  <a:lnTo>
                    <a:pt x="1040" y="1141"/>
                  </a:lnTo>
                  <a:lnTo>
                    <a:pt x="1030" y="1138"/>
                  </a:lnTo>
                  <a:lnTo>
                    <a:pt x="1022" y="1137"/>
                  </a:lnTo>
                  <a:lnTo>
                    <a:pt x="1015" y="1134"/>
                  </a:lnTo>
                  <a:lnTo>
                    <a:pt x="1006" y="1131"/>
                  </a:lnTo>
                  <a:lnTo>
                    <a:pt x="997" y="1126"/>
                  </a:lnTo>
                  <a:lnTo>
                    <a:pt x="989" y="1120"/>
                  </a:lnTo>
                  <a:lnTo>
                    <a:pt x="982" y="1115"/>
                  </a:lnTo>
                  <a:lnTo>
                    <a:pt x="974" y="1109"/>
                  </a:lnTo>
                  <a:lnTo>
                    <a:pt x="966" y="1105"/>
                  </a:lnTo>
                  <a:lnTo>
                    <a:pt x="957" y="1102"/>
                  </a:lnTo>
                  <a:lnTo>
                    <a:pt x="948" y="110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9760" y="3505320"/>
              <a:ext cx="244800" cy="276120"/>
            </a:xfrm>
            <a:custGeom>
              <a:avLst/>
              <a:gdLst/>
              <a:ahLst/>
              <a:rect l="l" t="t" r="r" b="b"/>
              <a:pathLst>
                <a:path w="154" h="174">
                  <a:moveTo>
                    <a:pt x="80" y="35"/>
                  </a:moveTo>
                  <a:lnTo>
                    <a:pt x="74" y="27"/>
                  </a:lnTo>
                  <a:lnTo>
                    <a:pt x="62" y="9"/>
                  </a:lnTo>
                  <a:lnTo>
                    <a:pt x="48" y="0"/>
                  </a:lnTo>
                  <a:lnTo>
                    <a:pt x="43" y="12"/>
                  </a:lnTo>
                  <a:lnTo>
                    <a:pt x="41" y="37"/>
                  </a:lnTo>
                  <a:lnTo>
                    <a:pt x="40" y="53"/>
                  </a:lnTo>
                  <a:lnTo>
                    <a:pt x="34" y="60"/>
                  </a:lnTo>
                  <a:lnTo>
                    <a:pt x="27" y="57"/>
                  </a:lnTo>
                  <a:lnTo>
                    <a:pt x="18" y="57"/>
                  </a:lnTo>
                  <a:lnTo>
                    <a:pt x="7" y="70"/>
                  </a:lnTo>
                  <a:lnTo>
                    <a:pt x="0" y="88"/>
                  </a:lnTo>
                  <a:lnTo>
                    <a:pt x="1" y="103"/>
                  </a:lnTo>
                  <a:lnTo>
                    <a:pt x="4" y="108"/>
                  </a:lnTo>
                  <a:lnTo>
                    <a:pt x="8" y="113"/>
                  </a:lnTo>
                  <a:lnTo>
                    <a:pt x="14" y="117"/>
                  </a:lnTo>
                  <a:lnTo>
                    <a:pt x="19" y="119"/>
                  </a:lnTo>
                  <a:lnTo>
                    <a:pt x="25" y="122"/>
                  </a:lnTo>
                  <a:lnTo>
                    <a:pt x="30" y="124"/>
                  </a:lnTo>
                  <a:lnTo>
                    <a:pt x="37" y="125"/>
                  </a:lnTo>
                  <a:lnTo>
                    <a:pt x="43" y="125"/>
                  </a:lnTo>
                  <a:lnTo>
                    <a:pt x="48" y="125"/>
                  </a:lnTo>
                  <a:lnTo>
                    <a:pt x="55" y="125"/>
                  </a:lnTo>
                  <a:lnTo>
                    <a:pt x="62" y="125"/>
                  </a:lnTo>
                  <a:lnTo>
                    <a:pt x="67" y="125"/>
                  </a:lnTo>
                  <a:lnTo>
                    <a:pt x="73" y="126"/>
                  </a:lnTo>
                  <a:lnTo>
                    <a:pt x="76" y="128"/>
                  </a:lnTo>
                  <a:lnTo>
                    <a:pt x="77" y="130"/>
                  </a:lnTo>
                  <a:lnTo>
                    <a:pt x="76" y="136"/>
                  </a:lnTo>
                  <a:lnTo>
                    <a:pt x="76" y="147"/>
                  </a:lnTo>
                  <a:lnTo>
                    <a:pt x="83" y="155"/>
                  </a:lnTo>
                  <a:lnTo>
                    <a:pt x="92" y="162"/>
                  </a:lnTo>
                  <a:lnTo>
                    <a:pt x="102" y="166"/>
                  </a:lnTo>
                  <a:lnTo>
                    <a:pt x="107" y="168"/>
                  </a:lnTo>
                  <a:lnTo>
                    <a:pt x="111" y="170"/>
                  </a:lnTo>
                  <a:lnTo>
                    <a:pt x="117" y="172"/>
                  </a:lnTo>
                  <a:lnTo>
                    <a:pt x="124" y="173"/>
                  </a:lnTo>
                  <a:lnTo>
                    <a:pt x="129" y="174"/>
                  </a:lnTo>
                  <a:lnTo>
                    <a:pt x="135" y="173"/>
                  </a:lnTo>
                  <a:lnTo>
                    <a:pt x="142" y="170"/>
                  </a:lnTo>
                  <a:lnTo>
                    <a:pt x="147" y="166"/>
                  </a:lnTo>
                  <a:lnTo>
                    <a:pt x="154" y="157"/>
                  </a:lnTo>
                  <a:lnTo>
                    <a:pt x="153" y="147"/>
                  </a:lnTo>
                  <a:lnTo>
                    <a:pt x="146" y="139"/>
                  </a:lnTo>
                  <a:lnTo>
                    <a:pt x="136" y="129"/>
                  </a:lnTo>
                  <a:lnTo>
                    <a:pt x="128" y="117"/>
                  </a:lnTo>
                  <a:lnTo>
                    <a:pt x="124" y="103"/>
                  </a:lnTo>
                  <a:lnTo>
                    <a:pt x="120" y="95"/>
                  </a:lnTo>
                  <a:lnTo>
                    <a:pt x="110" y="95"/>
                  </a:lnTo>
                  <a:lnTo>
                    <a:pt x="107" y="92"/>
                  </a:lnTo>
                  <a:lnTo>
                    <a:pt x="100" y="85"/>
                  </a:lnTo>
                  <a:lnTo>
                    <a:pt x="95" y="75"/>
                  </a:lnTo>
                  <a:lnTo>
                    <a:pt x="95" y="66"/>
                  </a:lnTo>
                  <a:lnTo>
                    <a:pt x="98" y="56"/>
                  </a:lnTo>
                  <a:lnTo>
                    <a:pt x="96" y="48"/>
                  </a:lnTo>
                  <a:lnTo>
                    <a:pt x="91" y="41"/>
                  </a:lnTo>
                  <a:lnTo>
                    <a:pt x="80" y="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94200" y="3546360"/>
              <a:ext cx="169560" cy="581040"/>
            </a:xfrm>
            <a:custGeom>
              <a:avLst/>
              <a:gdLst/>
              <a:ahLst/>
              <a:rect l="l" t="t" r="r" b="b"/>
              <a:pathLst>
                <a:path w="107" h="366">
                  <a:moveTo>
                    <a:pt x="40" y="49"/>
                  </a:moveTo>
                  <a:lnTo>
                    <a:pt x="38" y="48"/>
                  </a:lnTo>
                  <a:lnTo>
                    <a:pt x="37" y="44"/>
                  </a:lnTo>
                  <a:lnTo>
                    <a:pt x="36" y="37"/>
                  </a:lnTo>
                  <a:lnTo>
                    <a:pt x="38" y="29"/>
                  </a:lnTo>
                  <a:lnTo>
                    <a:pt x="43" y="19"/>
                  </a:lnTo>
                  <a:lnTo>
                    <a:pt x="43" y="11"/>
                  </a:lnTo>
                  <a:lnTo>
                    <a:pt x="40" y="4"/>
                  </a:lnTo>
                  <a:lnTo>
                    <a:pt x="33" y="0"/>
                  </a:lnTo>
                  <a:lnTo>
                    <a:pt x="23" y="2"/>
                  </a:lnTo>
                  <a:lnTo>
                    <a:pt x="15" y="9"/>
                  </a:lnTo>
                  <a:lnTo>
                    <a:pt x="10" y="18"/>
                  </a:lnTo>
                  <a:lnTo>
                    <a:pt x="5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10" y="47"/>
                  </a:lnTo>
                  <a:lnTo>
                    <a:pt x="12" y="55"/>
                  </a:lnTo>
                  <a:lnTo>
                    <a:pt x="18" y="62"/>
                  </a:lnTo>
                  <a:lnTo>
                    <a:pt x="25" y="69"/>
                  </a:lnTo>
                  <a:lnTo>
                    <a:pt x="32" y="75"/>
                  </a:lnTo>
                  <a:lnTo>
                    <a:pt x="36" y="82"/>
                  </a:lnTo>
                  <a:lnTo>
                    <a:pt x="37" y="92"/>
                  </a:lnTo>
                  <a:lnTo>
                    <a:pt x="37" y="100"/>
                  </a:lnTo>
                  <a:lnTo>
                    <a:pt x="38" y="107"/>
                  </a:lnTo>
                  <a:lnTo>
                    <a:pt x="41" y="111"/>
                  </a:lnTo>
                  <a:lnTo>
                    <a:pt x="44" y="114"/>
                  </a:lnTo>
                  <a:lnTo>
                    <a:pt x="47" y="120"/>
                  </a:lnTo>
                  <a:lnTo>
                    <a:pt x="48" y="126"/>
                  </a:lnTo>
                  <a:lnTo>
                    <a:pt x="47" y="136"/>
                  </a:lnTo>
                  <a:lnTo>
                    <a:pt x="45" y="144"/>
                  </a:lnTo>
                  <a:lnTo>
                    <a:pt x="45" y="151"/>
                  </a:lnTo>
                  <a:lnTo>
                    <a:pt x="44" y="155"/>
                  </a:lnTo>
                  <a:lnTo>
                    <a:pt x="40" y="158"/>
                  </a:lnTo>
                  <a:lnTo>
                    <a:pt x="36" y="157"/>
                  </a:lnTo>
                  <a:lnTo>
                    <a:pt x="30" y="154"/>
                  </a:lnTo>
                  <a:lnTo>
                    <a:pt x="26" y="150"/>
                  </a:lnTo>
                  <a:lnTo>
                    <a:pt x="22" y="144"/>
                  </a:lnTo>
                  <a:lnTo>
                    <a:pt x="15" y="142"/>
                  </a:lnTo>
                  <a:lnTo>
                    <a:pt x="10" y="140"/>
                  </a:lnTo>
                  <a:lnTo>
                    <a:pt x="5" y="143"/>
                  </a:lnTo>
                  <a:lnTo>
                    <a:pt x="3" y="148"/>
                  </a:lnTo>
                  <a:lnTo>
                    <a:pt x="4" y="157"/>
                  </a:lnTo>
                  <a:lnTo>
                    <a:pt x="10" y="168"/>
                  </a:lnTo>
                  <a:lnTo>
                    <a:pt x="16" y="177"/>
                  </a:lnTo>
                  <a:lnTo>
                    <a:pt x="18" y="188"/>
                  </a:lnTo>
                  <a:lnTo>
                    <a:pt x="19" y="199"/>
                  </a:lnTo>
                  <a:lnTo>
                    <a:pt x="22" y="212"/>
                  </a:lnTo>
                  <a:lnTo>
                    <a:pt x="26" y="220"/>
                  </a:lnTo>
                  <a:lnTo>
                    <a:pt x="32" y="223"/>
                  </a:lnTo>
                  <a:lnTo>
                    <a:pt x="36" y="226"/>
                  </a:lnTo>
                  <a:lnTo>
                    <a:pt x="37" y="233"/>
                  </a:lnTo>
                  <a:lnTo>
                    <a:pt x="37" y="245"/>
                  </a:lnTo>
                  <a:lnTo>
                    <a:pt x="38" y="256"/>
                  </a:lnTo>
                  <a:lnTo>
                    <a:pt x="40" y="267"/>
                  </a:lnTo>
                  <a:lnTo>
                    <a:pt x="40" y="275"/>
                  </a:lnTo>
                  <a:lnTo>
                    <a:pt x="38" y="279"/>
                  </a:lnTo>
                  <a:lnTo>
                    <a:pt x="34" y="281"/>
                  </a:lnTo>
                  <a:lnTo>
                    <a:pt x="30" y="279"/>
                  </a:lnTo>
                  <a:lnTo>
                    <a:pt x="26" y="278"/>
                  </a:lnTo>
                  <a:lnTo>
                    <a:pt x="23" y="279"/>
                  </a:lnTo>
                  <a:lnTo>
                    <a:pt x="21" y="286"/>
                  </a:lnTo>
                  <a:lnTo>
                    <a:pt x="19" y="296"/>
                  </a:lnTo>
                  <a:lnTo>
                    <a:pt x="19" y="307"/>
                  </a:lnTo>
                  <a:lnTo>
                    <a:pt x="23" y="317"/>
                  </a:lnTo>
                  <a:lnTo>
                    <a:pt x="29" y="322"/>
                  </a:lnTo>
                  <a:lnTo>
                    <a:pt x="34" y="326"/>
                  </a:lnTo>
                  <a:lnTo>
                    <a:pt x="36" y="334"/>
                  </a:lnTo>
                  <a:lnTo>
                    <a:pt x="36" y="345"/>
                  </a:lnTo>
                  <a:lnTo>
                    <a:pt x="36" y="356"/>
                  </a:lnTo>
                  <a:lnTo>
                    <a:pt x="36" y="363"/>
                  </a:lnTo>
                  <a:lnTo>
                    <a:pt x="36" y="366"/>
                  </a:lnTo>
                  <a:lnTo>
                    <a:pt x="38" y="366"/>
                  </a:lnTo>
                  <a:lnTo>
                    <a:pt x="44" y="366"/>
                  </a:lnTo>
                  <a:lnTo>
                    <a:pt x="51" y="366"/>
                  </a:lnTo>
                  <a:lnTo>
                    <a:pt x="56" y="366"/>
                  </a:lnTo>
                  <a:lnTo>
                    <a:pt x="58" y="365"/>
                  </a:lnTo>
                  <a:lnTo>
                    <a:pt x="58" y="362"/>
                  </a:lnTo>
                  <a:lnTo>
                    <a:pt x="55" y="358"/>
                  </a:lnTo>
                  <a:lnTo>
                    <a:pt x="51" y="350"/>
                  </a:lnTo>
                  <a:lnTo>
                    <a:pt x="48" y="337"/>
                  </a:lnTo>
                  <a:lnTo>
                    <a:pt x="45" y="322"/>
                  </a:lnTo>
                  <a:lnTo>
                    <a:pt x="44" y="310"/>
                  </a:lnTo>
                  <a:lnTo>
                    <a:pt x="45" y="303"/>
                  </a:lnTo>
                  <a:lnTo>
                    <a:pt x="48" y="301"/>
                  </a:lnTo>
                  <a:lnTo>
                    <a:pt x="54" y="301"/>
                  </a:lnTo>
                  <a:lnTo>
                    <a:pt x="59" y="306"/>
                  </a:lnTo>
                  <a:lnTo>
                    <a:pt x="63" y="312"/>
                  </a:lnTo>
                  <a:lnTo>
                    <a:pt x="66" y="321"/>
                  </a:lnTo>
                  <a:lnTo>
                    <a:pt x="69" y="326"/>
                  </a:lnTo>
                  <a:lnTo>
                    <a:pt x="74" y="330"/>
                  </a:lnTo>
                  <a:lnTo>
                    <a:pt x="85" y="333"/>
                  </a:lnTo>
                  <a:lnTo>
                    <a:pt x="96" y="334"/>
                  </a:lnTo>
                  <a:lnTo>
                    <a:pt x="105" y="334"/>
                  </a:lnTo>
                  <a:lnTo>
                    <a:pt x="107" y="332"/>
                  </a:lnTo>
                  <a:lnTo>
                    <a:pt x="102" y="323"/>
                  </a:lnTo>
                  <a:lnTo>
                    <a:pt x="92" y="310"/>
                  </a:lnTo>
                  <a:lnTo>
                    <a:pt x="85" y="293"/>
                  </a:lnTo>
                  <a:lnTo>
                    <a:pt x="78" y="278"/>
                  </a:lnTo>
                  <a:lnTo>
                    <a:pt x="76" y="264"/>
                  </a:lnTo>
                  <a:lnTo>
                    <a:pt x="76" y="255"/>
                  </a:lnTo>
                  <a:lnTo>
                    <a:pt x="76" y="248"/>
                  </a:lnTo>
                  <a:lnTo>
                    <a:pt x="76" y="239"/>
                  </a:lnTo>
                  <a:lnTo>
                    <a:pt x="76" y="231"/>
                  </a:lnTo>
                  <a:lnTo>
                    <a:pt x="76" y="220"/>
                  </a:lnTo>
                  <a:lnTo>
                    <a:pt x="77" y="210"/>
                  </a:lnTo>
                  <a:lnTo>
                    <a:pt x="77" y="199"/>
                  </a:lnTo>
                  <a:lnTo>
                    <a:pt x="74" y="188"/>
                  </a:lnTo>
                  <a:lnTo>
                    <a:pt x="70" y="177"/>
                  </a:lnTo>
                  <a:lnTo>
                    <a:pt x="69" y="168"/>
                  </a:lnTo>
                  <a:lnTo>
                    <a:pt x="69" y="164"/>
                  </a:lnTo>
                  <a:lnTo>
                    <a:pt x="73" y="161"/>
                  </a:lnTo>
                  <a:lnTo>
                    <a:pt x="76" y="157"/>
                  </a:lnTo>
                  <a:lnTo>
                    <a:pt x="76" y="148"/>
                  </a:lnTo>
                  <a:lnTo>
                    <a:pt x="74" y="140"/>
                  </a:lnTo>
                  <a:lnTo>
                    <a:pt x="76" y="133"/>
                  </a:lnTo>
                  <a:lnTo>
                    <a:pt x="78" y="131"/>
                  </a:lnTo>
                  <a:lnTo>
                    <a:pt x="81" y="129"/>
                  </a:lnTo>
                  <a:lnTo>
                    <a:pt x="84" y="126"/>
                  </a:lnTo>
                  <a:lnTo>
                    <a:pt x="84" y="121"/>
                  </a:lnTo>
                  <a:lnTo>
                    <a:pt x="80" y="115"/>
                  </a:lnTo>
                  <a:lnTo>
                    <a:pt x="72" y="113"/>
                  </a:lnTo>
                  <a:lnTo>
                    <a:pt x="63" y="109"/>
                  </a:lnTo>
                  <a:lnTo>
                    <a:pt x="58" y="103"/>
                  </a:lnTo>
                  <a:lnTo>
                    <a:pt x="54" y="93"/>
                  </a:lnTo>
                  <a:lnTo>
                    <a:pt x="49" y="82"/>
                  </a:lnTo>
                  <a:lnTo>
                    <a:pt x="47" y="71"/>
                  </a:lnTo>
                  <a:lnTo>
                    <a:pt x="45" y="63"/>
                  </a:lnTo>
                  <a:lnTo>
                    <a:pt x="44" y="58"/>
                  </a:lnTo>
                  <a:lnTo>
                    <a:pt x="43" y="53"/>
                  </a:lnTo>
                  <a:lnTo>
                    <a:pt x="41" y="51"/>
                  </a:lnTo>
                  <a:lnTo>
                    <a:pt x="40" y="4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9800" y="3848040"/>
              <a:ext cx="131760" cy="166680"/>
            </a:xfrm>
            <a:custGeom>
              <a:avLst/>
              <a:gdLst/>
              <a:ahLst/>
              <a:rect l="l" t="t" r="r" b="b"/>
              <a:pathLst>
                <a:path w="83" h="105">
                  <a:moveTo>
                    <a:pt x="41" y="29"/>
                  </a:moveTo>
                  <a:lnTo>
                    <a:pt x="40" y="27"/>
                  </a:lnTo>
                  <a:lnTo>
                    <a:pt x="40" y="23"/>
                  </a:lnTo>
                  <a:lnTo>
                    <a:pt x="39" y="18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5" y="9"/>
                  </a:lnTo>
                  <a:lnTo>
                    <a:pt x="18" y="9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2" y="32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5" y="38"/>
                  </a:lnTo>
                  <a:lnTo>
                    <a:pt x="8" y="37"/>
                  </a:lnTo>
                  <a:lnTo>
                    <a:pt x="3" y="38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6" y="58"/>
                  </a:lnTo>
                  <a:lnTo>
                    <a:pt x="11" y="62"/>
                  </a:lnTo>
                  <a:lnTo>
                    <a:pt x="18" y="63"/>
                  </a:lnTo>
                  <a:lnTo>
                    <a:pt x="28" y="62"/>
                  </a:lnTo>
                  <a:lnTo>
                    <a:pt x="39" y="59"/>
                  </a:lnTo>
                  <a:lnTo>
                    <a:pt x="47" y="59"/>
                  </a:lnTo>
                  <a:lnTo>
                    <a:pt x="51" y="63"/>
                  </a:lnTo>
                  <a:lnTo>
                    <a:pt x="51" y="70"/>
                  </a:lnTo>
                  <a:lnTo>
                    <a:pt x="52" y="76"/>
                  </a:lnTo>
                  <a:lnTo>
                    <a:pt x="55" y="81"/>
                  </a:lnTo>
                  <a:lnTo>
                    <a:pt x="61" y="85"/>
                  </a:lnTo>
                  <a:lnTo>
                    <a:pt x="65" y="89"/>
                  </a:lnTo>
                  <a:lnTo>
                    <a:pt x="68" y="96"/>
                  </a:lnTo>
                  <a:lnTo>
                    <a:pt x="68" y="102"/>
                  </a:lnTo>
                  <a:lnTo>
                    <a:pt x="68" y="105"/>
                  </a:lnTo>
                  <a:lnTo>
                    <a:pt x="69" y="103"/>
                  </a:lnTo>
                  <a:lnTo>
                    <a:pt x="73" y="100"/>
                  </a:lnTo>
                  <a:lnTo>
                    <a:pt x="79" y="98"/>
                  </a:lnTo>
                  <a:lnTo>
                    <a:pt x="81" y="93"/>
                  </a:lnTo>
                  <a:lnTo>
                    <a:pt x="83" y="91"/>
                  </a:lnTo>
                  <a:lnTo>
                    <a:pt x="83" y="85"/>
                  </a:lnTo>
                  <a:lnTo>
                    <a:pt x="80" y="81"/>
                  </a:lnTo>
                  <a:lnTo>
                    <a:pt x="77" y="74"/>
                  </a:lnTo>
                  <a:lnTo>
                    <a:pt x="73" y="66"/>
                  </a:lnTo>
                  <a:lnTo>
                    <a:pt x="68" y="59"/>
                  </a:lnTo>
                  <a:lnTo>
                    <a:pt x="63" y="52"/>
                  </a:lnTo>
                  <a:lnTo>
                    <a:pt x="57" y="49"/>
                  </a:lnTo>
                  <a:lnTo>
                    <a:pt x="50" y="47"/>
                  </a:lnTo>
                  <a:lnTo>
                    <a:pt x="46" y="43"/>
                  </a:lnTo>
                  <a:lnTo>
                    <a:pt x="41" y="37"/>
                  </a:lnTo>
                  <a:lnTo>
                    <a:pt x="41" y="2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5760" y="4059360"/>
              <a:ext cx="292320" cy="333360"/>
            </a:xfrm>
            <a:custGeom>
              <a:avLst/>
              <a:gdLst/>
              <a:ahLst/>
              <a:rect l="l" t="t" r="r" b="b"/>
              <a:pathLst>
                <a:path w="184" h="210">
                  <a:moveTo>
                    <a:pt x="10" y="0"/>
                  </a:moveTo>
                  <a:lnTo>
                    <a:pt x="14" y="5"/>
                  </a:lnTo>
                  <a:lnTo>
                    <a:pt x="21" y="14"/>
                  </a:lnTo>
                  <a:lnTo>
                    <a:pt x="31" y="22"/>
                  </a:lnTo>
                  <a:lnTo>
                    <a:pt x="36" y="27"/>
                  </a:lnTo>
                  <a:lnTo>
                    <a:pt x="40" y="24"/>
                  </a:lnTo>
                  <a:lnTo>
                    <a:pt x="43" y="20"/>
                  </a:lnTo>
                  <a:lnTo>
                    <a:pt x="48" y="17"/>
                  </a:lnTo>
                  <a:lnTo>
                    <a:pt x="54" y="18"/>
                  </a:lnTo>
                  <a:lnTo>
                    <a:pt x="58" y="20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64" y="29"/>
                  </a:lnTo>
                  <a:lnTo>
                    <a:pt x="69" y="35"/>
                  </a:lnTo>
                  <a:lnTo>
                    <a:pt x="72" y="38"/>
                  </a:lnTo>
                  <a:lnTo>
                    <a:pt x="75" y="42"/>
                  </a:lnTo>
                  <a:lnTo>
                    <a:pt x="76" y="47"/>
                  </a:lnTo>
                  <a:lnTo>
                    <a:pt x="79" y="53"/>
                  </a:lnTo>
                  <a:lnTo>
                    <a:pt x="83" y="58"/>
                  </a:lnTo>
                  <a:lnTo>
                    <a:pt x="88" y="64"/>
                  </a:lnTo>
                  <a:lnTo>
                    <a:pt x="94" y="68"/>
                  </a:lnTo>
                  <a:lnTo>
                    <a:pt x="101" y="73"/>
                  </a:lnTo>
                  <a:lnTo>
                    <a:pt x="108" y="82"/>
                  </a:lnTo>
                  <a:lnTo>
                    <a:pt x="113" y="90"/>
                  </a:lnTo>
                  <a:lnTo>
                    <a:pt x="115" y="93"/>
                  </a:lnTo>
                  <a:lnTo>
                    <a:pt x="112" y="91"/>
                  </a:lnTo>
                  <a:lnTo>
                    <a:pt x="106" y="87"/>
                  </a:lnTo>
                  <a:lnTo>
                    <a:pt x="99" y="83"/>
                  </a:lnTo>
                  <a:lnTo>
                    <a:pt x="93" y="80"/>
                  </a:lnTo>
                  <a:lnTo>
                    <a:pt x="86" y="78"/>
                  </a:lnTo>
                  <a:lnTo>
                    <a:pt x="80" y="73"/>
                  </a:lnTo>
                  <a:lnTo>
                    <a:pt x="75" y="71"/>
                  </a:lnTo>
                  <a:lnTo>
                    <a:pt x="73" y="69"/>
                  </a:lnTo>
                  <a:lnTo>
                    <a:pt x="73" y="72"/>
                  </a:lnTo>
                  <a:lnTo>
                    <a:pt x="76" y="78"/>
                  </a:lnTo>
                  <a:lnTo>
                    <a:pt x="80" y="84"/>
                  </a:lnTo>
                  <a:lnTo>
                    <a:pt x="86" y="91"/>
                  </a:lnTo>
                  <a:lnTo>
                    <a:pt x="93" y="97"/>
                  </a:lnTo>
                  <a:lnTo>
                    <a:pt x="101" y="101"/>
                  </a:lnTo>
                  <a:lnTo>
                    <a:pt x="108" y="104"/>
                  </a:lnTo>
                  <a:lnTo>
                    <a:pt x="115" y="104"/>
                  </a:lnTo>
                  <a:lnTo>
                    <a:pt x="122" y="105"/>
                  </a:lnTo>
                  <a:lnTo>
                    <a:pt x="127" y="111"/>
                  </a:lnTo>
                  <a:lnTo>
                    <a:pt x="131" y="118"/>
                  </a:lnTo>
                  <a:lnTo>
                    <a:pt x="137" y="123"/>
                  </a:lnTo>
                  <a:lnTo>
                    <a:pt x="145" y="133"/>
                  </a:lnTo>
                  <a:lnTo>
                    <a:pt x="153" y="146"/>
                  </a:lnTo>
                  <a:lnTo>
                    <a:pt x="161" y="159"/>
                  </a:lnTo>
                  <a:lnTo>
                    <a:pt x="167" y="163"/>
                  </a:lnTo>
                  <a:lnTo>
                    <a:pt x="172" y="162"/>
                  </a:lnTo>
                  <a:lnTo>
                    <a:pt x="178" y="163"/>
                  </a:lnTo>
                  <a:lnTo>
                    <a:pt x="182" y="168"/>
                  </a:lnTo>
                  <a:lnTo>
                    <a:pt x="184" y="175"/>
                  </a:lnTo>
                  <a:lnTo>
                    <a:pt x="182" y="185"/>
                  </a:lnTo>
                  <a:lnTo>
                    <a:pt x="179" y="195"/>
                  </a:lnTo>
                  <a:lnTo>
                    <a:pt x="177" y="202"/>
                  </a:lnTo>
                  <a:lnTo>
                    <a:pt x="171" y="200"/>
                  </a:lnTo>
                  <a:lnTo>
                    <a:pt x="166" y="193"/>
                  </a:lnTo>
                  <a:lnTo>
                    <a:pt x="161" y="188"/>
                  </a:lnTo>
                  <a:lnTo>
                    <a:pt x="159" y="185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7" y="206"/>
                  </a:lnTo>
                  <a:lnTo>
                    <a:pt x="156" y="210"/>
                  </a:lnTo>
                  <a:lnTo>
                    <a:pt x="152" y="207"/>
                  </a:lnTo>
                  <a:lnTo>
                    <a:pt x="145" y="200"/>
                  </a:lnTo>
                  <a:lnTo>
                    <a:pt x="138" y="193"/>
                  </a:lnTo>
                  <a:lnTo>
                    <a:pt x="134" y="188"/>
                  </a:lnTo>
                  <a:lnTo>
                    <a:pt x="133" y="181"/>
                  </a:lnTo>
                  <a:lnTo>
                    <a:pt x="134" y="173"/>
                  </a:lnTo>
                  <a:lnTo>
                    <a:pt x="134" y="164"/>
                  </a:lnTo>
                  <a:lnTo>
                    <a:pt x="130" y="157"/>
                  </a:lnTo>
                  <a:lnTo>
                    <a:pt x="122" y="153"/>
                  </a:lnTo>
                  <a:lnTo>
                    <a:pt x="112" y="151"/>
                  </a:lnTo>
                  <a:lnTo>
                    <a:pt x="108" y="148"/>
                  </a:lnTo>
                  <a:lnTo>
                    <a:pt x="105" y="144"/>
                  </a:lnTo>
                  <a:lnTo>
                    <a:pt x="104" y="140"/>
                  </a:lnTo>
                  <a:lnTo>
                    <a:pt x="102" y="134"/>
                  </a:lnTo>
                  <a:lnTo>
                    <a:pt x="99" y="129"/>
                  </a:lnTo>
                  <a:lnTo>
                    <a:pt x="97" y="124"/>
                  </a:lnTo>
                  <a:lnTo>
                    <a:pt x="90" y="122"/>
                  </a:lnTo>
                  <a:lnTo>
                    <a:pt x="84" y="118"/>
                  </a:lnTo>
                  <a:lnTo>
                    <a:pt x="82" y="113"/>
                  </a:lnTo>
                  <a:lnTo>
                    <a:pt x="79" y="109"/>
                  </a:lnTo>
                  <a:lnTo>
                    <a:pt x="72" y="105"/>
                  </a:lnTo>
                  <a:lnTo>
                    <a:pt x="64" y="102"/>
                  </a:lnTo>
                  <a:lnTo>
                    <a:pt x="57" y="100"/>
                  </a:lnTo>
                  <a:lnTo>
                    <a:pt x="53" y="95"/>
                  </a:lnTo>
                  <a:lnTo>
                    <a:pt x="51" y="89"/>
                  </a:lnTo>
                  <a:lnTo>
                    <a:pt x="50" y="79"/>
                  </a:lnTo>
                  <a:lnTo>
                    <a:pt x="46" y="69"/>
                  </a:lnTo>
                  <a:lnTo>
                    <a:pt x="40" y="61"/>
                  </a:lnTo>
                  <a:lnTo>
                    <a:pt x="36" y="53"/>
                  </a:lnTo>
                  <a:lnTo>
                    <a:pt x="35" y="47"/>
                  </a:lnTo>
                  <a:lnTo>
                    <a:pt x="35" y="43"/>
                  </a:lnTo>
                  <a:lnTo>
                    <a:pt x="33" y="40"/>
                  </a:lnTo>
                  <a:lnTo>
                    <a:pt x="29" y="35"/>
                  </a:lnTo>
                  <a:lnTo>
                    <a:pt x="25" y="31"/>
                  </a:lnTo>
                  <a:lnTo>
                    <a:pt x="18" y="25"/>
                  </a:lnTo>
                  <a:lnTo>
                    <a:pt x="13" y="20"/>
                  </a:lnTo>
                  <a:lnTo>
                    <a:pt x="6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4760" y="453708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2" y="5"/>
                  </a:lnTo>
                  <a:lnTo>
                    <a:pt x="23" y="14"/>
                  </a:lnTo>
                  <a:lnTo>
                    <a:pt x="33" y="20"/>
                  </a:lnTo>
                  <a:lnTo>
                    <a:pt x="38" y="25"/>
                  </a:lnTo>
                  <a:lnTo>
                    <a:pt x="44" y="29"/>
                  </a:lnTo>
                  <a:lnTo>
                    <a:pt x="52" y="36"/>
                  </a:lnTo>
                  <a:lnTo>
                    <a:pt x="59" y="47"/>
                  </a:lnTo>
                  <a:lnTo>
                    <a:pt x="62" y="56"/>
                  </a:lnTo>
                  <a:lnTo>
                    <a:pt x="62" y="63"/>
                  </a:lnTo>
                  <a:lnTo>
                    <a:pt x="56" y="63"/>
                  </a:lnTo>
                  <a:lnTo>
                    <a:pt x="49" y="59"/>
                  </a:lnTo>
                  <a:lnTo>
                    <a:pt x="44" y="53"/>
                  </a:lnTo>
                  <a:lnTo>
                    <a:pt x="37" y="47"/>
                  </a:lnTo>
                  <a:lnTo>
                    <a:pt x="26" y="37"/>
                  </a:lnTo>
                  <a:lnTo>
                    <a:pt x="18" y="29"/>
                  </a:lnTo>
                  <a:lnTo>
                    <a:pt x="12" y="22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8600" y="4657680"/>
              <a:ext cx="136440" cy="11916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0" y="0"/>
                  </a:moveTo>
                  <a:lnTo>
                    <a:pt x="2" y="2"/>
                  </a:lnTo>
                  <a:lnTo>
                    <a:pt x="3" y="8"/>
                  </a:lnTo>
                  <a:lnTo>
                    <a:pt x="6" y="15"/>
                  </a:lnTo>
                  <a:lnTo>
                    <a:pt x="9" y="22"/>
                  </a:lnTo>
                  <a:lnTo>
                    <a:pt x="11" y="26"/>
                  </a:lnTo>
                  <a:lnTo>
                    <a:pt x="14" y="27"/>
                  </a:lnTo>
                  <a:lnTo>
                    <a:pt x="17" y="28"/>
                  </a:lnTo>
                  <a:lnTo>
                    <a:pt x="21" y="34"/>
                  </a:lnTo>
                  <a:lnTo>
                    <a:pt x="25" y="39"/>
                  </a:lnTo>
                  <a:lnTo>
                    <a:pt x="31" y="44"/>
                  </a:lnTo>
                  <a:lnTo>
                    <a:pt x="35" y="48"/>
                  </a:lnTo>
                  <a:lnTo>
                    <a:pt x="42" y="53"/>
                  </a:lnTo>
                  <a:lnTo>
                    <a:pt x="49" y="59"/>
                  </a:lnTo>
                  <a:lnTo>
                    <a:pt x="55" y="63"/>
                  </a:lnTo>
                  <a:lnTo>
                    <a:pt x="61" y="67"/>
                  </a:lnTo>
                  <a:lnTo>
                    <a:pt x="66" y="70"/>
                  </a:lnTo>
                  <a:lnTo>
                    <a:pt x="72" y="73"/>
                  </a:lnTo>
                  <a:lnTo>
                    <a:pt x="80" y="75"/>
                  </a:lnTo>
                  <a:lnTo>
                    <a:pt x="86" y="75"/>
                  </a:lnTo>
                  <a:lnTo>
                    <a:pt x="84" y="71"/>
                  </a:lnTo>
                  <a:lnTo>
                    <a:pt x="79" y="63"/>
                  </a:lnTo>
                  <a:lnTo>
                    <a:pt x="73" y="56"/>
                  </a:lnTo>
                  <a:lnTo>
                    <a:pt x="68" y="52"/>
                  </a:lnTo>
                  <a:lnTo>
                    <a:pt x="66" y="50"/>
                  </a:lnTo>
                  <a:lnTo>
                    <a:pt x="65" y="46"/>
                  </a:lnTo>
                  <a:lnTo>
                    <a:pt x="61" y="38"/>
                  </a:lnTo>
                  <a:lnTo>
                    <a:pt x="54" y="31"/>
                  </a:lnTo>
                  <a:lnTo>
                    <a:pt x="47" y="30"/>
                  </a:lnTo>
                  <a:lnTo>
                    <a:pt x="42" y="30"/>
                  </a:lnTo>
                  <a:lnTo>
                    <a:pt x="39" y="26"/>
                  </a:lnTo>
                  <a:lnTo>
                    <a:pt x="37" y="22"/>
                  </a:lnTo>
                  <a:lnTo>
                    <a:pt x="35" y="17"/>
                  </a:lnTo>
                  <a:lnTo>
                    <a:pt x="28" y="12"/>
                  </a:lnTo>
                  <a:lnTo>
                    <a:pt x="18" y="5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67160" y="450864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18" y="9"/>
                  </a:moveTo>
                  <a:lnTo>
                    <a:pt x="16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6" y="23"/>
                  </a:lnTo>
                  <a:lnTo>
                    <a:pt x="13" y="22"/>
                  </a:lnTo>
                  <a:lnTo>
                    <a:pt x="20" y="22"/>
                  </a:lnTo>
                  <a:lnTo>
                    <a:pt x="24" y="23"/>
                  </a:lnTo>
                  <a:lnTo>
                    <a:pt x="25" y="30"/>
                  </a:lnTo>
                  <a:lnTo>
                    <a:pt x="25" y="38"/>
                  </a:lnTo>
                  <a:lnTo>
                    <a:pt x="28" y="44"/>
                  </a:lnTo>
                  <a:lnTo>
                    <a:pt x="32" y="48"/>
                  </a:lnTo>
                  <a:lnTo>
                    <a:pt x="40" y="54"/>
                  </a:lnTo>
                  <a:lnTo>
                    <a:pt x="51" y="62"/>
                  </a:lnTo>
                  <a:lnTo>
                    <a:pt x="61" y="74"/>
                  </a:lnTo>
                  <a:lnTo>
                    <a:pt x="69" y="87"/>
                  </a:lnTo>
                  <a:lnTo>
                    <a:pt x="76" y="98"/>
                  </a:lnTo>
                  <a:lnTo>
                    <a:pt x="83" y="107"/>
                  </a:lnTo>
                  <a:lnTo>
                    <a:pt x="90" y="114"/>
                  </a:lnTo>
                  <a:lnTo>
                    <a:pt x="97" y="121"/>
                  </a:lnTo>
                  <a:lnTo>
                    <a:pt x="101" y="128"/>
                  </a:lnTo>
                  <a:lnTo>
                    <a:pt x="105" y="135"/>
                  </a:lnTo>
                  <a:lnTo>
                    <a:pt x="109" y="142"/>
                  </a:lnTo>
                  <a:lnTo>
                    <a:pt x="113" y="147"/>
                  </a:lnTo>
                  <a:lnTo>
                    <a:pt x="119" y="149"/>
                  </a:lnTo>
                  <a:lnTo>
                    <a:pt x="124" y="149"/>
                  </a:lnTo>
                  <a:lnTo>
                    <a:pt x="129" y="146"/>
                  </a:lnTo>
                  <a:lnTo>
                    <a:pt x="131" y="142"/>
                  </a:lnTo>
                  <a:lnTo>
                    <a:pt x="129" y="136"/>
                  </a:lnTo>
                  <a:lnTo>
                    <a:pt x="123" y="128"/>
                  </a:lnTo>
                  <a:lnTo>
                    <a:pt x="118" y="120"/>
                  </a:lnTo>
                  <a:lnTo>
                    <a:pt x="111" y="113"/>
                  </a:lnTo>
                  <a:lnTo>
                    <a:pt x="107" y="107"/>
                  </a:lnTo>
                  <a:lnTo>
                    <a:pt x="102" y="106"/>
                  </a:lnTo>
                  <a:lnTo>
                    <a:pt x="98" y="105"/>
                  </a:lnTo>
                  <a:lnTo>
                    <a:pt x="97" y="102"/>
                  </a:lnTo>
                  <a:lnTo>
                    <a:pt x="96" y="98"/>
                  </a:lnTo>
                  <a:lnTo>
                    <a:pt x="96" y="94"/>
                  </a:lnTo>
                  <a:lnTo>
                    <a:pt x="94" y="91"/>
                  </a:lnTo>
                  <a:lnTo>
                    <a:pt x="90" y="87"/>
                  </a:lnTo>
                  <a:lnTo>
                    <a:pt x="84" y="82"/>
                  </a:lnTo>
                  <a:lnTo>
                    <a:pt x="78" y="74"/>
                  </a:lnTo>
                  <a:lnTo>
                    <a:pt x="71" y="63"/>
                  </a:lnTo>
                  <a:lnTo>
                    <a:pt x="64" y="54"/>
                  </a:lnTo>
                  <a:lnTo>
                    <a:pt x="56" y="48"/>
                  </a:lnTo>
                  <a:lnTo>
                    <a:pt x="49" y="47"/>
                  </a:lnTo>
                  <a:lnTo>
                    <a:pt x="43" y="44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29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8" y="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7160" y="4148280"/>
              <a:ext cx="58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5" y="0"/>
                  </a:moveTo>
                  <a:lnTo>
                    <a:pt x="8" y="1"/>
                  </a:lnTo>
                  <a:lnTo>
                    <a:pt x="16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34" y="24"/>
                  </a:lnTo>
                  <a:lnTo>
                    <a:pt x="37" y="34"/>
                  </a:lnTo>
                  <a:lnTo>
                    <a:pt x="37" y="42"/>
                  </a:lnTo>
                  <a:lnTo>
                    <a:pt x="37" y="49"/>
                  </a:lnTo>
                  <a:lnTo>
                    <a:pt x="35" y="51"/>
                  </a:lnTo>
                  <a:lnTo>
                    <a:pt x="33" y="45"/>
                  </a:lnTo>
                  <a:lnTo>
                    <a:pt x="29" y="37"/>
                  </a:lnTo>
                  <a:lnTo>
                    <a:pt x="22" y="30"/>
                  </a:lnTo>
                  <a:lnTo>
                    <a:pt x="18" y="26"/>
                  </a:lnTo>
                  <a:lnTo>
                    <a:pt x="16" y="22"/>
                  </a:lnTo>
                  <a:lnTo>
                    <a:pt x="13" y="19"/>
                  </a:lnTo>
                  <a:lnTo>
                    <a:pt x="9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1360" y="4272120"/>
              <a:ext cx="3528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2" y="1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5" y="44"/>
                  </a:lnTo>
                  <a:lnTo>
                    <a:pt x="9" y="43"/>
                  </a:lnTo>
                  <a:lnTo>
                    <a:pt x="13" y="37"/>
                  </a:lnTo>
                  <a:lnTo>
                    <a:pt x="18" y="29"/>
                  </a:lnTo>
                  <a:lnTo>
                    <a:pt x="20" y="22"/>
                  </a:lnTo>
                  <a:lnTo>
                    <a:pt x="22" y="17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3" y="3"/>
                  </a:lnTo>
                  <a:lnTo>
                    <a:pt x="8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30600" y="5249880"/>
              <a:ext cx="330480" cy="13320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116" y="19"/>
                  </a:moveTo>
                  <a:lnTo>
                    <a:pt x="118" y="20"/>
                  </a:lnTo>
                  <a:lnTo>
                    <a:pt x="124" y="22"/>
                  </a:lnTo>
                  <a:lnTo>
                    <a:pt x="132" y="23"/>
                  </a:lnTo>
                  <a:lnTo>
                    <a:pt x="143" y="23"/>
                  </a:lnTo>
                  <a:lnTo>
                    <a:pt x="153" y="22"/>
                  </a:lnTo>
                  <a:lnTo>
                    <a:pt x="161" y="22"/>
                  </a:lnTo>
                  <a:lnTo>
                    <a:pt x="168" y="26"/>
                  </a:lnTo>
                  <a:lnTo>
                    <a:pt x="176" y="30"/>
                  </a:lnTo>
                  <a:lnTo>
                    <a:pt x="187" y="36"/>
                  </a:lnTo>
                  <a:lnTo>
                    <a:pt x="198" y="41"/>
                  </a:lnTo>
                  <a:lnTo>
                    <a:pt x="207" y="48"/>
                  </a:lnTo>
                  <a:lnTo>
                    <a:pt x="208" y="58"/>
                  </a:lnTo>
                  <a:lnTo>
                    <a:pt x="203" y="66"/>
                  </a:lnTo>
                  <a:lnTo>
                    <a:pt x="196" y="70"/>
                  </a:lnTo>
                  <a:lnTo>
                    <a:pt x="187" y="73"/>
                  </a:lnTo>
                  <a:lnTo>
                    <a:pt x="179" y="77"/>
                  </a:lnTo>
                  <a:lnTo>
                    <a:pt x="175" y="80"/>
                  </a:lnTo>
                  <a:lnTo>
                    <a:pt x="171" y="81"/>
                  </a:lnTo>
                  <a:lnTo>
                    <a:pt x="165" y="82"/>
                  </a:lnTo>
                  <a:lnTo>
                    <a:pt x="161" y="82"/>
                  </a:lnTo>
                  <a:lnTo>
                    <a:pt x="156" y="82"/>
                  </a:lnTo>
                  <a:lnTo>
                    <a:pt x="150" y="81"/>
                  </a:lnTo>
                  <a:lnTo>
                    <a:pt x="143" y="81"/>
                  </a:lnTo>
                  <a:lnTo>
                    <a:pt x="138" y="81"/>
                  </a:lnTo>
                  <a:lnTo>
                    <a:pt x="127" y="81"/>
                  </a:lnTo>
                  <a:lnTo>
                    <a:pt x="120" y="81"/>
                  </a:lnTo>
                  <a:lnTo>
                    <a:pt x="113" y="82"/>
                  </a:lnTo>
                  <a:lnTo>
                    <a:pt x="102" y="84"/>
                  </a:lnTo>
                  <a:lnTo>
                    <a:pt x="95" y="84"/>
                  </a:lnTo>
                  <a:lnTo>
                    <a:pt x="88" y="84"/>
                  </a:lnTo>
                  <a:lnTo>
                    <a:pt x="80" y="84"/>
                  </a:lnTo>
                  <a:lnTo>
                    <a:pt x="73" y="84"/>
                  </a:lnTo>
                  <a:lnTo>
                    <a:pt x="66" y="82"/>
                  </a:lnTo>
                  <a:lnTo>
                    <a:pt x="59" y="81"/>
                  </a:lnTo>
                  <a:lnTo>
                    <a:pt x="52" y="78"/>
                  </a:lnTo>
                  <a:lnTo>
                    <a:pt x="47" y="76"/>
                  </a:lnTo>
                  <a:lnTo>
                    <a:pt x="37" y="67"/>
                  </a:lnTo>
                  <a:lnTo>
                    <a:pt x="28" y="58"/>
                  </a:lnTo>
                  <a:lnTo>
                    <a:pt x="19" y="51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4" y="33"/>
                  </a:lnTo>
                  <a:lnTo>
                    <a:pt x="10" y="27"/>
                  </a:lnTo>
                  <a:lnTo>
                    <a:pt x="14" y="25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1" y="11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5" y="7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45" y="8"/>
                  </a:lnTo>
                  <a:lnTo>
                    <a:pt x="54" y="8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5" y="11"/>
                  </a:lnTo>
                  <a:lnTo>
                    <a:pt x="98" y="14"/>
                  </a:lnTo>
                  <a:lnTo>
                    <a:pt x="107" y="16"/>
                  </a:lnTo>
                  <a:lnTo>
                    <a:pt x="116" y="1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78320" y="5234040"/>
              <a:ext cx="13644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50"/>
                  </a:moveTo>
                  <a:lnTo>
                    <a:pt x="86" y="48"/>
                  </a:lnTo>
                  <a:lnTo>
                    <a:pt x="86" y="43"/>
                  </a:lnTo>
                  <a:lnTo>
                    <a:pt x="81" y="36"/>
                  </a:lnTo>
                  <a:lnTo>
                    <a:pt x="70" y="26"/>
                  </a:lnTo>
                  <a:lnTo>
                    <a:pt x="57" y="18"/>
                  </a:lnTo>
                  <a:lnTo>
                    <a:pt x="49" y="14"/>
                  </a:lnTo>
                  <a:lnTo>
                    <a:pt x="44" y="10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3"/>
                  </a:lnTo>
                  <a:lnTo>
                    <a:pt x="9" y="18"/>
                  </a:lnTo>
                  <a:lnTo>
                    <a:pt x="17" y="21"/>
                  </a:lnTo>
                  <a:lnTo>
                    <a:pt x="24" y="21"/>
                  </a:lnTo>
                  <a:lnTo>
                    <a:pt x="30" y="24"/>
                  </a:lnTo>
                  <a:lnTo>
                    <a:pt x="34" y="26"/>
                  </a:lnTo>
                  <a:lnTo>
                    <a:pt x="40" y="30"/>
                  </a:lnTo>
                  <a:lnTo>
                    <a:pt x="45" y="33"/>
                  </a:lnTo>
                  <a:lnTo>
                    <a:pt x="51" y="35"/>
                  </a:lnTo>
                  <a:lnTo>
                    <a:pt x="57" y="35"/>
                  </a:lnTo>
                  <a:lnTo>
                    <a:pt x="63" y="39"/>
                  </a:lnTo>
                  <a:lnTo>
                    <a:pt x="70" y="44"/>
                  </a:lnTo>
                  <a:lnTo>
                    <a:pt x="77" y="48"/>
                  </a:lnTo>
                  <a:lnTo>
                    <a:pt x="84" y="50"/>
                  </a:lnTo>
                  <a:lnTo>
                    <a:pt x="86" y="5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82920" y="5540400"/>
              <a:ext cx="13680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6" y="8"/>
                  </a:moveTo>
                  <a:lnTo>
                    <a:pt x="84" y="10"/>
                  </a:lnTo>
                  <a:lnTo>
                    <a:pt x="80" y="11"/>
                  </a:lnTo>
                  <a:lnTo>
                    <a:pt x="75" y="12"/>
                  </a:lnTo>
                  <a:lnTo>
                    <a:pt x="68" y="10"/>
                  </a:lnTo>
                  <a:lnTo>
                    <a:pt x="61" y="6"/>
                  </a:lnTo>
                  <a:lnTo>
                    <a:pt x="53" y="1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18" y="12"/>
                  </a:lnTo>
                  <a:lnTo>
                    <a:pt x="13" y="14"/>
                  </a:lnTo>
                  <a:lnTo>
                    <a:pt x="7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9"/>
                  </a:lnTo>
                  <a:lnTo>
                    <a:pt x="7" y="34"/>
                  </a:lnTo>
                  <a:lnTo>
                    <a:pt x="6" y="40"/>
                  </a:lnTo>
                  <a:lnTo>
                    <a:pt x="4" y="45"/>
                  </a:lnTo>
                  <a:lnTo>
                    <a:pt x="7" y="50"/>
                  </a:lnTo>
                  <a:lnTo>
                    <a:pt x="13" y="51"/>
                  </a:lnTo>
                  <a:lnTo>
                    <a:pt x="21" y="52"/>
                  </a:lnTo>
                  <a:lnTo>
                    <a:pt x="31" y="50"/>
                  </a:lnTo>
                  <a:lnTo>
                    <a:pt x="40" y="47"/>
                  </a:lnTo>
                  <a:lnTo>
                    <a:pt x="49" y="47"/>
                  </a:lnTo>
                  <a:lnTo>
                    <a:pt x="57" y="47"/>
                  </a:lnTo>
                  <a:lnTo>
                    <a:pt x="64" y="45"/>
                  </a:lnTo>
                  <a:lnTo>
                    <a:pt x="71" y="40"/>
                  </a:lnTo>
                  <a:lnTo>
                    <a:pt x="79" y="32"/>
                  </a:lnTo>
                  <a:lnTo>
                    <a:pt x="83" y="21"/>
                  </a:lnTo>
                  <a:lnTo>
                    <a:pt x="86" y="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24480" y="5408640"/>
              <a:ext cx="515880" cy="112680"/>
            </a:xfrm>
            <a:custGeom>
              <a:avLst/>
              <a:gdLst/>
              <a:ahLst/>
              <a:rect l="l" t="t" r="r" b="b"/>
              <a:pathLst>
                <a:path w="325" h="71">
                  <a:moveTo>
                    <a:pt x="61" y="27"/>
                  </a:moveTo>
                  <a:lnTo>
                    <a:pt x="59" y="25"/>
                  </a:lnTo>
                  <a:lnTo>
                    <a:pt x="56" y="24"/>
                  </a:lnTo>
                  <a:lnTo>
                    <a:pt x="54" y="21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27" y="14"/>
                  </a:lnTo>
                  <a:lnTo>
                    <a:pt x="22" y="14"/>
                  </a:lnTo>
                  <a:lnTo>
                    <a:pt x="16" y="16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12" y="36"/>
                  </a:lnTo>
                  <a:lnTo>
                    <a:pt x="22" y="38"/>
                  </a:lnTo>
                  <a:lnTo>
                    <a:pt x="27" y="40"/>
                  </a:lnTo>
                  <a:lnTo>
                    <a:pt x="32" y="44"/>
                  </a:lnTo>
                  <a:lnTo>
                    <a:pt x="40" y="49"/>
                  </a:lnTo>
                  <a:lnTo>
                    <a:pt x="45" y="50"/>
                  </a:lnTo>
                  <a:lnTo>
                    <a:pt x="49" y="51"/>
                  </a:lnTo>
                  <a:lnTo>
                    <a:pt x="55" y="53"/>
                  </a:lnTo>
                  <a:lnTo>
                    <a:pt x="61" y="53"/>
                  </a:lnTo>
                  <a:lnTo>
                    <a:pt x="66" y="53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7" y="55"/>
                  </a:lnTo>
                  <a:lnTo>
                    <a:pt x="95" y="57"/>
                  </a:lnTo>
                  <a:lnTo>
                    <a:pt x="103" y="60"/>
                  </a:lnTo>
                  <a:lnTo>
                    <a:pt x="110" y="61"/>
                  </a:lnTo>
                  <a:lnTo>
                    <a:pt x="118" y="64"/>
                  </a:lnTo>
                  <a:lnTo>
                    <a:pt x="127" y="65"/>
                  </a:lnTo>
                  <a:lnTo>
                    <a:pt x="135" y="66"/>
                  </a:lnTo>
                  <a:lnTo>
                    <a:pt x="143" y="66"/>
                  </a:lnTo>
                  <a:lnTo>
                    <a:pt x="153" y="65"/>
                  </a:lnTo>
                  <a:lnTo>
                    <a:pt x="162" y="64"/>
                  </a:lnTo>
                  <a:lnTo>
                    <a:pt x="173" y="64"/>
                  </a:lnTo>
                  <a:lnTo>
                    <a:pt x="184" y="64"/>
                  </a:lnTo>
                  <a:lnTo>
                    <a:pt x="196" y="65"/>
                  </a:lnTo>
                  <a:lnTo>
                    <a:pt x="207" y="66"/>
                  </a:lnTo>
                  <a:lnTo>
                    <a:pt x="216" y="68"/>
                  </a:lnTo>
                  <a:lnTo>
                    <a:pt x="226" y="68"/>
                  </a:lnTo>
                  <a:lnTo>
                    <a:pt x="235" y="69"/>
                  </a:lnTo>
                  <a:lnTo>
                    <a:pt x="244" y="71"/>
                  </a:lnTo>
                  <a:lnTo>
                    <a:pt x="253" y="71"/>
                  </a:lnTo>
                  <a:lnTo>
                    <a:pt x="262" y="71"/>
                  </a:lnTo>
                  <a:lnTo>
                    <a:pt x="270" y="69"/>
                  </a:lnTo>
                  <a:lnTo>
                    <a:pt x="278" y="69"/>
                  </a:lnTo>
                  <a:lnTo>
                    <a:pt x="286" y="68"/>
                  </a:lnTo>
                  <a:lnTo>
                    <a:pt x="293" y="68"/>
                  </a:lnTo>
                  <a:lnTo>
                    <a:pt x="300" y="68"/>
                  </a:lnTo>
                  <a:lnTo>
                    <a:pt x="314" y="66"/>
                  </a:lnTo>
                  <a:lnTo>
                    <a:pt x="324" y="61"/>
                  </a:lnTo>
                  <a:lnTo>
                    <a:pt x="325" y="57"/>
                  </a:lnTo>
                  <a:lnTo>
                    <a:pt x="314" y="55"/>
                  </a:lnTo>
                  <a:lnTo>
                    <a:pt x="304" y="55"/>
                  </a:lnTo>
                  <a:lnTo>
                    <a:pt x="293" y="54"/>
                  </a:lnTo>
                  <a:lnTo>
                    <a:pt x="284" y="54"/>
                  </a:lnTo>
                  <a:lnTo>
                    <a:pt x="273" y="53"/>
                  </a:lnTo>
                  <a:lnTo>
                    <a:pt x="262" y="51"/>
                  </a:lnTo>
                  <a:lnTo>
                    <a:pt x="251" y="51"/>
                  </a:lnTo>
                  <a:lnTo>
                    <a:pt x="240" y="50"/>
                  </a:lnTo>
                  <a:lnTo>
                    <a:pt x="227" y="49"/>
                  </a:lnTo>
                  <a:lnTo>
                    <a:pt x="216" y="47"/>
                  </a:lnTo>
                  <a:lnTo>
                    <a:pt x="207" y="46"/>
                  </a:lnTo>
                  <a:lnTo>
                    <a:pt x="198" y="44"/>
                  </a:lnTo>
                  <a:lnTo>
                    <a:pt x="191" y="43"/>
                  </a:lnTo>
                  <a:lnTo>
                    <a:pt x="186" y="43"/>
                  </a:lnTo>
                  <a:lnTo>
                    <a:pt x="180" y="42"/>
                  </a:lnTo>
                  <a:lnTo>
                    <a:pt x="175" y="42"/>
                  </a:lnTo>
                  <a:lnTo>
                    <a:pt x="169" y="42"/>
                  </a:lnTo>
                  <a:lnTo>
                    <a:pt x="164" y="42"/>
                  </a:lnTo>
                  <a:lnTo>
                    <a:pt x="157" y="42"/>
                  </a:lnTo>
                  <a:lnTo>
                    <a:pt x="151" y="42"/>
                  </a:lnTo>
                  <a:lnTo>
                    <a:pt x="145" y="43"/>
                  </a:lnTo>
                  <a:lnTo>
                    <a:pt x="139" y="43"/>
                  </a:lnTo>
                  <a:lnTo>
                    <a:pt x="134" y="42"/>
                  </a:lnTo>
                  <a:lnTo>
                    <a:pt x="128" y="42"/>
                  </a:lnTo>
                  <a:lnTo>
                    <a:pt x="125" y="40"/>
                  </a:lnTo>
                  <a:lnTo>
                    <a:pt x="122" y="36"/>
                  </a:lnTo>
                  <a:lnTo>
                    <a:pt x="122" y="29"/>
                  </a:lnTo>
                  <a:lnTo>
                    <a:pt x="120" y="21"/>
                  </a:lnTo>
                  <a:lnTo>
                    <a:pt x="111" y="14"/>
                  </a:lnTo>
                  <a:lnTo>
                    <a:pt x="102" y="10"/>
                  </a:lnTo>
                  <a:lnTo>
                    <a:pt x="96" y="9"/>
                  </a:lnTo>
                  <a:lnTo>
                    <a:pt x="91" y="7"/>
                  </a:lnTo>
                  <a:lnTo>
                    <a:pt x="83" y="7"/>
                  </a:lnTo>
                  <a:lnTo>
                    <a:pt x="73" y="6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55" y="3"/>
                  </a:lnTo>
                  <a:lnTo>
                    <a:pt x="59" y="10"/>
                  </a:lnTo>
                  <a:lnTo>
                    <a:pt x="62" y="17"/>
                  </a:lnTo>
                  <a:lnTo>
                    <a:pt x="63" y="22"/>
                  </a:lnTo>
                  <a:lnTo>
                    <a:pt x="61" y="2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7920" y="5638680"/>
              <a:ext cx="368280" cy="8100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203" y="15"/>
                  </a:moveTo>
                  <a:lnTo>
                    <a:pt x="204" y="15"/>
                  </a:lnTo>
                  <a:lnTo>
                    <a:pt x="210" y="17"/>
                  </a:lnTo>
                  <a:lnTo>
                    <a:pt x="215" y="19"/>
                  </a:lnTo>
                  <a:lnTo>
                    <a:pt x="221" y="25"/>
                  </a:lnTo>
                  <a:lnTo>
                    <a:pt x="226" y="32"/>
                  </a:lnTo>
                  <a:lnTo>
                    <a:pt x="232" y="40"/>
                  </a:lnTo>
                  <a:lnTo>
                    <a:pt x="232" y="47"/>
                  </a:lnTo>
                  <a:lnTo>
                    <a:pt x="222" y="48"/>
                  </a:lnTo>
                  <a:lnTo>
                    <a:pt x="215" y="47"/>
                  </a:lnTo>
                  <a:lnTo>
                    <a:pt x="208" y="45"/>
                  </a:lnTo>
                  <a:lnTo>
                    <a:pt x="204" y="45"/>
                  </a:lnTo>
                  <a:lnTo>
                    <a:pt x="199" y="44"/>
                  </a:lnTo>
                  <a:lnTo>
                    <a:pt x="194" y="44"/>
                  </a:lnTo>
                  <a:lnTo>
                    <a:pt x="190" y="43"/>
                  </a:lnTo>
                  <a:lnTo>
                    <a:pt x="186" y="43"/>
                  </a:lnTo>
                  <a:lnTo>
                    <a:pt x="181" y="41"/>
                  </a:lnTo>
                  <a:lnTo>
                    <a:pt x="170" y="40"/>
                  </a:lnTo>
                  <a:lnTo>
                    <a:pt x="159" y="36"/>
                  </a:lnTo>
                  <a:lnTo>
                    <a:pt x="149" y="34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40"/>
                  </a:lnTo>
                  <a:lnTo>
                    <a:pt x="127" y="44"/>
                  </a:lnTo>
                  <a:lnTo>
                    <a:pt x="123" y="47"/>
                  </a:lnTo>
                  <a:lnTo>
                    <a:pt x="116" y="48"/>
                  </a:lnTo>
                  <a:lnTo>
                    <a:pt x="109" y="51"/>
                  </a:lnTo>
                  <a:lnTo>
                    <a:pt x="102" y="51"/>
                  </a:lnTo>
                  <a:lnTo>
                    <a:pt x="93" y="50"/>
                  </a:lnTo>
                  <a:lnTo>
                    <a:pt x="84" y="48"/>
                  </a:lnTo>
                  <a:lnTo>
                    <a:pt x="76" y="48"/>
                  </a:lnTo>
                  <a:lnTo>
                    <a:pt x="69" y="48"/>
                  </a:lnTo>
                  <a:lnTo>
                    <a:pt x="64" y="48"/>
                  </a:lnTo>
                  <a:lnTo>
                    <a:pt x="57" y="50"/>
                  </a:lnTo>
                  <a:lnTo>
                    <a:pt x="50" y="48"/>
                  </a:lnTo>
                  <a:lnTo>
                    <a:pt x="43" y="48"/>
                  </a:lnTo>
                  <a:lnTo>
                    <a:pt x="35" y="45"/>
                  </a:lnTo>
                  <a:lnTo>
                    <a:pt x="26" y="43"/>
                  </a:lnTo>
                  <a:lnTo>
                    <a:pt x="18" y="40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30"/>
                  </a:lnTo>
                  <a:lnTo>
                    <a:pt x="11" y="28"/>
                  </a:lnTo>
                  <a:lnTo>
                    <a:pt x="17" y="23"/>
                  </a:lnTo>
                  <a:lnTo>
                    <a:pt x="17" y="19"/>
                  </a:lnTo>
                  <a:lnTo>
                    <a:pt x="13" y="17"/>
                  </a:lnTo>
                  <a:lnTo>
                    <a:pt x="8" y="12"/>
                  </a:lnTo>
                  <a:lnTo>
                    <a:pt x="8" y="6"/>
                  </a:lnTo>
                  <a:lnTo>
                    <a:pt x="13" y="0"/>
                  </a:lnTo>
                  <a:lnTo>
                    <a:pt x="21" y="1"/>
                  </a:lnTo>
                  <a:lnTo>
                    <a:pt x="31" y="4"/>
                  </a:lnTo>
                  <a:lnTo>
                    <a:pt x="39" y="7"/>
                  </a:lnTo>
                  <a:lnTo>
                    <a:pt x="46" y="7"/>
                  </a:lnTo>
                  <a:lnTo>
                    <a:pt x="53" y="8"/>
                  </a:lnTo>
                  <a:lnTo>
                    <a:pt x="61" y="11"/>
                  </a:lnTo>
                  <a:lnTo>
                    <a:pt x="70" y="15"/>
                  </a:lnTo>
                  <a:lnTo>
                    <a:pt x="79" y="19"/>
                  </a:lnTo>
                  <a:lnTo>
                    <a:pt x="87" y="22"/>
                  </a:lnTo>
                  <a:lnTo>
                    <a:pt x="94" y="22"/>
                  </a:lnTo>
                  <a:lnTo>
                    <a:pt x="101" y="19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0" y="4"/>
                  </a:lnTo>
                  <a:lnTo>
                    <a:pt x="124" y="4"/>
                  </a:lnTo>
                  <a:lnTo>
                    <a:pt x="130" y="6"/>
                  </a:lnTo>
                  <a:lnTo>
                    <a:pt x="134" y="8"/>
                  </a:lnTo>
                  <a:lnTo>
                    <a:pt x="142" y="10"/>
                  </a:lnTo>
                  <a:lnTo>
                    <a:pt x="155" y="7"/>
                  </a:lnTo>
                  <a:lnTo>
                    <a:pt x="166" y="6"/>
                  </a:lnTo>
                  <a:lnTo>
                    <a:pt x="174" y="7"/>
                  </a:lnTo>
                  <a:lnTo>
                    <a:pt x="181" y="11"/>
                  </a:lnTo>
                  <a:lnTo>
                    <a:pt x="190" y="12"/>
                  </a:lnTo>
                  <a:lnTo>
                    <a:pt x="199" y="15"/>
                  </a:lnTo>
                  <a:lnTo>
                    <a:pt x="203" y="1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91240" y="583416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32" y="5"/>
                  </a:moveTo>
                  <a:lnTo>
                    <a:pt x="36" y="4"/>
                  </a:lnTo>
                  <a:lnTo>
                    <a:pt x="44" y="4"/>
                  </a:lnTo>
                  <a:lnTo>
                    <a:pt x="54" y="5"/>
                  </a:lnTo>
                  <a:lnTo>
                    <a:pt x="59" y="9"/>
                  </a:lnTo>
                  <a:lnTo>
                    <a:pt x="61" y="18"/>
                  </a:lnTo>
                  <a:lnTo>
                    <a:pt x="59" y="24"/>
                  </a:lnTo>
                  <a:lnTo>
                    <a:pt x="52" y="30"/>
                  </a:lnTo>
                  <a:lnTo>
                    <a:pt x="40" y="33"/>
                  </a:lnTo>
                  <a:lnTo>
                    <a:pt x="28" y="33"/>
                  </a:lnTo>
                  <a:lnTo>
                    <a:pt x="21" y="30"/>
                  </a:lnTo>
                  <a:lnTo>
                    <a:pt x="16" y="27"/>
                  </a:lnTo>
                  <a:lnTo>
                    <a:pt x="12" y="23"/>
                  </a:lnTo>
                  <a:lnTo>
                    <a:pt x="5" y="16"/>
                  </a:lnTo>
                  <a:lnTo>
                    <a:pt x="1" y="7"/>
                  </a:lnTo>
                  <a:lnTo>
                    <a:pt x="0" y="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19" y="5"/>
                  </a:lnTo>
                  <a:lnTo>
                    <a:pt x="25" y="7"/>
                  </a:lnTo>
                  <a:lnTo>
                    <a:pt x="32" y="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73560" y="5818320"/>
              <a:ext cx="284400" cy="99720"/>
            </a:xfrm>
            <a:custGeom>
              <a:avLst/>
              <a:gdLst/>
              <a:ahLst/>
              <a:rect l="l" t="t" r="r" b="b"/>
              <a:pathLst>
                <a:path w="179" h="63">
                  <a:moveTo>
                    <a:pt x="179" y="61"/>
                  </a:moveTo>
                  <a:lnTo>
                    <a:pt x="179" y="58"/>
                  </a:lnTo>
                  <a:lnTo>
                    <a:pt x="175" y="51"/>
                  </a:lnTo>
                  <a:lnTo>
                    <a:pt x="164" y="43"/>
                  </a:lnTo>
                  <a:lnTo>
                    <a:pt x="143" y="34"/>
                  </a:lnTo>
                  <a:lnTo>
                    <a:pt x="132" y="32"/>
                  </a:lnTo>
                  <a:lnTo>
                    <a:pt x="123" y="29"/>
                  </a:lnTo>
                  <a:lnTo>
                    <a:pt x="114" y="26"/>
                  </a:lnTo>
                  <a:lnTo>
                    <a:pt x="108" y="25"/>
                  </a:lnTo>
                  <a:lnTo>
                    <a:pt x="102" y="23"/>
                  </a:lnTo>
                  <a:lnTo>
                    <a:pt x="98" y="22"/>
                  </a:lnTo>
                  <a:lnTo>
                    <a:pt x="94" y="21"/>
                  </a:lnTo>
                  <a:lnTo>
                    <a:pt x="88" y="19"/>
                  </a:lnTo>
                  <a:lnTo>
                    <a:pt x="79" y="15"/>
                  </a:lnTo>
                  <a:lnTo>
                    <a:pt x="72" y="11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8" y="5"/>
                  </a:lnTo>
                  <a:lnTo>
                    <a:pt x="43" y="4"/>
                  </a:lnTo>
                  <a:lnTo>
                    <a:pt x="36" y="3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1" y="3"/>
                  </a:lnTo>
                  <a:lnTo>
                    <a:pt x="0" y="8"/>
                  </a:lnTo>
                  <a:lnTo>
                    <a:pt x="10" y="15"/>
                  </a:lnTo>
                  <a:lnTo>
                    <a:pt x="22" y="21"/>
                  </a:lnTo>
                  <a:lnTo>
                    <a:pt x="29" y="25"/>
                  </a:lnTo>
                  <a:lnTo>
                    <a:pt x="33" y="28"/>
                  </a:lnTo>
                  <a:lnTo>
                    <a:pt x="41" y="29"/>
                  </a:lnTo>
                  <a:lnTo>
                    <a:pt x="51" y="28"/>
                  </a:lnTo>
                  <a:lnTo>
                    <a:pt x="59" y="28"/>
                  </a:lnTo>
                  <a:lnTo>
                    <a:pt x="68" y="29"/>
                  </a:lnTo>
                  <a:lnTo>
                    <a:pt x="74" y="33"/>
                  </a:lnTo>
                  <a:lnTo>
                    <a:pt x="80" y="39"/>
                  </a:lnTo>
                  <a:lnTo>
                    <a:pt x="85" y="41"/>
                  </a:lnTo>
                  <a:lnTo>
                    <a:pt x="91" y="43"/>
                  </a:lnTo>
                  <a:lnTo>
                    <a:pt x="102" y="43"/>
                  </a:lnTo>
                  <a:lnTo>
                    <a:pt x="108" y="43"/>
                  </a:lnTo>
                  <a:lnTo>
                    <a:pt x="113" y="43"/>
                  </a:lnTo>
                  <a:lnTo>
                    <a:pt x="119" y="43"/>
                  </a:lnTo>
                  <a:lnTo>
                    <a:pt x="123" y="44"/>
                  </a:lnTo>
                  <a:lnTo>
                    <a:pt x="127" y="45"/>
                  </a:lnTo>
                  <a:lnTo>
                    <a:pt x="131" y="47"/>
                  </a:lnTo>
                  <a:lnTo>
                    <a:pt x="136" y="50"/>
                  </a:lnTo>
                  <a:lnTo>
                    <a:pt x="143" y="52"/>
                  </a:lnTo>
                  <a:lnTo>
                    <a:pt x="156" y="58"/>
                  </a:lnTo>
                  <a:lnTo>
                    <a:pt x="165" y="62"/>
                  </a:lnTo>
                  <a:lnTo>
                    <a:pt x="174" y="63"/>
                  </a:lnTo>
                  <a:lnTo>
                    <a:pt x="179" y="6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6640" y="5859360"/>
              <a:ext cx="55440" cy="46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5" y="26"/>
                  </a:moveTo>
                  <a:lnTo>
                    <a:pt x="33" y="24"/>
                  </a:lnTo>
                  <a:lnTo>
                    <a:pt x="29" y="17"/>
                  </a:lnTo>
                  <a:lnTo>
                    <a:pt x="24" y="10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21" y="25"/>
                  </a:lnTo>
                  <a:lnTo>
                    <a:pt x="29" y="29"/>
                  </a:lnTo>
                  <a:lnTo>
                    <a:pt x="35" y="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68800" y="52894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0" y="1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59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74880" y="1844640"/>
              <a:ext cx="3971880" cy="3448080"/>
            </a:xfrm>
            <a:custGeom>
              <a:avLst/>
              <a:gdLst/>
              <a:ahLst/>
              <a:rect l="l" t="t" r="r" b="b"/>
              <a:pathLst>
                <a:path w="2502" h="2172">
                  <a:moveTo>
                    <a:pt x="2066" y="869"/>
                  </a:moveTo>
                  <a:lnTo>
                    <a:pt x="2068" y="871"/>
                  </a:lnTo>
                  <a:lnTo>
                    <a:pt x="2073" y="875"/>
                  </a:lnTo>
                  <a:lnTo>
                    <a:pt x="2080" y="879"/>
                  </a:lnTo>
                  <a:lnTo>
                    <a:pt x="2088" y="884"/>
                  </a:lnTo>
                  <a:lnTo>
                    <a:pt x="2097" y="889"/>
                  </a:lnTo>
                  <a:lnTo>
                    <a:pt x="2106" y="890"/>
                  </a:lnTo>
                  <a:lnTo>
                    <a:pt x="2116" y="890"/>
                  </a:lnTo>
                  <a:lnTo>
                    <a:pt x="2123" y="884"/>
                  </a:lnTo>
                  <a:lnTo>
                    <a:pt x="2130" y="879"/>
                  </a:lnTo>
                  <a:lnTo>
                    <a:pt x="2137" y="876"/>
                  </a:lnTo>
                  <a:lnTo>
                    <a:pt x="2145" y="876"/>
                  </a:lnTo>
                  <a:lnTo>
                    <a:pt x="2152" y="879"/>
                  </a:lnTo>
                  <a:lnTo>
                    <a:pt x="2159" y="883"/>
                  </a:lnTo>
                  <a:lnTo>
                    <a:pt x="2165" y="889"/>
                  </a:lnTo>
                  <a:lnTo>
                    <a:pt x="2172" y="895"/>
                  </a:lnTo>
                  <a:lnTo>
                    <a:pt x="2179" y="904"/>
                  </a:lnTo>
                  <a:lnTo>
                    <a:pt x="2192" y="919"/>
                  </a:lnTo>
                  <a:lnTo>
                    <a:pt x="2200" y="931"/>
                  </a:lnTo>
                  <a:lnTo>
                    <a:pt x="2204" y="945"/>
                  </a:lnTo>
                  <a:lnTo>
                    <a:pt x="2205" y="960"/>
                  </a:lnTo>
                  <a:lnTo>
                    <a:pt x="2207" y="968"/>
                  </a:lnTo>
                  <a:lnTo>
                    <a:pt x="2211" y="978"/>
                  </a:lnTo>
                  <a:lnTo>
                    <a:pt x="2216" y="986"/>
                  </a:lnTo>
                  <a:lnTo>
                    <a:pt x="2225" y="995"/>
                  </a:lnTo>
                  <a:lnTo>
                    <a:pt x="2233" y="1003"/>
                  </a:lnTo>
                  <a:lnTo>
                    <a:pt x="2244" y="1010"/>
                  </a:lnTo>
                  <a:lnTo>
                    <a:pt x="2255" y="1014"/>
                  </a:lnTo>
                  <a:lnTo>
                    <a:pt x="2266" y="1017"/>
                  </a:lnTo>
                  <a:lnTo>
                    <a:pt x="2277" y="1017"/>
                  </a:lnTo>
                  <a:lnTo>
                    <a:pt x="2287" y="1017"/>
                  </a:lnTo>
                  <a:lnTo>
                    <a:pt x="2296" y="1015"/>
                  </a:lnTo>
                  <a:lnTo>
                    <a:pt x="2305" y="1012"/>
                  </a:lnTo>
                  <a:lnTo>
                    <a:pt x="2313" y="1010"/>
                  </a:lnTo>
                  <a:lnTo>
                    <a:pt x="2320" y="1006"/>
                  </a:lnTo>
                  <a:lnTo>
                    <a:pt x="2325" y="1000"/>
                  </a:lnTo>
                  <a:lnTo>
                    <a:pt x="2329" y="993"/>
                  </a:lnTo>
                  <a:lnTo>
                    <a:pt x="2336" y="988"/>
                  </a:lnTo>
                  <a:lnTo>
                    <a:pt x="2345" y="982"/>
                  </a:lnTo>
                  <a:lnTo>
                    <a:pt x="2356" y="978"/>
                  </a:lnTo>
                  <a:lnTo>
                    <a:pt x="2368" y="974"/>
                  </a:lnTo>
                  <a:lnTo>
                    <a:pt x="2378" y="968"/>
                  </a:lnTo>
                  <a:lnTo>
                    <a:pt x="2385" y="962"/>
                  </a:lnTo>
                  <a:lnTo>
                    <a:pt x="2389" y="953"/>
                  </a:lnTo>
                  <a:lnTo>
                    <a:pt x="2386" y="941"/>
                  </a:lnTo>
                  <a:lnTo>
                    <a:pt x="2375" y="908"/>
                  </a:lnTo>
                  <a:lnTo>
                    <a:pt x="2368" y="869"/>
                  </a:lnTo>
                  <a:lnTo>
                    <a:pt x="2372" y="839"/>
                  </a:lnTo>
                  <a:lnTo>
                    <a:pt x="2390" y="828"/>
                  </a:lnTo>
                  <a:lnTo>
                    <a:pt x="2405" y="829"/>
                  </a:lnTo>
                  <a:lnTo>
                    <a:pt x="2422" y="831"/>
                  </a:lnTo>
                  <a:lnTo>
                    <a:pt x="2438" y="831"/>
                  </a:lnTo>
                  <a:lnTo>
                    <a:pt x="2455" y="829"/>
                  </a:lnTo>
                  <a:lnTo>
                    <a:pt x="2470" y="828"/>
                  </a:lnTo>
                  <a:lnTo>
                    <a:pt x="2484" y="822"/>
                  </a:lnTo>
                  <a:lnTo>
                    <a:pt x="2493" y="815"/>
                  </a:lnTo>
                  <a:lnTo>
                    <a:pt x="2499" y="806"/>
                  </a:lnTo>
                  <a:lnTo>
                    <a:pt x="2500" y="802"/>
                  </a:lnTo>
                  <a:lnTo>
                    <a:pt x="2500" y="798"/>
                  </a:lnTo>
                  <a:lnTo>
                    <a:pt x="2502" y="793"/>
                  </a:lnTo>
                  <a:lnTo>
                    <a:pt x="2502" y="791"/>
                  </a:lnTo>
                  <a:lnTo>
                    <a:pt x="2500" y="778"/>
                  </a:lnTo>
                  <a:lnTo>
                    <a:pt x="2493" y="769"/>
                  </a:lnTo>
                  <a:lnTo>
                    <a:pt x="2482" y="763"/>
                  </a:lnTo>
                  <a:lnTo>
                    <a:pt x="2464" y="760"/>
                  </a:lnTo>
                  <a:lnTo>
                    <a:pt x="2453" y="759"/>
                  </a:lnTo>
                  <a:lnTo>
                    <a:pt x="2445" y="756"/>
                  </a:lnTo>
                  <a:lnTo>
                    <a:pt x="2438" y="752"/>
                  </a:lnTo>
                  <a:lnTo>
                    <a:pt x="2433" y="748"/>
                  </a:lnTo>
                  <a:lnTo>
                    <a:pt x="2426" y="745"/>
                  </a:lnTo>
                  <a:lnTo>
                    <a:pt x="2419" y="741"/>
                  </a:lnTo>
                  <a:lnTo>
                    <a:pt x="2409" y="740"/>
                  </a:lnTo>
                  <a:lnTo>
                    <a:pt x="2397" y="738"/>
                  </a:lnTo>
                  <a:lnTo>
                    <a:pt x="2385" y="737"/>
                  </a:lnTo>
                  <a:lnTo>
                    <a:pt x="2375" y="731"/>
                  </a:lnTo>
                  <a:lnTo>
                    <a:pt x="2368" y="725"/>
                  </a:lnTo>
                  <a:lnTo>
                    <a:pt x="2361" y="718"/>
                  </a:lnTo>
                  <a:lnTo>
                    <a:pt x="2356" y="709"/>
                  </a:lnTo>
                  <a:lnTo>
                    <a:pt x="2349" y="701"/>
                  </a:lnTo>
                  <a:lnTo>
                    <a:pt x="2342" y="696"/>
                  </a:lnTo>
                  <a:lnTo>
                    <a:pt x="2334" y="693"/>
                  </a:lnTo>
                  <a:lnTo>
                    <a:pt x="2332" y="692"/>
                  </a:lnTo>
                  <a:lnTo>
                    <a:pt x="2331" y="686"/>
                  </a:lnTo>
                  <a:lnTo>
                    <a:pt x="2328" y="679"/>
                  </a:lnTo>
                  <a:lnTo>
                    <a:pt x="2327" y="671"/>
                  </a:lnTo>
                  <a:lnTo>
                    <a:pt x="2325" y="663"/>
                  </a:lnTo>
                  <a:lnTo>
                    <a:pt x="2323" y="656"/>
                  </a:lnTo>
                  <a:lnTo>
                    <a:pt x="2321" y="650"/>
                  </a:lnTo>
                  <a:lnTo>
                    <a:pt x="2327" y="645"/>
                  </a:lnTo>
                  <a:lnTo>
                    <a:pt x="2332" y="641"/>
                  </a:lnTo>
                  <a:lnTo>
                    <a:pt x="2338" y="636"/>
                  </a:lnTo>
                  <a:lnTo>
                    <a:pt x="2343" y="631"/>
                  </a:lnTo>
                  <a:lnTo>
                    <a:pt x="2349" y="625"/>
                  </a:lnTo>
                  <a:lnTo>
                    <a:pt x="2351" y="619"/>
                  </a:lnTo>
                  <a:lnTo>
                    <a:pt x="2351" y="610"/>
                  </a:lnTo>
                  <a:lnTo>
                    <a:pt x="2349" y="602"/>
                  </a:lnTo>
                  <a:lnTo>
                    <a:pt x="2340" y="592"/>
                  </a:lnTo>
                  <a:lnTo>
                    <a:pt x="2331" y="584"/>
                  </a:lnTo>
                  <a:lnTo>
                    <a:pt x="2323" y="577"/>
                  </a:lnTo>
                  <a:lnTo>
                    <a:pt x="2316" y="574"/>
                  </a:lnTo>
                  <a:lnTo>
                    <a:pt x="2309" y="572"/>
                  </a:lnTo>
                  <a:lnTo>
                    <a:pt x="2303" y="572"/>
                  </a:lnTo>
                  <a:lnTo>
                    <a:pt x="2299" y="573"/>
                  </a:lnTo>
                  <a:lnTo>
                    <a:pt x="2295" y="576"/>
                  </a:lnTo>
                  <a:lnTo>
                    <a:pt x="2292" y="580"/>
                  </a:lnTo>
                  <a:lnTo>
                    <a:pt x="2287" y="584"/>
                  </a:lnTo>
                  <a:lnTo>
                    <a:pt x="2283" y="581"/>
                  </a:lnTo>
                  <a:lnTo>
                    <a:pt x="2283" y="570"/>
                  </a:lnTo>
                  <a:lnTo>
                    <a:pt x="2285" y="554"/>
                  </a:lnTo>
                  <a:lnTo>
                    <a:pt x="2289" y="537"/>
                  </a:lnTo>
                  <a:lnTo>
                    <a:pt x="2292" y="522"/>
                  </a:lnTo>
                  <a:lnTo>
                    <a:pt x="2292" y="510"/>
                  </a:lnTo>
                  <a:lnTo>
                    <a:pt x="2288" y="495"/>
                  </a:lnTo>
                  <a:lnTo>
                    <a:pt x="2287" y="478"/>
                  </a:lnTo>
                  <a:lnTo>
                    <a:pt x="2288" y="463"/>
                  </a:lnTo>
                  <a:lnTo>
                    <a:pt x="2284" y="444"/>
                  </a:lnTo>
                  <a:lnTo>
                    <a:pt x="2266" y="419"/>
                  </a:lnTo>
                  <a:lnTo>
                    <a:pt x="2254" y="406"/>
                  </a:lnTo>
                  <a:lnTo>
                    <a:pt x="2243" y="395"/>
                  </a:lnTo>
                  <a:lnTo>
                    <a:pt x="2234" y="387"/>
                  </a:lnTo>
                  <a:lnTo>
                    <a:pt x="2226" y="380"/>
                  </a:lnTo>
                  <a:lnTo>
                    <a:pt x="2218" y="376"/>
                  </a:lnTo>
                  <a:lnTo>
                    <a:pt x="2208" y="373"/>
                  </a:lnTo>
                  <a:lnTo>
                    <a:pt x="2197" y="371"/>
                  </a:lnTo>
                  <a:lnTo>
                    <a:pt x="2183" y="371"/>
                  </a:lnTo>
                  <a:lnTo>
                    <a:pt x="2170" y="371"/>
                  </a:lnTo>
                  <a:lnTo>
                    <a:pt x="2159" y="372"/>
                  </a:lnTo>
                  <a:lnTo>
                    <a:pt x="2149" y="373"/>
                  </a:lnTo>
                  <a:lnTo>
                    <a:pt x="2143" y="376"/>
                  </a:lnTo>
                  <a:lnTo>
                    <a:pt x="2138" y="380"/>
                  </a:lnTo>
                  <a:lnTo>
                    <a:pt x="2134" y="386"/>
                  </a:lnTo>
                  <a:lnTo>
                    <a:pt x="2130" y="394"/>
                  </a:lnTo>
                  <a:lnTo>
                    <a:pt x="2127" y="404"/>
                  </a:lnTo>
                  <a:lnTo>
                    <a:pt x="2121" y="423"/>
                  </a:lnTo>
                  <a:lnTo>
                    <a:pt x="2114" y="435"/>
                  </a:lnTo>
                  <a:lnTo>
                    <a:pt x="2106" y="442"/>
                  </a:lnTo>
                  <a:lnTo>
                    <a:pt x="2097" y="445"/>
                  </a:lnTo>
                  <a:lnTo>
                    <a:pt x="2091" y="446"/>
                  </a:lnTo>
                  <a:lnTo>
                    <a:pt x="2086" y="449"/>
                  </a:lnTo>
                  <a:lnTo>
                    <a:pt x="2080" y="453"/>
                  </a:lnTo>
                  <a:lnTo>
                    <a:pt x="2075" y="457"/>
                  </a:lnTo>
                  <a:lnTo>
                    <a:pt x="2068" y="461"/>
                  </a:lnTo>
                  <a:lnTo>
                    <a:pt x="2059" y="464"/>
                  </a:lnTo>
                  <a:lnTo>
                    <a:pt x="2051" y="466"/>
                  </a:lnTo>
                  <a:lnTo>
                    <a:pt x="2040" y="464"/>
                  </a:lnTo>
                  <a:lnTo>
                    <a:pt x="2028" y="461"/>
                  </a:lnTo>
                  <a:lnTo>
                    <a:pt x="2011" y="457"/>
                  </a:lnTo>
                  <a:lnTo>
                    <a:pt x="1995" y="452"/>
                  </a:lnTo>
                  <a:lnTo>
                    <a:pt x="1975" y="448"/>
                  </a:lnTo>
                  <a:lnTo>
                    <a:pt x="1956" y="445"/>
                  </a:lnTo>
                  <a:lnTo>
                    <a:pt x="1938" y="442"/>
                  </a:lnTo>
                  <a:lnTo>
                    <a:pt x="1923" y="442"/>
                  </a:lnTo>
                  <a:lnTo>
                    <a:pt x="1909" y="445"/>
                  </a:lnTo>
                  <a:lnTo>
                    <a:pt x="1900" y="448"/>
                  </a:lnTo>
                  <a:lnTo>
                    <a:pt x="1891" y="448"/>
                  </a:lnTo>
                  <a:lnTo>
                    <a:pt x="1886" y="446"/>
                  </a:lnTo>
                  <a:lnTo>
                    <a:pt x="1880" y="444"/>
                  </a:lnTo>
                  <a:lnTo>
                    <a:pt x="1875" y="441"/>
                  </a:lnTo>
                  <a:lnTo>
                    <a:pt x="1867" y="439"/>
                  </a:lnTo>
                  <a:lnTo>
                    <a:pt x="1858" y="439"/>
                  </a:lnTo>
                  <a:lnTo>
                    <a:pt x="1846" y="442"/>
                  </a:lnTo>
                  <a:lnTo>
                    <a:pt x="1833" y="445"/>
                  </a:lnTo>
                  <a:lnTo>
                    <a:pt x="1824" y="444"/>
                  </a:lnTo>
                  <a:lnTo>
                    <a:pt x="1817" y="441"/>
                  </a:lnTo>
                  <a:lnTo>
                    <a:pt x="1810" y="435"/>
                  </a:lnTo>
                  <a:lnTo>
                    <a:pt x="1805" y="430"/>
                  </a:lnTo>
                  <a:lnTo>
                    <a:pt x="1798" y="424"/>
                  </a:lnTo>
                  <a:lnTo>
                    <a:pt x="1789" y="420"/>
                  </a:lnTo>
                  <a:lnTo>
                    <a:pt x="1778" y="416"/>
                  </a:lnTo>
                  <a:lnTo>
                    <a:pt x="1766" y="411"/>
                  </a:lnTo>
                  <a:lnTo>
                    <a:pt x="1755" y="402"/>
                  </a:lnTo>
                  <a:lnTo>
                    <a:pt x="1744" y="390"/>
                  </a:lnTo>
                  <a:lnTo>
                    <a:pt x="1731" y="377"/>
                  </a:lnTo>
                  <a:lnTo>
                    <a:pt x="1716" y="366"/>
                  </a:lnTo>
                  <a:lnTo>
                    <a:pt x="1698" y="355"/>
                  </a:lnTo>
                  <a:lnTo>
                    <a:pt x="1676" y="349"/>
                  </a:lnTo>
                  <a:lnTo>
                    <a:pt x="1650" y="344"/>
                  </a:lnTo>
                  <a:lnTo>
                    <a:pt x="1625" y="342"/>
                  </a:lnTo>
                  <a:lnTo>
                    <a:pt x="1609" y="337"/>
                  </a:lnTo>
                  <a:lnTo>
                    <a:pt x="1598" y="331"/>
                  </a:lnTo>
                  <a:lnTo>
                    <a:pt x="1591" y="322"/>
                  </a:lnTo>
                  <a:lnTo>
                    <a:pt x="1587" y="313"/>
                  </a:lnTo>
                  <a:lnTo>
                    <a:pt x="1581" y="300"/>
                  </a:lnTo>
                  <a:lnTo>
                    <a:pt x="1573" y="288"/>
                  </a:lnTo>
                  <a:lnTo>
                    <a:pt x="1561" y="273"/>
                  </a:lnTo>
                  <a:lnTo>
                    <a:pt x="1548" y="259"/>
                  </a:lnTo>
                  <a:lnTo>
                    <a:pt x="1539" y="248"/>
                  </a:lnTo>
                  <a:lnTo>
                    <a:pt x="1532" y="238"/>
                  </a:lnTo>
                  <a:lnTo>
                    <a:pt x="1526" y="230"/>
                  </a:lnTo>
                  <a:lnTo>
                    <a:pt x="1519" y="223"/>
                  </a:lnTo>
                  <a:lnTo>
                    <a:pt x="1510" y="216"/>
                  </a:lnTo>
                  <a:lnTo>
                    <a:pt x="1497" y="209"/>
                  </a:lnTo>
                  <a:lnTo>
                    <a:pt x="1478" y="201"/>
                  </a:lnTo>
                  <a:lnTo>
                    <a:pt x="1459" y="193"/>
                  </a:lnTo>
                  <a:lnTo>
                    <a:pt x="1445" y="182"/>
                  </a:lnTo>
                  <a:lnTo>
                    <a:pt x="1435" y="172"/>
                  </a:lnTo>
                  <a:lnTo>
                    <a:pt x="1430" y="161"/>
                  </a:lnTo>
                  <a:lnTo>
                    <a:pt x="1426" y="152"/>
                  </a:lnTo>
                  <a:lnTo>
                    <a:pt x="1423" y="142"/>
                  </a:lnTo>
                  <a:lnTo>
                    <a:pt x="1420" y="134"/>
                  </a:lnTo>
                  <a:lnTo>
                    <a:pt x="1417" y="127"/>
                  </a:lnTo>
                  <a:lnTo>
                    <a:pt x="1413" y="121"/>
                  </a:lnTo>
                  <a:lnTo>
                    <a:pt x="1408" y="114"/>
                  </a:lnTo>
                  <a:lnTo>
                    <a:pt x="1404" y="107"/>
                  </a:lnTo>
                  <a:lnTo>
                    <a:pt x="1398" y="102"/>
                  </a:lnTo>
                  <a:lnTo>
                    <a:pt x="1391" y="95"/>
                  </a:lnTo>
                  <a:lnTo>
                    <a:pt x="1384" y="91"/>
                  </a:lnTo>
                  <a:lnTo>
                    <a:pt x="1377" y="87"/>
                  </a:lnTo>
                  <a:lnTo>
                    <a:pt x="1369" y="85"/>
                  </a:lnTo>
                  <a:lnTo>
                    <a:pt x="1361" y="83"/>
                  </a:lnTo>
                  <a:lnTo>
                    <a:pt x="1354" y="79"/>
                  </a:lnTo>
                  <a:lnTo>
                    <a:pt x="1347" y="72"/>
                  </a:lnTo>
                  <a:lnTo>
                    <a:pt x="1339" y="65"/>
                  </a:lnTo>
                  <a:lnTo>
                    <a:pt x="1331" y="58"/>
                  </a:lnTo>
                  <a:lnTo>
                    <a:pt x="1320" y="51"/>
                  </a:lnTo>
                  <a:lnTo>
                    <a:pt x="1306" y="45"/>
                  </a:lnTo>
                  <a:lnTo>
                    <a:pt x="1289" y="40"/>
                  </a:lnTo>
                  <a:lnTo>
                    <a:pt x="1275" y="36"/>
                  </a:lnTo>
                  <a:lnTo>
                    <a:pt x="1263" y="30"/>
                  </a:lnTo>
                  <a:lnTo>
                    <a:pt x="1252" y="23"/>
                  </a:lnTo>
                  <a:lnTo>
                    <a:pt x="1241" y="17"/>
                  </a:lnTo>
                  <a:lnTo>
                    <a:pt x="1230" y="10"/>
                  </a:lnTo>
                  <a:lnTo>
                    <a:pt x="1220" y="6"/>
                  </a:lnTo>
                  <a:lnTo>
                    <a:pt x="1211" y="1"/>
                  </a:lnTo>
                  <a:lnTo>
                    <a:pt x="1200" y="0"/>
                  </a:lnTo>
                  <a:lnTo>
                    <a:pt x="1194" y="0"/>
                  </a:lnTo>
                  <a:lnTo>
                    <a:pt x="1189" y="1"/>
                  </a:lnTo>
                  <a:lnTo>
                    <a:pt x="1183" y="3"/>
                  </a:lnTo>
                  <a:lnTo>
                    <a:pt x="1178" y="6"/>
                  </a:lnTo>
                  <a:lnTo>
                    <a:pt x="1165" y="14"/>
                  </a:lnTo>
                  <a:lnTo>
                    <a:pt x="1157" y="23"/>
                  </a:lnTo>
                  <a:lnTo>
                    <a:pt x="1151" y="32"/>
                  </a:lnTo>
                  <a:lnTo>
                    <a:pt x="1150" y="40"/>
                  </a:lnTo>
                  <a:lnTo>
                    <a:pt x="1150" y="48"/>
                  </a:lnTo>
                  <a:lnTo>
                    <a:pt x="1150" y="56"/>
                  </a:lnTo>
                  <a:lnTo>
                    <a:pt x="1150" y="66"/>
                  </a:lnTo>
                  <a:lnTo>
                    <a:pt x="1150" y="74"/>
                  </a:lnTo>
                  <a:lnTo>
                    <a:pt x="1147" y="88"/>
                  </a:lnTo>
                  <a:lnTo>
                    <a:pt x="1143" y="95"/>
                  </a:lnTo>
                  <a:lnTo>
                    <a:pt x="1136" y="95"/>
                  </a:lnTo>
                  <a:lnTo>
                    <a:pt x="1124" y="88"/>
                  </a:lnTo>
                  <a:lnTo>
                    <a:pt x="1116" y="84"/>
                  </a:lnTo>
                  <a:lnTo>
                    <a:pt x="1107" y="83"/>
                  </a:lnTo>
                  <a:lnTo>
                    <a:pt x="1098" y="84"/>
                  </a:lnTo>
                  <a:lnTo>
                    <a:pt x="1088" y="87"/>
                  </a:lnTo>
                  <a:lnTo>
                    <a:pt x="1080" y="92"/>
                  </a:lnTo>
                  <a:lnTo>
                    <a:pt x="1073" y="98"/>
                  </a:lnTo>
                  <a:lnTo>
                    <a:pt x="1067" y="105"/>
                  </a:lnTo>
                  <a:lnTo>
                    <a:pt x="1066" y="112"/>
                  </a:lnTo>
                  <a:lnTo>
                    <a:pt x="1066" y="124"/>
                  </a:lnTo>
                  <a:lnTo>
                    <a:pt x="1065" y="135"/>
                  </a:lnTo>
                  <a:lnTo>
                    <a:pt x="1058" y="141"/>
                  </a:lnTo>
                  <a:lnTo>
                    <a:pt x="1043" y="142"/>
                  </a:lnTo>
                  <a:lnTo>
                    <a:pt x="1034" y="142"/>
                  </a:lnTo>
                  <a:lnTo>
                    <a:pt x="1027" y="143"/>
                  </a:lnTo>
                  <a:lnTo>
                    <a:pt x="1023" y="147"/>
                  </a:lnTo>
                  <a:lnTo>
                    <a:pt x="1019" y="152"/>
                  </a:lnTo>
                  <a:lnTo>
                    <a:pt x="1014" y="156"/>
                  </a:lnTo>
                  <a:lnTo>
                    <a:pt x="1010" y="160"/>
                  </a:lnTo>
                  <a:lnTo>
                    <a:pt x="1003" y="163"/>
                  </a:lnTo>
                  <a:lnTo>
                    <a:pt x="994" y="164"/>
                  </a:lnTo>
                  <a:lnTo>
                    <a:pt x="985" y="165"/>
                  </a:lnTo>
                  <a:lnTo>
                    <a:pt x="977" y="167"/>
                  </a:lnTo>
                  <a:lnTo>
                    <a:pt x="967" y="171"/>
                  </a:lnTo>
                  <a:lnTo>
                    <a:pt x="959" y="175"/>
                  </a:lnTo>
                  <a:lnTo>
                    <a:pt x="950" y="179"/>
                  </a:lnTo>
                  <a:lnTo>
                    <a:pt x="941" y="182"/>
                  </a:lnTo>
                  <a:lnTo>
                    <a:pt x="932" y="185"/>
                  </a:lnTo>
                  <a:lnTo>
                    <a:pt x="923" y="186"/>
                  </a:lnTo>
                  <a:lnTo>
                    <a:pt x="913" y="187"/>
                  </a:lnTo>
                  <a:lnTo>
                    <a:pt x="906" y="191"/>
                  </a:lnTo>
                  <a:lnTo>
                    <a:pt x="899" y="197"/>
                  </a:lnTo>
                  <a:lnTo>
                    <a:pt x="894" y="202"/>
                  </a:lnTo>
                  <a:lnTo>
                    <a:pt x="890" y="211"/>
                  </a:lnTo>
                  <a:lnTo>
                    <a:pt x="886" y="218"/>
                  </a:lnTo>
                  <a:lnTo>
                    <a:pt x="883" y="225"/>
                  </a:lnTo>
                  <a:lnTo>
                    <a:pt x="881" y="231"/>
                  </a:lnTo>
                  <a:lnTo>
                    <a:pt x="879" y="247"/>
                  </a:lnTo>
                  <a:lnTo>
                    <a:pt x="875" y="264"/>
                  </a:lnTo>
                  <a:lnTo>
                    <a:pt x="875" y="284"/>
                  </a:lnTo>
                  <a:lnTo>
                    <a:pt x="881" y="299"/>
                  </a:lnTo>
                  <a:lnTo>
                    <a:pt x="894" y="309"/>
                  </a:lnTo>
                  <a:lnTo>
                    <a:pt x="905" y="318"/>
                  </a:lnTo>
                  <a:lnTo>
                    <a:pt x="910" y="329"/>
                  </a:lnTo>
                  <a:lnTo>
                    <a:pt x="905" y="347"/>
                  </a:lnTo>
                  <a:lnTo>
                    <a:pt x="899" y="371"/>
                  </a:lnTo>
                  <a:lnTo>
                    <a:pt x="901" y="391"/>
                  </a:lnTo>
                  <a:lnTo>
                    <a:pt x="898" y="409"/>
                  </a:lnTo>
                  <a:lnTo>
                    <a:pt x="881" y="419"/>
                  </a:lnTo>
                  <a:lnTo>
                    <a:pt x="868" y="423"/>
                  </a:lnTo>
                  <a:lnTo>
                    <a:pt x="853" y="427"/>
                  </a:lnTo>
                  <a:lnTo>
                    <a:pt x="837" y="431"/>
                  </a:lnTo>
                  <a:lnTo>
                    <a:pt x="821" y="437"/>
                  </a:lnTo>
                  <a:lnTo>
                    <a:pt x="806" y="444"/>
                  </a:lnTo>
                  <a:lnTo>
                    <a:pt x="792" y="450"/>
                  </a:lnTo>
                  <a:lnTo>
                    <a:pt x="778" y="457"/>
                  </a:lnTo>
                  <a:lnTo>
                    <a:pt x="768" y="464"/>
                  </a:lnTo>
                  <a:lnTo>
                    <a:pt x="759" y="471"/>
                  </a:lnTo>
                  <a:lnTo>
                    <a:pt x="746" y="478"/>
                  </a:lnTo>
                  <a:lnTo>
                    <a:pt x="734" y="485"/>
                  </a:lnTo>
                  <a:lnTo>
                    <a:pt x="723" y="492"/>
                  </a:lnTo>
                  <a:lnTo>
                    <a:pt x="713" y="500"/>
                  </a:lnTo>
                  <a:lnTo>
                    <a:pt x="708" y="507"/>
                  </a:lnTo>
                  <a:lnTo>
                    <a:pt x="708" y="514"/>
                  </a:lnTo>
                  <a:lnTo>
                    <a:pt x="713" y="521"/>
                  </a:lnTo>
                  <a:lnTo>
                    <a:pt x="723" y="526"/>
                  </a:lnTo>
                  <a:lnTo>
                    <a:pt x="733" y="529"/>
                  </a:lnTo>
                  <a:lnTo>
                    <a:pt x="742" y="532"/>
                  </a:lnTo>
                  <a:lnTo>
                    <a:pt x="749" y="533"/>
                  </a:lnTo>
                  <a:lnTo>
                    <a:pt x="753" y="536"/>
                  </a:lnTo>
                  <a:lnTo>
                    <a:pt x="755" y="540"/>
                  </a:lnTo>
                  <a:lnTo>
                    <a:pt x="751" y="547"/>
                  </a:lnTo>
                  <a:lnTo>
                    <a:pt x="742" y="558"/>
                  </a:lnTo>
                  <a:lnTo>
                    <a:pt x="729" y="581"/>
                  </a:lnTo>
                  <a:lnTo>
                    <a:pt x="729" y="598"/>
                  </a:lnTo>
                  <a:lnTo>
                    <a:pt x="735" y="612"/>
                  </a:lnTo>
                  <a:lnTo>
                    <a:pt x="742" y="621"/>
                  </a:lnTo>
                  <a:lnTo>
                    <a:pt x="745" y="630"/>
                  </a:lnTo>
                  <a:lnTo>
                    <a:pt x="742" y="638"/>
                  </a:lnTo>
                  <a:lnTo>
                    <a:pt x="734" y="643"/>
                  </a:lnTo>
                  <a:lnTo>
                    <a:pt x="720" y="645"/>
                  </a:lnTo>
                  <a:lnTo>
                    <a:pt x="712" y="645"/>
                  </a:lnTo>
                  <a:lnTo>
                    <a:pt x="704" y="645"/>
                  </a:lnTo>
                  <a:lnTo>
                    <a:pt x="697" y="645"/>
                  </a:lnTo>
                  <a:lnTo>
                    <a:pt x="690" y="645"/>
                  </a:lnTo>
                  <a:lnTo>
                    <a:pt x="684" y="643"/>
                  </a:lnTo>
                  <a:lnTo>
                    <a:pt x="679" y="642"/>
                  </a:lnTo>
                  <a:lnTo>
                    <a:pt x="675" y="639"/>
                  </a:lnTo>
                  <a:lnTo>
                    <a:pt x="672" y="634"/>
                  </a:lnTo>
                  <a:lnTo>
                    <a:pt x="668" y="628"/>
                  </a:lnTo>
                  <a:lnTo>
                    <a:pt x="662" y="624"/>
                  </a:lnTo>
                  <a:lnTo>
                    <a:pt x="656" y="621"/>
                  </a:lnTo>
                  <a:lnTo>
                    <a:pt x="649" y="619"/>
                  </a:lnTo>
                  <a:lnTo>
                    <a:pt x="642" y="617"/>
                  </a:lnTo>
                  <a:lnTo>
                    <a:pt x="636" y="616"/>
                  </a:lnTo>
                  <a:lnTo>
                    <a:pt x="632" y="614"/>
                  </a:lnTo>
                  <a:lnTo>
                    <a:pt x="631" y="614"/>
                  </a:lnTo>
                  <a:lnTo>
                    <a:pt x="629" y="613"/>
                  </a:lnTo>
                  <a:lnTo>
                    <a:pt x="627" y="612"/>
                  </a:lnTo>
                  <a:lnTo>
                    <a:pt x="621" y="609"/>
                  </a:lnTo>
                  <a:lnTo>
                    <a:pt x="616" y="607"/>
                  </a:lnTo>
                  <a:lnTo>
                    <a:pt x="609" y="606"/>
                  </a:lnTo>
                  <a:lnTo>
                    <a:pt x="602" y="606"/>
                  </a:lnTo>
                  <a:lnTo>
                    <a:pt x="595" y="609"/>
                  </a:lnTo>
                  <a:lnTo>
                    <a:pt x="589" y="614"/>
                  </a:lnTo>
                  <a:lnTo>
                    <a:pt x="584" y="621"/>
                  </a:lnTo>
                  <a:lnTo>
                    <a:pt x="578" y="625"/>
                  </a:lnTo>
                  <a:lnTo>
                    <a:pt x="571" y="628"/>
                  </a:lnTo>
                  <a:lnTo>
                    <a:pt x="566" y="630"/>
                  </a:lnTo>
                  <a:lnTo>
                    <a:pt x="559" y="628"/>
                  </a:lnTo>
                  <a:lnTo>
                    <a:pt x="552" y="624"/>
                  </a:lnTo>
                  <a:lnTo>
                    <a:pt x="545" y="619"/>
                  </a:lnTo>
                  <a:lnTo>
                    <a:pt x="537" y="610"/>
                  </a:lnTo>
                  <a:lnTo>
                    <a:pt x="529" y="601"/>
                  </a:lnTo>
                  <a:lnTo>
                    <a:pt x="522" y="592"/>
                  </a:lnTo>
                  <a:lnTo>
                    <a:pt x="515" y="585"/>
                  </a:lnTo>
                  <a:lnTo>
                    <a:pt x="509" y="579"/>
                  </a:lnTo>
                  <a:lnTo>
                    <a:pt x="504" y="573"/>
                  </a:lnTo>
                  <a:lnTo>
                    <a:pt x="498" y="569"/>
                  </a:lnTo>
                  <a:lnTo>
                    <a:pt x="493" y="565"/>
                  </a:lnTo>
                  <a:lnTo>
                    <a:pt x="487" y="562"/>
                  </a:lnTo>
                  <a:lnTo>
                    <a:pt x="481" y="557"/>
                  </a:lnTo>
                  <a:lnTo>
                    <a:pt x="478" y="550"/>
                  </a:lnTo>
                  <a:lnTo>
                    <a:pt x="479" y="541"/>
                  </a:lnTo>
                  <a:lnTo>
                    <a:pt x="481" y="532"/>
                  </a:lnTo>
                  <a:lnTo>
                    <a:pt x="476" y="519"/>
                  </a:lnTo>
                  <a:lnTo>
                    <a:pt x="467" y="508"/>
                  </a:lnTo>
                  <a:lnTo>
                    <a:pt x="454" y="503"/>
                  </a:lnTo>
                  <a:lnTo>
                    <a:pt x="442" y="506"/>
                  </a:lnTo>
                  <a:lnTo>
                    <a:pt x="432" y="517"/>
                  </a:lnTo>
                  <a:lnTo>
                    <a:pt x="425" y="529"/>
                  </a:lnTo>
                  <a:lnTo>
                    <a:pt x="419" y="543"/>
                  </a:lnTo>
                  <a:lnTo>
                    <a:pt x="409" y="554"/>
                  </a:lnTo>
                  <a:lnTo>
                    <a:pt x="402" y="566"/>
                  </a:lnTo>
                  <a:lnTo>
                    <a:pt x="402" y="584"/>
                  </a:lnTo>
                  <a:lnTo>
                    <a:pt x="401" y="601"/>
                  </a:lnTo>
                  <a:lnTo>
                    <a:pt x="394" y="610"/>
                  </a:lnTo>
                  <a:lnTo>
                    <a:pt x="388" y="613"/>
                  </a:lnTo>
                  <a:lnTo>
                    <a:pt x="383" y="614"/>
                  </a:lnTo>
                  <a:lnTo>
                    <a:pt x="377" y="614"/>
                  </a:lnTo>
                  <a:lnTo>
                    <a:pt x="372" y="614"/>
                  </a:lnTo>
                  <a:lnTo>
                    <a:pt x="366" y="613"/>
                  </a:lnTo>
                  <a:lnTo>
                    <a:pt x="361" y="612"/>
                  </a:lnTo>
                  <a:lnTo>
                    <a:pt x="354" y="610"/>
                  </a:lnTo>
                  <a:lnTo>
                    <a:pt x="346" y="607"/>
                  </a:lnTo>
                  <a:lnTo>
                    <a:pt x="336" y="605"/>
                  </a:lnTo>
                  <a:lnTo>
                    <a:pt x="323" y="603"/>
                  </a:lnTo>
                  <a:lnTo>
                    <a:pt x="311" y="603"/>
                  </a:lnTo>
                  <a:lnTo>
                    <a:pt x="299" y="605"/>
                  </a:lnTo>
                  <a:lnTo>
                    <a:pt x="288" y="605"/>
                  </a:lnTo>
                  <a:lnTo>
                    <a:pt x="278" y="606"/>
                  </a:lnTo>
                  <a:lnTo>
                    <a:pt x="273" y="607"/>
                  </a:lnTo>
                  <a:lnTo>
                    <a:pt x="270" y="607"/>
                  </a:lnTo>
                  <a:lnTo>
                    <a:pt x="268" y="609"/>
                  </a:lnTo>
                  <a:lnTo>
                    <a:pt x="264" y="612"/>
                  </a:lnTo>
                  <a:lnTo>
                    <a:pt x="256" y="612"/>
                  </a:lnTo>
                  <a:lnTo>
                    <a:pt x="244" y="603"/>
                  </a:lnTo>
                  <a:lnTo>
                    <a:pt x="235" y="598"/>
                  </a:lnTo>
                  <a:lnTo>
                    <a:pt x="226" y="594"/>
                  </a:lnTo>
                  <a:lnTo>
                    <a:pt x="216" y="591"/>
                  </a:lnTo>
                  <a:lnTo>
                    <a:pt x="206" y="592"/>
                  </a:lnTo>
                  <a:lnTo>
                    <a:pt x="197" y="594"/>
                  </a:lnTo>
                  <a:lnTo>
                    <a:pt x="190" y="599"/>
                  </a:lnTo>
                  <a:lnTo>
                    <a:pt x="184" y="606"/>
                  </a:lnTo>
                  <a:lnTo>
                    <a:pt x="183" y="614"/>
                  </a:lnTo>
                  <a:lnTo>
                    <a:pt x="182" y="624"/>
                  </a:lnTo>
                  <a:lnTo>
                    <a:pt x="180" y="632"/>
                  </a:lnTo>
                  <a:lnTo>
                    <a:pt x="176" y="639"/>
                  </a:lnTo>
                  <a:lnTo>
                    <a:pt x="172" y="643"/>
                  </a:lnTo>
                  <a:lnTo>
                    <a:pt x="165" y="646"/>
                  </a:lnTo>
                  <a:lnTo>
                    <a:pt x="157" y="645"/>
                  </a:lnTo>
                  <a:lnTo>
                    <a:pt x="146" y="642"/>
                  </a:lnTo>
                  <a:lnTo>
                    <a:pt x="135" y="634"/>
                  </a:lnTo>
                  <a:lnTo>
                    <a:pt x="122" y="625"/>
                  </a:lnTo>
                  <a:lnTo>
                    <a:pt x="110" y="620"/>
                  </a:lnTo>
                  <a:lnTo>
                    <a:pt x="99" y="617"/>
                  </a:lnTo>
                  <a:lnTo>
                    <a:pt x="88" y="616"/>
                  </a:lnTo>
                  <a:lnTo>
                    <a:pt x="78" y="616"/>
                  </a:lnTo>
                  <a:lnTo>
                    <a:pt x="67" y="617"/>
                  </a:lnTo>
                  <a:lnTo>
                    <a:pt x="58" y="619"/>
                  </a:lnTo>
                  <a:lnTo>
                    <a:pt x="48" y="619"/>
                  </a:lnTo>
                  <a:lnTo>
                    <a:pt x="38" y="619"/>
                  </a:lnTo>
                  <a:lnTo>
                    <a:pt x="30" y="619"/>
                  </a:lnTo>
                  <a:lnTo>
                    <a:pt x="22" y="619"/>
                  </a:lnTo>
                  <a:lnTo>
                    <a:pt x="14" y="619"/>
                  </a:lnTo>
                  <a:lnTo>
                    <a:pt x="8" y="619"/>
                  </a:lnTo>
                  <a:lnTo>
                    <a:pt x="4" y="619"/>
                  </a:lnTo>
                  <a:lnTo>
                    <a:pt x="1" y="619"/>
                  </a:lnTo>
                  <a:lnTo>
                    <a:pt x="0" y="619"/>
                  </a:lnTo>
                  <a:lnTo>
                    <a:pt x="1" y="628"/>
                  </a:lnTo>
                  <a:lnTo>
                    <a:pt x="5" y="649"/>
                  </a:lnTo>
                  <a:lnTo>
                    <a:pt x="11" y="674"/>
                  </a:lnTo>
                  <a:lnTo>
                    <a:pt x="15" y="693"/>
                  </a:lnTo>
                  <a:lnTo>
                    <a:pt x="19" y="707"/>
                  </a:lnTo>
                  <a:lnTo>
                    <a:pt x="25" y="719"/>
                  </a:lnTo>
                  <a:lnTo>
                    <a:pt x="29" y="731"/>
                  </a:lnTo>
                  <a:lnTo>
                    <a:pt x="30" y="742"/>
                  </a:lnTo>
                  <a:lnTo>
                    <a:pt x="27" y="760"/>
                  </a:lnTo>
                  <a:lnTo>
                    <a:pt x="26" y="787"/>
                  </a:lnTo>
                  <a:lnTo>
                    <a:pt x="27" y="817"/>
                  </a:lnTo>
                  <a:lnTo>
                    <a:pt x="33" y="843"/>
                  </a:lnTo>
                  <a:lnTo>
                    <a:pt x="37" y="854"/>
                  </a:lnTo>
                  <a:lnTo>
                    <a:pt x="42" y="866"/>
                  </a:lnTo>
                  <a:lnTo>
                    <a:pt x="49" y="879"/>
                  </a:lnTo>
                  <a:lnTo>
                    <a:pt x="56" y="890"/>
                  </a:lnTo>
                  <a:lnTo>
                    <a:pt x="62" y="900"/>
                  </a:lnTo>
                  <a:lnTo>
                    <a:pt x="69" y="909"/>
                  </a:lnTo>
                  <a:lnTo>
                    <a:pt x="74" y="916"/>
                  </a:lnTo>
                  <a:lnTo>
                    <a:pt x="78" y="922"/>
                  </a:lnTo>
                  <a:lnTo>
                    <a:pt x="87" y="930"/>
                  </a:lnTo>
                  <a:lnTo>
                    <a:pt x="98" y="938"/>
                  </a:lnTo>
                  <a:lnTo>
                    <a:pt x="107" y="952"/>
                  </a:lnTo>
                  <a:lnTo>
                    <a:pt x="115" y="978"/>
                  </a:lnTo>
                  <a:lnTo>
                    <a:pt x="120" y="995"/>
                  </a:lnTo>
                  <a:lnTo>
                    <a:pt x="125" y="1008"/>
                  </a:lnTo>
                  <a:lnTo>
                    <a:pt x="129" y="1019"/>
                  </a:lnTo>
                  <a:lnTo>
                    <a:pt x="135" y="1029"/>
                  </a:lnTo>
                  <a:lnTo>
                    <a:pt x="140" y="1037"/>
                  </a:lnTo>
                  <a:lnTo>
                    <a:pt x="146" y="1043"/>
                  </a:lnTo>
                  <a:lnTo>
                    <a:pt x="151" y="1047"/>
                  </a:lnTo>
                  <a:lnTo>
                    <a:pt x="157" y="1050"/>
                  </a:lnTo>
                  <a:lnTo>
                    <a:pt x="165" y="1048"/>
                  </a:lnTo>
                  <a:lnTo>
                    <a:pt x="169" y="1041"/>
                  </a:lnTo>
                  <a:lnTo>
                    <a:pt x="173" y="1039"/>
                  </a:lnTo>
                  <a:lnTo>
                    <a:pt x="183" y="1043"/>
                  </a:lnTo>
                  <a:lnTo>
                    <a:pt x="194" y="1043"/>
                  </a:lnTo>
                  <a:lnTo>
                    <a:pt x="199" y="1025"/>
                  </a:lnTo>
                  <a:lnTo>
                    <a:pt x="205" y="999"/>
                  </a:lnTo>
                  <a:lnTo>
                    <a:pt x="213" y="975"/>
                  </a:lnTo>
                  <a:lnTo>
                    <a:pt x="223" y="960"/>
                  </a:lnTo>
                  <a:lnTo>
                    <a:pt x="231" y="950"/>
                  </a:lnTo>
                  <a:lnTo>
                    <a:pt x="239" y="948"/>
                  </a:lnTo>
                  <a:lnTo>
                    <a:pt x="250" y="949"/>
                  </a:lnTo>
                  <a:lnTo>
                    <a:pt x="263" y="946"/>
                  </a:lnTo>
                  <a:lnTo>
                    <a:pt x="270" y="937"/>
                  </a:lnTo>
                  <a:lnTo>
                    <a:pt x="273" y="920"/>
                  </a:lnTo>
                  <a:lnTo>
                    <a:pt x="274" y="900"/>
                  </a:lnTo>
                  <a:lnTo>
                    <a:pt x="275" y="879"/>
                  </a:lnTo>
                  <a:lnTo>
                    <a:pt x="281" y="861"/>
                  </a:lnTo>
                  <a:lnTo>
                    <a:pt x="289" y="846"/>
                  </a:lnTo>
                  <a:lnTo>
                    <a:pt x="300" y="832"/>
                  </a:lnTo>
                  <a:lnTo>
                    <a:pt x="308" y="818"/>
                  </a:lnTo>
                  <a:lnTo>
                    <a:pt x="312" y="803"/>
                  </a:lnTo>
                  <a:lnTo>
                    <a:pt x="317" y="785"/>
                  </a:lnTo>
                  <a:lnTo>
                    <a:pt x="322" y="760"/>
                  </a:lnTo>
                  <a:lnTo>
                    <a:pt x="326" y="748"/>
                  </a:lnTo>
                  <a:lnTo>
                    <a:pt x="330" y="737"/>
                  </a:lnTo>
                  <a:lnTo>
                    <a:pt x="335" y="729"/>
                  </a:lnTo>
                  <a:lnTo>
                    <a:pt x="340" y="723"/>
                  </a:lnTo>
                  <a:lnTo>
                    <a:pt x="347" y="720"/>
                  </a:lnTo>
                  <a:lnTo>
                    <a:pt x="355" y="720"/>
                  </a:lnTo>
                  <a:lnTo>
                    <a:pt x="366" y="723"/>
                  </a:lnTo>
                  <a:lnTo>
                    <a:pt x="379" y="730"/>
                  </a:lnTo>
                  <a:lnTo>
                    <a:pt x="392" y="738"/>
                  </a:lnTo>
                  <a:lnTo>
                    <a:pt x="408" y="748"/>
                  </a:lnTo>
                  <a:lnTo>
                    <a:pt x="424" y="756"/>
                  </a:lnTo>
                  <a:lnTo>
                    <a:pt x="439" y="766"/>
                  </a:lnTo>
                  <a:lnTo>
                    <a:pt x="453" y="776"/>
                  </a:lnTo>
                  <a:lnTo>
                    <a:pt x="467" y="787"/>
                  </a:lnTo>
                  <a:lnTo>
                    <a:pt x="478" y="798"/>
                  </a:lnTo>
                  <a:lnTo>
                    <a:pt x="487" y="810"/>
                  </a:lnTo>
                  <a:lnTo>
                    <a:pt x="496" y="822"/>
                  </a:lnTo>
                  <a:lnTo>
                    <a:pt x="505" y="833"/>
                  </a:lnTo>
                  <a:lnTo>
                    <a:pt x="515" y="843"/>
                  </a:lnTo>
                  <a:lnTo>
                    <a:pt x="525" y="851"/>
                  </a:lnTo>
                  <a:lnTo>
                    <a:pt x="534" y="858"/>
                  </a:lnTo>
                  <a:lnTo>
                    <a:pt x="543" y="864"/>
                  </a:lnTo>
                  <a:lnTo>
                    <a:pt x="551" y="868"/>
                  </a:lnTo>
                  <a:lnTo>
                    <a:pt x="559" y="869"/>
                  </a:lnTo>
                  <a:lnTo>
                    <a:pt x="570" y="880"/>
                  </a:lnTo>
                  <a:lnTo>
                    <a:pt x="576" y="902"/>
                  </a:lnTo>
                  <a:lnTo>
                    <a:pt x="580" y="928"/>
                  </a:lnTo>
                  <a:lnTo>
                    <a:pt x="585" y="952"/>
                  </a:lnTo>
                  <a:lnTo>
                    <a:pt x="588" y="973"/>
                  </a:lnTo>
                  <a:lnTo>
                    <a:pt x="582" y="999"/>
                  </a:lnTo>
                  <a:lnTo>
                    <a:pt x="576" y="1033"/>
                  </a:lnTo>
                  <a:lnTo>
                    <a:pt x="574" y="1080"/>
                  </a:lnTo>
                  <a:lnTo>
                    <a:pt x="578" y="1106"/>
                  </a:lnTo>
                  <a:lnTo>
                    <a:pt x="585" y="1128"/>
                  </a:lnTo>
                  <a:lnTo>
                    <a:pt x="596" y="1150"/>
                  </a:lnTo>
                  <a:lnTo>
                    <a:pt x="610" y="1170"/>
                  </a:lnTo>
                  <a:lnTo>
                    <a:pt x="625" y="1189"/>
                  </a:lnTo>
                  <a:lnTo>
                    <a:pt x="642" y="1208"/>
                  </a:lnTo>
                  <a:lnTo>
                    <a:pt x="658" y="1226"/>
                  </a:lnTo>
                  <a:lnTo>
                    <a:pt x="675" y="1245"/>
                  </a:lnTo>
                  <a:lnTo>
                    <a:pt x="694" y="1266"/>
                  </a:lnTo>
                  <a:lnTo>
                    <a:pt x="716" y="1287"/>
                  </a:lnTo>
                  <a:lnTo>
                    <a:pt x="740" y="1307"/>
                  </a:lnTo>
                  <a:lnTo>
                    <a:pt x="762" y="1328"/>
                  </a:lnTo>
                  <a:lnTo>
                    <a:pt x="782" y="1346"/>
                  </a:lnTo>
                  <a:lnTo>
                    <a:pt x="797" y="1361"/>
                  </a:lnTo>
                  <a:lnTo>
                    <a:pt x="807" y="1371"/>
                  </a:lnTo>
                  <a:lnTo>
                    <a:pt x="807" y="1375"/>
                  </a:lnTo>
                  <a:lnTo>
                    <a:pt x="802" y="1375"/>
                  </a:lnTo>
                  <a:lnTo>
                    <a:pt x="793" y="1372"/>
                  </a:lnTo>
                  <a:lnTo>
                    <a:pt x="782" y="1368"/>
                  </a:lnTo>
                  <a:lnTo>
                    <a:pt x="770" y="1362"/>
                  </a:lnTo>
                  <a:lnTo>
                    <a:pt x="759" y="1358"/>
                  </a:lnTo>
                  <a:lnTo>
                    <a:pt x="746" y="1355"/>
                  </a:lnTo>
                  <a:lnTo>
                    <a:pt x="737" y="1355"/>
                  </a:lnTo>
                  <a:lnTo>
                    <a:pt x="729" y="1360"/>
                  </a:lnTo>
                  <a:lnTo>
                    <a:pt x="718" y="1371"/>
                  </a:lnTo>
                  <a:lnTo>
                    <a:pt x="712" y="1379"/>
                  </a:lnTo>
                  <a:lnTo>
                    <a:pt x="706" y="1383"/>
                  </a:lnTo>
                  <a:lnTo>
                    <a:pt x="698" y="1379"/>
                  </a:lnTo>
                  <a:lnTo>
                    <a:pt x="686" y="1371"/>
                  </a:lnTo>
                  <a:lnTo>
                    <a:pt x="675" y="1367"/>
                  </a:lnTo>
                  <a:lnTo>
                    <a:pt x="669" y="1369"/>
                  </a:lnTo>
                  <a:lnTo>
                    <a:pt x="672" y="1383"/>
                  </a:lnTo>
                  <a:lnTo>
                    <a:pt x="676" y="1393"/>
                  </a:lnTo>
                  <a:lnTo>
                    <a:pt x="679" y="1402"/>
                  </a:lnTo>
                  <a:lnTo>
                    <a:pt x="683" y="1413"/>
                  </a:lnTo>
                  <a:lnTo>
                    <a:pt x="687" y="1424"/>
                  </a:lnTo>
                  <a:lnTo>
                    <a:pt x="693" y="1438"/>
                  </a:lnTo>
                  <a:lnTo>
                    <a:pt x="701" y="1451"/>
                  </a:lnTo>
                  <a:lnTo>
                    <a:pt x="711" y="1467"/>
                  </a:lnTo>
                  <a:lnTo>
                    <a:pt x="724" y="1484"/>
                  </a:lnTo>
                  <a:lnTo>
                    <a:pt x="741" y="1502"/>
                  </a:lnTo>
                  <a:lnTo>
                    <a:pt x="757" y="1519"/>
                  </a:lnTo>
                  <a:lnTo>
                    <a:pt x="775" y="1536"/>
                  </a:lnTo>
                  <a:lnTo>
                    <a:pt x="792" y="1552"/>
                  </a:lnTo>
                  <a:lnTo>
                    <a:pt x="808" y="1568"/>
                  </a:lnTo>
                  <a:lnTo>
                    <a:pt x="824" y="1583"/>
                  </a:lnTo>
                  <a:lnTo>
                    <a:pt x="837" y="1598"/>
                  </a:lnTo>
                  <a:lnTo>
                    <a:pt x="848" y="1612"/>
                  </a:lnTo>
                  <a:lnTo>
                    <a:pt x="862" y="1635"/>
                  </a:lnTo>
                  <a:lnTo>
                    <a:pt x="868" y="1652"/>
                  </a:lnTo>
                  <a:lnTo>
                    <a:pt x="872" y="1661"/>
                  </a:lnTo>
                  <a:lnTo>
                    <a:pt x="881" y="1664"/>
                  </a:lnTo>
                  <a:lnTo>
                    <a:pt x="892" y="1664"/>
                  </a:lnTo>
                  <a:lnTo>
                    <a:pt x="899" y="1664"/>
                  </a:lnTo>
                  <a:lnTo>
                    <a:pt x="905" y="1665"/>
                  </a:lnTo>
                  <a:lnTo>
                    <a:pt x="916" y="1672"/>
                  </a:lnTo>
                  <a:lnTo>
                    <a:pt x="923" y="1676"/>
                  </a:lnTo>
                  <a:lnTo>
                    <a:pt x="930" y="1679"/>
                  </a:lnTo>
                  <a:lnTo>
                    <a:pt x="938" y="1683"/>
                  </a:lnTo>
                  <a:lnTo>
                    <a:pt x="946" y="1686"/>
                  </a:lnTo>
                  <a:lnTo>
                    <a:pt x="953" y="1689"/>
                  </a:lnTo>
                  <a:lnTo>
                    <a:pt x="961" y="1690"/>
                  </a:lnTo>
                  <a:lnTo>
                    <a:pt x="968" y="1693"/>
                  </a:lnTo>
                  <a:lnTo>
                    <a:pt x="975" y="1694"/>
                  </a:lnTo>
                  <a:lnTo>
                    <a:pt x="988" y="1700"/>
                  </a:lnTo>
                  <a:lnTo>
                    <a:pt x="997" y="1710"/>
                  </a:lnTo>
                  <a:lnTo>
                    <a:pt x="1004" y="1723"/>
                  </a:lnTo>
                  <a:lnTo>
                    <a:pt x="1005" y="1743"/>
                  </a:lnTo>
                  <a:lnTo>
                    <a:pt x="1004" y="1766"/>
                  </a:lnTo>
                  <a:lnTo>
                    <a:pt x="1004" y="1789"/>
                  </a:lnTo>
                  <a:lnTo>
                    <a:pt x="1011" y="1811"/>
                  </a:lnTo>
                  <a:lnTo>
                    <a:pt x="1029" y="1829"/>
                  </a:lnTo>
                  <a:lnTo>
                    <a:pt x="1041" y="1836"/>
                  </a:lnTo>
                  <a:lnTo>
                    <a:pt x="1054" y="1840"/>
                  </a:lnTo>
                  <a:lnTo>
                    <a:pt x="1066" y="1843"/>
                  </a:lnTo>
                  <a:lnTo>
                    <a:pt x="1078" y="1845"/>
                  </a:lnTo>
                  <a:lnTo>
                    <a:pt x="1092" y="1843"/>
                  </a:lnTo>
                  <a:lnTo>
                    <a:pt x="1107" y="1839"/>
                  </a:lnTo>
                  <a:lnTo>
                    <a:pt x="1125" y="1833"/>
                  </a:lnTo>
                  <a:lnTo>
                    <a:pt x="1143" y="1825"/>
                  </a:lnTo>
                  <a:lnTo>
                    <a:pt x="1163" y="1817"/>
                  </a:lnTo>
                  <a:lnTo>
                    <a:pt x="1183" y="1813"/>
                  </a:lnTo>
                  <a:lnTo>
                    <a:pt x="1201" y="1810"/>
                  </a:lnTo>
                  <a:lnTo>
                    <a:pt x="1216" y="1811"/>
                  </a:lnTo>
                  <a:lnTo>
                    <a:pt x="1229" y="1813"/>
                  </a:lnTo>
                  <a:lnTo>
                    <a:pt x="1236" y="1816"/>
                  </a:lnTo>
                  <a:lnTo>
                    <a:pt x="1238" y="1820"/>
                  </a:lnTo>
                  <a:lnTo>
                    <a:pt x="1233" y="1822"/>
                  </a:lnTo>
                  <a:lnTo>
                    <a:pt x="1222" y="1827"/>
                  </a:lnTo>
                  <a:lnTo>
                    <a:pt x="1220" y="1831"/>
                  </a:lnTo>
                  <a:lnTo>
                    <a:pt x="1229" y="1832"/>
                  </a:lnTo>
                  <a:lnTo>
                    <a:pt x="1245" y="1833"/>
                  </a:lnTo>
                  <a:lnTo>
                    <a:pt x="1255" y="1835"/>
                  </a:lnTo>
                  <a:lnTo>
                    <a:pt x="1263" y="1838"/>
                  </a:lnTo>
                  <a:lnTo>
                    <a:pt x="1271" y="1842"/>
                  </a:lnTo>
                  <a:lnTo>
                    <a:pt x="1280" y="1847"/>
                  </a:lnTo>
                  <a:lnTo>
                    <a:pt x="1286" y="1853"/>
                  </a:lnTo>
                  <a:lnTo>
                    <a:pt x="1295" y="1858"/>
                  </a:lnTo>
                  <a:lnTo>
                    <a:pt x="1303" y="1864"/>
                  </a:lnTo>
                  <a:lnTo>
                    <a:pt x="1313" y="1867"/>
                  </a:lnTo>
                  <a:lnTo>
                    <a:pt x="1325" y="1871"/>
                  </a:lnTo>
                  <a:lnTo>
                    <a:pt x="1342" y="1875"/>
                  </a:lnTo>
                  <a:lnTo>
                    <a:pt x="1362" y="1879"/>
                  </a:lnTo>
                  <a:lnTo>
                    <a:pt x="1383" y="1886"/>
                  </a:lnTo>
                  <a:lnTo>
                    <a:pt x="1405" y="1894"/>
                  </a:lnTo>
                  <a:lnTo>
                    <a:pt x="1424" y="1904"/>
                  </a:lnTo>
                  <a:lnTo>
                    <a:pt x="1441" y="1915"/>
                  </a:lnTo>
                  <a:lnTo>
                    <a:pt x="1452" y="1927"/>
                  </a:lnTo>
                  <a:lnTo>
                    <a:pt x="1461" y="1942"/>
                  </a:lnTo>
                  <a:lnTo>
                    <a:pt x="1474" y="1959"/>
                  </a:lnTo>
                  <a:lnTo>
                    <a:pt x="1488" y="1975"/>
                  </a:lnTo>
                  <a:lnTo>
                    <a:pt x="1504" y="1992"/>
                  </a:lnTo>
                  <a:lnTo>
                    <a:pt x="1519" y="2007"/>
                  </a:lnTo>
                  <a:lnTo>
                    <a:pt x="1534" y="2021"/>
                  </a:lnTo>
                  <a:lnTo>
                    <a:pt x="1550" y="2032"/>
                  </a:lnTo>
                  <a:lnTo>
                    <a:pt x="1563" y="2040"/>
                  </a:lnTo>
                  <a:lnTo>
                    <a:pt x="1576" y="2046"/>
                  </a:lnTo>
                  <a:lnTo>
                    <a:pt x="1587" y="2050"/>
                  </a:lnTo>
                  <a:lnTo>
                    <a:pt x="1596" y="2054"/>
                  </a:lnTo>
                  <a:lnTo>
                    <a:pt x="1605" y="2058"/>
                  </a:lnTo>
                  <a:lnTo>
                    <a:pt x="1612" y="2062"/>
                  </a:lnTo>
                  <a:lnTo>
                    <a:pt x="1619" y="2069"/>
                  </a:lnTo>
                  <a:lnTo>
                    <a:pt x="1625" y="2076"/>
                  </a:lnTo>
                  <a:lnTo>
                    <a:pt x="1631" y="2084"/>
                  </a:lnTo>
                  <a:lnTo>
                    <a:pt x="1636" y="2092"/>
                  </a:lnTo>
                  <a:lnTo>
                    <a:pt x="1645" y="2099"/>
                  </a:lnTo>
                  <a:lnTo>
                    <a:pt x="1652" y="2103"/>
                  </a:lnTo>
                  <a:lnTo>
                    <a:pt x="1660" y="2108"/>
                  </a:lnTo>
                  <a:lnTo>
                    <a:pt x="1667" y="2112"/>
                  </a:lnTo>
                  <a:lnTo>
                    <a:pt x="1675" y="2119"/>
                  </a:lnTo>
                  <a:lnTo>
                    <a:pt x="1682" y="2126"/>
                  </a:lnTo>
                  <a:lnTo>
                    <a:pt x="1687" y="2137"/>
                  </a:lnTo>
                  <a:lnTo>
                    <a:pt x="1693" y="2148"/>
                  </a:lnTo>
                  <a:lnTo>
                    <a:pt x="1700" y="2156"/>
                  </a:lnTo>
                  <a:lnTo>
                    <a:pt x="1705" y="2161"/>
                  </a:lnTo>
                  <a:lnTo>
                    <a:pt x="1712" y="2165"/>
                  </a:lnTo>
                  <a:lnTo>
                    <a:pt x="1719" y="2167"/>
                  </a:lnTo>
                  <a:lnTo>
                    <a:pt x="1726" y="2168"/>
                  </a:lnTo>
                  <a:lnTo>
                    <a:pt x="1733" y="2170"/>
                  </a:lnTo>
                  <a:lnTo>
                    <a:pt x="1740" y="2171"/>
                  </a:lnTo>
                  <a:lnTo>
                    <a:pt x="1748" y="2172"/>
                  </a:lnTo>
                  <a:lnTo>
                    <a:pt x="1756" y="2171"/>
                  </a:lnTo>
                  <a:lnTo>
                    <a:pt x="1765" y="2170"/>
                  </a:lnTo>
                  <a:lnTo>
                    <a:pt x="1774" y="2165"/>
                  </a:lnTo>
                  <a:lnTo>
                    <a:pt x="1781" y="2161"/>
                  </a:lnTo>
                  <a:lnTo>
                    <a:pt x="1788" y="2156"/>
                  </a:lnTo>
                  <a:lnTo>
                    <a:pt x="1792" y="2149"/>
                  </a:lnTo>
                  <a:lnTo>
                    <a:pt x="1793" y="2141"/>
                  </a:lnTo>
                  <a:lnTo>
                    <a:pt x="1793" y="2132"/>
                  </a:lnTo>
                  <a:lnTo>
                    <a:pt x="1791" y="2123"/>
                  </a:lnTo>
                  <a:lnTo>
                    <a:pt x="1788" y="2113"/>
                  </a:lnTo>
                  <a:lnTo>
                    <a:pt x="1784" y="2105"/>
                  </a:lnTo>
                  <a:lnTo>
                    <a:pt x="1777" y="2095"/>
                  </a:lnTo>
                  <a:lnTo>
                    <a:pt x="1769" y="2087"/>
                  </a:lnTo>
                  <a:lnTo>
                    <a:pt x="1759" y="2080"/>
                  </a:lnTo>
                  <a:lnTo>
                    <a:pt x="1748" y="2073"/>
                  </a:lnTo>
                  <a:lnTo>
                    <a:pt x="1736" y="2066"/>
                  </a:lnTo>
                  <a:lnTo>
                    <a:pt x="1722" y="2059"/>
                  </a:lnTo>
                  <a:lnTo>
                    <a:pt x="1709" y="2051"/>
                  </a:lnTo>
                  <a:lnTo>
                    <a:pt x="1698" y="2043"/>
                  </a:lnTo>
                  <a:lnTo>
                    <a:pt x="1689" y="2033"/>
                  </a:lnTo>
                  <a:lnTo>
                    <a:pt x="1681" y="2025"/>
                  </a:lnTo>
                  <a:lnTo>
                    <a:pt x="1674" y="2017"/>
                  </a:lnTo>
                  <a:lnTo>
                    <a:pt x="1669" y="2010"/>
                  </a:lnTo>
                  <a:lnTo>
                    <a:pt x="1663" y="1999"/>
                  </a:lnTo>
                  <a:lnTo>
                    <a:pt x="1654" y="1991"/>
                  </a:lnTo>
                  <a:lnTo>
                    <a:pt x="1643" y="1985"/>
                  </a:lnTo>
                  <a:lnTo>
                    <a:pt x="1631" y="1975"/>
                  </a:lnTo>
                  <a:lnTo>
                    <a:pt x="1625" y="1967"/>
                  </a:lnTo>
                  <a:lnTo>
                    <a:pt x="1620" y="1952"/>
                  </a:lnTo>
                  <a:lnTo>
                    <a:pt x="1614" y="1934"/>
                  </a:lnTo>
                  <a:lnTo>
                    <a:pt x="1610" y="1915"/>
                  </a:lnTo>
                  <a:lnTo>
                    <a:pt x="1606" y="1894"/>
                  </a:lnTo>
                  <a:lnTo>
                    <a:pt x="1601" y="1876"/>
                  </a:lnTo>
                  <a:lnTo>
                    <a:pt x="1594" y="1860"/>
                  </a:lnTo>
                  <a:lnTo>
                    <a:pt x="1587" y="1849"/>
                  </a:lnTo>
                  <a:lnTo>
                    <a:pt x="1577" y="1840"/>
                  </a:lnTo>
                  <a:lnTo>
                    <a:pt x="1563" y="1832"/>
                  </a:lnTo>
                  <a:lnTo>
                    <a:pt x="1550" y="1824"/>
                  </a:lnTo>
                  <a:lnTo>
                    <a:pt x="1534" y="1816"/>
                  </a:lnTo>
                  <a:lnTo>
                    <a:pt x="1521" y="1807"/>
                  </a:lnTo>
                  <a:lnTo>
                    <a:pt x="1507" y="1799"/>
                  </a:lnTo>
                  <a:lnTo>
                    <a:pt x="1497" y="1791"/>
                  </a:lnTo>
                  <a:lnTo>
                    <a:pt x="1489" y="1781"/>
                  </a:lnTo>
                  <a:lnTo>
                    <a:pt x="1482" y="1772"/>
                  </a:lnTo>
                  <a:lnTo>
                    <a:pt x="1471" y="1762"/>
                  </a:lnTo>
                  <a:lnTo>
                    <a:pt x="1459" y="1751"/>
                  </a:lnTo>
                  <a:lnTo>
                    <a:pt x="1446" y="1741"/>
                  </a:lnTo>
                  <a:lnTo>
                    <a:pt x="1434" y="1730"/>
                  </a:lnTo>
                  <a:lnTo>
                    <a:pt x="1423" y="1721"/>
                  </a:lnTo>
                  <a:lnTo>
                    <a:pt x="1415" y="1710"/>
                  </a:lnTo>
                  <a:lnTo>
                    <a:pt x="1410" y="1698"/>
                  </a:lnTo>
                  <a:lnTo>
                    <a:pt x="1406" y="1689"/>
                  </a:lnTo>
                  <a:lnTo>
                    <a:pt x="1402" y="1682"/>
                  </a:lnTo>
                  <a:lnTo>
                    <a:pt x="1398" y="1678"/>
                  </a:lnTo>
                  <a:lnTo>
                    <a:pt x="1393" y="1674"/>
                  </a:lnTo>
                  <a:lnTo>
                    <a:pt x="1386" y="1671"/>
                  </a:lnTo>
                  <a:lnTo>
                    <a:pt x="1380" y="1667"/>
                  </a:lnTo>
                  <a:lnTo>
                    <a:pt x="1375" y="1661"/>
                  </a:lnTo>
                  <a:lnTo>
                    <a:pt x="1369" y="1653"/>
                  </a:lnTo>
                  <a:lnTo>
                    <a:pt x="1364" y="1642"/>
                  </a:lnTo>
                  <a:lnTo>
                    <a:pt x="1357" y="1630"/>
                  </a:lnTo>
                  <a:lnTo>
                    <a:pt x="1350" y="1616"/>
                  </a:lnTo>
                  <a:lnTo>
                    <a:pt x="1343" y="1602"/>
                  </a:lnTo>
                  <a:lnTo>
                    <a:pt x="1335" y="1588"/>
                  </a:lnTo>
                  <a:lnTo>
                    <a:pt x="1326" y="1575"/>
                  </a:lnTo>
                  <a:lnTo>
                    <a:pt x="1318" y="1563"/>
                  </a:lnTo>
                  <a:lnTo>
                    <a:pt x="1309" y="1555"/>
                  </a:lnTo>
                  <a:lnTo>
                    <a:pt x="1299" y="1547"/>
                  </a:lnTo>
                  <a:lnTo>
                    <a:pt x="1291" y="1539"/>
                  </a:lnTo>
                  <a:lnTo>
                    <a:pt x="1282" y="1530"/>
                  </a:lnTo>
                  <a:lnTo>
                    <a:pt x="1274" y="1521"/>
                  </a:lnTo>
                  <a:lnTo>
                    <a:pt x="1266" y="1514"/>
                  </a:lnTo>
                  <a:lnTo>
                    <a:pt x="1259" y="1507"/>
                  </a:lnTo>
                  <a:lnTo>
                    <a:pt x="1252" y="1502"/>
                  </a:lnTo>
                  <a:lnTo>
                    <a:pt x="1245" y="1499"/>
                  </a:lnTo>
                  <a:lnTo>
                    <a:pt x="1237" y="1496"/>
                  </a:lnTo>
                  <a:lnTo>
                    <a:pt x="1229" y="1492"/>
                  </a:lnTo>
                  <a:lnTo>
                    <a:pt x="1220" y="1485"/>
                  </a:lnTo>
                  <a:lnTo>
                    <a:pt x="1212" y="1478"/>
                  </a:lnTo>
                  <a:lnTo>
                    <a:pt x="1204" y="1470"/>
                  </a:lnTo>
                  <a:lnTo>
                    <a:pt x="1198" y="1462"/>
                  </a:lnTo>
                  <a:lnTo>
                    <a:pt x="1193" y="1455"/>
                  </a:lnTo>
                  <a:lnTo>
                    <a:pt x="1189" y="1446"/>
                  </a:lnTo>
                  <a:lnTo>
                    <a:pt x="1180" y="1431"/>
                  </a:lnTo>
                  <a:lnTo>
                    <a:pt x="1168" y="1416"/>
                  </a:lnTo>
                  <a:lnTo>
                    <a:pt x="1158" y="1405"/>
                  </a:lnTo>
                  <a:lnTo>
                    <a:pt x="1154" y="1401"/>
                  </a:lnTo>
                  <a:lnTo>
                    <a:pt x="1153" y="1394"/>
                  </a:lnTo>
                  <a:lnTo>
                    <a:pt x="1150" y="1379"/>
                  </a:lnTo>
                  <a:lnTo>
                    <a:pt x="1147" y="1360"/>
                  </a:lnTo>
                  <a:lnTo>
                    <a:pt x="1150" y="1344"/>
                  </a:lnTo>
                  <a:lnTo>
                    <a:pt x="1150" y="1335"/>
                  </a:lnTo>
                  <a:lnTo>
                    <a:pt x="1142" y="1325"/>
                  </a:lnTo>
                  <a:lnTo>
                    <a:pt x="1129" y="1316"/>
                  </a:lnTo>
                  <a:lnTo>
                    <a:pt x="1121" y="1303"/>
                  </a:lnTo>
                  <a:lnTo>
                    <a:pt x="1117" y="1284"/>
                  </a:lnTo>
                  <a:lnTo>
                    <a:pt x="1116" y="1258"/>
                  </a:lnTo>
                  <a:lnTo>
                    <a:pt x="1112" y="1232"/>
                  </a:lnTo>
                  <a:lnTo>
                    <a:pt x="1102" y="1211"/>
                  </a:lnTo>
                  <a:lnTo>
                    <a:pt x="1088" y="1197"/>
                  </a:lnTo>
                  <a:lnTo>
                    <a:pt x="1077" y="1183"/>
                  </a:lnTo>
                  <a:lnTo>
                    <a:pt x="1069" y="1174"/>
                  </a:lnTo>
                  <a:lnTo>
                    <a:pt x="1066" y="1170"/>
                  </a:lnTo>
                  <a:lnTo>
                    <a:pt x="1063" y="1164"/>
                  </a:lnTo>
                  <a:lnTo>
                    <a:pt x="1058" y="1150"/>
                  </a:lnTo>
                  <a:lnTo>
                    <a:pt x="1047" y="1132"/>
                  </a:lnTo>
                  <a:lnTo>
                    <a:pt x="1032" y="1113"/>
                  </a:lnTo>
                  <a:lnTo>
                    <a:pt x="1023" y="1106"/>
                  </a:lnTo>
                  <a:lnTo>
                    <a:pt x="1016" y="1099"/>
                  </a:lnTo>
                  <a:lnTo>
                    <a:pt x="1010" y="1095"/>
                  </a:lnTo>
                  <a:lnTo>
                    <a:pt x="1004" y="1090"/>
                  </a:lnTo>
                  <a:lnTo>
                    <a:pt x="997" y="1087"/>
                  </a:lnTo>
                  <a:lnTo>
                    <a:pt x="993" y="1083"/>
                  </a:lnTo>
                  <a:lnTo>
                    <a:pt x="988" y="1080"/>
                  </a:lnTo>
                  <a:lnTo>
                    <a:pt x="983" y="1076"/>
                  </a:lnTo>
                  <a:lnTo>
                    <a:pt x="974" y="1066"/>
                  </a:lnTo>
                  <a:lnTo>
                    <a:pt x="963" y="1055"/>
                  </a:lnTo>
                  <a:lnTo>
                    <a:pt x="956" y="1043"/>
                  </a:lnTo>
                  <a:lnTo>
                    <a:pt x="960" y="1032"/>
                  </a:lnTo>
                  <a:lnTo>
                    <a:pt x="967" y="1019"/>
                  </a:lnTo>
                  <a:lnTo>
                    <a:pt x="968" y="1004"/>
                  </a:lnTo>
                  <a:lnTo>
                    <a:pt x="965" y="989"/>
                  </a:lnTo>
                  <a:lnTo>
                    <a:pt x="960" y="975"/>
                  </a:lnTo>
                  <a:lnTo>
                    <a:pt x="957" y="946"/>
                  </a:lnTo>
                  <a:lnTo>
                    <a:pt x="957" y="901"/>
                  </a:lnTo>
                  <a:lnTo>
                    <a:pt x="959" y="858"/>
                  </a:lnTo>
                  <a:lnTo>
                    <a:pt x="960" y="840"/>
                  </a:lnTo>
                  <a:lnTo>
                    <a:pt x="979" y="806"/>
                  </a:lnTo>
                  <a:lnTo>
                    <a:pt x="1047" y="810"/>
                  </a:lnTo>
                  <a:lnTo>
                    <a:pt x="1047" y="814"/>
                  </a:lnTo>
                  <a:lnTo>
                    <a:pt x="1048" y="824"/>
                  </a:lnTo>
                  <a:lnTo>
                    <a:pt x="1055" y="838"/>
                  </a:lnTo>
                  <a:lnTo>
                    <a:pt x="1070" y="854"/>
                  </a:lnTo>
                  <a:lnTo>
                    <a:pt x="1078" y="862"/>
                  </a:lnTo>
                  <a:lnTo>
                    <a:pt x="1087" y="871"/>
                  </a:lnTo>
                  <a:lnTo>
                    <a:pt x="1092" y="877"/>
                  </a:lnTo>
                  <a:lnTo>
                    <a:pt x="1098" y="884"/>
                  </a:lnTo>
                  <a:lnTo>
                    <a:pt x="1103" y="891"/>
                  </a:lnTo>
                  <a:lnTo>
                    <a:pt x="1107" y="897"/>
                  </a:lnTo>
                  <a:lnTo>
                    <a:pt x="1110" y="904"/>
                  </a:lnTo>
                  <a:lnTo>
                    <a:pt x="1113" y="911"/>
                  </a:lnTo>
                  <a:lnTo>
                    <a:pt x="1117" y="917"/>
                  </a:lnTo>
                  <a:lnTo>
                    <a:pt x="1123" y="923"/>
                  </a:lnTo>
                  <a:lnTo>
                    <a:pt x="1129" y="928"/>
                  </a:lnTo>
                  <a:lnTo>
                    <a:pt x="1136" y="933"/>
                  </a:lnTo>
                  <a:lnTo>
                    <a:pt x="1145" y="937"/>
                  </a:lnTo>
                  <a:lnTo>
                    <a:pt x="1154" y="939"/>
                  </a:lnTo>
                  <a:lnTo>
                    <a:pt x="1164" y="941"/>
                  </a:lnTo>
                  <a:lnTo>
                    <a:pt x="1174" y="941"/>
                  </a:lnTo>
                  <a:lnTo>
                    <a:pt x="1183" y="939"/>
                  </a:lnTo>
                  <a:lnTo>
                    <a:pt x="1191" y="937"/>
                  </a:lnTo>
                  <a:lnTo>
                    <a:pt x="1200" y="933"/>
                  </a:lnTo>
                  <a:lnTo>
                    <a:pt x="1207" y="927"/>
                  </a:lnTo>
                  <a:lnTo>
                    <a:pt x="1212" y="922"/>
                  </a:lnTo>
                  <a:lnTo>
                    <a:pt x="1216" y="915"/>
                  </a:lnTo>
                  <a:lnTo>
                    <a:pt x="1220" y="906"/>
                  </a:lnTo>
                  <a:lnTo>
                    <a:pt x="1222" y="900"/>
                  </a:lnTo>
                  <a:lnTo>
                    <a:pt x="1224" y="891"/>
                  </a:lnTo>
                  <a:lnTo>
                    <a:pt x="1229" y="880"/>
                  </a:lnTo>
                  <a:lnTo>
                    <a:pt x="1236" y="866"/>
                  </a:lnTo>
                  <a:lnTo>
                    <a:pt x="1242" y="854"/>
                  </a:lnTo>
                  <a:lnTo>
                    <a:pt x="1249" y="840"/>
                  </a:lnTo>
                  <a:lnTo>
                    <a:pt x="1256" y="829"/>
                  </a:lnTo>
                  <a:lnTo>
                    <a:pt x="1262" y="820"/>
                  </a:lnTo>
                  <a:lnTo>
                    <a:pt x="1267" y="813"/>
                  </a:lnTo>
                  <a:lnTo>
                    <a:pt x="1271" y="809"/>
                  </a:lnTo>
                  <a:lnTo>
                    <a:pt x="1277" y="806"/>
                  </a:lnTo>
                  <a:lnTo>
                    <a:pt x="1282" y="804"/>
                  </a:lnTo>
                  <a:lnTo>
                    <a:pt x="1289" y="803"/>
                  </a:lnTo>
                  <a:lnTo>
                    <a:pt x="1296" y="803"/>
                  </a:lnTo>
                  <a:lnTo>
                    <a:pt x="1303" y="804"/>
                  </a:lnTo>
                  <a:lnTo>
                    <a:pt x="1311" y="806"/>
                  </a:lnTo>
                  <a:lnTo>
                    <a:pt x="1320" y="810"/>
                  </a:lnTo>
                  <a:lnTo>
                    <a:pt x="1329" y="814"/>
                  </a:lnTo>
                  <a:lnTo>
                    <a:pt x="1340" y="818"/>
                  </a:lnTo>
                  <a:lnTo>
                    <a:pt x="1354" y="821"/>
                  </a:lnTo>
                  <a:lnTo>
                    <a:pt x="1368" y="822"/>
                  </a:lnTo>
                  <a:lnTo>
                    <a:pt x="1382" y="821"/>
                  </a:lnTo>
                  <a:lnTo>
                    <a:pt x="1395" y="820"/>
                  </a:lnTo>
                  <a:lnTo>
                    <a:pt x="1409" y="814"/>
                  </a:lnTo>
                  <a:lnTo>
                    <a:pt x="1422" y="806"/>
                  </a:lnTo>
                  <a:lnTo>
                    <a:pt x="1433" y="799"/>
                  </a:lnTo>
                  <a:lnTo>
                    <a:pt x="1445" y="798"/>
                  </a:lnTo>
                  <a:lnTo>
                    <a:pt x="1456" y="802"/>
                  </a:lnTo>
                  <a:lnTo>
                    <a:pt x="1466" y="807"/>
                  </a:lnTo>
                  <a:lnTo>
                    <a:pt x="1475" y="815"/>
                  </a:lnTo>
                  <a:lnTo>
                    <a:pt x="1484" y="824"/>
                  </a:lnTo>
                  <a:lnTo>
                    <a:pt x="1490" y="831"/>
                  </a:lnTo>
                  <a:lnTo>
                    <a:pt x="1496" y="836"/>
                  </a:lnTo>
                  <a:lnTo>
                    <a:pt x="1501" y="840"/>
                  </a:lnTo>
                  <a:lnTo>
                    <a:pt x="1510" y="844"/>
                  </a:lnTo>
                  <a:lnTo>
                    <a:pt x="1521" y="847"/>
                  </a:lnTo>
                  <a:lnTo>
                    <a:pt x="1533" y="849"/>
                  </a:lnTo>
                  <a:lnTo>
                    <a:pt x="1546" y="850"/>
                  </a:lnTo>
                  <a:lnTo>
                    <a:pt x="1559" y="849"/>
                  </a:lnTo>
                  <a:lnTo>
                    <a:pt x="1573" y="846"/>
                  </a:lnTo>
                  <a:lnTo>
                    <a:pt x="1587" y="840"/>
                  </a:lnTo>
                  <a:lnTo>
                    <a:pt x="1588" y="842"/>
                  </a:lnTo>
                  <a:lnTo>
                    <a:pt x="1592" y="843"/>
                  </a:lnTo>
                  <a:lnTo>
                    <a:pt x="1598" y="846"/>
                  </a:lnTo>
                  <a:lnTo>
                    <a:pt x="1606" y="847"/>
                  </a:lnTo>
                  <a:lnTo>
                    <a:pt x="1616" y="850"/>
                  </a:lnTo>
                  <a:lnTo>
                    <a:pt x="1624" y="851"/>
                  </a:lnTo>
                  <a:lnTo>
                    <a:pt x="1634" y="850"/>
                  </a:lnTo>
                  <a:lnTo>
                    <a:pt x="1643" y="847"/>
                  </a:lnTo>
                  <a:lnTo>
                    <a:pt x="1646" y="849"/>
                  </a:lnTo>
                  <a:lnTo>
                    <a:pt x="1652" y="853"/>
                  </a:lnTo>
                  <a:lnTo>
                    <a:pt x="1663" y="858"/>
                  </a:lnTo>
                  <a:lnTo>
                    <a:pt x="1675" y="865"/>
                  </a:lnTo>
                  <a:lnTo>
                    <a:pt x="1689" y="869"/>
                  </a:lnTo>
                  <a:lnTo>
                    <a:pt x="1705" y="871"/>
                  </a:lnTo>
                  <a:lnTo>
                    <a:pt x="1720" y="869"/>
                  </a:lnTo>
                  <a:lnTo>
                    <a:pt x="1737" y="862"/>
                  </a:lnTo>
                  <a:lnTo>
                    <a:pt x="1738" y="862"/>
                  </a:lnTo>
                  <a:lnTo>
                    <a:pt x="1741" y="861"/>
                  </a:lnTo>
                  <a:lnTo>
                    <a:pt x="1747" y="860"/>
                  </a:lnTo>
                  <a:lnTo>
                    <a:pt x="1752" y="860"/>
                  </a:lnTo>
                  <a:lnTo>
                    <a:pt x="1759" y="861"/>
                  </a:lnTo>
                  <a:lnTo>
                    <a:pt x="1766" y="864"/>
                  </a:lnTo>
                  <a:lnTo>
                    <a:pt x="1773" y="869"/>
                  </a:lnTo>
                  <a:lnTo>
                    <a:pt x="1778" y="877"/>
                  </a:lnTo>
                  <a:lnTo>
                    <a:pt x="1787" y="886"/>
                  </a:lnTo>
                  <a:lnTo>
                    <a:pt x="1799" y="893"/>
                  </a:lnTo>
                  <a:lnTo>
                    <a:pt x="1813" y="897"/>
                  </a:lnTo>
                  <a:lnTo>
                    <a:pt x="1829" y="898"/>
                  </a:lnTo>
                  <a:lnTo>
                    <a:pt x="1846" y="895"/>
                  </a:lnTo>
                  <a:lnTo>
                    <a:pt x="1862" y="889"/>
                  </a:lnTo>
                  <a:lnTo>
                    <a:pt x="1876" y="877"/>
                  </a:lnTo>
                  <a:lnTo>
                    <a:pt x="1887" y="862"/>
                  </a:lnTo>
                  <a:lnTo>
                    <a:pt x="1890" y="858"/>
                  </a:lnTo>
                  <a:lnTo>
                    <a:pt x="1898" y="853"/>
                  </a:lnTo>
                  <a:lnTo>
                    <a:pt x="1906" y="854"/>
                  </a:lnTo>
                  <a:lnTo>
                    <a:pt x="1916" y="869"/>
                  </a:lnTo>
                  <a:lnTo>
                    <a:pt x="1923" y="880"/>
                  </a:lnTo>
                  <a:lnTo>
                    <a:pt x="1933" y="886"/>
                  </a:lnTo>
                  <a:lnTo>
                    <a:pt x="1945" y="887"/>
                  </a:lnTo>
                  <a:lnTo>
                    <a:pt x="1959" y="886"/>
                  </a:lnTo>
                  <a:lnTo>
                    <a:pt x="1971" y="883"/>
                  </a:lnTo>
                  <a:lnTo>
                    <a:pt x="1982" y="879"/>
                  </a:lnTo>
                  <a:lnTo>
                    <a:pt x="1989" y="873"/>
                  </a:lnTo>
                  <a:lnTo>
                    <a:pt x="1992" y="869"/>
                  </a:lnTo>
                  <a:lnTo>
                    <a:pt x="1996" y="864"/>
                  </a:lnTo>
                  <a:lnTo>
                    <a:pt x="2007" y="861"/>
                  </a:lnTo>
                  <a:lnTo>
                    <a:pt x="2018" y="862"/>
                  </a:lnTo>
                  <a:lnTo>
                    <a:pt x="2022" y="862"/>
                  </a:lnTo>
                  <a:lnTo>
                    <a:pt x="2066" y="86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4080" y="3103560"/>
              <a:ext cx="243000" cy="276120"/>
            </a:xfrm>
            <a:custGeom>
              <a:avLst/>
              <a:gdLst/>
              <a:ahLst/>
              <a:rect l="l" t="t" r="r" b="b"/>
              <a:pathLst>
                <a:path w="153" h="174">
                  <a:moveTo>
                    <a:pt x="78" y="35"/>
                  </a:moveTo>
                  <a:lnTo>
                    <a:pt x="73" y="27"/>
                  </a:lnTo>
                  <a:lnTo>
                    <a:pt x="60" y="10"/>
                  </a:lnTo>
                  <a:lnTo>
                    <a:pt x="46" y="0"/>
                  </a:lnTo>
                  <a:lnTo>
                    <a:pt x="41" y="13"/>
                  </a:lnTo>
                  <a:lnTo>
                    <a:pt x="40" y="38"/>
                  </a:lnTo>
                  <a:lnTo>
                    <a:pt x="38" y="54"/>
                  </a:lnTo>
                  <a:lnTo>
                    <a:pt x="33" y="61"/>
                  </a:lnTo>
                  <a:lnTo>
                    <a:pt x="26" y="58"/>
                  </a:lnTo>
                  <a:lnTo>
                    <a:pt x="16" y="58"/>
                  </a:lnTo>
                  <a:lnTo>
                    <a:pt x="7" y="71"/>
                  </a:lnTo>
                  <a:lnTo>
                    <a:pt x="0" y="87"/>
                  </a:lnTo>
                  <a:lnTo>
                    <a:pt x="0" y="102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8" y="120"/>
                  </a:lnTo>
                  <a:lnTo>
                    <a:pt x="23" y="123"/>
                  </a:lnTo>
                  <a:lnTo>
                    <a:pt x="30" y="124"/>
                  </a:lnTo>
                  <a:lnTo>
                    <a:pt x="35" y="126"/>
                  </a:lnTo>
                  <a:lnTo>
                    <a:pt x="41" y="126"/>
                  </a:lnTo>
                  <a:lnTo>
                    <a:pt x="46" y="126"/>
                  </a:lnTo>
                  <a:lnTo>
                    <a:pt x="53" y="126"/>
                  </a:lnTo>
                  <a:lnTo>
                    <a:pt x="60" y="126"/>
                  </a:lnTo>
                  <a:lnTo>
                    <a:pt x="67" y="126"/>
                  </a:lnTo>
                  <a:lnTo>
                    <a:pt x="71" y="127"/>
                  </a:lnTo>
                  <a:lnTo>
                    <a:pt x="75" y="129"/>
                  </a:lnTo>
                  <a:lnTo>
                    <a:pt x="77" y="131"/>
                  </a:lnTo>
                  <a:lnTo>
                    <a:pt x="75" y="137"/>
                  </a:lnTo>
                  <a:lnTo>
                    <a:pt x="74" y="148"/>
                  </a:lnTo>
                  <a:lnTo>
                    <a:pt x="81" y="156"/>
                  </a:lnTo>
                  <a:lnTo>
                    <a:pt x="92" y="163"/>
                  </a:lnTo>
                  <a:lnTo>
                    <a:pt x="102" y="167"/>
                  </a:lnTo>
                  <a:lnTo>
                    <a:pt x="106" y="169"/>
                  </a:lnTo>
                  <a:lnTo>
                    <a:pt x="111" y="170"/>
                  </a:lnTo>
                  <a:lnTo>
                    <a:pt x="117" y="173"/>
                  </a:lnTo>
                  <a:lnTo>
                    <a:pt x="122" y="174"/>
                  </a:lnTo>
                  <a:lnTo>
                    <a:pt x="129" y="174"/>
                  </a:lnTo>
                  <a:lnTo>
                    <a:pt x="135" y="174"/>
                  </a:lnTo>
                  <a:lnTo>
                    <a:pt x="142" y="171"/>
                  </a:lnTo>
                  <a:lnTo>
                    <a:pt x="147" y="167"/>
                  </a:lnTo>
                  <a:lnTo>
                    <a:pt x="153" y="157"/>
                  </a:lnTo>
                  <a:lnTo>
                    <a:pt x="151" y="148"/>
                  </a:lnTo>
                  <a:lnTo>
                    <a:pt x="144" y="138"/>
                  </a:lnTo>
                  <a:lnTo>
                    <a:pt x="135" y="129"/>
                  </a:lnTo>
                  <a:lnTo>
                    <a:pt x="126" y="116"/>
                  </a:lnTo>
                  <a:lnTo>
                    <a:pt x="124" y="104"/>
                  </a:lnTo>
                  <a:lnTo>
                    <a:pt x="118" y="96"/>
                  </a:lnTo>
                  <a:lnTo>
                    <a:pt x="108" y="96"/>
                  </a:lnTo>
                  <a:lnTo>
                    <a:pt x="106" y="93"/>
                  </a:lnTo>
                  <a:lnTo>
                    <a:pt x="100" y="86"/>
                  </a:lnTo>
                  <a:lnTo>
                    <a:pt x="95" y="76"/>
                  </a:lnTo>
                  <a:lnTo>
                    <a:pt x="93" y="65"/>
                  </a:lnTo>
                  <a:lnTo>
                    <a:pt x="96" y="56"/>
                  </a:lnTo>
                  <a:lnTo>
                    <a:pt x="95" y="47"/>
                  </a:lnTo>
                  <a:lnTo>
                    <a:pt x="89" y="40"/>
                  </a:lnTo>
                  <a:lnTo>
                    <a:pt x="78" y="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4920" y="3146400"/>
              <a:ext cx="173160" cy="582480"/>
            </a:xfrm>
            <a:custGeom>
              <a:avLst/>
              <a:gdLst/>
              <a:ahLst/>
              <a:rect l="l" t="t" r="r" b="b"/>
              <a:pathLst>
                <a:path w="109" h="367">
                  <a:moveTo>
                    <a:pt x="42" y="49"/>
                  </a:moveTo>
                  <a:lnTo>
                    <a:pt x="40" y="48"/>
                  </a:lnTo>
                  <a:lnTo>
                    <a:pt x="39" y="44"/>
                  </a:lnTo>
                  <a:lnTo>
                    <a:pt x="37" y="37"/>
                  </a:lnTo>
                  <a:lnTo>
                    <a:pt x="40" y="29"/>
                  </a:lnTo>
                  <a:lnTo>
                    <a:pt x="43" y="19"/>
                  </a:lnTo>
                  <a:lnTo>
                    <a:pt x="43" y="9"/>
                  </a:lnTo>
                  <a:lnTo>
                    <a:pt x="40" y="4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7" y="8"/>
                  </a:lnTo>
                  <a:lnTo>
                    <a:pt x="11" y="18"/>
                  </a:lnTo>
                  <a:lnTo>
                    <a:pt x="6" y="22"/>
                  </a:lnTo>
                  <a:lnTo>
                    <a:pt x="3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6"/>
                  </a:lnTo>
                  <a:lnTo>
                    <a:pt x="13" y="53"/>
                  </a:lnTo>
                  <a:lnTo>
                    <a:pt x="18" y="62"/>
                  </a:lnTo>
                  <a:lnTo>
                    <a:pt x="25" y="67"/>
                  </a:lnTo>
                  <a:lnTo>
                    <a:pt x="32" y="74"/>
                  </a:lnTo>
                  <a:lnTo>
                    <a:pt x="36" y="81"/>
                  </a:lnTo>
                  <a:lnTo>
                    <a:pt x="37" y="91"/>
                  </a:lnTo>
                  <a:lnTo>
                    <a:pt x="37" y="100"/>
                  </a:lnTo>
                  <a:lnTo>
                    <a:pt x="39" y="107"/>
                  </a:lnTo>
                  <a:lnTo>
                    <a:pt x="42" y="111"/>
                  </a:lnTo>
                  <a:lnTo>
                    <a:pt x="44" y="114"/>
                  </a:lnTo>
                  <a:lnTo>
                    <a:pt x="47" y="118"/>
                  </a:lnTo>
                  <a:lnTo>
                    <a:pt x="48" y="126"/>
                  </a:lnTo>
                  <a:lnTo>
                    <a:pt x="47" y="135"/>
                  </a:lnTo>
                  <a:lnTo>
                    <a:pt x="46" y="144"/>
                  </a:lnTo>
                  <a:lnTo>
                    <a:pt x="46" y="151"/>
                  </a:lnTo>
                  <a:lnTo>
                    <a:pt x="44" y="155"/>
                  </a:lnTo>
                  <a:lnTo>
                    <a:pt x="42" y="157"/>
                  </a:lnTo>
                  <a:lnTo>
                    <a:pt x="36" y="157"/>
                  </a:lnTo>
                  <a:lnTo>
                    <a:pt x="32" y="154"/>
                  </a:lnTo>
                  <a:lnTo>
                    <a:pt x="28" y="148"/>
                  </a:lnTo>
                  <a:lnTo>
                    <a:pt x="22" y="144"/>
                  </a:lnTo>
                  <a:lnTo>
                    <a:pt x="17" y="140"/>
                  </a:lnTo>
                  <a:lnTo>
                    <a:pt x="11" y="139"/>
                  </a:lnTo>
                  <a:lnTo>
                    <a:pt x="6" y="142"/>
                  </a:lnTo>
                  <a:lnTo>
                    <a:pt x="3" y="147"/>
                  </a:lnTo>
                  <a:lnTo>
                    <a:pt x="4" y="157"/>
                  </a:lnTo>
                  <a:lnTo>
                    <a:pt x="11" y="166"/>
                  </a:lnTo>
                  <a:lnTo>
                    <a:pt x="17" y="177"/>
                  </a:lnTo>
                  <a:lnTo>
                    <a:pt x="20" y="188"/>
                  </a:lnTo>
                  <a:lnTo>
                    <a:pt x="20" y="201"/>
                  </a:lnTo>
                  <a:lnTo>
                    <a:pt x="22" y="213"/>
                  </a:lnTo>
                  <a:lnTo>
                    <a:pt x="28" y="221"/>
                  </a:lnTo>
                  <a:lnTo>
                    <a:pt x="32" y="223"/>
                  </a:lnTo>
                  <a:lnTo>
                    <a:pt x="36" y="226"/>
                  </a:lnTo>
                  <a:lnTo>
                    <a:pt x="37" y="234"/>
                  </a:lnTo>
                  <a:lnTo>
                    <a:pt x="37" y="245"/>
                  </a:lnTo>
                  <a:lnTo>
                    <a:pt x="40" y="257"/>
                  </a:lnTo>
                  <a:lnTo>
                    <a:pt x="42" y="268"/>
                  </a:lnTo>
                  <a:lnTo>
                    <a:pt x="42" y="277"/>
                  </a:lnTo>
                  <a:lnTo>
                    <a:pt x="40" y="281"/>
                  </a:lnTo>
                  <a:lnTo>
                    <a:pt x="36" y="281"/>
                  </a:lnTo>
                  <a:lnTo>
                    <a:pt x="31" y="279"/>
                  </a:lnTo>
                  <a:lnTo>
                    <a:pt x="26" y="278"/>
                  </a:lnTo>
                  <a:lnTo>
                    <a:pt x="24" y="279"/>
                  </a:lnTo>
                  <a:lnTo>
                    <a:pt x="21" y="286"/>
                  </a:lnTo>
                  <a:lnTo>
                    <a:pt x="20" y="296"/>
                  </a:lnTo>
                  <a:lnTo>
                    <a:pt x="21" y="308"/>
                  </a:lnTo>
                  <a:lnTo>
                    <a:pt x="25" y="318"/>
                  </a:lnTo>
                  <a:lnTo>
                    <a:pt x="29" y="322"/>
                  </a:lnTo>
                  <a:lnTo>
                    <a:pt x="35" y="327"/>
                  </a:lnTo>
                  <a:lnTo>
                    <a:pt x="36" y="336"/>
                  </a:lnTo>
                  <a:lnTo>
                    <a:pt x="36" y="347"/>
                  </a:lnTo>
                  <a:lnTo>
                    <a:pt x="36" y="356"/>
                  </a:lnTo>
                  <a:lnTo>
                    <a:pt x="36" y="365"/>
                  </a:lnTo>
                  <a:lnTo>
                    <a:pt x="36" y="367"/>
                  </a:lnTo>
                  <a:lnTo>
                    <a:pt x="39" y="367"/>
                  </a:lnTo>
                  <a:lnTo>
                    <a:pt x="44" y="367"/>
                  </a:lnTo>
                  <a:lnTo>
                    <a:pt x="51" y="367"/>
                  </a:lnTo>
                  <a:lnTo>
                    <a:pt x="57" y="367"/>
                  </a:lnTo>
                  <a:lnTo>
                    <a:pt x="59" y="366"/>
                  </a:lnTo>
                  <a:lnTo>
                    <a:pt x="58" y="363"/>
                  </a:lnTo>
                  <a:lnTo>
                    <a:pt x="55" y="358"/>
                  </a:lnTo>
                  <a:lnTo>
                    <a:pt x="53" y="350"/>
                  </a:lnTo>
                  <a:lnTo>
                    <a:pt x="48" y="337"/>
                  </a:lnTo>
                  <a:lnTo>
                    <a:pt x="46" y="323"/>
                  </a:lnTo>
                  <a:lnTo>
                    <a:pt x="44" y="311"/>
                  </a:lnTo>
                  <a:lnTo>
                    <a:pt x="46" y="304"/>
                  </a:lnTo>
                  <a:lnTo>
                    <a:pt x="50" y="301"/>
                  </a:lnTo>
                  <a:lnTo>
                    <a:pt x="54" y="301"/>
                  </a:lnTo>
                  <a:lnTo>
                    <a:pt x="59" y="305"/>
                  </a:lnTo>
                  <a:lnTo>
                    <a:pt x="64" y="312"/>
                  </a:lnTo>
                  <a:lnTo>
                    <a:pt x="66" y="321"/>
                  </a:lnTo>
                  <a:lnTo>
                    <a:pt x="69" y="327"/>
                  </a:lnTo>
                  <a:lnTo>
                    <a:pt x="75" y="332"/>
                  </a:lnTo>
                  <a:lnTo>
                    <a:pt x="86" y="334"/>
                  </a:lnTo>
                  <a:lnTo>
                    <a:pt x="98" y="336"/>
                  </a:lnTo>
                  <a:lnTo>
                    <a:pt x="106" y="336"/>
                  </a:lnTo>
                  <a:lnTo>
                    <a:pt x="109" y="333"/>
                  </a:lnTo>
                  <a:lnTo>
                    <a:pt x="104" y="325"/>
                  </a:lnTo>
                  <a:lnTo>
                    <a:pt x="94" y="311"/>
                  </a:lnTo>
                  <a:lnTo>
                    <a:pt x="86" y="294"/>
                  </a:lnTo>
                  <a:lnTo>
                    <a:pt x="79" y="279"/>
                  </a:lnTo>
                  <a:lnTo>
                    <a:pt x="76" y="265"/>
                  </a:lnTo>
                  <a:lnTo>
                    <a:pt x="76" y="256"/>
                  </a:lnTo>
                  <a:lnTo>
                    <a:pt x="76" y="248"/>
                  </a:lnTo>
                  <a:lnTo>
                    <a:pt x="76" y="241"/>
                  </a:lnTo>
                  <a:lnTo>
                    <a:pt x="76" y="232"/>
                  </a:lnTo>
                  <a:lnTo>
                    <a:pt x="76" y="221"/>
                  </a:lnTo>
                  <a:lnTo>
                    <a:pt x="77" y="210"/>
                  </a:lnTo>
                  <a:lnTo>
                    <a:pt x="77" y="199"/>
                  </a:lnTo>
                  <a:lnTo>
                    <a:pt x="75" y="187"/>
                  </a:lnTo>
                  <a:lnTo>
                    <a:pt x="70" y="176"/>
                  </a:lnTo>
                  <a:lnTo>
                    <a:pt x="69" y="168"/>
                  </a:lnTo>
                  <a:lnTo>
                    <a:pt x="69" y="164"/>
                  </a:lnTo>
                  <a:lnTo>
                    <a:pt x="73" y="161"/>
                  </a:lnTo>
                  <a:lnTo>
                    <a:pt x="76" y="157"/>
                  </a:lnTo>
                  <a:lnTo>
                    <a:pt x="76" y="148"/>
                  </a:lnTo>
                  <a:lnTo>
                    <a:pt x="76" y="140"/>
                  </a:lnTo>
                  <a:lnTo>
                    <a:pt x="76" y="133"/>
                  </a:lnTo>
                  <a:lnTo>
                    <a:pt x="79" y="129"/>
                  </a:lnTo>
                  <a:lnTo>
                    <a:pt x="83" y="128"/>
                  </a:lnTo>
                  <a:lnTo>
                    <a:pt x="84" y="126"/>
                  </a:lnTo>
                  <a:lnTo>
                    <a:pt x="84" y="121"/>
                  </a:lnTo>
                  <a:lnTo>
                    <a:pt x="80" y="115"/>
                  </a:lnTo>
                  <a:lnTo>
                    <a:pt x="73" y="113"/>
                  </a:lnTo>
                  <a:lnTo>
                    <a:pt x="65" y="108"/>
                  </a:lnTo>
                  <a:lnTo>
                    <a:pt x="58" y="103"/>
                  </a:lnTo>
                  <a:lnTo>
                    <a:pt x="54" y="93"/>
                  </a:lnTo>
                  <a:lnTo>
                    <a:pt x="50" y="82"/>
                  </a:lnTo>
                  <a:lnTo>
                    <a:pt x="47" y="71"/>
                  </a:lnTo>
                  <a:lnTo>
                    <a:pt x="46" y="63"/>
                  </a:lnTo>
                  <a:lnTo>
                    <a:pt x="46" y="56"/>
                  </a:lnTo>
                  <a:lnTo>
                    <a:pt x="44" y="52"/>
                  </a:lnTo>
                  <a:lnTo>
                    <a:pt x="42" y="51"/>
                  </a:lnTo>
                  <a:lnTo>
                    <a:pt x="42" y="4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33760" y="3444840"/>
              <a:ext cx="130320" cy="171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1" y="31"/>
                  </a:moveTo>
                  <a:lnTo>
                    <a:pt x="40" y="29"/>
                  </a:lnTo>
                  <a:lnTo>
                    <a:pt x="38" y="27"/>
                  </a:lnTo>
                  <a:lnTo>
                    <a:pt x="38" y="21"/>
                  </a:lnTo>
                  <a:lnTo>
                    <a:pt x="41" y="16"/>
                  </a:lnTo>
                  <a:lnTo>
                    <a:pt x="44" y="9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4" y="6"/>
                  </a:lnTo>
                  <a:lnTo>
                    <a:pt x="30" y="10"/>
                  </a:lnTo>
                  <a:lnTo>
                    <a:pt x="23" y="13"/>
                  </a:lnTo>
                  <a:lnTo>
                    <a:pt x="16" y="11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12" y="24"/>
                  </a:lnTo>
                  <a:lnTo>
                    <a:pt x="18" y="28"/>
                  </a:lnTo>
                  <a:lnTo>
                    <a:pt x="20" y="35"/>
                  </a:lnTo>
                  <a:lnTo>
                    <a:pt x="20" y="39"/>
                  </a:lnTo>
                  <a:lnTo>
                    <a:pt x="18" y="42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3" y="42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1"/>
                  </a:lnTo>
                  <a:lnTo>
                    <a:pt x="9" y="65"/>
                  </a:lnTo>
                  <a:lnTo>
                    <a:pt x="16" y="66"/>
                  </a:lnTo>
                  <a:lnTo>
                    <a:pt x="26" y="65"/>
                  </a:lnTo>
                  <a:lnTo>
                    <a:pt x="38" y="62"/>
                  </a:lnTo>
                  <a:lnTo>
                    <a:pt x="47" y="62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9"/>
                  </a:lnTo>
                  <a:lnTo>
                    <a:pt x="55" y="84"/>
                  </a:lnTo>
                  <a:lnTo>
                    <a:pt x="60" y="89"/>
                  </a:lnTo>
                  <a:lnTo>
                    <a:pt x="65" y="93"/>
                  </a:lnTo>
                  <a:lnTo>
                    <a:pt x="66" y="100"/>
                  </a:lnTo>
                  <a:lnTo>
                    <a:pt x="66" y="105"/>
                  </a:lnTo>
                  <a:lnTo>
                    <a:pt x="66" y="108"/>
                  </a:lnTo>
                  <a:lnTo>
                    <a:pt x="67" y="106"/>
                  </a:lnTo>
                  <a:lnTo>
                    <a:pt x="71" y="104"/>
                  </a:lnTo>
                  <a:lnTo>
                    <a:pt x="77" y="101"/>
                  </a:lnTo>
                  <a:lnTo>
                    <a:pt x="81" y="97"/>
                  </a:lnTo>
                  <a:lnTo>
                    <a:pt x="82" y="93"/>
                  </a:lnTo>
                  <a:lnTo>
                    <a:pt x="82" y="89"/>
                  </a:lnTo>
                  <a:lnTo>
                    <a:pt x="80" y="84"/>
                  </a:lnTo>
                  <a:lnTo>
                    <a:pt x="76" y="77"/>
                  </a:lnTo>
                  <a:lnTo>
                    <a:pt x="71" y="69"/>
                  </a:lnTo>
                  <a:lnTo>
                    <a:pt x="66" y="61"/>
                  </a:lnTo>
                  <a:lnTo>
                    <a:pt x="62" y="54"/>
                  </a:lnTo>
                  <a:lnTo>
                    <a:pt x="55" y="51"/>
                  </a:lnTo>
                  <a:lnTo>
                    <a:pt x="48" y="49"/>
                  </a:lnTo>
                  <a:lnTo>
                    <a:pt x="44" y="44"/>
                  </a:lnTo>
                  <a:lnTo>
                    <a:pt x="41" y="39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08280" y="3662280"/>
              <a:ext cx="290520" cy="330120"/>
            </a:xfrm>
            <a:custGeom>
              <a:avLst/>
              <a:gdLst/>
              <a:ahLst/>
              <a:rect l="l" t="t" r="r" b="b"/>
              <a:pathLst>
                <a:path w="183" h="208">
                  <a:moveTo>
                    <a:pt x="9" y="0"/>
                  </a:moveTo>
                  <a:lnTo>
                    <a:pt x="13" y="4"/>
                  </a:lnTo>
                  <a:lnTo>
                    <a:pt x="22" y="12"/>
                  </a:lnTo>
                  <a:lnTo>
                    <a:pt x="30" y="22"/>
                  </a:lnTo>
                  <a:lnTo>
                    <a:pt x="37" y="25"/>
                  </a:lnTo>
                  <a:lnTo>
                    <a:pt x="40" y="22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55" y="16"/>
                  </a:lnTo>
                  <a:lnTo>
                    <a:pt x="59" y="19"/>
                  </a:lnTo>
                  <a:lnTo>
                    <a:pt x="60" y="20"/>
                  </a:lnTo>
                  <a:lnTo>
                    <a:pt x="60" y="23"/>
                  </a:lnTo>
                  <a:lnTo>
                    <a:pt x="64" y="27"/>
                  </a:lnTo>
                  <a:lnTo>
                    <a:pt x="69" y="33"/>
                  </a:lnTo>
                  <a:lnTo>
                    <a:pt x="73" y="36"/>
                  </a:lnTo>
                  <a:lnTo>
                    <a:pt x="75" y="40"/>
                  </a:lnTo>
                  <a:lnTo>
                    <a:pt x="77" y="45"/>
                  </a:lnTo>
                  <a:lnTo>
                    <a:pt x="80" y="51"/>
                  </a:lnTo>
                  <a:lnTo>
                    <a:pt x="84" y="58"/>
                  </a:lnTo>
                  <a:lnTo>
                    <a:pt x="88" y="62"/>
                  </a:lnTo>
                  <a:lnTo>
                    <a:pt x="93" y="66"/>
                  </a:lnTo>
                  <a:lnTo>
                    <a:pt x="100" y="73"/>
                  </a:lnTo>
                  <a:lnTo>
                    <a:pt x="107" y="81"/>
                  </a:lnTo>
                  <a:lnTo>
                    <a:pt x="113" y="89"/>
                  </a:lnTo>
                  <a:lnTo>
                    <a:pt x="115" y="92"/>
                  </a:lnTo>
                  <a:lnTo>
                    <a:pt x="113" y="91"/>
                  </a:lnTo>
                  <a:lnTo>
                    <a:pt x="107" y="87"/>
                  </a:lnTo>
                  <a:lnTo>
                    <a:pt x="99" y="82"/>
                  </a:lnTo>
                  <a:lnTo>
                    <a:pt x="92" y="78"/>
                  </a:lnTo>
                  <a:lnTo>
                    <a:pt x="86" y="75"/>
                  </a:lnTo>
                  <a:lnTo>
                    <a:pt x="80" y="71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4" y="70"/>
                  </a:lnTo>
                  <a:lnTo>
                    <a:pt x="75" y="75"/>
                  </a:lnTo>
                  <a:lnTo>
                    <a:pt x="80" y="82"/>
                  </a:lnTo>
                  <a:lnTo>
                    <a:pt x="86" y="89"/>
                  </a:lnTo>
                  <a:lnTo>
                    <a:pt x="93" y="95"/>
                  </a:lnTo>
                  <a:lnTo>
                    <a:pt x="102" y="100"/>
                  </a:lnTo>
                  <a:lnTo>
                    <a:pt x="108" y="103"/>
                  </a:lnTo>
                  <a:lnTo>
                    <a:pt x="115" y="103"/>
                  </a:lnTo>
                  <a:lnTo>
                    <a:pt x="121" y="104"/>
                  </a:lnTo>
                  <a:lnTo>
                    <a:pt x="126" y="110"/>
                  </a:lnTo>
                  <a:lnTo>
                    <a:pt x="132" y="115"/>
                  </a:lnTo>
                  <a:lnTo>
                    <a:pt x="137" y="121"/>
                  </a:lnTo>
                  <a:lnTo>
                    <a:pt x="144" y="129"/>
                  </a:lnTo>
                  <a:lnTo>
                    <a:pt x="153" y="144"/>
                  </a:lnTo>
                  <a:lnTo>
                    <a:pt x="162" y="155"/>
                  </a:lnTo>
                  <a:lnTo>
                    <a:pt x="168" y="160"/>
                  </a:lnTo>
                  <a:lnTo>
                    <a:pt x="172" y="158"/>
                  </a:lnTo>
                  <a:lnTo>
                    <a:pt x="177" y="160"/>
                  </a:lnTo>
                  <a:lnTo>
                    <a:pt x="181" y="165"/>
                  </a:lnTo>
                  <a:lnTo>
                    <a:pt x="183" y="173"/>
                  </a:lnTo>
                  <a:lnTo>
                    <a:pt x="181" y="183"/>
                  </a:lnTo>
                  <a:lnTo>
                    <a:pt x="180" y="193"/>
                  </a:lnTo>
                  <a:lnTo>
                    <a:pt x="176" y="198"/>
                  </a:lnTo>
                  <a:lnTo>
                    <a:pt x="170" y="197"/>
                  </a:lnTo>
                  <a:lnTo>
                    <a:pt x="165" y="190"/>
                  </a:lnTo>
                  <a:lnTo>
                    <a:pt x="162" y="184"/>
                  </a:lnTo>
                  <a:lnTo>
                    <a:pt x="159" y="182"/>
                  </a:lnTo>
                  <a:lnTo>
                    <a:pt x="158" y="186"/>
                  </a:lnTo>
                  <a:lnTo>
                    <a:pt x="158" y="194"/>
                  </a:lnTo>
                  <a:lnTo>
                    <a:pt x="158" y="204"/>
                  </a:lnTo>
                  <a:lnTo>
                    <a:pt x="157" y="208"/>
                  </a:lnTo>
                  <a:lnTo>
                    <a:pt x="151" y="205"/>
                  </a:lnTo>
                  <a:lnTo>
                    <a:pt x="144" y="197"/>
                  </a:lnTo>
                  <a:lnTo>
                    <a:pt x="137" y="191"/>
                  </a:lnTo>
                  <a:lnTo>
                    <a:pt x="133" y="184"/>
                  </a:lnTo>
                  <a:lnTo>
                    <a:pt x="132" y="177"/>
                  </a:lnTo>
                  <a:lnTo>
                    <a:pt x="133" y="169"/>
                  </a:lnTo>
                  <a:lnTo>
                    <a:pt x="133" y="162"/>
                  </a:lnTo>
                  <a:lnTo>
                    <a:pt x="129" y="155"/>
                  </a:lnTo>
                  <a:lnTo>
                    <a:pt x="121" y="151"/>
                  </a:lnTo>
                  <a:lnTo>
                    <a:pt x="113" y="147"/>
                  </a:lnTo>
                  <a:lnTo>
                    <a:pt x="108" y="144"/>
                  </a:lnTo>
                  <a:lnTo>
                    <a:pt x="106" y="142"/>
                  </a:lnTo>
                  <a:lnTo>
                    <a:pt x="103" y="136"/>
                  </a:lnTo>
                  <a:lnTo>
                    <a:pt x="102" y="131"/>
                  </a:lnTo>
                  <a:lnTo>
                    <a:pt x="99" y="126"/>
                  </a:lnTo>
                  <a:lnTo>
                    <a:pt x="96" y="122"/>
                  </a:lnTo>
                  <a:lnTo>
                    <a:pt x="89" y="118"/>
                  </a:lnTo>
                  <a:lnTo>
                    <a:pt x="84" y="115"/>
                  </a:lnTo>
                  <a:lnTo>
                    <a:pt x="81" y="111"/>
                  </a:lnTo>
                  <a:lnTo>
                    <a:pt x="78" y="109"/>
                  </a:lnTo>
                  <a:lnTo>
                    <a:pt x="71" y="104"/>
                  </a:lnTo>
                  <a:lnTo>
                    <a:pt x="63" y="102"/>
                  </a:lnTo>
                  <a:lnTo>
                    <a:pt x="56" y="98"/>
                  </a:lnTo>
                  <a:lnTo>
                    <a:pt x="52" y="93"/>
                  </a:lnTo>
                  <a:lnTo>
                    <a:pt x="51" y="87"/>
                  </a:lnTo>
                  <a:lnTo>
                    <a:pt x="49" y="77"/>
                  </a:lnTo>
                  <a:lnTo>
                    <a:pt x="45" y="69"/>
                  </a:lnTo>
                  <a:lnTo>
                    <a:pt x="40" y="60"/>
                  </a:lnTo>
                  <a:lnTo>
                    <a:pt x="37" y="52"/>
                  </a:lnTo>
                  <a:lnTo>
                    <a:pt x="35" y="47"/>
                  </a:lnTo>
                  <a:lnTo>
                    <a:pt x="35" y="42"/>
                  </a:lnTo>
                  <a:lnTo>
                    <a:pt x="33" y="40"/>
                  </a:lnTo>
                  <a:lnTo>
                    <a:pt x="29" y="34"/>
                  </a:lnTo>
                  <a:lnTo>
                    <a:pt x="24" y="30"/>
                  </a:lnTo>
                  <a:lnTo>
                    <a:pt x="19" y="25"/>
                  </a:lnTo>
                  <a:lnTo>
                    <a:pt x="12" y="18"/>
                  </a:lnTo>
                  <a:lnTo>
                    <a:pt x="7" y="12"/>
                  </a:lnTo>
                  <a:lnTo>
                    <a:pt x="1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95840" y="41371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24" y="12"/>
                  </a:lnTo>
                  <a:lnTo>
                    <a:pt x="33" y="19"/>
                  </a:lnTo>
                  <a:lnTo>
                    <a:pt x="40" y="23"/>
                  </a:lnTo>
                  <a:lnTo>
                    <a:pt x="46" y="27"/>
                  </a:lnTo>
                  <a:lnTo>
                    <a:pt x="52" y="34"/>
                  </a:lnTo>
                  <a:lnTo>
                    <a:pt x="59" y="45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57" y="62"/>
                  </a:lnTo>
                  <a:lnTo>
                    <a:pt x="51" y="58"/>
                  </a:lnTo>
                  <a:lnTo>
                    <a:pt x="44" y="53"/>
                  </a:lnTo>
                  <a:lnTo>
                    <a:pt x="37" y="46"/>
                  </a:lnTo>
                  <a:lnTo>
                    <a:pt x="26" y="37"/>
                  </a:lnTo>
                  <a:lnTo>
                    <a:pt x="18" y="27"/>
                  </a:lnTo>
                  <a:lnTo>
                    <a:pt x="13" y="22"/>
                  </a:lnTo>
                  <a:lnTo>
                    <a:pt x="8" y="18"/>
                  </a:lnTo>
                  <a:lnTo>
                    <a:pt x="4" y="13"/>
                  </a:lnTo>
                  <a:lnTo>
                    <a:pt x="1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2560" y="4254480"/>
              <a:ext cx="133560" cy="122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4" y="17"/>
                  </a:lnTo>
                  <a:lnTo>
                    <a:pt x="7" y="23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7" y="30"/>
                  </a:lnTo>
                  <a:lnTo>
                    <a:pt x="21" y="36"/>
                  </a:lnTo>
                  <a:lnTo>
                    <a:pt x="25" y="41"/>
                  </a:lnTo>
                  <a:lnTo>
                    <a:pt x="29" y="45"/>
                  </a:lnTo>
                  <a:lnTo>
                    <a:pt x="34" y="50"/>
                  </a:lnTo>
                  <a:lnTo>
                    <a:pt x="41" y="55"/>
                  </a:lnTo>
                  <a:lnTo>
                    <a:pt x="48" y="61"/>
                  </a:lnTo>
                  <a:lnTo>
                    <a:pt x="55" y="65"/>
                  </a:lnTo>
                  <a:lnTo>
                    <a:pt x="61" y="68"/>
                  </a:lnTo>
                  <a:lnTo>
                    <a:pt x="65" y="70"/>
                  </a:lnTo>
                  <a:lnTo>
                    <a:pt x="70" y="74"/>
                  </a:lnTo>
                  <a:lnTo>
                    <a:pt x="79" y="77"/>
                  </a:lnTo>
                  <a:lnTo>
                    <a:pt x="84" y="77"/>
                  </a:lnTo>
                  <a:lnTo>
                    <a:pt x="84" y="72"/>
                  </a:lnTo>
                  <a:lnTo>
                    <a:pt x="79" y="63"/>
                  </a:lnTo>
                  <a:lnTo>
                    <a:pt x="72" y="57"/>
                  </a:lnTo>
                  <a:lnTo>
                    <a:pt x="66" y="52"/>
                  </a:lnTo>
                  <a:lnTo>
                    <a:pt x="65" y="51"/>
                  </a:lnTo>
                  <a:lnTo>
                    <a:pt x="63" y="47"/>
                  </a:lnTo>
                  <a:lnTo>
                    <a:pt x="59" y="40"/>
                  </a:lnTo>
                  <a:lnTo>
                    <a:pt x="52" y="32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9" y="28"/>
                  </a:lnTo>
                  <a:lnTo>
                    <a:pt x="37" y="23"/>
                  </a:lnTo>
                  <a:lnTo>
                    <a:pt x="33" y="18"/>
                  </a:lnTo>
                  <a:lnTo>
                    <a:pt x="26" y="12"/>
                  </a:lnTo>
                  <a:lnTo>
                    <a:pt x="17" y="7"/>
                  </a:lnTo>
                  <a:lnTo>
                    <a:pt x="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49680" y="410832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19" y="8"/>
                  </a:moveTo>
                  <a:lnTo>
                    <a:pt x="16" y="7"/>
                  </a:lnTo>
                  <a:lnTo>
                    <a:pt x="11" y="2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5" y="22"/>
                  </a:lnTo>
                  <a:lnTo>
                    <a:pt x="12" y="22"/>
                  </a:lnTo>
                  <a:lnTo>
                    <a:pt x="19" y="20"/>
                  </a:lnTo>
                  <a:lnTo>
                    <a:pt x="23" y="22"/>
                  </a:lnTo>
                  <a:lnTo>
                    <a:pt x="25" y="29"/>
                  </a:lnTo>
                  <a:lnTo>
                    <a:pt x="26" y="37"/>
                  </a:lnTo>
                  <a:lnTo>
                    <a:pt x="29" y="42"/>
                  </a:lnTo>
                  <a:lnTo>
                    <a:pt x="33" y="47"/>
                  </a:lnTo>
                  <a:lnTo>
                    <a:pt x="41" y="52"/>
                  </a:lnTo>
                  <a:lnTo>
                    <a:pt x="51" y="60"/>
                  </a:lnTo>
                  <a:lnTo>
                    <a:pt x="60" y="73"/>
                  </a:lnTo>
                  <a:lnTo>
                    <a:pt x="70" y="87"/>
                  </a:lnTo>
                  <a:lnTo>
                    <a:pt x="76" y="98"/>
                  </a:lnTo>
                  <a:lnTo>
                    <a:pt x="82" y="106"/>
                  </a:lnTo>
                  <a:lnTo>
                    <a:pt x="89" y="114"/>
                  </a:lnTo>
                  <a:lnTo>
                    <a:pt x="96" y="121"/>
                  </a:lnTo>
                  <a:lnTo>
                    <a:pt x="102" y="128"/>
                  </a:lnTo>
                  <a:lnTo>
                    <a:pt x="106" y="135"/>
                  </a:lnTo>
                  <a:lnTo>
                    <a:pt x="110" y="142"/>
                  </a:lnTo>
                  <a:lnTo>
                    <a:pt x="114" y="147"/>
                  </a:lnTo>
                  <a:lnTo>
                    <a:pt x="118" y="149"/>
                  </a:lnTo>
                  <a:lnTo>
                    <a:pt x="124" y="147"/>
                  </a:lnTo>
                  <a:lnTo>
                    <a:pt x="128" y="146"/>
                  </a:lnTo>
                  <a:lnTo>
                    <a:pt x="131" y="142"/>
                  </a:lnTo>
                  <a:lnTo>
                    <a:pt x="128" y="136"/>
                  </a:lnTo>
                  <a:lnTo>
                    <a:pt x="124" y="128"/>
                  </a:lnTo>
                  <a:lnTo>
                    <a:pt x="117" y="120"/>
                  </a:lnTo>
                  <a:lnTo>
                    <a:pt x="111" y="111"/>
                  </a:lnTo>
                  <a:lnTo>
                    <a:pt x="106" y="107"/>
                  </a:lnTo>
                  <a:lnTo>
                    <a:pt x="102" y="104"/>
                  </a:lnTo>
                  <a:lnTo>
                    <a:pt x="99" y="103"/>
                  </a:lnTo>
                  <a:lnTo>
                    <a:pt x="96" y="100"/>
                  </a:lnTo>
                  <a:lnTo>
                    <a:pt x="95" y="98"/>
                  </a:lnTo>
                  <a:lnTo>
                    <a:pt x="95" y="93"/>
                  </a:lnTo>
                  <a:lnTo>
                    <a:pt x="93" y="89"/>
                  </a:lnTo>
                  <a:lnTo>
                    <a:pt x="89" y="87"/>
                  </a:lnTo>
                  <a:lnTo>
                    <a:pt x="84" y="81"/>
                  </a:lnTo>
                  <a:lnTo>
                    <a:pt x="77" y="73"/>
                  </a:lnTo>
                  <a:lnTo>
                    <a:pt x="70" y="62"/>
                  </a:lnTo>
                  <a:lnTo>
                    <a:pt x="63" y="53"/>
                  </a:lnTo>
                  <a:lnTo>
                    <a:pt x="55" y="48"/>
                  </a:lnTo>
                  <a:lnTo>
                    <a:pt x="48" y="47"/>
                  </a:lnTo>
                  <a:lnTo>
                    <a:pt x="43" y="44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7" y="29"/>
                  </a:lnTo>
                  <a:lnTo>
                    <a:pt x="33" y="23"/>
                  </a:lnTo>
                  <a:lnTo>
                    <a:pt x="27" y="18"/>
                  </a:lnTo>
                  <a:lnTo>
                    <a:pt x="20" y="15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9680" y="3749760"/>
              <a:ext cx="6048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6" y="0"/>
                  </a:moveTo>
                  <a:lnTo>
                    <a:pt x="9" y="1"/>
                  </a:lnTo>
                  <a:lnTo>
                    <a:pt x="17" y="4"/>
                  </a:lnTo>
                  <a:lnTo>
                    <a:pt x="25" y="9"/>
                  </a:lnTo>
                  <a:lnTo>
                    <a:pt x="31" y="16"/>
                  </a:lnTo>
                  <a:lnTo>
                    <a:pt x="35" y="25"/>
                  </a:lnTo>
                  <a:lnTo>
                    <a:pt x="36" y="33"/>
                  </a:lnTo>
                  <a:lnTo>
                    <a:pt x="38" y="43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3" y="44"/>
                  </a:lnTo>
                  <a:lnTo>
                    <a:pt x="28" y="36"/>
                  </a:lnTo>
                  <a:lnTo>
                    <a:pt x="21" y="30"/>
                  </a:lnTo>
                  <a:lnTo>
                    <a:pt x="17" y="26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9" y="14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92440" y="3871800"/>
              <a:ext cx="34920" cy="684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4" y="1"/>
                  </a:moveTo>
                  <a:lnTo>
                    <a:pt x="3" y="3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8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5" y="43"/>
                  </a:lnTo>
                  <a:lnTo>
                    <a:pt x="10" y="41"/>
                  </a:lnTo>
                  <a:lnTo>
                    <a:pt x="15" y="36"/>
                  </a:lnTo>
                  <a:lnTo>
                    <a:pt x="18" y="28"/>
                  </a:lnTo>
                  <a:lnTo>
                    <a:pt x="21" y="21"/>
                  </a:lnTo>
                  <a:lnTo>
                    <a:pt x="22" y="15"/>
                  </a:lnTo>
                  <a:lnTo>
                    <a:pt x="21" y="11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1680" y="4849920"/>
              <a:ext cx="330120" cy="13320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116" y="18"/>
                  </a:moveTo>
                  <a:lnTo>
                    <a:pt x="119" y="19"/>
                  </a:lnTo>
                  <a:lnTo>
                    <a:pt x="124" y="22"/>
                  </a:lnTo>
                  <a:lnTo>
                    <a:pt x="133" y="23"/>
                  </a:lnTo>
                  <a:lnTo>
                    <a:pt x="144" y="22"/>
                  </a:lnTo>
                  <a:lnTo>
                    <a:pt x="155" y="20"/>
                  </a:lnTo>
                  <a:lnTo>
                    <a:pt x="163" y="22"/>
                  </a:lnTo>
                  <a:lnTo>
                    <a:pt x="170" y="25"/>
                  </a:lnTo>
                  <a:lnTo>
                    <a:pt x="178" y="30"/>
                  </a:lnTo>
                  <a:lnTo>
                    <a:pt x="188" y="36"/>
                  </a:lnTo>
                  <a:lnTo>
                    <a:pt x="199" y="41"/>
                  </a:lnTo>
                  <a:lnTo>
                    <a:pt x="207" y="48"/>
                  </a:lnTo>
                  <a:lnTo>
                    <a:pt x="208" y="58"/>
                  </a:lnTo>
                  <a:lnTo>
                    <a:pt x="203" y="66"/>
                  </a:lnTo>
                  <a:lnTo>
                    <a:pt x="196" y="69"/>
                  </a:lnTo>
                  <a:lnTo>
                    <a:pt x="188" y="73"/>
                  </a:lnTo>
                  <a:lnTo>
                    <a:pt x="179" y="77"/>
                  </a:lnTo>
                  <a:lnTo>
                    <a:pt x="175" y="80"/>
                  </a:lnTo>
                  <a:lnTo>
                    <a:pt x="171" y="81"/>
                  </a:lnTo>
                  <a:lnTo>
                    <a:pt x="167" y="82"/>
                  </a:lnTo>
                  <a:lnTo>
                    <a:pt x="162" y="82"/>
                  </a:lnTo>
                  <a:lnTo>
                    <a:pt x="156" y="82"/>
                  </a:lnTo>
                  <a:lnTo>
                    <a:pt x="151" y="81"/>
                  </a:lnTo>
                  <a:lnTo>
                    <a:pt x="145" y="81"/>
                  </a:lnTo>
                  <a:lnTo>
                    <a:pt x="138" y="81"/>
                  </a:lnTo>
                  <a:lnTo>
                    <a:pt x="127" y="81"/>
                  </a:lnTo>
                  <a:lnTo>
                    <a:pt x="120" y="81"/>
                  </a:lnTo>
                  <a:lnTo>
                    <a:pt x="113" y="81"/>
                  </a:lnTo>
                  <a:lnTo>
                    <a:pt x="104" y="82"/>
                  </a:lnTo>
                  <a:lnTo>
                    <a:pt x="97" y="84"/>
                  </a:lnTo>
                  <a:lnTo>
                    <a:pt x="90" y="84"/>
                  </a:lnTo>
                  <a:lnTo>
                    <a:pt x="82" y="84"/>
                  </a:lnTo>
                  <a:lnTo>
                    <a:pt x="75" y="82"/>
                  </a:lnTo>
                  <a:lnTo>
                    <a:pt x="68" y="81"/>
                  </a:lnTo>
                  <a:lnTo>
                    <a:pt x="61" y="80"/>
                  </a:lnTo>
                  <a:lnTo>
                    <a:pt x="54" y="78"/>
                  </a:lnTo>
                  <a:lnTo>
                    <a:pt x="49" y="75"/>
                  </a:lnTo>
                  <a:lnTo>
                    <a:pt x="39" y="67"/>
                  </a:lnTo>
                  <a:lnTo>
                    <a:pt x="29" y="58"/>
                  </a:lnTo>
                  <a:lnTo>
                    <a:pt x="21" y="49"/>
                  </a:lnTo>
                  <a:lnTo>
                    <a:pt x="13" y="48"/>
                  </a:lnTo>
                  <a:lnTo>
                    <a:pt x="6" y="47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4" y="20"/>
                  </a:lnTo>
                  <a:lnTo>
                    <a:pt x="13" y="16"/>
                  </a:lnTo>
                  <a:lnTo>
                    <a:pt x="11" y="11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7" y="5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4" y="8"/>
                  </a:lnTo>
                  <a:lnTo>
                    <a:pt x="64" y="8"/>
                  </a:lnTo>
                  <a:lnTo>
                    <a:pt x="75" y="8"/>
                  </a:lnTo>
                  <a:lnTo>
                    <a:pt x="86" y="9"/>
                  </a:lnTo>
                  <a:lnTo>
                    <a:pt x="98" y="12"/>
                  </a:lnTo>
                  <a:lnTo>
                    <a:pt x="108" y="15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7600" y="4832280"/>
              <a:ext cx="14148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89" y="51"/>
                  </a:moveTo>
                  <a:lnTo>
                    <a:pt x="89" y="49"/>
                  </a:lnTo>
                  <a:lnTo>
                    <a:pt x="88" y="44"/>
                  </a:lnTo>
                  <a:lnTo>
                    <a:pt x="82" y="37"/>
                  </a:lnTo>
                  <a:lnTo>
                    <a:pt x="71" y="27"/>
                  </a:lnTo>
                  <a:lnTo>
                    <a:pt x="57" y="19"/>
                  </a:lnTo>
                  <a:lnTo>
                    <a:pt x="51" y="15"/>
                  </a:lnTo>
                  <a:lnTo>
                    <a:pt x="44" y="11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2" y="1"/>
                  </a:lnTo>
                  <a:lnTo>
                    <a:pt x="13" y="0"/>
                  </a:lnTo>
                  <a:lnTo>
                    <a:pt x="4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30" y="23"/>
                  </a:lnTo>
                  <a:lnTo>
                    <a:pt x="34" y="26"/>
                  </a:lnTo>
                  <a:lnTo>
                    <a:pt x="40" y="31"/>
                  </a:lnTo>
                  <a:lnTo>
                    <a:pt x="45" y="34"/>
                  </a:lnTo>
                  <a:lnTo>
                    <a:pt x="52" y="34"/>
                  </a:lnTo>
                  <a:lnTo>
                    <a:pt x="57" y="34"/>
                  </a:lnTo>
                  <a:lnTo>
                    <a:pt x="63" y="38"/>
                  </a:lnTo>
                  <a:lnTo>
                    <a:pt x="71" y="45"/>
                  </a:lnTo>
                  <a:lnTo>
                    <a:pt x="79" y="48"/>
                  </a:lnTo>
                  <a:lnTo>
                    <a:pt x="86" y="51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65800" y="514044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84" y="7"/>
                  </a:moveTo>
                  <a:lnTo>
                    <a:pt x="82" y="8"/>
                  </a:lnTo>
                  <a:lnTo>
                    <a:pt x="78" y="10"/>
                  </a:lnTo>
                  <a:lnTo>
                    <a:pt x="73" y="11"/>
                  </a:lnTo>
                  <a:lnTo>
                    <a:pt x="66" y="10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0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2" y="14"/>
                  </a:lnTo>
                  <a:lnTo>
                    <a:pt x="7" y="15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7" y="29"/>
                  </a:lnTo>
                  <a:lnTo>
                    <a:pt x="8" y="34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12" y="51"/>
                  </a:lnTo>
                  <a:lnTo>
                    <a:pt x="20" y="51"/>
                  </a:lnTo>
                  <a:lnTo>
                    <a:pt x="29" y="48"/>
                  </a:lnTo>
                  <a:lnTo>
                    <a:pt x="38" y="47"/>
                  </a:lnTo>
                  <a:lnTo>
                    <a:pt x="47" y="47"/>
                  </a:lnTo>
                  <a:lnTo>
                    <a:pt x="55" y="47"/>
                  </a:lnTo>
                  <a:lnTo>
                    <a:pt x="62" y="44"/>
                  </a:lnTo>
                  <a:lnTo>
                    <a:pt x="70" y="39"/>
                  </a:lnTo>
                  <a:lnTo>
                    <a:pt x="77" y="30"/>
                  </a:lnTo>
                  <a:lnTo>
                    <a:pt x="82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5200" y="5006880"/>
              <a:ext cx="516240" cy="111240"/>
            </a:xfrm>
            <a:custGeom>
              <a:avLst/>
              <a:gdLst/>
              <a:ahLst/>
              <a:rect l="l" t="t" r="r" b="b"/>
              <a:pathLst>
                <a:path w="325" h="70">
                  <a:moveTo>
                    <a:pt x="62" y="26"/>
                  </a:moveTo>
                  <a:lnTo>
                    <a:pt x="61" y="26"/>
                  </a:lnTo>
                  <a:lnTo>
                    <a:pt x="58" y="25"/>
                  </a:lnTo>
                  <a:lnTo>
                    <a:pt x="54" y="22"/>
                  </a:lnTo>
                  <a:lnTo>
                    <a:pt x="48" y="19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28" y="15"/>
                  </a:lnTo>
                  <a:lnTo>
                    <a:pt x="22" y="15"/>
                  </a:lnTo>
                  <a:lnTo>
                    <a:pt x="17" y="16"/>
                  </a:lnTo>
                  <a:lnTo>
                    <a:pt x="11" y="18"/>
                  </a:lnTo>
                  <a:lnTo>
                    <a:pt x="7" y="19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13" y="37"/>
                  </a:lnTo>
                  <a:lnTo>
                    <a:pt x="22" y="38"/>
                  </a:lnTo>
                  <a:lnTo>
                    <a:pt x="28" y="41"/>
                  </a:lnTo>
                  <a:lnTo>
                    <a:pt x="32" y="44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50" y="51"/>
                  </a:lnTo>
                  <a:lnTo>
                    <a:pt x="55" y="52"/>
                  </a:lnTo>
                  <a:lnTo>
                    <a:pt x="61" y="52"/>
                  </a:lnTo>
                  <a:lnTo>
                    <a:pt x="66" y="54"/>
                  </a:lnTo>
                  <a:lnTo>
                    <a:pt x="73" y="54"/>
                  </a:lnTo>
                  <a:lnTo>
                    <a:pt x="80" y="55"/>
                  </a:lnTo>
                  <a:lnTo>
                    <a:pt x="87" y="56"/>
                  </a:lnTo>
                  <a:lnTo>
                    <a:pt x="95" y="58"/>
                  </a:lnTo>
                  <a:lnTo>
                    <a:pt x="104" y="61"/>
                  </a:lnTo>
                  <a:lnTo>
                    <a:pt x="112" y="62"/>
                  </a:lnTo>
                  <a:lnTo>
                    <a:pt x="119" y="65"/>
                  </a:lnTo>
                  <a:lnTo>
                    <a:pt x="127" y="66"/>
                  </a:lnTo>
                  <a:lnTo>
                    <a:pt x="137" y="67"/>
                  </a:lnTo>
                  <a:lnTo>
                    <a:pt x="145" y="67"/>
                  </a:lnTo>
                  <a:lnTo>
                    <a:pt x="155" y="66"/>
                  </a:lnTo>
                  <a:lnTo>
                    <a:pt x="164" y="65"/>
                  </a:lnTo>
                  <a:lnTo>
                    <a:pt x="174" y="65"/>
                  </a:lnTo>
                  <a:lnTo>
                    <a:pt x="185" y="65"/>
                  </a:lnTo>
                  <a:lnTo>
                    <a:pt x="196" y="66"/>
                  </a:lnTo>
                  <a:lnTo>
                    <a:pt x="207" y="66"/>
                  </a:lnTo>
                  <a:lnTo>
                    <a:pt x="217" y="67"/>
                  </a:lnTo>
                  <a:lnTo>
                    <a:pt x="226" y="69"/>
                  </a:lnTo>
                  <a:lnTo>
                    <a:pt x="236" y="70"/>
                  </a:lnTo>
                  <a:lnTo>
                    <a:pt x="244" y="70"/>
                  </a:lnTo>
                  <a:lnTo>
                    <a:pt x="254" y="70"/>
                  </a:lnTo>
                  <a:lnTo>
                    <a:pt x="262" y="70"/>
                  </a:lnTo>
                  <a:lnTo>
                    <a:pt x="270" y="69"/>
                  </a:lnTo>
                  <a:lnTo>
                    <a:pt x="279" y="69"/>
                  </a:lnTo>
                  <a:lnTo>
                    <a:pt x="287" y="67"/>
                  </a:lnTo>
                  <a:lnTo>
                    <a:pt x="294" y="67"/>
                  </a:lnTo>
                  <a:lnTo>
                    <a:pt x="301" y="67"/>
                  </a:lnTo>
                  <a:lnTo>
                    <a:pt x="314" y="66"/>
                  </a:lnTo>
                  <a:lnTo>
                    <a:pt x="324" y="62"/>
                  </a:lnTo>
                  <a:lnTo>
                    <a:pt x="325" y="58"/>
                  </a:lnTo>
                  <a:lnTo>
                    <a:pt x="314" y="56"/>
                  </a:lnTo>
                  <a:lnTo>
                    <a:pt x="305" y="56"/>
                  </a:lnTo>
                  <a:lnTo>
                    <a:pt x="295" y="55"/>
                  </a:lnTo>
                  <a:lnTo>
                    <a:pt x="284" y="55"/>
                  </a:lnTo>
                  <a:lnTo>
                    <a:pt x="274" y="54"/>
                  </a:lnTo>
                  <a:lnTo>
                    <a:pt x="263" y="52"/>
                  </a:lnTo>
                  <a:lnTo>
                    <a:pt x="251" y="51"/>
                  </a:lnTo>
                  <a:lnTo>
                    <a:pt x="240" y="50"/>
                  </a:lnTo>
                  <a:lnTo>
                    <a:pt x="229" y="48"/>
                  </a:lnTo>
                  <a:lnTo>
                    <a:pt x="218" y="47"/>
                  </a:lnTo>
                  <a:lnTo>
                    <a:pt x="208" y="45"/>
                  </a:lnTo>
                  <a:lnTo>
                    <a:pt x="200" y="44"/>
                  </a:lnTo>
                  <a:lnTo>
                    <a:pt x="193" y="44"/>
                  </a:lnTo>
                  <a:lnTo>
                    <a:pt x="186" y="43"/>
                  </a:lnTo>
                  <a:lnTo>
                    <a:pt x="181" y="43"/>
                  </a:lnTo>
                  <a:lnTo>
                    <a:pt x="175" y="43"/>
                  </a:lnTo>
                  <a:lnTo>
                    <a:pt x="170" y="43"/>
                  </a:lnTo>
                  <a:lnTo>
                    <a:pt x="164" y="43"/>
                  </a:lnTo>
                  <a:lnTo>
                    <a:pt x="159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9" y="43"/>
                  </a:lnTo>
                  <a:lnTo>
                    <a:pt x="134" y="43"/>
                  </a:lnTo>
                  <a:lnTo>
                    <a:pt x="130" y="41"/>
                  </a:lnTo>
                  <a:lnTo>
                    <a:pt x="127" y="40"/>
                  </a:lnTo>
                  <a:lnTo>
                    <a:pt x="124" y="36"/>
                  </a:lnTo>
                  <a:lnTo>
                    <a:pt x="123" y="29"/>
                  </a:lnTo>
                  <a:lnTo>
                    <a:pt x="121" y="22"/>
                  </a:lnTo>
                  <a:lnTo>
                    <a:pt x="113" y="15"/>
                  </a:lnTo>
                  <a:lnTo>
                    <a:pt x="104" y="11"/>
                  </a:lnTo>
                  <a:lnTo>
                    <a:pt x="97" y="8"/>
                  </a:lnTo>
                  <a:lnTo>
                    <a:pt x="91" y="7"/>
                  </a:lnTo>
                  <a:lnTo>
                    <a:pt x="83" y="7"/>
                  </a:lnTo>
                  <a:lnTo>
                    <a:pt x="73" y="5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7" y="3"/>
                  </a:lnTo>
                  <a:lnTo>
                    <a:pt x="61" y="11"/>
                  </a:lnTo>
                  <a:lnTo>
                    <a:pt x="64" y="18"/>
                  </a:lnTo>
                  <a:lnTo>
                    <a:pt x="65" y="23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0440" y="5238720"/>
              <a:ext cx="368280" cy="81000"/>
            </a:xfrm>
            <a:custGeom>
              <a:avLst/>
              <a:gdLst/>
              <a:ahLst/>
              <a:rect l="l" t="t" r="r" b="b"/>
              <a:pathLst>
                <a:path w="232" h="51">
                  <a:moveTo>
                    <a:pt x="202" y="14"/>
                  </a:moveTo>
                  <a:lnTo>
                    <a:pt x="203" y="14"/>
                  </a:lnTo>
                  <a:lnTo>
                    <a:pt x="209" y="16"/>
                  </a:lnTo>
                  <a:lnTo>
                    <a:pt x="214" y="19"/>
                  </a:lnTo>
                  <a:lnTo>
                    <a:pt x="220" y="23"/>
                  </a:lnTo>
                  <a:lnTo>
                    <a:pt x="227" y="32"/>
                  </a:lnTo>
                  <a:lnTo>
                    <a:pt x="232" y="40"/>
                  </a:lnTo>
                  <a:lnTo>
                    <a:pt x="232" y="45"/>
                  </a:lnTo>
                  <a:lnTo>
                    <a:pt x="223" y="47"/>
                  </a:lnTo>
                  <a:lnTo>
                    <a:pt x="216" y="45"/>
                  </a:lnTo>
                  <a:lnTo>
                    <a:pt x="209" y="44"/>
                  </a:lnTo>
                  <a:lnTo>
                    <a:pt x="203" y="44"/>
                  </a:lnTo>
                  <a:lnTo>
                    <a:pt x="199" y="43"/>
                  </a:lnTo>
                  <a:lnTo>
                    <a:pt x="195" y="43"/>
                  </a:lnTo>
                  <a:lnTo>
                    <a:pt x="191" y="43"/>
                  </a:lnTo>
                  <a:lnTo>
                    <a:pt x="187" y="41"/>
                  </a:lnTo>
                  <a:lnTo>
                    <a:pt x="181" y="41"/>
                  </a:lnTo>
                  <a:lnTo>
                    <a:pt x="176" y="40"/>
                  </a:lnTo>
                  <a:lnTo>
                    <a:pt x="170" y="40"/>
                  </a:lnTo>
                  <a:lnTo>
                    <a:pt x="165" y="38"/>
                  </a:lnTo>
                  <a:lnTo>
                    <a:pt x="159" y="36"/>
                  </a:lnTo>
                  <a:lnTo>
                    <a:pt x="154" y="36"/>
                  </a:lnTo>
                  <a:lnTo>
                    <a:pt x="148" y="34"/>
                  </a:lnTo>
                  <a:lnTo>
                    <a:pt x="144" y="34"/>
                  </a:lnTo>
                  <a:lnTo>
                    <a:pt x="140" y="36"/>
                  </a:lnTo>
                  <a:lnTo>
                    <a:pt x="136" y="37"/>
                  </a:lnTo>
                  <a:lnTo>
                    <a:pt x="132" y="40"/>
                  </a:lnTo>
                  <a:lnTo>
                    <a:pt x="128" y="44"/>
                  </a:lnTo>
                  <a:lnTo>
                    <a:pt x="122" y="47"/>
                  </a:lnTo>
                  <a:lnTo>
                    <a:pt x="117" y="48"/>
                  </a:lnTo>
                  <a:lnTo>
                    <a:pt x="110" y="51"/>
                  </a:lnTo>
                  <a:lnTo>
                    <a:pt x="102" y="51"/>
                  </a:lnTo>
                  <a:lnTo>
                    <a:pt x="93" y="50"/>
                  </a:lnTo>
                  <a:lnTo>
                    <a:pt x="84" y="48"/>
                  </a:lnTo>
                  <a:lnTo>
                    <a:pt x="77" y="47"/>
                  </a:lnTo>
                  <a:lnTo>
                    <a:pt x="70" y="47"/>
                  </a:lnTo>
                  <a:lnTo>
                    <a:pt x="63" y="48"/>
                  </a:lnTo>
                  <a:lnTo>
                    <a:pt x="56" y="48"/>
                  </a:lnTo>
                  <a:lnTo>
                    <a:pt x="49" y="48"/>
                  </a:lnTo>
                  <a:lnTo>
                    <a:pt x="42" y="48"/>
                  </a:lnTo>
                  <a:lnTo>
                    <a:pt x="34" y="45"/>
                  </a:lnTo>
                  <a:lnTo>
                    <a:pt x="26" y="43"/>
                  </a:lnTo>
                  <a:lnTo>
                    <a:pt x="17" y="40"/>
                  </a:lnTo>
                  <a:lnTo>
                    <a:pt x="11" y="37"/>
                  </a:lnTo>
                  <a:lnTo>
                    <a:pt x="5" y="34"/>
                  </a:lnTo>
                  <a:lnTo>
                    <a:pt x="2" y="33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4" y="29"/>
                  </a:lnTo>
                  <a:lnTo>
                    <a:pt x="11" y="26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3" y="16"/>
                  </a:lnTo>
                  <a:lnTo>
                    <a:pt x="8" y="12"/>
                  </a:lnTo>
                  <a:lnTo>
                    <a:pt x="8" y="5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30" y="3"/>
                  </a:lnTo>
                  <a:lnTo>
                    <a:pt x="38" y="5"/>
                  </a:lnTo>
                  <a:lnTo>
                    <a:pt x="45" y="7"/>
                  </a:lnTo>
                  <a:lnTo>
                    <a:pt x="52" y="8"/>
                  </a:lnTo>
                  <a:lnTo>
                    <a:pt x="60" y="11"/>
                  </a:lnTo>
                  <a:lnTo>
                    <a:pt x="70" y="15"/>
                  </a:lnTo>
                  <a:lnTo>
                    <a:pt x="79" y="19"/>
                  </a:lnTo>
                  <a:lnTo>
                    <a:pt x="88" y="22"/>
                  </a:lnTo>
                  <a:lnTo>
                    <a:pt x="95" y="22"/>
                  </a:lnTo>
                  <a:lnTo>
                    <a:pt x="102" y="19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19" y="4"/>
                  </a:lnTo>
                  <a:lnTo>
                    <a:pt x="125" y="4"/>
                  </a:lnTo>
                  <a:lnTo>
                    <a:pt x="129" y="5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54" y="7"/>
                  </a:lnTo>
                  <a:lnTo>
                    <a:pt x="165" y="4"/>
                  </a:lnTo>
                  <a:lnTo>
                    <a:pt x="173" y="5"/>
                  </a:lnTo>
                  <a:lnTo>
                    <a:pt x="181" y="10"/>
                  </a:lnTo>
                  <a:lnTo>
                    <a:pt x="191" y="12"/>
                  </a:lnTo>
                  <a:lnTo>
                    <a:pt x="199" y="14"/>
                  </a:lnTo>
                  <a:lnTo>
                    <a:pt x="202" y="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1960" y="5430960"/>
              <a:ext cx="98640" cy="5220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33" y="6"/>
                  </a:move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2" y="18"/>
                  </a:lnTo>
                  <a:lnTo>
                    <a:pt x="60" y="25"/>
                  </a:lnTo>
                  <a:lnTo>
                    <a:pt x="53" y="30"/>
                  </a:lnTo>
                  <a:lnTo>
                    <a:pt x="40" y="33"/>
                  </a:lnTo>
                  <a:lnTo>
                    <a:pt x="28" y="33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4" y="24"/>
                  </a:lnTo>
                  <a:lnTo>
                    <a:pt x="7" y="17"/>
                  </a:lnTo>
                  <a:lnTo>
                    <a:pt x="2" y="8"/>
                  </a:lnTo>
                  <a:lnTo>
                    <a:pt x="0" y="3"/>
                  </a:lnTo>
                  <a:lnTo>
                    <a:pt x="6" y="0"/>
                  </a:lnTo>
                  <a:lnTo>
                    <a:pt x="14" y="3"/>
                  </a:lnTo>
                  <a:lnTo>
                    <a:pt x="20" y="7"/>
                  </a:lnTo>
                  <a:lnTo>
                    <a:pt x="26" y="8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30720" y="5192640"/>
              <a:ext cx="1055880" cy="571680"/>
            </a:xfrm>
            <a:custGeom>
              <a:avLst/>
              <a:gdLst/>
              <a:ahLst/>
              <a:rect l="l" t="t" r="r" b="b"/>
              <a:pathLst>
                <a:path w="665" h="360">
                  <a:moveTo>
                    <a:pt x="49" y="1"/>
                  </a:moveTo>
                  <a:lnTo>
                    <a:pt x="46" y="1"/>
                  </a:lnTo>
                  <a:lnTo>
                    <a:pt x="39" y="3"/>
                  </a:lnTo>
                  <a:lnTo>
                    <a:pt x="31" y="4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13" y="23"/>
                  </a:lnTo>
                  <a:lnTo>
                    <a:pt x="27" y="28"/>
                  </a:lnTo>
                  <a:lnTo>
                    <a:pt x="35" y="29"/>
                  </a:lnTo>
                  <a:lnTo>
                    <a:pt x="44" y="30"/>
                  </a:lnTo>
                  <a:lnTo>
                    <a:pt x="50" y="30"/>
                  </a:lnTo>
                  <a:lnTo>
                    <a:pt x="57" y="30"/>
                  </a:lnTo>
                  <a:lnTo>
                    <a:pt x="63" y="32"/>
                  </a:lnTo>
                  <a:lnTo>
                    <a:pt x="70" y="33"/>
                  </a:lnTo>
                  <a:lnTo>
                    <a:pt x="75" y="34"/>
                  </a:lnTo>
                  <a:lnTo>
                    <a:pt x="82" y="37"/>
                  </a:lnTo>
                  <a:lnTo>
                    <a:pt x="89" y="40"/>
                  </a:lnTo>
                  <a:lnTo>
                    <a:pt x="96" y="44"/>
                  </a:lnTo>
                  <a:lnTo>
                    <a:pt x="104" y="48"/>
                  </a:lnTo>
                  <a:lnTo>
                    <a:pt x="112" y="52"/>
                  </a:lnTo>
                  <a:lnTo>
                    <a:pt x="121" y="56"/>
                  </a:lnTo>
                  <a:lnTo>
                    <a:pt x="126" y="61"/>
                  </a:lnTo>
                  <a:lnTo>
                    <a:pt x="132" y="63"/>
                  </a:lnTo>
                  <a:lnTo>
                    <a:pt x="136" y="66"/>
                  </a:lnTo>
                  <a:lnTo>
                    <a:pt x="143" y="70"/>
                  </a:lnTo>
                  <a:lnTo>
                    <a:pt x="150" y="72"/>
                  </a:lnTo>
                  <a:lnTo>
                    <a:pt x="157" y="74"/>
                  </a:lnTo>
                  <a:lnTo>
                    <a:pt x="166" y="74"/>
                  </a:lnTo>
                  <a:lnTo>
                    <a:pt x="174" y="77"/>
                  </a:lnTo>
                  <a:lnTo>
                    <a:pt x="180" y="83"/>
                  </a:lnTo>
                  <a:lnTo>
                    <a:pt x="185" y="90"/>
                  </a:lnTo>
                  <a:lnTo>
                    <a:pt x="194" y="95"/>
                  </a:lnTo>
                  <a:lnTo>
                    <a:pt x="201" y="98"/>
                  </a:lnTo>
                  <a:lnTo>
                    <a:pt x="208" y="101"/>
                  </a:lnTo>
                  <a:lnTo>
                    <a:pt x="217" y="105"/>
                  </a:lnTo>
                  <a:lnTo>
                    <a:pt x="225" y="107"/>
                  </a:lnTo>
                  <a:lnTo>
                    <a:pt x="235" y="110"/>
                  </a:lnTo>
                  <a:lnTo>
                    <a:pt x="242" y="112"/>
                  </a:lnTo>
                  <a:lnTo>
                    <a:pt x="247" y="114"/>
                  </a:lnTo>
                  <a:lnTo>
                    <a:pt x="252" y="116"/>
                  </a:lnTo>
                  <a:lnTo>
                    <a:pt x="254" y="117"/>
                  </a:lnTo>
                  <a:lnTo>
                    <a:pt x="259" y="120"/>
                  </a:lnTo>
                  <a:lnTo>
                    <a:pt x="264" y="123"/>
                  </a:lnTo>
                  <a:lnTo>
                    <a:pt x="270" y="125"/>
                  </a:lnTo>
                  <a:lnTo>
                    <a:pt x="276" y="129"/>
                  </a:lnTo>
                  <a:lnTo>
                    <a:pt x="283" y="132"/>
                  </a:lnTo>
                  <a:lnTo>
                    <a:pt x="289" y="136"/>
                  </a:lnTo>
                  <a:lnTo>
                    <a:pt x="296" y="139"/>
                  </a:lnTo>
                  <a:lnTo>
                    <a:pt x="305" y="142"/>
                  </a:lnTo>
                  <a:lnTo>
                    <a:pt x="312" y="142"/>
                  </a:lnTo>
                  <a:lnTo>
                    <a:pt x="321" y="141"/>
                  </a:lnTo>
                  <a:lnTo>
                    <a:pt x="333" y="139"/>
                  </a:lnTo>
                  <a:lnTo>
                    <a:pt x="340" y="139"/>
                  </a:lnTo>
                  <a:lnTo>
                    <a:pt x="347" y="139"/>
                  </a:lnTo>
                  <a:lnTo>
                    <a:pt x="352" y="139"/>
                  </a:lnTo>
                  <a:lnTo>
                    <a:pt x="358" y="139"/>
                  </a:lnTo>
                  <a:lnTo>
                    <a:pt x="362" y="139"/>
                  </a:lnTo>
                  <a:lnTo>
                    <a:pt x="367" y="141"/>
                  </a:lnTo>
                  <a:lnTo>
                    <a:pt x="371" y="143"/>
                  </a:lnTo>
                  <a:lnTo>
                    <a:pt x="377" y="146"/>
                  </a:lnTo>
                  <a:lnTo>
                    <a:pt x="383" y="153"/>
                  </a:lnTo>
                  <a:lnTo>
                    <a:pt x="384" y="158"/>
                  </a:lnTo>
                  <a:lnTo>
                    <a:pt x="388" y="167"/>
                  </a:lnTo>
                  <a:lnTo>
                    <a:pt x="403" y="180"/>
                  </a:lnTo>
                  <a:lnTo>
                    <a:pt x="414" y="187"/>
                  </a:lnTo>
                  <a:lnTo>
                    <a:pt x="422" y="194"/>
                  </a:lnTo>
                  <a:lnTo>
                    <a:pt x="429" y="200"/>
                  </a:lnTo>
                  <a:lnTo>
                    <a:pt x="435" y="204"/>
                  </a:lnTo>
                  <a:lnTo>
                    <a:pt x="440" y="207"/>
                  </a:lnTo>
                  <a:lnTo>
                    <a:pt x="443" y="208"/>
                  </a:lnTo>
                  <a:lnTo>
                    <a:pt x="445" y="208"/>
                  </a:lnTo>
                  <a:lnTo>
                    <a:pt x="446" y="205"/>
                  </a:lnTo>
                  <a:lnTo>
                    <a:pt x="447" y="201"/>
                  </a:lnTo>
                  <a:lnTo>
                    <a:pt x="449" y="200"/>
                  </a:lnTo>
                  <a:lnTo>
                    <a:pt x="450" y="202"/>
                  </a:lnTo>
                  <a:lnTo>
                    <a:pt x="454" y="211"/>
                  </a:lnTo>
                  <a:lnTo>
                    <a:pt x="460" y="222"/>
                  </a:lnTo>
                  <a:lnTo>
                    <a:pt x="465" y="229"/>
                  </a:lnTo>
                  <a:lnTo>
                    <a:pt x="473" y="234"/>
                  </a:lnTo>
                  <a:lnTo>
                    <a:pt x="484" y="237"/>
                  </a:lnTo>
                  <a:lnTo>
                    <a:pt x="491" y="238"/>
                  </a:lnTo>
                  <a:lnTo>
                    <a:pt x="500" y="238"/>
                  </a:lnTo>
                  <a:lnTo>
                    <a:pt x="508" y="241"/>
                  </a:lnTo>
                  <a:lnTo>
                    <a:pt x="518" y="244"/>
                  </a:lnTo>
                  <a:lnTo>
                    <a:pt x="524" y="247"/>
                  </a:lnTo>
                  <a:lnTo>
                    <a:pt x="530" y="252"/>
                  </a:lnTo>
                  <a:lnTo>
                    <a:pt x="533" y="258"/>
                  </a:lnTo>
                  <a:lnTo>
                    <a:pt x="533" y="264"/>
                  </a:lnTo>
                  <a:lnTo>
                    <a:pt x="531" y="276"/>
                  </a:lnTo>
                  <a:lnTo>
                    <a:pt x="535" y="281"/>
                  </a:lnTo>
                  <a:lnTo>
                    <a:pt x="545" y="285"/>
                  </a:lnTo>
                  <a:lnTo>
                    <a:pt x="559" y="292"/>
                  </a:lnTo>
                  <a:lnTo>
                    <a:pt x="567" y="296"/>
                  </a:lnTo>
                  <a:lnTo>
                    <a:pt x="574" y="302"/>
                  </a:lnTo>
                  <a:lnTo>
                    <a:pt x="581" y="307"/>
                  </a:lnTo>
                  <a:lnTo>
                    <a:pt x="588" y="313"/>
                  </a:lnTo>
                  <a:lnTo>
                    <a:pt x="595" y="317"/>
                  </a:lnTo>
                  <a:lnTo>
                    <a:pt x="600" y="322"/>
                  </a:lnTo>
                  <a:lnTo>
                    <a:pt x="604" y="326"/>
                  </a:lnTo>
                  <a:lnTo>
                    <a:pt x="608" y="329"/>
                  </a:lnTo>
                  <a:lnTo>
                    <a:pt x="615" y="332"/>
                  </a:lnTo>
                  <a:lnTo>
                    <a:pt x="622" y="333"/>
                  </a:lnTo>
                  <a:lnTo>
                    <a:pt x="629" y="335"/>
                  </a:lnTo>
                  <a:lnTo>
                    <a:pt x="636" y="340"/>
                  </a:lnTo>
                  <a:lnTo>
                    <a:pt x="644" y="349"/>
                  </a:lnTo>
                  <a:lnTo>
                    <a:pt x="654" y="357"/>
                  </a:lnTo>
                  <a:lnTo>
                    <a:pt x="662" y="360"/>
                  </a:lnTo>
                  <a:lnTo>
                    <a:pt x="665" y="355"/>
                  </a:lnTo>
                  <a:lnTo>
                    <a:pt x="665" y="346"/>
                  </a:lnTo>
                  <a:lnTo>
                    <a:pt x="664" y="336"/>
                  </a:lnTo>
                  <a:lnTo>
                    <a:pt x="661" y="326"/>
                  </a:lnTo>
                  <a:lnTo>
                    <a:pt x="657" y="318"/>
                  </a:lnTo>
                  <a:lnTo>
                    <a:pt x="654" y="307"/>
                  </a:lnTo>
                  <a:lnTo>
                    <a:pt x="653" y="289"/>
                  </a:lnTo>
                  <a:lnTo>
                    <a:pt x="651" y="273"/>
                  </a:lnTo>
                  <a:lnTo>
                    <a:pt x="647" y="262"/>
                  </a:lnTo>
                  <a:lnTo>
                    <a:pt x="643" y="258"/>
                  </a:lnTo>
                  <a:lnTo>
                    <a:pt x="639" y="251"/>
                  </a:lnTo>
                  <a:lnTo>
                    <a:pt x="632" y="244"/>
                  </a:lnTo>
                  <a:lnTo>
                    <a:pt x="625" y="237"/>
                  </a:lnTo>
                  <a:lnTo>
                    <a:pt x="617" y="231"/>
                  </a:lnTo>
                  <a:lnTo>
                    <a:pt x="610" y="226"/>
                  </a:lnTo>
                  <a:lnTo>
                    <a:pt x="604" y="222"/>
                  </a:lnTo>
                  <a:lnTo>
                    <a:pt x="599" y="220"/>
                  </a:lnTo>
                  <a:lnTo>
                    <a:pt x="593" y="220"/>
                  </a:lnTo>
                  <a:lnTo>
                    <a:pt x="588" y="222"/>
                  </a:lnTo>
                  <a:lnTo>
                    <a:pt x="581" y="223"/>
                  </a:lnTo>
                  <a:lnTo>
                    <a:pt x="575" y="223"/>
                  </a:lnTo>
                  <a:lnTo>
                    <a:pt x="568" y="225"/>
                  </a:lnTo>
                  <a:lnTo>
                    <a:pt x="563" y="223"/>
                  </a:lnTo>
                  <a:lnTo>
                    <a:pt x="557" y="222"/>
                  </a:lnTo>
                  <a:lnTo>
                    <a:pt x="553" y="218"/>
                  </a:lnTo>
                  <a:lnTo>
                    <a:pt x="549" y="212"/>
                  </a:lnTo>
                  <a:lnTo>
                    <a:pt x="544" y="207"/>
                  </a:lnTo>
                  <a:lnTo>
                    <a:pt x="537" y="201"/>
                  </a:lnTo>
                  <a:lnTo>
                    <a:pt x="529" y="196"/>
                  </a:lnTo>
                  <a:lnTo>
                    <a:pt x="522" y="190"/>
                  </a:lnTo>
                  <a:lnTo>
                    <a:pt x="515" y="186"/>
                  </a:lnTo>
                  <a:lnTo>
                    <a:pt x="508" y="182"/>
                  </a:lnTo>
                  <a:lnTo>
                    <a:pt x="502" y="178"/>
                  </a:lnTo>
                  <a:lnTo>
                    <a:pt x="495" y="169"/>
                  </a:lnTo>
                  <a:lnTo>
                    <a:pt x="490" y="160"/>
                  </a:lnTo>
                  <a:lnTo>
                    <a:pt x="483" y="152"/>
                  </a:lnTo>
                  <a:lnTo>
                    <a:pt x="473" y="149"/>
                  </a:lnTo>
                  <a:lnTo>
                    <a:pt x="468" y="149"/>
                  </a:lnTo>
                  <a:lnTo>
                    <a:pt x="461" y="149"/>
                  </a:lnTo>
                  <a:lnTo>
                    <a:pt x="454" y="147"/>
                  </a:lnTo>
                  <a:lnTo>
                    <a:pt x="449" y="147"/>
                  </a:lnTo>
                  <a:lnTo>
                    <a:pt x="442" y="147"/>
                  </a:lnTo>
                  <a:lnTo>
                    <a:pt x="436" y="146"/>
                  </a:lnTo>
                  <a:lnTo>
                    <a:pt x="432" y="146"/>
                  </a:lnTo>
                  <a:lnTo>
                    <a:pt x="428" y="146"/>
                  </a:lnTo>
                  <a:lnTo>
                    <a:pt x="422" y="142"/>
                  </a:lnTo>
                  <a:lnTo>
                    <a:pt x="416" y="132"/>
                  </a:lnTo>
                  <a:lnTo>
                    <a:pt x="407" y="121"/>
                  </a:lnTo>
                  <a:lnTo>
                    <a:pt x="395" y="112"/>
                  </a:lnTo>
                  <a:lnTo>
                    <a:pt x="384" y="105"/>
                  </a:lnTo>
                  <a:lnTo>
                    <a:pt x="380" y="101"/>
                  </a:lnTo>
                  <a:lnTo>
                    <a:pt x="377" y="99"/>
                  </a:lnTo>
                  <a:lnTo>
                    <a:pt x="377" y="99"/>
                  </a:lnTo>
                  <a:lnTo>
                    <a:pt x="377" y="95"/>
                  </a:lnTo>
                  <a:lnTo>
                    <a:pt x="376" y="84"/>
                  </a:lnTo>
                  <a:lnTo>
                    <a:pt x="371" y="73"/>
                  </a:lnTo>
                  <a:lnTo>
                    <a:pt x="362" y="65"/>
                  </a:lnTo>
                  <a:lnTo>
                    <a:pt x="355" y="62"/>
                  </a:lnTo>
                  <a:lnTo>
                    <a:pt x="349" y="61"/>
                  </a:lnTo>
                  <a:lnTo>
                    <a:pt x="343" y="59"/>
                  </a:lnTo>
                  <a:lnTo>
                    <a:pt x="337" y="59"/>
                  </a:lnTo>
                  <a:lnTo>
                    <a:pt x="332" y="58"/>
                  </a:lnTo>
                  <a:lnTo>
                    <a:pt x="325" y="58"/>
                  </a:lnTo>
                  <a:lnTo>
                    <a:pt x="319" y="58"/>
                  </a:lnTo>
                  <a:lnTo>
                    <a:pt x="312" y="58"/>
                  </a:lnTo>
                  <a:lnTo>
                    <a:pt x="301" y="61"/>
                  </a:lnTo>
                  <a:lnTo>
                    <a:pt x="293" y="67"/>
                  </a:lnTo>
                  <a:lnTo>
                    <a:pt x="283" y="74"/>
                  </a:lnTo>
                  <a:lnTo>
                    <a:pt x="274" y="76"/>
                  </a:lnTo>
                  <a:lnTo>
                    <a:pt x="265" y="72"/>
                  </a:lnTo>
                  <a:lnTo>
                    <a:pt x="261" y="66"/>
                  </a:lnTo>
                  <a:lnTo>
                    <a:pt x="260" y="59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49" y="58"/>
                  </a:lnTo>
                  <a:lnTo>
                    <a:pt x="241" y="61"/>
                  </a:lnTo>
                  <a:lnTo>
                    <a:pt x="236" y="66"/>
                  </a:lnTo>
                  <a:lnTo>
                    <a:pt x="231" y="72"/>
                  </a:lnTo>
                  <a:lnTo>
                    <a:pt x="221" y="73"/>
                  </a:lnTo>
                  <a:lnTo>
                    <a:pt x="209" y="73"/>
                  </a:lnTo>
                  <a:lnTo>
                    <a:pt x="201" y="69"/>
                  </a:lnTo>
                  <a:lnTo>
                    <a:pt x="195" y="61"/>
                  </a:lnTo>
                  <a:lnTo>
                    <a:pt x="188" y="51"/>
                  </a:lnTo>
                  <a:lnTo>
                    <a:pt x="180" y="43"/>
                  </a:lnTo>
                  <a:lnTo>
                    <a:pt x="170" y="39"/>
                  </a:lnTo>
                  <a:lnTo>
                    <a:pt x="163" y="37"/>
                  </a:lnTo>
                  <a:lnTo>
                    <a:pt x="152" y="34"/>
                  </a:lnTo>
                  <a:lnTo>
                    <a:pt x="141" y="30"/>
                  </a:lnTo>
                  <a:lnTo>
                    <a:pt x="129" y="26"/>
                  </a:lnTo>
                  <a:lnTo>
                    <a:pt x="115" y="22"/>
                  </a:lnTo>
                  <a:lnTo>
                    <a:pt x="103" y="18"/>
                  </a:lnTo>
                  <a:lnTo>
                    <a:pt x="89" y="14"/>
                  </a:lnTo>
                  <a:lnTo>
                    <a:pt x="78" y="10"/>
                  </a:lnTo>
                  <a:lnTo>
                    <a:pt x="62" y="6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7880" y="5416560"/>
              <a:ext cx="282600" cy="100080"/>
            </a:xfrm>
            <a:custGeom>
              <a:avLst/>
              <a:gdLst/>
              <a:ahLst/>
              <a:rect l="l" t="t" r="r" b="b"/>
              <a:pathLst>
                <a:path w="178" h="63">
                  <a:moveTo>
                    <a:pt x="178" y="60"/>
                  </a:moveTo>
                  <a:lnTo>
                    <a:pt x="178" y="57"/>
                  </a:lnTo>
                  <a:lnTo>
                    <a:pt x="173" y="52"/>
                  </a:lnTo>
                  <a:lnTo>
                    <a:pt x="162" y="44"/>
                  </a:lnTo>
                  <a:lnTo>
                    <a:pt x="142" y="35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3" y="27"/>
                  </a:lnTo>
                  <a:lnTo>
                    <a:pt x="107" y="26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3" y="22"/>
                  </a:lnTo>
                  <a:lnTo>
                    <a:pt x="88" y="19"/>
                  </a:lnTo>
                  <a:lnTo>
                    <a:pt x="78" y="15"/>
                  </a:lnTo>
                  <a:lnTo>
                    <a:pt x="70" y="11"/>
                  </a:lnTo>
                  <a:lnTo>
                    <a:pt x="63" y="9"/>
                  </a:lnTo>
                  <a:lnTo>
                    <a:pt x="55" y="8"/>
                  </a:lnTo>
                  <a:lnTo>
                    <a:pt x="48" y="6"/>
                  </a:lnTo>
                  <a:lnTo>
                    <a:pt x="41" y="5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9" y="0"/>
                  </a:lnTo>
                  <a:lnTo>
                    <a:pt x="1" y="2"/>
                  </a:lnTo>
                  <a:lnTo>
                    <a:pt x="0" y="9"/>
                  </a:lnTo>
                  <a:lnTo>
                    <a:pt x="9" y="15"/>
                  </a:lnTo>
                  <a:lnTo>
                    <a:pt x="22" y="20"/>
                  </a:lnTo>
                  <a:lnTo>
                    <a:pt x="27" y="24"/>
                  </a:lnTo>
                  <a:lnTo>
                    <a:pt x="33" y="27"/>
                  </a:lnTo>
                  <a:lnTo>
                    <a:pt x="41" y="28"/>
                  </a:lnTo>
                  <a:lnTo>
                    <a:pt x="51" y="27"/>
                  </a:lnTo>
                  <a:lnTo>
                    <a:pt x="59" y="27"/>
                  </a:lnTo>
                  <a:lnTo>
                    <a:pt x="67" y="28"/>
                  </a:lnTo>
                  <a:lnTo>
                    <a:pt x="74" y="33"/>
                  </a:lnTo>
                  <a:lnTo>
                    <a:pt x="80" y="38"/>
                  </a:lnTo>
                  <a:lnTo>
                    <a:pt x="85" y="41"/>
                  </a:lnTo>
                  <a:lnTo>
                    <a:pt x="91" y="42"/>
                  </a:lnTo>
                  <a:lnTo>
                    <a:pt x="102" y="42"/>
                  </a:lnTo>
                  <a:lnTo>
                    <a:pt x="113" y="42"/>
                  </a:lnTo>
                  <a:lnTo>
                    <a:pt x="121" y="44"/>
                  </a:lnTo>
                  <a:lnTo>
                    <a:pt x="129" y="46"/>
                  </a:lnTo>
                  <a:lnTo>
                    <a:pt x="142" y="52"/>
                  </a:lnTo>
                  <a:lnTo>
                    <a:pt x="155" y="59"/>
                  </a:lnTo>
                  <a:lnTo>
                    <a:pt x="165" y="61"/>
                  </a:lnTo>
                  <a:lnTo>
                    <a:pt x="172" y="63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99160" y="54594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6" y="25"/>
                  </a:moveTo>
                  <a:lnTo>
                    <a:pt x="34" y="22"/>
                  </a:lnTo>
                  <a:lnTo>
                    <a:pt x="30" y="17"/>
                  </a:lnTo>
                  <a:lnTo>
                    <a:pt x="25" y="10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2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21"/>
                  </a:lnTo>
                  <a:lnTo>
                    <a:pt x="22" y="25"/>
                  </a:lnTo>
                  <a:lnTo>
                    <a:pt x="30" y="28"/>
                  </a:lnTo>
                  <a:lnTo>
                    <a:pt x="36" y="2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Croati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75200" y="2903400"/>
            <a:ext cx="1800" cy="324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close/>
              </a:path>
            </a:pathLst>
          </a:custGeom>
          <a:solidFill>
            <a:srgbClr val="7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9080" y="3021120"/>
            <a:ext cx="1440" cy="61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53240" y="3033720"/>
            <a:ext cx="14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824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motorway PPPs successful: Bina Istra and Zagreb Macelj. But no competitive tendering and substantial government support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rrent transport PPPs known but Croatia’s pre-accession status improves prospects for future private sector financing of appropriate revenue- generating transport infrastructure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opportunities could include privatisation of the state-owned motorway company - but this is still under discussion within the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 a difficult environment both for private sector investors and IF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BRD has had experience of this through its involvement with the Giurgiulest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oil terminal project which included  private finance.  This may finally start shipping oil this year, but only after complete financial restructur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Moldov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632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RD hopes to work with other IFIs to develop transport infrastructure, especially those which emphasize regional integration and support the EU Stabilization and Association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opportunities for IFIs to work with the private sector e.g.: MoT is interested in tendering concession at the Port of Bar, and possibly at Podgorica Air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Montenegro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75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lems and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ief review of some opportunities for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te sector Involvement in transport infrastructure financ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763640" y="1773360"/>
            <a:ext cx="6192360" cy="4387320"/>
            <a:chOff x="1763640" y="1773360"/>
            <a:chExt cx="6192360" cy="4387320"/>
          </a:xfrm>
        </p:grpSpPr>
        <p:sp>
          <p:nvSpPr>
            <p:cNvPr id="141" name=""/>
            <p:cNvSpPr/>
            <p:nvPr/>
          </p:nvSpPr>
          <p:spPr>
            <a:xfrm>
              <a:off x="2395800" y="2543760"/>
              <a:ext cx="734400" cy="1043280"/>
            </a:xfrm>
            <a:custGeom>
              <a:avLst/>
              <a:gdLst/>
              <a:ahLst/>
              <a:rect l="l" t="t" r="r" b="b"/>
              <a:pathLst>
                <a:path w="406" h="580">
                  <a:moveTo>
                    <a:pt x="134" y="520"/>
                  </a:moveTo>
                  <a:lnTo>
                    <a:pt x="134" y="503"/>
                  </a:lnTo>
                  <a:lnTo>
                    <a:pt x="135" y="484"/>
                  </a:lnTo>
                  <a:lnTo>
                    <a:pt x="141" y="466"/>
                  </a:lnTo>
                  <a:lnTo>
                    <a:pt x="149" y="447"/>
                  </a:lnTo>
                  <a:lnTo>
                    <a:pt x="158" y="431"/>
                  </a:lnTo>
                  <a:lnTo>
                    <a:pt x="170" y="418"/>
                  </a:lnTo>
                  <a:lnTo>
                    <a:pt x="180" y="409"/>
                  </a:lnTo>
                  <a:lnTo>
                    <a:pt x="190" y="406"/>
                  </a:lnTo>
                  <a:lnTo>
                    <a:pt x="206" y="404"/>
                  </a:lnTo>
                  <a:lnTo>
                    <a:pt x="212" y="395"/>
                  </a:lnTo>
                  <a:lnTo>
                    <a:pt x="216" y="380"/>
                  </a:lnTo>
                  <a:lnTo>
                    <a:pt x="219" y="354"/>
                  </a:lnTo>
                  <a:lnTo>
                    <a:pt x="224" y="339"/>
                  </a:lnTo>
                  <a:lnTo>
                    <a:pt x="231" y="327"/>
                  </a:lnTo>
                  <a:lnTo>
                    <a:pt x="241" y="315"/>
                  </a:lnTo>
                  <a:lnTo>
                    <a:pt x="252" y="305"/>
                  </a:lnTo>
                  <a:lnTo>
                    <a:pt x="262" y="295"/>
                  </a:lnTo>
                  <a:lnTo>
                    <a:pt x="272" y="283"/>
                  </a:lnTo>
                  <a:lnTo>
                    <a:pt x="279" y="271"/>
                  </a:lnTo>
                  <a:lnTo>
                    <a:pt x="284" y="255"/>
                  </a:lnTo>
                  <a:lnTo>
                    <a:pt x="288" y="240"/>
                  </a:lnTo>
                  <a:lnTo>
                    <a:pt x="295" y="226"/>
                  </a:lnTo>
                  <a:lnTo>
                    <a:pt x="301" y="212"/>
                  </a:lnTo>
                  <a:lnTo>
                    <a:pt x="312" y="199"/>
                  </a:lnTo>
                  <a:lnTo>
                    <a:pt x="320" y="187"/>
                  </a:lnTo>
                  <a:lnTo>
                    <a:pt x="330" y="173"/>
                  </a:lnTo>
                  <a:lnTo>
                    <a:pt x="341" y="161"/>
                  </a:lnTo>
                  <a:lnTo>
                    <a:pt x="349" y="148"/>
                  </a:lnTo>
                  <a:lnTo>
                    <a:pt x="365" y="118"/>
                  </a:lnTo>
                  <a:lnTo>
                    <a:pt x="380" y="86"/>
                  </a:lnTo>
                  <a:lnTo>
                    <a:pt x="390" y="5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401" y="9"/>
                  </a:lnTo>
                  <a:lnTo>
                    <a:pt x="404" y="6"/>
                  </a:lnTo>
                  <a:lnTo>
                    <a:pt x="406" y="0"/>
                  </a:lnTo>
                  <a:lnTo>
                    <a:pt x="402" y="2"/>
                  </a:lnTo>
                  <a:lnTo>
                    <a:pt x="401" y="2"/>
                  </a:lnTo>
                  <a:lnTo>
                    <a:pt x="399" y="4"/>
                  </a:lnTo>
                  <a:lnTo>
                    <a:pt x="399" y="4"/>
                  </a:lnTo>
                  <a:lnTo>
                    <a:pt x="394" y="2"/>
                  </a:lnTo>
                  <a:lnTo>
                    <a:pt x="382" y="2"/>
                  </a:lnTo>
                  <a:lnTo>
                    <a:pt x="366" y="11"/>
                  </a:lnTo>
                  <a:lnTo>
                    <a:pt x="349" y="33"/>
                  </a:lnTo>
                  <a:lnTo>
                    <a:pt x="339" y="48"/>
                  </a:lnTo>
                  <a:lnTo>
                    <a:pt x="325" y="62"/>
                  </a:lnTo>
                  <a:lnTo>
                    <a:pt x="310" y="74"/>
                  </a:lnTo>
                  <a:lnTo>
                    <a:pt x="293" y="86"/>
                  </a:lnTo>
                  <a:lnTo>
                    <a:pt x="277" y="100"/>
                  </a:lnTo>
                  <a:lnTo>
                    <a:pt x="264" y="112"/>
                  </a:lnTo>
                  <a:lnTo>
                    <a:pt x="253" y="125"/>
                  </a:lnTo>
                  <a:lnTo>
                    <a:pt x="248" y="141"/>
                  </a:lnTo>
                  <a:lnTo>
                    <a:pt x="240" y="173"/>
                  </a:lnTo>
                  <a:lnTo>
                    <a:pt x="230" y="207"/>
                  </a:lnTo>
                  <a:lnTo>
                    <a:pt x="214" y="240"/>
                  </a:lnTo>
                  <a:lnTo>
                    <a:pt x="199" y="269"/>
                  </a:lnTo>
                  <a:lnTo>
                    <a:pt x="190" y="283"/>
                  </a:lnTo>
                  <a:lnTo>
                    <a:pt x="180" y="295"/>
                  </a:lnTo>
                  <a:lnTo>
                    <a:pt x="170" y="308"/>
                  </a:lnTo>
                  <a:lnTo>
                    <a:pt x="161" y="320"/>
                  </a:lnTo>
                  <a:lnTo>
                    <a:pt x="151" y="334"/>
                  </a:lnTo>
                  <a:lnTo>
                    <a:pt x="144" y="348"/>
                  </a:lnTo>
                  <a:lnTo>
                    <a:pt x="137" y="361"/>
                  </a:lnTo>
                  <a:lnTo>
                    <a:pt x="134" y="377"/>
                  </a:lnTo>
                  <a:lnTo>
                    <a:pt x="129" y="392"/>
                  </a:lnTo>
                  <a:lnTo>
                    <a:pt x="122" y="404"/>
                  </a:lnTo>
                  <a:lnTo>
                    <a:pt x="111" y="416"/>
                  </a:lnTo>
                  <a:lnTo>
                    <a:pt x="101" y="426"/>
                  </a:lnTo>
                  <a:lnTo>
                    <a:pt x="91" y="436"/>
                  </a:lnTo>
                  <a:lnTo>
                    <a:pt x="81" y="448"/>
                  </a:lnTo>
                  <a:lnTo>
                    <a:pt x="74" y="462"/>
                  </a:lnTo>
                  <a:lnTo>
                    <a:pt x="69" y="478"/>
                  </a:lnTo>
                  <a:lnTo>
                    <a:pt x="65" y="503"/>
                  </a:lnTo>
                  <a:lnTo>
                    <a:pt x="62" y="519"/>
                  </a:lnTo>
                  <a:lnTo>
                    <a:pt x="55" y="525"/>
                  </a:lnTo>
                  <a:lnTo>
                    <a:pt x="40" y="527"/>
                  </a:lnTo>
                  <a:lnTo>
                    <a:pt x="29" y="531"/>
                  </a:lnTo>
                  <a:lnTo>
                    <a:pt x="21" y="537"/>
                  </a:lnTo>
                  <a:lnTo>
                    <a:pt x="11" y="549"/>
                  </a:lnTo>
                  <a:lnTo>
                    <a:pt x="0" y="563"/>
                  </a:lnTo>
                  <a:lnTo>
                    <a:pt x="7" y="563"/>
                  </a:lnTo>
                  <a:lnTo>
                    <a:pt x="12" y="565"/>
                  </a:lnTo>
                  <a:lnTo>
                    <a:pt x="21" y="565"/>
                  </a:lnTo>
                  <a:lnTo>
                    <a:pt x="28" y="566"/>
                  </a:lnTo>
                  <a:lnTo>
                    <a:pt x="36" y="568"/>
                  </a:lnTo>
                  <a:lnTo>
                    <a:pt x="45" y="572"/>
                  </a:lnTo>
                  <a:lnTo>
                    <a:pt x="53" y="573"/>
                  </a:lnTo>
                  <a:lnTo>
                    <a:pt x="62" y="577"/>
                  </a:lnTo>
                  <a:lnTo>
                    <a:pt x="81" y="580"/>
                  </a:lnTo>
                  <a:lnTo>
                    <a:pt x="96" y="577"/>
                  </a:lnTo>
                  <a:lnTo>
                    <a:pt x="110" y="568"/>
                  </a:lnTo>
                  <a:lnTo>
                    <a:pt x="118" y="556"/>
                  </a:lnTo>
                  <a:lnTo>
                    <a:pt x="125" y="544"/>
                  </a:lnTo>
                  <a:lnTo>
                    <a:pt x="130" y="532"/>
                  </a:lnTo>
                  <a:lnTo>
                    <a:pt x="134" y="524"/>
                  </a:lnTo>
                  <a:lnTo>
                    <a:pt x="134" y="5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61560" y="5491440"/>
              <a:ext cx="1428840" cy="536040"/>
            </a:xfrm>
            <a:custGeom>
              <a:avLst/>
              <a:gdLst/>
              <a:ahLst/>
              <a:rect l="l" t="t" r="r" b="b"/>
              <a:pathLst>
                <a:path w="787" h="299">
                  <a:moveTo>
                    <a:pt x="674" y="61"/>
                  </a:moveTo>
                  <a:lnTo>
                    <a:pt x="609" y="75"/>
                  </a:lnTo>
                  <a:lnTo>
                    <a:pt x="607" y="73"/>
                  </a:lnTo>
                  <a:lnTo>
                    <a:pt x="602" y="70"/>
                  </a:lnTo>
                  <a:lnTo>
                    <a:pt x="594" y="66"/>
                  </a:lnTo>
                  <a:lnTo>
                    <a:pt x="583" y="59"/>
                  </a:lnTo>
                  <a:lnTo>
                    <a:pt x="571" y="54"/>
                  </a:lnTo>
                  <a:lnTo>
                    <a:pt x="558" y="51"/>
                  </a:lnTo>
                  <a:lnTo>
                    <a:pt x="544" y="47"/>
                  </a:lnTo>
                  <a:lnTo>
                    <a:pt x="530" y="46"/>
                  </a:lnTo>
                  <a:lnTo>
                    <a:pt x="517" y="44"/>
                  </a:lnTo>
                  <a:lnTo>
                    <a:pt x="505" y="41"/>
                  </a:lnTo>
                  <a:lnTo>
                    <a:pt x="493" y="34"/>
                  </a:lnTo>
                  <a:lnTo>
                    <a:pt x="481" y="27"/>
                  </a:lnTo>
                  <a:lnTo>
                    <a:pt x="469" y="20"/>
                  </a:lnTo>
                  <a:lnTo>
                    <a:pt x="458" y="13"/>
                  </a:lnTo>
                  <a:lnTo>
                    <a:pt x="447" y="6"/>
                  </a:lnTo>
                  <a:lnTo>
                    <a:pt x="436" y="3"/>
                  </a:lnTo>
                  <a:lnTo>
                    <a:pt x="424" y="1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70" y="0"/>
                  </a:lnTo>
                  <a:lnTo>
                    <a:pt x="351" y="1"/>
                  </a:lnTo>
                  <a:lnTo>
                    <a:pt x="335" y="1"/>
                  </a:lnTo>
                  <a:lnTo>
                    <a:pt x="325" y="3"/>
                  </a:lnTo>
                  <a:lnTo>
                    <a:pt x="322" y="3"/>
                  </a:lnTo>
                  <a:lnTo>
                    <a:pt x="311" y="15"/>
                  </a:lnTo>
                  <a:lnTo>
                    <a:pt x="296" y="23"/>
                  </a:lnTo>
                  <a:lnTo>
                    <a:pt x="279" y="30"/>
                  </a:lnTo>
                  <a:lnTo>
                    <a:pt x="257" y="34"/>
                  </a:lnTo>
                  <a:lnTo>
                    <a:pt x="234" y="37"/>
                  </a:lnTo>
                  <a:lnTo>
                    <a:pt x="210" y="39"/>
                  </a:lnTo>
                  <a:lnTo>
                    <a:pt x="186" y="39"/>
                  </a:lnTo>
                  <a:lnTo>
                    <a:pt x="164" y="39"/>
                  </a:lnTo>
                  <a:lnTo>
                    <a:pt x="142" y="42"/>
                  </a:lnTo>
                  <a:lnTo>
                    <a:pt x="120" y="53"/>
                  </a:lnTo>
                  <a:lnTo>
                    <a:pt x="96" y="66"/>
                  </a:lnTo>
                  <a:lnTo>
                    <a:pt x="74" y="83"/>
                  </a:lnTo>
                  <a:lnTo>
                    <a:pt x="51" y="102"/>
                  </a:lnTo>
                  <a:lnTo>
                    <a:pt x="33" y="121"/>
                  </a:lnTo>
                  <a:lnTo>
                    <a:pt x="17" y="138"/>
                  </a:lnTo>
                  <a:lnTo>
                    <a:pt x="7" y="153"/>
                  </a:lnTo>
                  <a:lnTo>
                    <a:pt x="5" y="155"/>
                  </a:lnTo>
                  <a:lnTo>
                    <a:pt x="3" y="159"/>
                  </a:lnTo>
                  <a:lnTo>
                    <a:pt x="2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7" y="160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36" y="160"/>
                  </a:lnTo>
                  <a:lnTo>
                    <a:pt x="60" y="160"/>
                  </a:lnTo>
                  <a:lnTo>
                    <a:pt x="84" y="159"/>
                  </a:lnTo>
                  <a:lnTo>
                    <a:pt x="106" y="155"/>
                  </a:lnTo>
                  <a:lnTo>
                    <a:pt x="128" y="152"/>
                  </a:lnTo>
                  <a:lnTo>
                    <a:pt x="145" y="147"/>
                  </a:lnTo>
                  <a:lnTo>
                    <a:pt x="161" y="138"/>
                  </a:lnTo>
                  <a:lnTo>
                    <a:pt x="171" y="126"/>
                  </a:lnTo>
                  <a:lnTo>
                    <a:pt x="175" y="126"/>
                  </a:lnTo>
                  <a:lnTo>
                    <a:pt x="185" y="124"/>
                  </a:lnTo>
                  <a:lnTo>
                    <a:pt x="200" y="124"/>
                  </a:lnTo>
                  <a:lnTo>
                    <a:pt x="219" y="123"/>
                  </a:lnTo>
                  <a:lnTo>
                    <a:pt x="238" y="123"/>
                  </a:lnTo>
                  <a:lnTo>
                    <a:pt x="257" y="123"/>
                  </a:lnTo>
                  <a:lnTo>
                    <a:pt x="274" y="124"/>
                  </a:lnTo>
                  <a:lnTo>
                    <a:pt x="286" y="126"/>
                  </a:lnTo>
                  <a:lnTo>
                    <a:pt x="296" y="129"/>
                  </a:lnTo>
                  <a:lnTo>
                    <a:pt x="308" y="136"/>
                  </a:lnTo>
                  <a:lnTo>
                    <a:pt x="318" y="143"/>
                  </a:lnTo>
                  <a:lnTo>
                    <a:pt x="330" y="150"/>
                  </a:lnTo>
                  <a:lnTo>
                    <a:pt x="342" y="157"/>
                  </a:lnTo>
                  <a:lnTo>
                    <a:pt x="354" y="164"/>
                  </a:lnTo>
                  <a:lnTo>
                    <a:pt x="366" y="167"/>
                  </a:lnTo>
                  <a:lnTo>
                    <a:pt x="380" y="169"/>
                  </a:lnTo>
                  <a:lnTo>
                    <a:pt x="393" y="171"/>
                  </a:lnTo>
                  <a:lnTo>
                    <a:pt x="407" y="172"/>
                  </a:lnTo>
                  <a:lnTo>
                    <a:pt x="421" y="177"/>
                  </a:lnTo>
                  <a:lnTo>
                    <a:pt x="433" y="182"/>
                  </a:lnTo>
                  <a:lnTo>
                    <a:pt x="443" y="188"/>
                  </a:lnTo>
                  <a:lnTo>
                    <a:pt x="452" y="191"/>
                  </a:lnTo>
                  <a:lnTo>
                    <a:pt x="457" y="194"/>
                  </a:lnTo>
                  <a:lnTo>
                    <a:pt x="458" y="196"/>
                  </a:lnTo>
                  <a:lnTo>
                    <a:pt x="523" y="182"/>
                  </a:lnTo>
                  <a:lnTo>
                    <a:pt x="523" y="186"/>
                  </a:lnTo>
                  <a:lnTo>
                    <a:pt x="525" y="194"/>
                  </a:lnTo>
                  <a:lnTo>
                    <a:pt x="527" y="208"/>
                  </a:lnTo>
                  <a:lnTo>
                    <a:pt x="532" y="224"/>
                  </a:lnTo>
                  <a:lnTo>
                    <a:pt x="541" y="239"/>
                  </a:lnTo>
                  <a:lnTo>
                    <a:pt x="553" y="254"/>
                  </a:lnTo>
                  <a:lnTo>
                    <a:pt x="570" y="266"/>
                  </a:lnTo>
                  <a:lnTo>
                    <a:pt x="594" y="275"/>
                  </a:lnTo>
                  <a:lnTo>
                    <a:pt x="619" y="280"/>
                  </a:lnTo>
                  <a:lnTo>
                    <a:pt x="643" y="285"/>
                  </a:lnTo>
                  <a:lnTo>
                    <a:pt x="664" y="290"/>
                  </a:lnTo>
                  <a:lnTo>
                    <a:pt x="683" y="294"/>
                  </a:lnTo>
                  <a:lnTo>
                    <a:pt x="700" y="297"/>
                  </a:lnTo>
                  <a:lnTo>
                    <a:pt x="715" y="299"/>
                  </a:lnTo>
                  <a:lnTo>
                    <a:pt x="730" y="299"/>
                  </a:lnTo>
                  <a:lnTo>
                    <a:pt x="744" y="297"/>
                  </a:lnTo>
                  <a:lnTo>
                    <a:pt x="746" y="289"/>
                  </a:lnTo>
                  <a:lnTo>
                    <a:pt x="749" y="266"/>
                  </a:lnTo>
                  <a:lnTo>
                    <a:pt x="754" y="241"/>
                  </a:lnTo>
                  <a:lnTo>
                    <a:pt x="760" y="218"/>
                  </a:lnTo>
                  <a:lnTo>
                    <a:pt x="765" y="205"/>
                  </a:lnTo>
                  <a:lnTo>
                    <a:pt x="773" y="191"/>
                  </a:lnTo>
                  <a:lnTo>
                    <a:pt x="782" y="177"/>
                  </a:lnTo>
                  <a:lnTo>
                    <a:pt x="787" y="164"/>
                  </a:lnTo>
                  <a:lnTo>
                    <a:pt x="778" y="160"/>
                  </a:lnTo>
                  <a:lnTo>
                    <a:pt x="768" y="159"/>
                  </a:lnTo>
                  <a:lnTo>
                    <a:pt x="756" y="155"/>
                  </a:lnTo>
                  <a:lnTo>
                    <a:pt x="744" y="153"/>
                  </a:lnTo>
                  <a:lnTo>
                    <a:pt x="720" y="145"/>
                  </a:lnTo>
                  <a:lnTo>
                    <a:pt x="703" y="133"/>
                  </a:lnTo>
                  <a:lnTo>
                    <a:pt x="691" y="118"/>
                  </a:lnTo>
                  <a:lnTo>
                    <a:pt x="683" y="102"/>
                  </a:lnTo>
                  <a:lnTo>
                    <a:pt x="677" y="87"/>
                  </a:lnTo>
                  <a:lnTo>
                    <a:pt x="676" y="73"/>
                  </a:lnTo>
                  <a:lnTo>
                    <a:pt x="674" y="65"/>
                  </a:lnTo>
                  <a:lnTo>
                    <a:pt x="674" y="6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3640" y="3788640"/>
              <a:ext cx="3512520" cy="2372040"/>
            </a:xfrm>
            <a:custGeom>
              <a:avLst/>
              <a:gdLst/>
              <a:ahLst/>
              <a:rect l="l" t="t" r="r" b="b"/>
              <a:pathLst>
                <a:path w="1931" h="1318">
                  <a:moveTo>
                    <a:pt x="1812" y="1187"/>
                  </a:moveTo>
                  <a:lnTo>
                    <a:pt x="1805" y="1180"/>
                  </a:lnTo>
                  <a:lnTo>
                    <a:pt x="1795" y="1176"/>
                  </a:lnTo>
                  <a:lnTo>
                    <a:pt x="1783" y="1173"/>
                  </a:lnTo>
                  <a:lnTo>
                    <a:pt x="1767" y="1171"/>
                  </a:lnTo>
                  <a:lnTo>
                    <a:pt x="1753" y="1170"/>
                  </a:lnTo>
                  <a:lnTo>
                    <a:pt x="1740" y="1168"/>
                  </a:lnTo>
                  <a:lnTo>
                    <a:pt x="1728" y="1164"/>
                  </a:lnTo>
                  <a:lnTo>
                    <a:pt x="1718" y="1158"/>
                  </a:lnTo>
                  <a:lnTo>
                    <a:pt x="1707" y="1152"/>
                  </a:lnTo>
                  <a:lnTo>
                    <a:pt x="1692" y="1151"/>
                  </a:lnTo>
                  <a:lnTo>
                    <a:pt x="1673" y="1151"/>
                  </a:lnTo>
                  <a:lnTo>
                    <a:pt x="1654" y="1154"/>
                  </a:lnTo>
                  <a:lnTo>
                    <a:pt x="1634" y="1156"/>
                  </a:lnTo>
                  <a:lnTo>
                    <a:pt x="1617" y="1158"/>
                  </a:lnTo>
                  <a:lnTo>
                    <a:pt x="1600" y="1156"/>
                  </a:lnTo>
                  <a:lnTo>
                    <a:pt x="1589" y="1151"/>
                  </a:lnTo>
                  <a:lnTo>
                    <a:pt x="1582" y="1144"/>
                  </a:lnTo>
                  <a:lnTo>
                    <a:pt x="1576" y="1139"/>
                  </a:lnTo>
                  <a:lnTo>
                    <a:pt x="1569" y="1135"/>
                  </a:lnTo>
                  <a:lnTo>
                    <a:pt x="1562" y="1134"/>
                  </a:lnTo>
                  <a:lnTo>
                    <a:pt x="1553" y="1135"/>
                  </a:lnTo>
                  <a:lnTo>
                    <a:pt x="1545" y="1139"/>
                  </a:lnTo>
                  <a:lnTo>
                    <a:pt x="1536" y="1144"/>
                  </a:lnTo>
                  <a:lnTo>
                    <a:pt x="1526" y="1151"/>
                  </a:lnTo>
                  <a:lnTo>
                    <a:pt x="1516" y="1159"/>
                  </a:lnTo>
                  <a:lnTo>
                    <a:pt x="1504" y="1166"/>
                  </a:lnTo>
                  <a:lnTo>
                    <a:pt x="1490" y="1173"/>
                  </a:lnTo>
                  <a:lnTo>
                    <a:pt x="1476" y="1178"/>
                  </a:lnTo>
                  <a:lnTo>
                    <a:pt x="1463" y="1180"/>
                  </a:lnTo>
                  <a:lnTo>
                    <a:pt x="1447" y="1178"/>
                  </a:lnTo>
                  <a:lnTo>
                    <a:pt x="1434" y="1170"/>
                  </a:lnTo>
                  <a:lnTo>
                    <a:pt x="1420" y="1158"/>
                  </a:lnTo>
                  <a:lnTo>
                    <a:pt x="1406" y="1146"/>
                  </a:lnTo>
                  <a:lnTo>
                    <a:pt x="1394" y="1139"/>
                  </a:lnTo>
                  <a:lnTo>
                    <a:pt x="1381" y="1135"/>
                  </a:lnTo>
                  <a:lnTo>
                    <a:pt x="1369" y="1134"/>
                  </a:lnTo>
                  <a:lnTo>
                    <a:pt x="1355" y="1135"/>
                  </a:lnTo>
                  <a:lnTo>
                    <a:pt x="1341" y="1134"/>
                  </a:lnTo>
                  <a:lnTo>
                    <a:pt x="1328" y="1130"/>
                  </a:lnTo>
                  <a:lnTo>
                    <a:pt x="1312" y="1122"/>
                  </a:lnTo>
                  <a:lnTo>
                    <a:pt x="1297" y="1113"/>
                  </a:lnTo>
                  <a:lnTo>
                    <a:pt x="1281" y="1111"/>
                  </a:lnTo>
                  <a:lnTo>
                    <a:pt x="1268" y="1111"/>
                  </a:lnTo>
                  <a:lnTo>
                    <a:pt x="1254" y="1113"/>
                  </a:lnTo>
                  <a:lnTo>
                    <a:pt x="1242" y="1115"/>
                  </a:lnTo>
                  <a:lnTo>
                    <a:pt x="1230" y="1113"/>
                  </a:lnTo>
                  <a:lnTo>
                    <a:pt x="1220" y="1110"/>
                  </a:lnTo>
                  <a:lnTo>
                    <a:pt x="1211" y="1099"/>
                  </a:lnTo>
                  <a:lnTo>
                    <a:pt x="1203" y="1089"/>
                  </a:lnTo>
                  <a:lnTo>
                    <a:pt x="1191" y="1082"/>
                  </a:lnTo>
                  <a:lnTo>
                    <a:pt x="1179" y="1079"/>
                  </a:lnTo>
                  <a:lnTo>
                    <a:pt x="1163" y="1081"/>
                  </a:lnTo>
                  <a:lnTo>
                    <a:pt x="1148" y="1082"/>
                  </a:lnTo>
                  <a:lnTo>
                    <a:pt x="1129" y="1086"/>
                  </a:lnTo>
                  <a:lnTo>
                    <a:pt x="1110" y="1089"/>
                  </a:lnTo>
                  <a:lnTo>
                    <a:pt x="1090" y="1093"/>
                  </a:lnTo>
                  <a:lnTo>
                    <a:pt x="1067" y="1094"/>
                  </a:lnTo>
                  <a:lnTo>
                    <a:pt x="1047" y="1094"/>
                  </a:lnTo>
                  <a:lnTo>
                    <a:pt x="1026" y="1094"/>
                  </a:lnTo>
                  <a:lnTo>
                    <a:pt x="1008" y="1091"/>
                  </a:lnTo>
                  <a:lnTo>
                    <a:pt x="992" y="1086"/>
                  </a:lnTo>
                  <a:lnTo>
                    <a:pt x="979" y="1079"/>
                  </a:lnTo>
                  <a:lnTo>
                    <a:pt x="972" y="1069"/>
                  </a:lnTo>
                  <a:lnTo>
                    <a:pt x="968" y="1057"/>
                  </a:lnTo>
                  <a:lnTo>
                    <a:pt x="970" y="1043"/>
                  </a:lnTo>
                  <a:lnTo>
                    <a:pt x="973" y="1031"/>
                  </a:lnTo>
                  <a:lnTo>
                    <a:pt x="979" y="1019"/>
                  </a:lnTo>
                  <a:lnTo>
                    <a:pt x="985" y="1009"/>
                  </a:lnTo>
                  <a:lnTo>
                    <a:pt x="994" y="1000"/>
                  </a:lnTo>
                  <a:lnTo>
                    <a:pt x="1004" y="992"/>
                  </a:lnTo>
                  <a:lnTo>
                    <a:pt x="1014" y="983"/>
                  </a:lnTo>
                  <a:lnTo>
                    <a:pt x="1025" y="978"/>
                  </a:lnTo>
                  <a:lnTo>
                    <a:pt x="1032" y="973"/>
                  </a:lnTo>
                  <a:lnTo>
                    <a:pt x="1032" y="966"/>
                  </a:lnTo>
                  <a:lnTo>
                    <a:pt x="1026" y="958"/>
                  </a:lnTo>
                  <a:lnTo>
                    <a:pt x="1016" y="949"/>
                  </a:lnTo>
                  <a:lnTo>
                    <a:pt x="1002" y="940"/>
                  </a:lnTo>
                  <a:lnTo>
                    <a:pt x="987" y="930"/>
                  </a:lnTo>
                  <a:lnTo>
                    <a:pt x="970" y="922"/>
                  </a:lnTo>
                  <a:lnTo>
                    <a:pt x="953" y="913"/>
                  </a:lnTo>
                  <a:lnTo>
                    <a:pt x="931" y="896"/>
                  </a:lnTo>
                  <a:lnTo>
                    <a:pt x="924" y="881"/>
                  </a:lnTo>
                  <a:lnTo>
                    <a:pt x="920" y="869"/>
                  </a:lnTo>
                  <a:lnTo>
                    <a:pt x="910" y="863"/>
                  </a:lnTo>
                  <a:lnTo>
                    <a:pt x="902" y="862"/>
                  </a:lnTo>
                  <a:lnTo>
                    <a:pt x="893" y="860"/>
                  </a:lnTo>
                  <a:lnTo>
                    <a:pt x="883" y="855"/>
                  </a:lnTo>
                  <a:lnTo>
                    <a:pt x="874" y="848"/>
                  </a:lnTo>
                  <a:lnTo>
                    <a:pt x="866" y="841"/>
                  </a:lnTo>
                  <a:lnTo>
                    <a:pt x="859" y="833"/>
                  </a:lnTo>
                  <a:lnTo>
                    <a:pt x="855" y="824"/>
                  </a:lnTo>
                  <a:lnTo>
                    <a:pt x="854" y="814"/>
                  </a:lnTo>
                  <a:lnTo>
                    <a:pt x="854" y="795"/>
                  </a:lnTo>
                  <a:lnTo>
                    <a:pt x="857" y="780"/>
                  </a:lnTo>
                  <a:lnTo>
                    <a:pt x="862" y="769"/>
                  </a:lnTo>
                  <a:lnTo>
                    <a:pt x="874" y="763"/>
                  </a:lnTo>
                  <a:lnTo>
                    <a:pt x="881" y="759"/>
                  </a:lnTo>
                  <a:lnTo>
                    <a:pt x="886" y="756"/>
                  </a:lnTo>
                  <a:lnTo>
                    <a:pt x="888" y="751"/>
                  </a:lnTo>
                  <a:lnTo>
                    <a:pt x="891" y="745"/>
                  </a:lnTo>
                  <a:lnTo>
                    <a:pt x="896" y="742"/>
                  </a:lnTo>
                  <a:lnTo>
                    <a:pt x="902" y="739"/>
                  </a:lnTo>
                  <a:lnTo>
                    <a:pt x="912" y="737"/>
                  </a:lnTo>
                  <a:lnTo>
                    <a:pt x="925" y="735"/>
                  </a:lnTo>
                  <a:lnTo>
                    <a:pt x="937" y="734"/>
                  </a:lnTo>
                  <a:lnTo>
                    <a:pt x="941" y="730"/>
                  </a:lnTo>
                  <a:lnTo>
                    <a:pt x="937" y="723"/>
                  </a:lnTo>
                  <a:lnTo>
                    <a:pt x="929" y="715"/>
                  </a:lnTo>
                  <a:lnTo>
                    <a:pt x="917" y="704"/>
                  </a:lnTo>
                  <a:lnTo>
                    <a:pt x="903" y="696"/>
                  </a:lnTo>
                  <a:lnTo>
                    <a:pt x="888" y="686"/>
                  </a:lnTo>
                  <a:lnTo>
                    <a:pt x="874" y="677"/>
                  </a:lnTo>
                  <a:lnTo>
                    <a:pt x="862" y="672"/>
                  </a:lnTo>
                  <a:lnTo>
                    <a:pt x="850" y="670"/>
                  </a:lnTo>
                  <a:lnTo>
                    <a:pt x="838" y="674"/>
                  </a:lnTo>
                  <a:lnTo>
                    <a:pt x="830" y="681"/>
                  </a:lnTo>
                  <a:lnTo>
                    <a:pt x="819" y="691"/>
                  </a:lnTo>
                  <a:lnTo>
                    <a:pt x="809" y="704"/>
                  </a:lnTo>
                  <a:lnTo>
                    <a:pt x="799" y="722"/>
                  </a:lnTo>
                  <a:lnTo>
                    <a:pt x="789" y="742"/>
                  </a:lnTo>
                  <a:lnTo>
                    <a:pt x="777" y="759"/>
                  </a:lnTo>
                  <a:lnTo>
                    <a:pt x="763" y="768"/>
                  </a:lnTo>
                  <a:lnTo>
                    <a:pt x="749" y="771"/>
                  </a:lnTo>
                  <a:lnTo>
                    <a:pt x="736" y="768"/>
                  </a:lnTo>
                  <a:lnTo>
                    <a:pt x="722" y="761"/>
                  </a:lnTo>
                  <a:lnTo>
                    <a:pt x="712" y="749"/>
                  </a:lnTo>
                  <a:lnTo>
                    <a:pt x="705" y="735"/>
                  </a:lnTo>
                  <a:lnTo>
                    <a:pt x="703" y="720"/>
                  </a:lnTo>
                  <a:lnTo>
                    <a:pt x="701" y="706"/>
                  </a:lnTo>
                  <a:lnTo>
                    <a:pt x="698" y="696"/>
                  </a:lnTo>
                  <a:lnTo>
                    <a:pt x="691" y="689"/>
                  </a:lnTo>
                  <a:lnTo>
                    <a:pt x="683" y="686"/>
                  </a:lnTo>
                  <a:lnTo>
                    <a:pt x="672" y="682"/>
                  </a:lnTo>
                  <a:lnTo>
                    <a:pt x="660" y="681"/>
                  </a:lnTo>
                  <a:lnTo>
                    <a:pt x="647" y="679"/>
                  </a:lnTo>
                  <a:lnTo>
                    <a:pt x="631" y="677"/>
                  </a:lnTo>
                  <a:lnTo>
                    <a:pt x="616" y="675"/>
                  </a:lnTo>
                  <a:lnTo>
                    <a:pt x="602" y="674"/>
                  </a:lnTo>
                  <a:lnTo>
                    <a:pt x="592" y="672"/>
                  </a:lnTo>
                  <a:lnTo>
                    <a:pt x="582" y="669"/>
                  </a:lnTo>
                  <a:lnTo>
                    <a:pt x="571" y="665"/>
                  </a:lnTo>
                  <a:lnTo>
                    <a:pt x="565" y="658"/>
                  </a:lnTo>
                  <a:lnTo>
                    <a:pt x="558" y="648"/>
                  </a:lnTo>
                  <a:lnTo>
                    <a:pt x="553" y="634"/>
                  </a:lnTo>
                  <a:lnTo>
                    <a:pt x="546" y="621"/>
                  </a:lnTo>
                  <a:lnTo>
                    <a:pt x="535" y="612"/>
                  </a:lnTo>
                  <a:lnTo>
                    <a:pt x="523" y="607"/>
                  </a:lnTo>
                  <a:lnTo>
                    <a:pt x="511" y="604"/>
                  </a:lnTo>
                  <a:lnTo>
                    <a:pt x="500" y="602"/>
                  </a:lnTo>
                  <a:lnTo>
                    <a:pt x="489" y="598"/>
                  </a:lnTo>
                  <a:lnTo>
                    <a:pt x="482" y="593"/>
                  </a:lnTo>
                  <a:lnTo>
                    <a:pt x="481" y="585"/>
                  </a:lnTo>
                  <a:lnTo>
                    <a:pt x="489" y="564"/>
                  </a:lnTo>
                  <a:lnTo>
                    <a:pt x="506" y="549"/>
                  </a:lnTo>
                  <a:lnTo>
                    <a:pt x="522" y="537"/>
                  </a:lnTo>
                  <a:lnTo>
                    <a:pt x="530" y="533"/>
                  </a:lnTo>
                  <a:lnTo>
                    <a:pt x="523" y="528"/>
                  </a:lnTo>
                  <a:lnTo>
                    <a:pt x="510" y="515"/>
                  </a:lnTo>
                  <a:lnTo>
                    <a:pt x="503" y="496"/>
                  </a:lnTo>
                  <a:lnTo>
                    <a:pt x="517" y="470"/>
                  </a:lnTo>
                  <a:lnTo>
                    <a:pt x="527" y="458"/>
                  </a:lnTo>
                  <a:lnTo>
                    <a:pt x="529" y="446"/>
                  </a:lnTo>
                  <a:lnTo>
                    <a:pt x="525" y="438"/>
                  </a:lnTo>
                  <a:lnTo>
                    <a:pt x="518" y="429"/>
                  </a:lnTo>
                  <a:lnTo>
                    <a:pt x="506" y="421"/>
                  </a:lnTo>
                  <a:lnTo>
                    <a:pt x="494" y="414"/>
                  </a:lnTo>
                  <a:lnTo>
                    <a:pt x="479" y="405"/>
                  </a:lnTo>
                  <a:lnTo>
                    <a:pt x="465" y="398"/>
                  </a:lnTo>
                  <a:lnTo>
                    <a:pt x="450" y="388"/>
                  </a:lnTo>
                  <a:lnTo>
                    <a:pt x="431" y="374"/>
                  </a:lnTo>
                  <a:lnTo>
                    <a:pt x="412" y="359"/>
                  </a:lnTo>
                  <a:lnTo>
                    <a:pt x="392" y="344"/>
                  </a:lnTo>
                  <a:lnTo>
                    <a:pt x="373" y="328"/>
                  </a:lnTo>
                  <a:lnTo>
                    <a:pt x="358" y="316"/>
                  </a:lnTo>
                  <a:lnTo>
                    <a:pt x="347" y="308"/>
                  </a:lnTo>
                  <a:lnTo>
                    <a:pt x="344" y="304"/>
                  </a:lnTo>
                  <a:lnTo>
                    <a:pt x="337" y="299"/>
                  </a:lnTo>
                  <a:lnTo>
                    <a:pt x="323" y="286"/>
                  </a:lnTo>
                  <a:lnTo>
                    <a:pt x="311" y="267"/>
                  </a:lnTo>
                  <a:lnTo>
                    <a:pt x="308" y="241"/>
                  </a:lnTo>
                  <a:lnTo>
                    <a:pt x="315" y="214"/>
                  </a:lnTo>
                  <a:lnTo>
                    <a:pt x="318" y="186"/>
                  </a:lnTo>
                  <a:lnTo>
                    <a:pt x="316" y="166"/>
                  </a:lnTo>
                  <a:lnTo>
                    <a:pt x="301" y="154"/>
                  </a:lnTo>
                  <a:lnTo>
                    <a:pt x="291" y="149"/>
                  </a:lnTo>
                  <a:lnTo>
                    <a:pt x="279" y="137"/>
                  </a:lnTo>
                  <a:lnTo>
                    <a:pt x="269" y="120"/>
                  </a:lnTo>
                  <a:lnTo>
                    <a:pt x="258" y="103"/>
                  </a:lnTo>
                  <a:lnTo>
                    <a:pt x="248" y="84"/>
                  </a:lnTo>
                  <a:lnTo>
                    <a:pt x="238" y="65"/>
                  </a:lnTo>
                  <a:lnTo>
                    <a:pt x="226" y="50"/>
                  </a:lnTo>
                  <a:lnTo>
                    <a:pt x="216" y="39"/>
                  </a:lnTo>
                  <a:lnTo>
                    <a:pt x="204" y="31"/>
                  </a:lnTo>
                  <a:lnTo>
                    <a:pt x="193" y="22"/>
                  </a:lnTo>
                  <a:lnTo>
                    <a:pt x="183" y="12"/>
                  </a:lnTo>
                  <a:lnTo>
                    <a:pt x="173" y="0"/>
                  </a:lnTo>
                  <a:lnTo>
                    <a:pt x="169" y="5"/>
                  </a:lnTo>
                  <a:lnTo>
                    <a:pt x="168" y="12"/>
                  </a:lnTo>
                  <a:lnTo>
                    <a:pt x="166" y="19"/>
                  </a:lnTo>
                  <a:lnTo>
                    <a:pt x="166" y="26"/>
                  </a:lnTo>
                  <a:lnTo>
                    <a:pt x="163" y="46"/>
                  </a:lnTo>
                  <a:lnTo>
                    <a:pt x="156" y="51"/>
                  </a:lnTo>
                  <a:lnTo>
                    <a:pt x="144" y="44"/>
                  </a:lnTo>
                  <a:lnTo>
                    <a:pt x="130" y="32"/>
                  </a:lnTo>
                  <a:lnTo>
                    <a:pt x="121" y="27"/>
                  </a:lnTo>
                  <a:lnTo>
                    <a:pt x="115" y="24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9"/>
                  </a:lnTo>
                  <a:lnTo>
                    <a:pt x="87" y="19"/>
                  </a:lnTo>
                  <a:lnTo>
                    <a:pt x="80" y="22"/>
                  </a:lnTo>
                  <a:lnTo>
                    <a:pt x="72" y="26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39" y="34"/>
                  </a:lnTo>
                  <a:lnTo>
                    <a:pt x="29" y="36"/>
                  </a:lnTo>
                  <a:lnTo>
                    <a:pt x="17" y="39"/>
                  </a:lnTo>
                  <a:lnTo>
                    <a:pt x="9" y="46"/>
                  </a:lnTo>
                  <a:lnTo>
                    <a:pt x="2" y="55"/>
                  </a:lnTo>
                  <a:lnTo>
                    <a:pt x="0" y="68"/>
                  </a:lnTo>
                  <a:lnTo>
                    <a:pt x="2" y="84"/>
                  </a:lnTo>
                  <a:lnTo>
                    <a:pt x="7" y="97"/>
                  </a:lnTo>
                  <a:lnTo>
                    <a:pt x="14" y="111"/>
                  </a:lnTo>
                  <a:lnTo>
                    <a:pt x="22" y="123"/>
                  </a:lnTo>
                  <a:lnTo>
                    <a:pt x="33" y="133"/>
                  </a:lnTo>
                  <a:lnTo>
                    <a:pt x="43" y="144"/>
                  </a:lnTo>
                  <a:lnTo>
                    <a:pt x="53" y="154"/>
                  </a:lnTo>
                  <a:lnTo>
                    <a:pt x="65" y="162"/>
                  </a:lnTo>
                  <a:lnTo>
                    <a:pt x="75" y="173"/>
                  </a:lnTo>
                  <a:lnTo>
                    <a:pt x="87" y="188"/>
                  </a:lnTo>
                  <a:lnTo>
                    <a:pt x="98" y="205"/>
                  </a:lnTo>
                  <a:lnTo>
                    <a:pt x="108" y="224"/>
                  </a:lnTo>
                  <a:lnTo>
                    <a:pt x="118" y="243"/>
                  </a:lnTo>
                  <a:lnTo>
                    <a:pt x="128" y="258"/>
                  </a:lnTo>
                  <a:lnTo>
                    <a:pt x="140" y="270"/>
                  </a:lnTo>
                  <a:lnTo>
                    <a:pt x="151" y="277"/>
                  </a:lnTo>
                  <a:lnTo>
                    <a:pt x="166" y="289"/>
                  </a:lnTo>
                  <a:lnTo>
                    <a:pt x="168" y="309"/>
                  </a:lnTo>
                  <a:lnTo>
                    <a:pt x="164" y="335"/>
                  </a:lnTo>
                  <a:lnTo>
                    <a:pt x="157" y="362"/>
                  </a:lnTo>
                  <a:lnTo>
                    <a:pt x="161" y="388"/>
                  </a:lnTo>
                  <a:lnTo>
                    <a:pt x="173" y="409"/>
                  </a:lnTo>
                  <a:lnTo>
                    <a:pt x="186" y="422"/>
                  </a:lnTo>
                  <a:lnTo>
                    <a:pt x="193" y="427"/>
                  </a:lnTo>
                  <a:lnTo>
                    <a:pt x="197" y="431"/>
                  </a:lnTo>
                  <a:lnTo>
                    <a:pt x="207" y="439"/>
                  </a:lnTo>
                  <a:lnTo>
                    <a:pt x="222" y="451"/>
                  </a:lnTo>
                  <a:lnTo>
                    <a:pt x="241" y="465"/>
                  </a:lnTo>
                  <a:lnTo>
                    <a:pt x="262" y="480"/>
                  </a:lnTo>
                  <a:lnTo>
                    <a:pt x="282" y="496"/>
                  </a:lnTo>
                  <a:lnTo>
                    <a:pt x="301" y="510"/>
                  </a:lnTo>
                  <a:lnTo>
                    <a:pt x="316" y="520"/>
                  </a:lnTo>
                  <a:lnTo>
                    <a:pt x="330" y="528"/>
                  </a:lnTo>
                  <a:lnTo>
                    <a:pt x="344" y="535"/>
                  </a:lnTo>
                  <a:lnTo>
                    <a:pt x="358" y="542"/>
                  </a:lnTo>
                  <a:lnTo>
                    <a:pt x="368" y="551"/>
                  </a:lnTo>
                  <a:lnTo>
                    <a:pt x="375" y="559"/>
                  </a:lnTo>
                  <a:lnTo>
                    <a:pt x="378" y="568"/>
                  </a:lnTo>
                  <a:lnTo>
                    <a:pt x="376" y="580"/>
                  </a:lnTo>
                  <a:lnTo>
                    <a:pt x="366" y="592"/>
                  </a:lnTo>
                  <a:lnTo>
                    <a:pt x="352" y="617"/>
                  </a:lnTo>
                  <a:lnTo>
                    <a:pt x="359" y="638"/>
                  </a:lnTo>
                  <a:lnTo>
                    <a:pt x="373" y="651"/>
                  </a:lnTo>
                  <a:lnTo>
                    <a:pt x="380" y="657"/>
                  </a:lnTo>
                  <a:lnTo>
                    <a:pt x="371" y="660"/>
                  </a:lnTo>
                  <a:lnTo>
                    <a:pt x="356" y="670"/>
                  </a:lnTo>
                  <a:lnTo>
                    <a:pt x="339" y="686"/>
                  </a:lnTo>
                  <a:lnTo>
                    <a:pt x="330" y="706"/>
                  </a:lnTo>
                  <a:lnTo>
                    <a:pt x="332" y="715"/>
                  </a:lnTo>
                  <a:lnTo>
                    <a:pt x="339" y="720"/>
                  </a:lnTo>
                  <a:lnTo>
                    <a:pt x="349" y="723"/>
                  </a:lnTo>
                  <a:lnTo>
                    <a:pt x="361" y="725"/>
                  </a:lnTo>
                  <a:lnTo>
                    <a:pt x="373" y="728"/>
                  </a:lnTo>
                  <a:lnTo>
                    <a:pt x="385" y="734"/>
                  </a:lnTo>
                  <a:lnTo>
                    <a:pt x="395" y="742"/>
                  </a:lnTo>
                  <a:lnTo>
                    <a:pt x="402" y="756"/>
                  </a:lnTo>
                  <a:lnTo>
                    <a:pt x="407" y="769"/>
                  </a:lnTo>
                  <a:lnTo>
                    <a:pt x="414" y="780"/>
                  </a:lnTo>
                  <a:lnTo>
                    <a:pt x="421" y="787"/>
                  </a:lnTo>
                  <a:lnTo>
                    <a:pt x="431" y="790"/>
                  </a:lnTo>
                  <a:lnTo>
                    <a:pt x="441" y="793"/>
                  </a:lnTo>
                  <a:lnTo>
                    <a:pt x="452" y="795"/>
                  </a:lnTo>
                  <a:lnTo>
                    <a:pt x="465" y="797"/>
                  </a:lnTo>
                  <a:lnTo>
                    <a:pt x="481" y="798"/>
                  </a:lnTo>
                  <a:lnTo>
                    <a:pt x="496" y="800"/>
                  </a:lnTo>
                  <a:lnTo>
                    <a:pt x="510" y="802"/>
                  </a:lnTo>
                  <a:lnTo>
                    <a:pt x="522" y="805"/>
                  </a:lnTo>
                  <a:lnTo>
                    <a:pt x="532" y="807"/>
                  </a:lnTo>
                  <a:lnTo>
                    <a:pt x="541" y="810"/>
                  </a:lnTo>
                  <a:lnTo>
                    <a:pt x="547" y="817"/>
                  </a:lnTo>
                  <a:lnTo>
                    <a:pt x="551" y="828"/>
                  </a:lnTo>
                  <a:lnTo>
                    <a:pt x="553" y="841"/>
                  </a:lnTo>
                  <a:lnTo>
                    <a:pt x="554" y="857"/>
                  </a:lnTo>
                  <a:lnTo>
                    <a:pt x="561" y="872"/>
                  </a:lnTo>
                  <a:lnTo>
                    <a:pt x="571" y="884"/>
                  </a:lnTo>
                  <a:lnTo>
                    <a:pt x="585" y="891"/>
                  </a:lnTo>
                  <a:lnTo>
                    <a:pt x="599" y="894"/>
                  </a:lnTo>
                  <a:lnTo>
                    <a:pt x="612" y="891"/>
                  </a:lnTo>
                  <a:lnTo>
                    <a:pt x="626" y="881"/>
                  </a:lnTo>
                  <a:lnTo>
                    <a:pt x="638" y="863"/>
                  </a:lnTo>
                  <a:lnTo>
                    <a:pt x="648" y="843"/>
                  </a:lnTo>
                  <a:lnTo>
                    <a:pt x="659" y="826"/>
                  </a:lnTo>
                  <a:lnTo>
                    <a:pt x="669" y="812"/>
                  </a:lnTo>
                  <a:lnTo>
                    <a:pt x="679" y="802"/>
                  </a:lnTo>
                  <a:lnTo>
                    <a:pt x="688" y="795"/>
                  </a:lnTo>
                  <a:lnTo>
                    <a:pt x="700" y="792"/>
                  </a:lnTo>
                  <a:lnTo>
                    <a:pt x="712" y="793"/>
                  </a:lnTo>
                  <a:lnTo>
                    <a:pt x="724" y="798"/>
                  </a:lnTo>
                  <a:lnTo>
                    <a:pt x="737" y="807"/>
                  </a:lnTo>
                  <a:lnTo>
                    <a:pt x="753" y="817"/>
                  </a:lnTo>
                  <a:lnTo>
                    <a:pt x="766" y="826"/>
                  </a:lnTo>
                  <a:lnTo>
                    <a:pt x="778" y="836"/>
                  </a:lnTo>
                  <a:lnTo>
                    <a:pt x="787" y="845"/>
                  </a:lnTo>
                  <a:lnTo>
                    <a:pt x="790" y="851"/>
                  </a:lnTo>
                  <a:lnTo>
                    <a:pt x="787" y="855"/>
                  </a:lnTo>
                  <a:lnTo>
                    <a:pt x="775" y="857"/>
                  </a:lnTo>
                  <a:lnTo>
                    <a:pt x="761" y="858"/>
                  </a:lnTo>
                  <a:lnTo>
                    <a:pt x="751" y="860"/>
                  </a:lnTo>
                  <a:lnTo>
                    <a:pt x="746" y="863"/>
                  </a:lnTo>
                  <a:lnTo>
                    <a:pt x="741" y="869"/>
                  </a:lnTo>
                  <a:lnTo>
                    <a:pt x="737" y="872"/>
                  </a:lnTo>
                  <a:lnTo>
                    <a:pt x="736" y="877"/>
                  </a:lnTo>
                  <a:lnTo>
                    <a:pt x="730" y="882"/>
                  </a:lnTo>
                  <a:lnTo>
                    <a:pt x="724" y="886"/>
                  </a:lnTo>
                  <a:lnTo>
                    <a:pt x="712" y="893"/>
                  </a:lnTo>
                  <a:lnTo>
                    <a:pt x="707" y="903"/>
                  </a:lnTo>
                  <a:lnTo>
                    <a:pt x="703" y="916"/>
                  </a:lnTo>
                  <a:lnTo>
                    <a:pt x="703" y="935"/>
                  </a:lnTo>
                  <a:lnTo>
                    <a:pt x="705" y="946"/>
                  </a:lnTo>
                  <a:lnTo>
                    <a:pt x="708" y="956"/>
                  </a:lnTo>
                  <a:lnTo>
                    <a:pt x="715" y="964"/>
                  </a:lnTo>
                  <a:lnTo>
                    <a:pt x="724" y="971"/>
                  </a:lnTo>
                  <a:lnTo>
                    <a:pt x="732" y="976"/>
                  </a:lnTo>
                  <a:lnTo>
                    <a:pt x="742" y="981"/>
                  </a:lnTo>
                  <a:lnTo>
                    <a:pt x="751" y="983"/>
                  </a:lnTo>
                  <a:lnTo>
                    <a:pt x="760" y="985"/>
                  </a:lnTo>
                  <a:lnTo>
                    <a:pt x="770" y="990"/>
                  </a:lnTo>
                  <a:lnTo>
                    <a:pt x="773" y="1002"/>
                  </a:lnTo>
                  <a:lnTo>
                    <a:pt x="780" y="1019"/>
                  </a:lnTo>
                  <a:lnTo>
                    <a:pt x="802" y="1036"/>
                  </a:lnTo>
                  <a:lnTo>
                    <a:pt x="819" y="1045"/>
                  </a:lnTo>
                  <a:lnTo>
                    <a:pt x="837" y="1053"/>
                  </a:lnTo>
                  <a:lnTo>
                    <a:pt x="852" y="1062"/>
                  </a:lnTo>
                  <a:lnTo>
                    <a:pt x="866" y="1070"/>
                  </a:lnTo>
                  <a:lnTo>
                    <a:pt x="876" y="1079"/>
                  </a:lnTo>
                  <a:lnTo>
                    <a:pt x="881" y="1087"/>
                  </a:lnTo>
                  <a:lnTo>
                    <a:pt x="881" y="1094"/>
                  </a:lnTo>
                  <a:lnTo>
                    <a:pt x="874" y="1099"/>
                  </a:lnTo>
                  <a:lnTo>
                    <a:pt x="864" y="1106"/>
                  </a:lnTo>
                  <a:lnTo>
                    <a:pt x="854" y="1113"/>
                  </a:lnTo>
                  <a:lnTo>
                    <a:pt x="843" y="1122"/>
                  </a:lnTo>
                  <a:lnTo>
                    <a:pt x="835" y="1130"/>
                  </a:lnTo>
                  <a:lnTo>
                    <a:pt x="828" y="1142"/>
                  </a:lnTo>
                  <a:lnTo>
                    <a:pt x="823" y="1152"/>
                  </a:lnTo>
                  <a:lnTo>
                    <a:pt x="819" y="1164"/>
                  </a:lnTo>
                  <a:lnTo>
                    <a:pt x="818" y="1178"/>
                  </a:lnTo>
                  <a:lnTo>
                    <a:pt x="821" y="1190"/>
                  </a:lnTo>
                  <a:lnTo>
                    <a:pt x="828" y="1200"/>
                  </a:lnTo>
                  <a:lnTo>
                    <a:pt x="842" y="1207"/>
                  </a:lnTo>
                  <a:lnTo>
                    <a:pt x="857" y="1212"/>
                  </a:lnTo>
                  <a:lnTo>
                    <a:pt x="876" y="1216"/>
                  </a:lnTo>
                  <a:lnTo>
                    <a:pt x="896" y="1216"/>
                  </a:lnTo>
                  <a:lnTo>
                    <a:pt x="917" y="1216"/>
                  </a:lnTo>
                  <a:lnTo>
                    <a:pt x="939" y="1214"/>
                  </a:lnTo>
                  <a:lnTo>
                    <a:pt x="960" y="1211"/>
                  </a:lnTo>
                  <a:lnTo>
                    <a:pt x="979" y="1207"/>
                  </a:lnTo>
                  <a:lnTo>
                    <a:pt x="997" y="1204"/>
                  </a:lnTo>
                  <a:lnTo>
                    <a:pt x="1013" y="1202"/>
                  </a:lnTo>
                  <a:lnTo>
                    <a:pt x="1028" y="1202"/>
                  </a:lnTo>
                  <a:lnTo>
                    <a:pt x="1040" y="1204"/>
                  </a:lnTo>
                  <a:lnTo>
                    <a:pt x="1052" y="1211"/>
                  </a:lnTo>
                  <a:lnTo>
                    <a:pt x="1061" y="1221"/>
                  </a:lnTo>
                  <a:lnTo>
                    <a:pt x="1069" y="1231"/>
                  </a:lnTo>
                  <a:lnTo>
                    <a:pt x="1079" y="1235"/>
                  </a:lnTo>
                  <a:lnTo>
                    <a:pt x="1091" y="1236"/>
                  </a:lnTo>
                  <a:lnTo>
                    <a:pt x="1103" y="1235"/>
                  </a:lnTo>
                  <a:lnTo>
                    <a:pt x="1117" y="1233"/>
                  </a:lnTo>
                  <a:lnTo>
                    <a:pt x="1131" y="1233"/>
                  </a:lnTo>
                  <a:lnTo>
                    <a:pt x="1146" y="1235"/>
                  </a:lnTo>
                  <a:lnTo>
                    <a:pt x="1162" y="1243"/>
                  </a:lnTo>
                  <a:lnTo>
                    <a:pt x="1177" y="1252"/>
                  </a:lnTo>
                  <a:lnTo>
                    <a:pt x="1191" y="1255"/>
                  </a:lnTo>
                  <a:lnTo>
                    <a:pt x="1204" y="1257"/>
                  </a:lnTo>
                  <a:lnTo>
                    <a:pt x="1218" y="1255"/>
                  </a:lnTo>
                  <a:lnTo>
                    <a:pt x="1230" y="1257"/>
                  </a:lnTo>
                  <a:lnTo>
                    <a:pt x="1244" y="1260"/>
                  </a:lnTo>
                  <a:lnTo>
                    <a:pt x="1256" y="1267"/>
                  </a:lnTo>
                  <a:lnTo>
                    <a:pt x="1269" y="1279"/>
                  </a:lnTo>
                  <a:lnTo>
                    <a:pt x="1276" y="1286"/>
                  </a:lnTo>
                  <a:lnTo>
                    <a:pt x="1283" y="1291"/>
                  </a:lnTo>
                  <a:lnTo>
                    <a:pt x="1290" y="1296"/>
                  </a:lnTo>
                  <a:lnTo>
                    <a:pt x="1297" y="1299"/>
                  </a:lnTo>
                  <a:lnTo>
                    <a:pt x="1307" y="1301"/>
                  </a:lnTo>
                  <a:lnTo>
                    <a:pt x="1319" y="1301"/>
                  </a:lnTo>
                  <a:lnTo>
                    <a:pt x="1329" y="1299"/>
                  </a:lnTo>
                  <a:lnTo>
                    <a:pt x="1339" y="1294"/>
                  </a:lnTo>
                  <a:lnTo>
                    <a:pt x="1350" y="1289"/>
                  </a:lnTo>
                  <a:lnTo>
                    <a:pt x="1358" y="1284"/>
                  </a:lnTo>
                  <a:lnTo>
                    <a:pt x="1367" y="1277"/>
                  </a:lnTo>
                  <a:lnTo>
                    <a:pt x="1375" y="1272"/>
                  </a:lnTo>
                  <a:lnTo>
                    <a:pt x="1386" y="1265"/>
                  </a:lnTo>
                  <a:lnTo>
                    <a:pt x="1394" y="1260"/>
                  </a:lnTo>
                  <a:lnTo>
                    <a:pt x="1403" y="1257"/>
                  </a:lnTo>
                  <a:lnTo>
                    <a:pt x="1411" y="1255"/>
                  </a:lnTo>
                  <a:lnTo>
                    <a:pt x="1418" y="1257"/>
                  </a:lnTo>
                  <a:lnTo>
                    <a:pt x="1425" y="1260"/>
                  </a:lnTo>
                  <a:lnTo>
                    <a:pt x="1434" y="1265"/>
                  </a:lnTo>
                  <a:lnTo>
                    <a:pt x="1440" y="1272"/>
                  </a:lnTo>
                  <a:lnTo>
                    <a:pt x="1451" y="1277"/>
                  </a:lnTo>
                  <a:lnTo>
                    <a:pt x="1468" y="1279"/>
                  </a:lnTo>
                  <a:lnTo>
                    <a:pt x="1485" y="1277"/>
                  </a:lnTo>
                  <a:lnTo>
                    <a:pt x="1505" y="1276"/>
                  </a:lnTo>
                  <a:lnTo>
                    <a:pt x="1526" y="1272"/>
                  </a:lnTo>
                  <a:lnTo>
                    <a:pt x="1543" y="1272"/>
                  </a:lnTo>
                  <a:lnTo>
                    <a:pt x="1560" y="1274"/>
                  </a:lnTo>
                  <a:lnTo>
                    <a:pt x="1570" y="1279"/>
                  </a:lnTo>
                  <a:lnTo>
                    <a:pt x="1579" y="1286"/>
                  </a:lnTo>
                  <a:lnTo>
                    <a:pt x="1591" y="1289"/>
                  </a:lnTo>
                  <a:lnTo>
                    <a:pt x="1603" y="1293"/>
                  </a:lnTo>
                  <a:lnTo>
                    <a:pt x="1618" y="1293"/>
                  </a:lnTo>
                  <a:lnTo>
                    <a:pt x="1632" y="1294"/>
                  </a:lnTo>
                  <a:lnTo>
                    <a:pt x="1644" y="1298"/>
                  </a:lnTo>
                  <a:lnTo>
                    <a:pt x="1654" y="1301"/>
                  </a:lnTo>
                  <a:lnTo>
                    <a:pt x="1661" y="1308"/>
                  </a:lnTo>
                  <a:lnTo>
                    <a:pt x="1665" y="1311"/>
                  </a:lnTo>
                  <a:lnTo>
                    <a:pt x="1668" y="1315"/>
                  </a:lnTo>
                  <a:lnTo>
                    <a:pt x="1675" y="1317"/>
                  </a:lnTo>
                  <a:lnTo>
                    <a:pt x="1680" y="1317"/>
                  </a:lnTo>
                  <a:lnTo>
                    <a:pt x="1687" y="1318"/>
                  </a:lnTo>
                  <a:lnTo>
                    <a:pt x="1695" y="1318"/>
                  </a:lnTo>
                  <a:lnTo>
                    <a:pt x="1704" y="1318"/>
                  </a:lnTo>
                  <a:lnTo>
                    <a:pt x="1712" y="1317"/>
                  </a:lnTo>
                  <a:lnTo>
                    <a:pt x="1723" y="1315"/>
                  </a:lnTo>
                  <a:lnTo>
                    <a:pt x="1731" y="1313"/>
                  </a:lnTo>
                  <a:lnTo>
                    <a:pt x="1741" y="1311"/>
                  </a:lnTo>
                  <a:lnTo>
                    <a:pt x="1752" y="1308"/>
                  </a:lnTo>
                  <a:lnTo>
                    <a:pt x="1760" y="1305"/>
                  </a:lnTo>
                  <a:lnTo>
                    <a:pt x="1769" y="1301"/>
                  </a:lnTo>
                  <a:lnTo>
                    <a:pt x="1776" y="1298"/>
                  </a:lnTo>
                  <a:lnTo>
                    <a:pt x="1783" y="1293"/>
                  </a:lnTo>
                  <a:lnTo>
                    <a:pt x="1795" y="1286"/>
                  </a:lnTo>
                  <a:lnTo>
                    <a:pt x="1808" y="1277"/>
                  </a:lnTo>
                  <a:lnTo>
                    <a:pt x="1824" y="1270"/>
                  </a:lnTo>
                  <a:lnTo>
                    <a:pt x="1839" y="1262"/>
                  </a:lnTo>
                  <a:lnTo>
                    <a:pt x="1854" y="1253"/>
                  </a:lnTo>
                  <a:lnTo>
                    <a:pt x="1868" y="1245"/>
                  </a:lnTo>
                  <a:lnTo>
                    <a:pt x="1880" y="1233"/>
                  </a:lnTo>
                  <a:lnTo>
                    <a:pt x="1890" y="1221"/>
                  </a:lnTo>
                  <a:lnTo>
                    <a:pt x="1897" y="1211"/>
                  </a:lnTo>
                  <a:lnTo>
                    <a:pt x="1906" y="1199"/>
                  </a:lnTo>
                  <a:lnTo>
                    <a:pt x="1918" y="1187"/>
                  </a:lnTo>
                  <a:lnTo>
                    <a:pt x="1931" y="1173"/>
                  </a:lnTo>
                  <a:lnTo>
                    <a:pt x="1918" y="1180"/>
                  </a:lnTo>
                  <a:lnTo>
                    <a:pt x="1902" y="1187"/>
                  </a:lnTo>
                  <a:lnTo>
                    <a:pt x="1883" y="1192"/>
                  </a:lnTo>
                  <a:lnTo>
                    <a:pt x="1865" y="1195"/>
                  </a:lnTo>
                  <a:lnTo>
                    <a:pt x="1848" y="1197"/>
                  </a:lnTo>
                  <a:lnTo>
                    <a:pt x="1832" y="1195"/>
                  </a:lnTo>
                  <a:lnTo>
                    <a:pt x="1820" y="1193"/>
                  </a:lnTo>
                  <a:lnTo>
                    <a:pt x="1812" y="118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32720" y="1773360"/>
              <a:ext cx="5723280" cy="4013640"/>
            </a:xfrm>
            <a:custGeom>
              <a:avLst/>
              <a:gdLst/>
              <a:ahLst/>
              <a:rect l="l" t="t" r="r" b="b"/>
              <a:pathLst>
                <a:path w="3148" h="2230">
                  <a:moveTo>
                    <a:pt x="330" y="860"/>
                  </a:moveTo>
                  <a:lnTo>
                    <a:pt x="330" y="863"/>
                  </a:lnTo>
                  <a:lnTo>
                    <a:pt x="327" y="872"/>
                  </a:lnTo>
                  <a:lnTo>
                    <a:pt x="322" y="884"/>
                  </a:lnTo>
                  <a:lnTo>
                    <a:pt x="315" y="898"/>
                  </a:lnTo>
                  <a:lnTo>
                    <a:pt x="307" y="910"/>
                  </a:lnTo>
                  <a:lnTo>
                    <a:pt x="293" y="918"/>
                  </a:lnTo>
                  <a:lnTo>
                    <a:pt x="277" y="922"/>
                  </a:lnTo>
                  <a:lnTo>
                    <a:pt x="259" y="918"/>
                  </a:lnTo>
                  <a:lnTo>
                    <a:pt x="238" y="911"/>
                  </a:lnTo>
                  <a:lnTo>
                    <a:pt x="219" y="906"/>
                  </a:lnTo>
                  <a:lnTo>
                    <a:pt x="204" y="905"/>
                  </a:lnTo>
                  <a:lnTo>
                    <a:pt x="190" y="905"/>
                  </a:lnTo>
                  <a:lnTo>
                    <a:pt x="178" y="908"/>
                  </a:lnTo>
                  <a:lnTo>
                    <a:pt x="171" y="915"/>
                  </a:lnTo>
                  <a:lnTo>
                    <a:pt x="166" y="925"/>
                  </a:lnTo>
                  <a:lnTo>
                    <a:pt x="165" y="940"/>
                  </a:lnTo>
                  <a:lnTo>
                    <a:pt x="163" y="961"/>
                  </a:lnTo>
                  <a:lnTo>
                    <a:pt x="154" y="964"/>
                  </a:lnTo>
                  <a:lnTo>
                    <a:pt x="144" y="958"/>
                  </a:lnTo>
                  <a:lnTo>
                    <a:pt x="129" y="947"/>
                  </a:lnTo>
                  <a:lnTo>
                    <a:pt x="122" y="942"/>
                  </a:lnTo>
                  <a:lnTo>
                    <a:pt x="113" y="937"/>
                  </a:lnTo>
                  <a:lnTo>
                    <a:pt x="106" y="934"/>
                  </a:lnTo>
                  <a:lnTo>
                    <a:pt x="101" y="932"/>
                  </a:lnTo>
                  <a:lnTo>
                    <a:pt x="94" y="932"/>
                  </a:lnTo>
                  <a:lnTo>
                    <a:pt x="88" y="934"/>
                  </a:lnTo>
                  <a:lnTo>
                    <a:pt x="79" y="935"/>
                  </a:lnTo>
                  <a:lnTo>
                    <a:pt x="72" y="940"/>
                  </a:lnTo>
                  <a:lnTo>
                    <a:pt x="62" y="944"/>
                  </a:lnTo>
                  <a:lnTo>
                    <a:pt x="52" y="947"/>
                  </a:lnTo>
                  <a:lnTo>
                    <a:pt x="40" y="949"/>
                  </a:lnTo>
                  <a:lnTo>
                    <a:pt x="28" y="951"/>
                  </a:lnTo>
                  <a:lnTo>
                    <a:pt x="17" y="954"/>
                  </a:lnTo>
                  <a:lnTo>
                    <a:pt x="9" y="961"/>
                  </a:lnTo>
                  <a:lnTo>
                    <a:pt x="2" y="970"/>
                  </a:lnTo>
                  <a:lnTo>
                    <a:pt x="0" y="983"/>
                  </a:lnTo>
                  <a:lnTo>
                    <a:pt x="2" y="999"/>
                  </a:lnTo>
                  <a:lnTo>
                    <a:pt x="7" y="1012"/>
                  </a:lnTo>
                  <a:lnTo>
                    <a:pt x="14" y="1026"/>
                  </a:lnTo>
                  <a:lnTo>
                    <a:pt x="23" y="1038"/>
                  </a:lnTo>
                  <a:lnTo>
                    <a:pt x="33" y="1048"/>
                  </a:lnTo>
                  <a:lnTo>
                    <a:pt x="43" y="1058"/>
                  </a:lnTo>
                  <a:lnTo>
                    <a:pt x="53" y="1067"/>
                  </a:lnTo>
                  <a:lnTo>
                    <a:pt x="65" y="1076"/>
                  </a:lnTo>
                  <a:lnTo>
                    <a:pt x="76" y="1086"/>
                  </a:lnTo>
                  <a:lnTo>
                    <a:pt x="86" y="1101"/>
                  </a:lnTo>
                  <a:lnTo>
                    <a:pt x="96" y="1120"/>
                  </a:lnTo>
                  <a:lnTo>
                    <a:pt x="108" y="1137"/>
                  </a:lnTo>
                  <a:lnTo>
                    <a:pt x="118" y="1156"/>
                  </a:lnTo>
                  <a:lnTo>
                    <a:pt x="129" y="1171"/>
                  </a:lnTo>
                  <a:lnTo>
                    <a:pt x="141" y="1183"/>
                  </a:lnTo>
                  <a:lnTo>
                    <a:pt x="151" y="1188"/>
                  </a:lnTo>
                  <a:lnTo>
                    <a:pt x="165" y="1200"/>
                  </a:lnTo>
                  <a:lnTo>
                    <a:pt x="168" y="1221"/>
                  </a:lnTo>
                  <a:lnTo>
                    <a:pt x="163" y="1247"/>
                  </a:lnTo>
                  <a:lnTo>
                    <a:pt x="158" y="1274"/>
                  </a:lnTo>
                  <a:lnTo>
                    <a:pt x="161" y="1300"/>
                  </a:lnTo>
                  <a:lnTo>
                    <a:pt x="173" y="1320"/>
                  </a:lnTo>
                  <a:lnTo>
                    <a:pt x="187" y="1334"/>
                  </a:lnTo>
                  <a:lnTo>
                    <a:pt x="194" y="1339"/>
                  </a:lnTo>
                  <a:lnTo>
                    <a:pt x="197" y="1342"/>
                  </a:lnTo>
                  <a:lnTo>
                    <a:pt x="207" y="1351"/>
                  </a:lnTo>
                  <a:lnTo>
                    <a:pt x="223" y="1363"/>
                  </a:lnTo>
                  <a:lnTo>
                    <a:pt x="242" y="1378"/>
                  </a:lnTo>
                  <a:lnTo>
                    <a:pt x="260" y="1394"/>
                  </a:lnTo>
                  <a:lnTo>
                    <a:pt x="281" y="1409"/>
                  </a:lnTo>
                  <a:lnTo>
                    <a:pt x="300" y="1423"/>
                  </a:lnTo>
                  <a:lnTo>
                    <a:pt x="315" y="1433"/>
                  </a:lnTo>
                  <a:lnTo>
                    <a:pt x="329" y="1440"/>
                  </a:lnTo>
                  <a:lnTo>
                    <a:pt x="344" y="1448"/>
                  </a:lnTo>
                  <a:lnTo>
                    <a:pt x="356" y="1455"/>
                  </a:lnTo>
                  <a:lnTo>
                    <a:pt x="368" y="1462"/>
                  </a:lnTo>
                  <a:lnTo>
                    <a:pt x="375" y="1470"/>
                  </a:lnTo>
                  <a:lnTo>
                    <a:pt x="378" y="1479"/>
                  </a:lnTo>
                  <a:lnTo>
                    <a:pt x="377" y="1491"/>
                  </a:lnTo>
                  <a:lnTo>
                    <a:pt x="366" y="1503"/>
                  </a:lnTo>
                  <a:lnTo>
                    <a:pt x="353" y="1529"/>
                  </a:lnTo>
                  <a:lnTo>
                    <a:pt x="360" y="1549"/>
                  </a:lnTo>
                  <a:lnTo>
                    <a:pt x="373" y="1563"/>
                  </a:lnTo>
                  <a:lnTo>
                    <a:pt x="380" y="1568"/>
                  </a:lnTo>
                  <a:lnTo>
                    <a:pt x="372" y="1571"/>
                  </a:lnTo>
                  <a:lnTo>
                    <a:pt x="356" y="1582"/>
                  </a:lnTo>
                  <a:lnTo>
                    <a:pt x="339" y="1599"/>
                  </a:lnTo>
                  <a:lnTo>
                    <a:pt x="330" y="1618"/>
                  </a:lnTo>
                  <a:lnTo>
                    <a:pt x="332" y="1626"/>
                  </a:lnTo>
                  <a:lnTo>
                    <a:pt x="339" y="1631"/>
                  </a:lnTo>
                  <a:lnTo>
                    <a:pt x="349" y="1635"/>
                  </a:lnTo>
                  <a:lnTo>
                    <a:pt x="361" y="1638"/>
                  </a:lnTo>
                  <a:lnTo>
                    <a:pt x="373" y="1641"/>
                  </a:lnTo>
                  <a:lnTo>
                    <a:pt x="385" y="1647"/>
                  </a:lnTo>
                  <a:lnTo>
                    <a:pt x="395" y="1655"/>
                  </a:lnTo>
                  <a:lnTo>
                    <a:pt x="402" y="1669"/>
                  </a:lnTo>
                  <a:lnTo>
                    <a:pt x="407" y="1683"/>
                  </a:lnTo>
                  <a:lnTo>
                    <a:pt x="414" y="1693"/>
                  </a:lnTo>
                  <a:lnTo>
                    <a:pt x="421" y="1700"/>
                  </a:lnTo>
                  <a:lnTo>
                    <a:pt x="431" y="1703"/>
                  </a:lnTo>
                  <a:lnTo>
                    <a:pt x="442" y="1706"/>
                  </a:lnTo>
                  <a:lnTo>
                    <a:pt x="452" y="1708"/>
                  </a:lnTo>
                  <a:lnTo>
                    <a:pt x="466" y="1710"/>
                  </a:lnTo>
                  <a:lnTo>
                    <a:pt x="481" y="1712"/>
                  </a:lnTo>
                  <a:lnTo>
                    <a:pt x="496" y="1713"/>
                  </a:lnTo>
                  <a:lnTo>
                    <a:pt x="510" y="1715"/>
                  </a:lnTo>
                  <a:lnTo>
                    <a:pt x="522" y="1717"/>
                  </a:lnTo>
                  <a:lnTo>
                    <a:pt x="532" y="1720"/>
                  </a:lnTo>
                  <a:lnTo>
                    <a:pt x="541" y="1724"/>
                  </a:lnTo>
                  <a:lnTo>
                    <a:pt x="548" y="1730"/>
                  </a:lnTo>
                  <a:lnTo>
                    <a:pt x="551" y="1741"/>
                  </a:lnTo>
                  <a:lnTo>
                    <a:pt x="553" y="1754"/>
                  </a:lnTo>
                  <a:lnTo>
                    <a:pt x="555" y="1770"/>
                  </a:lnTo>
                  <a:lnTo>
                    <a:pt x="561" y="1783"/>
                  </a:lnTo>
                  <a:lnTo>
                    <a:pt x="572" y="1795"/>
                  </a:lnTo>
                  <a:lnTo>
                    <a:pt x="585" y="1802"/>
                  </a:lnTo>
                  <a:lnTo>
                    <a:pt x="599" y="1806"/>
                  </a:lnTo>
                  <a:lnTo>
                    <a:pt x="613" y="1802"/>
                  </a:lnTo>
                  <a:lnTo>
                    <a:pt x="626" y="1794"/>
                  </a:lnTo>
                  <a:lnTo>
                    <a:pt x="638" y="1777"/>
                  </a:lnTo>
                  <a:lnTo>
                    <a:pt x="649" y="1756"/>
                  </a:lnTo>
                  <a:lnTo>
                    <a:pt x="659" y="1739"/>
                  </a:lnTo>
                  <a:lnTo>
                    <a:pt x="669" y="1725"/>
                  </a:lnTo>
                  <a:lnTo>
                    <a:pt x="679" y="1713"/>
                  </a:lnTo>
                  <a:lnTo>
                    <a:pt x="688" y="1706"/>
                  </a:lnTo>
                  <a:lnTo>
                    <a:pt x="700" y="1705"/>
                  </a:lnTo>
                  <a:lnTo>
                    <a:pt x="712" y="1706"/>
                  </a:lnTo>
                  <a:lnTo>
                    <a:pt x="724" y="1712"/>
                  </a:lnTo>
                  <a:lnTo>
                    <a:pt x="738" y="1720"/>
                  </a:lnTo>
                  <a:lnTo>
                    <a:pt x="753" y="1729"/>
                  </a:lnTo>
                  <a:lnTo>
                    <a:pt x="767" y="1739"/>
                  </a:lnTo>
                  <a:lnTo>
                    <a:pt x="779" y="1747"/>
                  </a:lnTo>
                  <a:lnTo>
                    <a:pt x="787" y="1756"/>
                  </a:lnTo>
                  <a:lnTo>
                    <a:pt x="789" y="1763"/>
                  </a:lnTo>
                  <a:lnTo>
                    <a:pt x="786" y="1766"/>
                  </a:lnTo>
                  <a:lnTo>
                    <a:pt x="774" y="1768"/>
                  </a:lnTo>
                  <a:lnTo>
                    <a:pt x="751" y="1771"/>
                  </a:lnTo>
                  <a:lnTo>
                    <a:pt x="741" y="1780"/>
                  </a:lnTo>
                  <a:lnTo>
                    <a:pt x="736" y="1790"/>
                  </a:lnTo>
                  <a:lnTo>
                    <a:pt x="724" y="1797"/>
                  </a:lnTo>
                  <a:lnTo>
                    <a:pt x="712" y="1804"/>
                  </a:lnTo>
                  <a:lnTo>
                    <a:pt x="707" y="1814"/>
                  </a:lnTo>
                  <a:lnTo>
                    <a:pt x="703" y="1828"/>
                  </a:lnTo>
                  <a:lnTo>
                    <a:pt x="703" y="1847"/>
                  </a:lnTo>
                  <a:lnTo>
                    <a:pt x="705" y="1857"/>
                  </a:lnTo>
                  <a:lnTo>
                    <a:pt x="709" y="1867"/>
                  </a:lnTo>
                  <a:lnTo>
                    <a:pt x="715" y="1876"/>
                  </a:lnTo>
                  <a:lnTo>
                    <a:pt x="724" y="1883"/>
                  </a:lnTo>
                  <a:lnTo>
                    <a:pt x="732" y="1889"/>
                  </a:lnTo>
                  <a:lnTo>
                    <a:pt x="741" y="1895"/>
                  </a:lnTo>
                  <a:lnTo>
                    <a:pt x="751" y="1896"/>
                  </a:lnTo>
                  <a:lnTo>
                    <a:pt x="760" y="1898"/>
                  </a:lnTo>
                  <a:lnTo>
                    <a:pt x="770" y="1903"/>
                  </a:lnTo>
                  <a:lnTo>
                    <a:pt x="774" y="1915"/>
                  </a:lnTo>
                  <a:lnTo>
                    <a:pt x="780" y="1930"/>
                  </a:lnTo>
                  <a:lnTo>
                    <a:pt x="803" y="1948"/>
                  </a:lnTo>
                  <a:lnTo>
                    <a:pt x="820" y="1956"/>
                  </a:lnTo>
                  <a:lnTo>
                    <a:pt x="837" y="1965"/>
                  </a:lnTo>
                  <a:lnTo>
                    <a:pt x="852" y="1973"/>
                  </a:lnTo>
                  <a:lnTo>
                    <a:pt x="866" y="1982"/>
                  </a:lnTo>
                  <a:lnTo>
                    <a:pt x="876" y="1990"/>
                  </a:lnTo>
                  <a:lnTo>
                    <a:pt x="881" y="1999"/>
                  </a:lnTo>
                  <a:lnTo>
                    <a:pt x="881" y="2006"/>
                  </a:lnTo>
                  <a:lnTo>
                    <a:pt x="874" y="2013"/>
                  </a:lnTo>
                  <a:lnTo>
                    <a:pt x="864" y="2018"/>
                  </a:lnTo>
                  <a:lnTo>
                    <a:pt x="854" y="2026"/>
                  </a:lnTo>
                  <a:lnTo>
                    <a:pt x="844" y="2035"/>
                  </a:lnTo>
                  <a:lnTo>
                    <a:pt x="835" y="2043"/>
                  </a:lnTo>
                  <a:lnTo>
                    <a:pt x="828" y="2054"/>
                  </a:lnTo>
                  <a:lnTo>
                    <a:pt x="823" y="2066"/>
                  </a:lnTo>
                  <a:lnTo>
                    <a:pt x="820" y="2078"/>
                  </a:lnTo>
                  <a:lnTo>
                    <a:pt x="818" y="2091"/>
                  </a:lnTo>
                  <a:lnTo>
                    <a:pt x="821" y="2103"/>
                  </a:lnTo>
                  <a:lnTo>
                    <a:pt x="828" y="2113"/>
                  </a:lnTo>
                  <a:lnTo>
                    <a:pt x="842" y="2120"/>
                  </a:lnTo>
                  <a:lnTo>
                    <a:pt x="857" y="2125"/>
                  </a:lnTo>
                  <a:lnTo>
                    <a:pt x="876" y="2129"/>
                  </a:lnTo>
                  <a:lnTo>
                    <a:pt x="897" y="2129"/>
                  </a:lnTo>
                  <a:lnTo>
                    <a:pt x="917" y="2129"/>
                  </a:lnTo>
                  <a:lnTo>
                    <a:pt x="939" y="2127"/>
                  </a:lnTo>
                  <a:lnTo>
                    <a:pt x="960" y="2124"/>
                  </a:lnTo>
                  <a:lnTo>
                    <a:pt x="979" y="2120"/>
                  </a:lnTo>
                  <a:lnTo>
                    <a:pt x="998" y="2117"/>
                  </a:lnTo>
                  <a:lnTo>
                    <a:pt x="1013" y="2115"/>
                  </a:lnTo>
                  <a:lnTo>
                    <a:pt x="1028" y="2113"/>
                  </a:lnTo>
                  <a:lnTo>
                    <a:pt x="1040" y="2117"/>
                  </a:lnTo>
                  <a:lnTo>
                    <a:pt x="1052" y="2124"/>
                  </a:lnTo>
                  <a:lnTo>
                    <a:pt x="1061" y="2134"/>
                  </a:lnTo>
                  <a:lnTo>
                    <a:pt x="1070" y="2144"/>
                  </a:lnTo>
                  <a:lnTo>
                    <a:pt x="1080" y="2148"/>
                  </a:lnTo>
                  <a:lnTo>
                    <a:pt x="1092" y="2149"/>
                  </a:lnTo>
                  <a:lnTo>
                    <a:pt x="1104" y="2148"/>
                  </a:lnTo>
                  <a:lnTo>
                    <a:pt x="1116" y="2146"/>
                  </a:lnTo>
                  <a:lnTo>
                    <a:pt x="1131" y="2146"/>
                  </a:lnTo>
                  <a:lnTo>
                    <a:pt x="1146" y="2148"/>
                  </a:lnTo>
                  <a:lnTo>
                    <a:pt x="1162" y="2156"/>
                  </a:lnTo>
                  <a:lnTo>
                    <a:pt x="1177" y="2163"/>
                  </a:lnTo>
                  <a:lnTo>
                    <a:pt x="1191" y="2166"/>
                  </a:lnTo>
                  <a:lnTo>
                    <a:pt x="1205" y="2168"/>
                  </a:lnTo>
                  <a:lnTo>
                    <a:pt x="1218" y="2168"/>
                  </a:lnTo>
                  <a:lnTo>
                    <a:pt x="1230" y="2168"/>
                  </a:lnTo>
                  <a:lnTo>
                    <a:pt x="1242" y="2172"/>
                  </a:lnTo>
                  <a:lnTo>
                    <a:pt x="1254" y="2178"/>
                  </a:lnTo>
                  <a:lnTo>
                    <a:pt x="1268" y="2192"/>
                  </a:lnTo>
                  <a:lnTo>
                    <a:pt x="1282" y="2204"/>
                  </a:lnTo>
                  <a:lnTo>
                    <a:pt x="1295" y="2213"/>
                  </a:lnTo>
                  <a:lnTo>
                    <a:pt x="1309" y="2214"/>
                  </a:lnTo>
                  <a:lnTo>
                    <a:pt x="1324" y="2213"/>
                  </a:lnTo>
                  <a:lnTo>
                    <a:pt x="1336" y="2207"/>
                  </a:lnTo>
                  <a:lnTo>
                    <a:pt x="1350" y="2201"/>
                  </a:lnTo>
                  <a:lnTo>
                    <a:pt x="1362" y="2192"/>
                  </a:lnTo>
                  <a:lnTo>
                    <a:pt x="1374" y="2184"/>
                  </a:lnTo>
                  <a:lnTo>
                    <a:pt x="1384" y="2177"/>
                  </a:lnTo>
                  <a:lnTo>
                    <a:pt x="1393" y="2172"/>
                  </a:lnTo>
                  <a:lnTo>
                    <a:pt x="1401" y="2170"/>
                  </a:lnTo>
                  <a:lnTo>
                    <a:pt x="1410" y="2168"/>
                  </a:lnTo>
                  <a:lnTo>
                    <a:pt x="1417" y="2170"/>
                  </a:lnTo>
                  <a:lnTo>
                    <a:pt x="1424" y="2172"/>
                  </a:lnTo>
                  <a:lnTo>
                    <a:pt x="1430" y="2177"/>
                  </a:lnTo>
                  <a:lnTo>
                    <a:pt x="1439" y="2184"/>
                  </a:lnTo>
                  <a:lnTo>
                    <a:pt x="1449" y="2189"/>
                  </a:lnTo>
                  <a:lnTo>
                    <a:pt x="1466" y="2190"/>
                  </a:lnTo>
                  <a:lnTo>
                    <a:pt x="1483" y="2190"/>
                  </a:lnTo>
                  <a:lnTo>
                    <a:pt x="1504" y="2187"/>
                  </a:lnTo>
                  <a:lnTo>
                    <a:pt x="1523" y="2185"/>
                  </a:lnTo>
                  <a:lnTo>
                    <a:pt x="1542" y="2185"/>
                  </a:lnTo>
                  <a:lnTo>
                    <a:pt x="1557" y="2187"/>
                  </a:lnTo>
                  <a:lnTo>
                    <a:pt x="1567" y="2192"/>
                  </a:lnTo>
                  <a:lnTo>
                    <a:pt x="1578" y="2199"/>
                  </a:lnTo>
                  <a:lnTo>
                    <a:pt x="1590" y="2202"/>
                  </a:lnTo>
                  <a:lnTo>
                    <a:pt x="1603" y="2204"/>
                  </a:lnTo>
                  <a:lnTo>
                    <a:pt x="1617" y="2206"/>
                  </a:lnTo>
                  <a:lnTo>
                    <a:pt x="1631" y="2207"/>
                  </a:lnTo>
                  <a:lnTo>
                    <a:pt x="1643" y="2209"/>
                  </a:lnTo>
                  <a:lnTo>
                    <a:pt x="1655" y="2213"/>
                  </a:lnTo>
                  <a:lnTo>
                    <a:pt x="1661" y="2219"/>
                  </a:lnTo>
                  <a:lnTo>
                    <a:pt x="1670" y="2226"/>
                  </a:lnTo>
                  <a:lnTo>
                    <a:pt x="1682" y="2230"/>
                  </a:lnTo>
                  <a:lnTo>
                    <a:pt x="1697" y="2230"/>
                  </a:lnTo>
                  <a:lnTo>
                    <a:pt x="1716" y="2228"/>
                  </a:lnTo>
                  <a:lnTo>
                    <a:pt x="1735" y="2225"/>
                  </a:lnTo>
                  <a:lnTo>
                    <a:pt x="1754" y="2219"/>
                  </a:lnTo>
                  <a:lnTo>
                    <a:pt x="1769" y="2213"/>
                  </a:lnTo>
                  <a:lnTo>
                    <a:pt x="1783" y="2206"/>
                  </a:lnTo>
                  <a:lnTo>
                    <a:pt x="1795" y="2197"/>
                  </a:lnTo>
                  <a:lnTo>
                    <a:pt x="1809" y="2190"/>
                  </a:lnTo>
                  <a:lnTo>
                    <a:pt x="1824" y="2184"/>
                  </a:lnTo>
                  <a:lnTo>
                    <a:pt x="1839" y="2175"/>
                  </a:lnTo>
                  <a:lnTo>
                    <a:pt x="1855" y="2166"/>
                  </a:lnTo>
                  <a:lnTo>
                    <a:pt x="1868" y="2158"/>
                  </a:lnTo>
                  <a:lnTo>
                    <a:pt x="1880" y="2146"/>
                  </a:lnTo>
                  <a:lnTo>
                    <a:pt x="1891" y="2134"/>
                  </a:lnTo>
                  <a:lnTo>
                    <a:pt x="1901" y="2119"/>
                  </a:lnTo>
                  <a:lnTo>
                    <a:pt x="1916" y="2101"/>
                  </a:lnTo>
                  <a:lnTo>
                    <a:pt x="1933" y="2083"/>
                  </a:lnTo>
                  <a:lnTo>
                    <a:pt x="1956" y="2064"/>
                  </a:lnTo>
                  <a:lnTo>
                    <a:pt x="1978" y="2047"/>
                  </a:lnTo>
                  <a:lnTo>
                    <a:pt x="2002" y="2033"/>
                  </a:lnTo>
                  <a:lnTo>
                    <a:pt x="2026" y="2023"/>
                  </a:lnTo>
                  <a:lnTo>
                    <a:pt x="2048" y="2019"/>
                  </a:lnTo>
                  <a:lnTo>
                    <a:pt x="2070" y="2019"/>
                  </a:lnTo>
                  <a:lnTo>
                    <a:pt x="2094" y="2019"/>
                  </a:lnTo>
                  <a:lnTo>
                    <a:pt x="2116" y="2018"/>
                  </a:lnTo>
                  <a:lnTo>
                    <a:pt x="2140" y="2014"/>
                  </a:lnTo>
                  <a:lnTo>
                    <a:pt x="2161" y="2011"/>
                  </a:lnTo>
                  <a:lnTo>
                    <a:pt x="2180" y="2004"/>
                  </a:lnTo>
                  <a:lnTo>
                    <a:pt x="2195" y="1995"/>
                  </a:lnTo>
                  <a:lnTo>
                    <a:pt x="2205" y="1983"/>
                  </a:lnTo>
                  <a:lnTo>
                    <a:pt x="2209" y="1983"/>
                  </a:lnTo>
                  <a:lnTo>
                    <a:pt x="2219" y="1982"/>
                  </a:lnTo>
                  <a:lnTo>
                    <a:pt x="2234" y="1982"/>
                  </a:lnTo>
                  <a:lnTo>
                    <a:pt x="2252" y="1980"/>
                  </a:lnTo>
                  <a:lnTo>
                    <a:pt x="2270" y="1980"/>
                  </a:lnTo>
                  <a:lnTo>
                    <a:pt x="2289" y="1980"/>
                  </a:lnTo>
                  <a:lnTo>
                    <a:pt x="2306" y="1982"/>
                  </a:lnTo>
                  <a:lnTo>
                    <a:pt x="2320" y="1983"/>
                  </a:lnTo>
                  <a:lnTo>
                    <a:pt x="2330" y="1987"/>
                  </a:lnTo>
                  <a:lnTo>
                    <a:pt x="2342" y="1994"/>
                  </a:lnTo>
                  <a:lnTo>
                    <a:pt x="2353" y="2001"/>
                  </a:lnTo>
                  <a:lnTo>
                    <a:pt x="2365" y="2007"/>
                  </a:lnTo>
                  <a:lnTo>
                    <a:pt x="2376" y="2014"/>
                  </a:lnTo>
                  <a:lnTo>
                    <a:pt x="2388" y="2021"/>
                  </a:lnTo>
                  <a:lnTo>
                    <a:pt x="2400" y="2024"/>
                  </a:lnTo>
                  <a:lnTo>
                    <a:pt x="2414" y="2026"/>
                  </a:lnTo>
                  <a:lnTo>
                    <a:pt x="2428" y="2028"/>
                  </a:lnTo>
                  <a:lnTo>
                    <a:pt x="2441" y="2031"/>
                  </a:lnTo>
                  <a:lnTo>
                    <a:pt x="2455" y="2035"/>
                  </a:lnTo>
                  <a:lnTo>
                    <a:pt x="2467" y="2040"/>
                  </a:lnTo>
                  <a:lnTo>
                    <a:pt x="2477" y="2047"/>
                  </a:lnTo>
                  <a:lnTo>
                    <a:pt x="2486" y="2050"/>
                  </a:lnTo>
                  <a:lnTo>
                    <a:pt x="2491" y="2054"/>
                  </a:lnTo>
                  <a:lnTo>
                    <a:pt x="2493" y="2055"/>
                  </a:lnTo>
                  <a:lnTo>
                    <a:pt x="2556" y="2042"/>
                  </a:lnTo>
                  <a:lnTo>
                    <a:pt x="2556" y="2045"/>
                  </a:lnTo>
                  <a:lnTo>
                    <a:pt x="2558" y="2054"/>
                  </a:lnTo>
                  <a:lnTo>
                    <a:pt x="2560" y="2067"/>
                  </a:lnTo>
                  <a:lnTo>
                    <a:pt x="2565" y="2083"/>
                  </a:lnTo>
                  <a:lnTo>
                    <a:pt x="2573" y="2098"/>
                  </a:lnTo>
                  <a:lnTo>
                    <a:pt x="2587" y="2113"/>
                  </a:lnTo>
                  <a:lnTo>
                    <a:pt x="2604" y="2125"/>
                  </a:lnTo>
                  <a:lnTo>
                    <a:pt x="2628" y="2134"/>
                  </a:lnTo>
                  <a:lnTo>
                    <a:pt x="2654" y="2139"/>
                  </a:lnTo>
                  <a:lnTo>
                    <a:pt x="2678" y="2144"/>
                  </a:lnTo>
                  <a:lnTo>
                    <a:pt x="2698" y="2149"/>
                  </a:lnTo>
                  <a:lnTo>
                    <a:pt x="2717" y="2153"/>
                  </a:lnTo>
                  <a:lnTo>
                    <a:pt x="2734" y="2156"/>
                  </a:lnTo>
                  <a:lnTo>
                    <a:pt x="2749" y="2158"/>
                  </a:lnTo>
                  <a:lnTo>
                    <a:pt x="2765" y="2158"/>
                  </a:lnTo>
                  <a:lnTo>
                    <a:pt x="2778" y="2156"/>
                  </a:lnTo>
                  <a:lnTo>
                    <a:pt x="2780" y="2146"/>
                  </a:lnTo>
                  <a:lnTo>
                    <a:pt x="2784" y="2124"/>
                  </a:lnTo>
                  <a:lnTo>
                    <a:pt x="2787" y="2098"/>
                  </a:lnTo>
                  <a:lnTo>
                    <a:pt x="2794" y="2076"/>
                  </a:lnTo>
                  <a:lnTo>
                    <a:pt x="2802" y="2059"/>
                  </a:lnTo>
                  <a:lnTo>
                    <a:pt x="2813" y="2040"/>
                  </a:lnTo>
                  <a:lnTo>
                    <a:pt x="2821" y="2023"/>
                  </a:lnTo>
                  <a:lnTo>
                    <a:pt x="2821" y="2006"/>
                  </a:lnTo>
                  <a:lnTo>
                    <a:pt x="2816" y="1985"/>
                  </a:lnTo>
                  <a:lnTo>
                    <a:pt x="2811" y="1958"/>
                  </a:lnTo>
                  <a:lnTo>
                    <a:pt x="2806" y="1932"/>
                  </a:lnTo>
                  <a:lnTo>
                    <a:pt x="2801" y="1912"/>
                  </a:lnTo>
                  <a:lnTo>
                    <a:pt x="2801" y="1893"/>
                  </a:lnTo>
                  <a:lnTo>
                    <a:pt x="2806" y="1871"/>
                  </a:lnTo>
                  <a:lnTo>
                    <a:pt x="2811" y="1854"/>
                  </a:lnTo>
                  <a:lnTo>
                    <a:pt x="2814" y="1847"/>
                  </a:lnTo>
                  <a:lnTo>
                    <a:pt x="2886" y="1747"/>
                  </a:lnTo>
                  <a:lnTo>
                    <a:pt x="2814" y="1797"/>
                  </a:lnTo>
                  <a:lnTo>
                    <a:pt x="2818" y="1790"/>
                  </a:lnTo>
                  <a:lnTo>
                    <a:pt x="2825" y="1775"/>
                  </a:lnTo>
                  <a:lnTo>
                    <a:pt x="2830" y="1754"/>
                  </a:lnTo>
                  <a:lnTo>
                    <a:pt x="2830" y="1732"/>
                  </a:lnTo>
                  <a:lnTo>
                    <a:pt x="2823" y="1712"/>
                  </a:lnTo>
                  <a:lnTo>
                    <a:pt x="2820" y="1693"/>
                  </a:lnTo>
                  <a:lnTo>
                    <a:pt x="2825" y="1677"/>
                  </a:lnTo>
                  <a:lnTo>
                    <a:pt x="2843" y="1669"/>
                  </a:lnTo>
                  <a:lnTo>
                    <a:pt x="2866" y="1660"/>
                  </a:lnTo>
                  <a:lnTo>
                    <a:pt x="2879" y="1648"/>
                  </a:lnTo>
                  <a:lnTo>
                    <a:pt x="2881" y="1635"/>
                  </a:lnTo>
                  <a:lnTo>
                    <a:pt x="2873" y="1618"/>
                  </a:lnTo>
                  <a:lnTo>
                    <a:pt x="2864" y="1599"/>
                  </a:lnTo>
                  <a:lnTo>
                    <a:pt x="2867" y="1577"/>
                  </a:lnTo>
                  <a:lnTo>
                    <a:pt x="2881" y="1558"/>
                  </a:lnTo>
                  <a:lnTo>
                    <a:pt x="2900" y="1547"/>
                  </a:lnTo>
                  <a:lnTo>
                    <a:pt x="2910" y="1546"/>
                  </a:lnTo>
                  <a:lnTo>
                    <a:pt x="2920" y="1547"/>
                  </a:lnTo>
                  <a:lnTo>
                    <a:pt x="2927" y="1551"/>
                  </a:lnTo>
                  <a:lnTo>
                    <a:pt x="2934" y="1556"/>
                  </a:lnTo>
                  <a:lnTo>
                    <a:pt x="2938" y="1563"/>
                  </a:lnTo>
                  <a:lnTo>
                    <a:pt x="2938" y="1570"/>
                  </a:lnTo>
                  <a:lnTo>
                    <a:pt x="2936" y="1577"/>
                  </a:lnTo>
                  <a:lnTo>
                    <a:pt x="2929" y="1582"/>
                  </a:lnTo>
                  <a:lnTo>
                    <a:pt x="2924" y="1588"/>
                  </a:lnTo>
                  <a:lnTo>
                    <a:pt x="2924" y="1595"/>
                  </a:lnTo>
                  <a:lnTo>
                    <a:pt x="2929" y="1604"/>
                  </a:lnTo>
                  <a:lnTo>
                    <a:pt x="2936" y="1612"/>
                  </a:lnTo>
                  <a:lnTo>
                    <a:pt x="2946" y="1621"/>
                  </a:lnTo>
                  <a:lnTo>
                    <a:pt x="2956" y="1628"/>
                  </a:lnTo>
                  <a:lnTo>
                    <a:pt x="2968" y="1631"/>
                  </a:lnTo>
                  <a:lnTo>
                    <a:pt x="2979" y="1633"/>
                  </a:lnTo>
                  <a:lnTo>
                    <a:pt x="2989" y="1633"/>
                  </a:lnTo>
                  <a:lnTo>
                    <a:pt x="2999" y="1631"/>
                  </a:lnTo>
                  <a:lnTo>
                    <a:pt x="3008" y="1630"/>
                  </a:lnTo>
                  <a:lnTo>
                    <a:pt x="3016" y="1628"/>
                  </a:lnTo>
                  <a:lnTo>
                    <a:pt x="3025" y="1626"/>
                  </a:lnTo>
                  <a:lnTo>
                    <a:pt x="3035" y="1624"/>
                  </a:lnTo>
                  <a:lnTo>
                    <a:pt x="3047" y="1621"/>
                  </a:lnTo>
                  <a:lnTo>
                    <a:pt x="3059" y="1618"/>
                  </a:lnTo>
                  <a:lnTo>
                    <a:pt x="3071" y="1616"/>
                  </a:lnTo>
                  <a:lnTo>
                    <a:pt x="3083" y="1612"/>
                  </a:lnTo>
                  <a:lnTo>
                    <a:pt x="3093" y="1609"/>
                  </a:lnTo>
                  <a:lnTo>
                    <a:pt x="3104" y="1604"/>
                  </a:lnTo>
                  <a:lnTo>
                    <a:pt x="3112" y="1595"/>
                  </a:lnTo>
                  <a:lnTo>
                    <a:pt x="3117" y="1583"/>
                  </a:lnTo>
                  <a:lnTo>
                    <a:pt x="3121" y="1568"/>
                  </a:lnTo>
                  <a:lnTo>
                    <a:pt x="3122" y="1547"/>
                  </a:lnTo>
                  <a:lnTo>
                    <a:pt x="3122" y="1503"/>
                  </a:lnTo>
                  <a:lnTo>
                    <a:pt x="3124" y="1469"/>
                  </a:lnTo>
                  <a:lnTo>
                    <a:pt x="3126" y="1441"/>
                  </a:lnTo>
                  <a:lnTo>
                    <a:pt x="3129" y="1417"/>
                  </a:lnTo>
                  <a:lnTo>
                    <a:pt x="3134" y="1407"/>
                  </a:lnTo>
                  <a:lnTo>
                    <a:pt x="3138" y="1394"/>
                  </a:lnTo>
                  <a:lnTo>
                    <a:pt x="3143" y="1382"/>
                  </a:lnTo>
                  <a:lnTo>
                    <a:pt x="3146" y="1370"/>
                  </a:lnTo>
                  <a:lnTo>
                    <a:pt x="3148" y="1366"/>
                  </a:lnTo>
                  <a:lnTo>
                    <a:pt x="3148" y="1361"/>
                  </a:lnTo>
                  <a:lnTo>
                    <a:pt x="3148" y="1358"/>
                  </a:lnTo>
                  <a:lnTo>
                    <a:pt x="3148" y="1354"/>
                  </a:lnTo>
                  <a:lnTo>
                    <a:pt x="3146" y="1347"/>
                  </a:lnTo>
                  <a:lnTo>
                    <a:pt x="3143" y="1342"/>
                  </a:lnTo>
                  <a:lnTo>
                    <a:pt x="3138" y="1337"/>
                  </a:lnTo>
                  <a:lnTo>
                    <a:pt x="3129" y="1332"/>
                  </a:lnTo>
                  <a:lnTo>
                    <a:pt x="3114" y="1327"/>
                  </a:lnTo>
                  <a:lnTo>
                    <a:pt x="3093" y="1320"/>
                  </a:lnTo>
                  <a:lnTo>
                    <a:pt x="3071" y="1313"/>
                  </a:lnTo>
                  <a:lnTo>
                    <a:pt x="3049" y="1308"/>
                  </a:lnTo>
                  <a:lnTo>
                    <a:pt x="3025" y="1305"/>
                  </a:lnTo>
                  <a:lnTo>
                    <a:pt x="3004" y="1303"/>
                  </a:lnTo>
                  <a:lnTo>
                    <a:pt x="2985" y="1305"/>
                  </a:lnTo>
                  <a:lnTo>
                    <a:pt x="2972" y="1310"/>
                  </a:lnTo>
                  <a:lnTo>
                    <a:pt x="2962" y="1318"/>
                  </a:lnTo>
                  <a:lnTo>
                    <a:pt x="2951" y="1325"/>
                  </a:lnTo>
                  <a:lnTo>
                    <a:pt x="2941" y="1332"/>
                  </a:lnTo>
                  <a:lnTo>
                    <a:pt x="2929" y="1337"/>
                  </a:lnTo>
                  <a:lnTo>
                    <a:pt x="2919" y="1344"/>
                  </a:lnTo>
                  <a:lnTo>
                    <a:pt x="2909" y="1349"/>
                  </a:lnTo>
                  <a:lnTo>
                    <a:pt x="2897" y="1356"/>
                  </a:lnTo>
                  <a:lnTo>
                    <a:pt x="2886" y="1361"/>
                  </a:lnTo>
                  <a:lnTo>
                    <a:pt x="2874" y="1364"/>
                  </a:lnTo>
                  <a:lnTo>
                    <a:pt x="2862" y="1364"/>
                  </a:lnTo>
                  <a:lnTo>
                    <a:pt x="2849" y="1363"/>
                  </a:lnTo>
                  <a:lnTo>
                    <a:pt x="2837" y="1363"/>
                  </a:lnTo>
                  <a:lnTo>
                    <a:pt x="2825" y="1364"/>
                  </a:lnTo>
                  <a:lnTo>
                    <a:pt x="2816" y="1368"/>
                  </a:lnTo>
                  <a:lnTo>
                    <a:pt x="2809" y="1380"/>
                  </a:lnTo>
                  <a:lnTo>
                    <a:pt x="2808" y="1397"/>
                  </a:lnTo>
                  <a:lnTo>
                    <a:pt x="2804" y="1414"/>
                  </a:lnTo>
                  <a:lnTo>
                    <a:pt x="2797" y="1421"/>
                  </a:lnTo>
                  <a:lnTo>
                    <a:pt x="2787" y="1423"/>
                  </a:lnTo>
                  <a:lnTo>
                    <a:pt x="2773" y="1419"/>
                  </a:lnTo>
                  <a:lnTo>
                    <a:pt x="2760" y="1411"/>
                  </a:lnTo>
                  <a:lnTo>
                    <a:pt x="2743" y="1402"/>
                  </a:lnTo>
                  <a:lnTo>
                    <a:pt x="2727" y="1390"/>
                  </a:lnTo>
                  <a:lnTo>
                    <a:pt x="2713" y="1382"/>
                  </a:lnTo>
                  <a:lnTo>
                    <a:pt x="2700" y="1371"/>
                  </a:lnTo>
                  <a:lnTo>
                    <a:pt x="2686" y="1359"/>
                  </a:lnTo>
                  <a:lnTo>
                    <a:pt x="2671" y="1342"/>
                  </a:lnTo>
                  <a:lnTo>
                    <a:pt x="2657" y="1323"/>
                  </a:lnTo>
                  <a:lnTo>
                    <a:pt x="2645" y="1303"/>
                  </a:lnTo>
                  <a:lnTo>
                    <a:pt x="2633" y="1282"/>
                  </a:lnTo>
                  <a:lnTo>
                    <a:pt x="2626" y="1260"/>
                  </a:lnTo>
                  <a:lnTo>
                    <a:pt x="2621" y="1238"/>
                  </a:lnTo>
                  <a:lnTo>
                    <a:pt x="2614" y="1188"/>
                  </a:lnTo>
                  <a:lnTo>
                    <a:pt x="2611" y="1125"/>
                  </a:lnTo>
                  <a:lnTo>
                    <a:pt x="2611" y="1053"/>
                  </a:lnTo>
                  <a:lnTo>
                    <a:pt x="2621" y="975"/>
                  </a:lnTo>
                  <a:lnTo>
                    <a:pt x="2637" y="896"/>
                  </a:lnTo>
                  <a:lnTo>
                    <a:pt x="2645" y="821"/>
                  </a:lnTo>
                  <a:lnTo>
                    <a:pt x="2642" y="757"/>
                  </a:lnTo>
                  <a:lnTo>
                    <a:pt x="2621" y="710"/>
                  </a:lnTo>
                  <a:lnTo>
                    <a:pt x="2609" y="691"/>
                  </a:lnTo>
                  <a:lnTo>
                    <a:pt x="2602" y="672"/>
                  </a:lnTo>
                  <a:lnTo>
                    <a:pt x="2597" y="651"/>
                  </a:lnTo>
                  <a:lnTo>
                    <a:pt x="2594" y="633"/>
                  </a:lnTo>
                  <a:lnTo>
                    <a:pt x="2587" y="614"/>
                  </a:lnTo>
                  <a:lnTo>
                    <a:pt x="2577" y="595"/>
                  </a:lnTo>
                  <a:lnTo>
                    <a:pt x="2558" y="578"/>
                  </a:lnTo>
                  <a:lnTo>
                    <a:pt x="2529" y="561"/>
                  </a:lnTo>
                  <a:lnTo>
                    <a:pt x="2501" y="547"/>
                  </a:lnTo>
                  <a:lnTo>
                    <a:pt x="2489" y="537"/>
                  </a:lnTo>
                  <a:lnTo>
                    <a:pt x="2484" y="528"/>
                  </a:lnTo>
                  <a:lnTo>
                    <a:pt x="2484" y="518"/>
                  </a:lnTo>
                  <a:lnTo>
                    <a:pt x="2484" y="508"/>
                  </a:lnTo>
                  <a:lnTo>
                    <a:pt x="2479" y="494"/>
                  </a:lnTo>
                  <a:lnTo>
                    <a:pt x="2464" y="474"/>
                  </a:lnTo>
                  <a:lnTo>
                    <a:pt x="2435" y="446"/>
                  </a:lnTo>
                  <a:lnTo>
                    <a:pt x="2435" y="443"/>
                  </a:lnTo>
                  <a:lnTo>
                    <a:pt x="2431" y="436"/>
                  </a:lnTo>
                  <a:lnTo>
                    <a:pt x="2426" y="422"/>
                  </a:lnTo>
                  <a:lnTo>
                    <a:pt x="2419" y="407"/>
                  </a:lnTo>
                  <a:lnTo>
                    <a:pt x="2409" y="388"/>
                  </a:lnTo>
                  <a:lnTo>
                    <a:pt x="2395" y="368"/>
                  </a:lnTo>
                  <a:lnTo>
                    <a:pt x="2378" y="345"/>
                  </a:lnTo>
                  <a:lnTo>
                    <a:pt x="2356" y="323"/>
                  </a:lnTo>
                  <a:lnTo>
                    <a:pt x="2335" y="303"/>
                  </a:lnTo>
                  <a:lnTo>
                    <a:pt x="2322" y="286"/>
                  </a:lnTo>
                  <a:lnTo>
                    <a:pt x="2311" y="270"/>
                  </a:lnTo>
                  <a:lnTo>
                    <a:pt x="2306" y="255"/>
                  </a:lnTo>
                  <a:lnTo>
                    <a:pt x="2303" y="239"/>
                  </a:lnTo>
                  <a:lnTo>
                    <a:pt x="2298" y="222"/>
                  </a:lnTo>
                  <a:lnTo>
                    <a:pt x="2293" y="203"/>
                  </a:lnTo>
                  <a:lnTo>
                    <a:pt x="2284" y="181"/>
                  </a:lnTo>
                  <a:lnTo>
                    <a:pt x="2274" y="159"/>
                  </a:lnTo>
                  <a:lnTo>
                    <a:pt x="2267" y="139"/>
                  </a:lnTo>
                  <a:lnTo>
                    <a:pt x="2260" y="121"/>
                  </a:lnTo>
                  <a:lnTo>
                    <a:pt x="2253" y="106"/>
                  </a:lnTo>
                  <a:lnTo>
                    <a:pt x="2246" y="92"/>
                  </a:lnTo>
                  <a:lnTo>
                    <a:pt x="2238" y="80"/>
                  </a:lnTo>
                  <a:lnTo>
                    <a:pt x="2226" y="68"/>
                  </a:lnTo>
                  <a:lnTo>
                    <a:pt x="2212" y="58"/>
                  </a:lnTo>
                  <a:lnTo>
                    <a:pt x="2200" y="50"/>
                  </a:lnTo>
                  <a:lnTo>
                    <a:pt x="2192" y="43"/>
                  </a:lnTo>
                  <a:lnTo>
                    <a:pt x="2183" y="34"/>
                  </a:lnTo>
                  <a:lnTo>
                    <a:pt x="2175" y="26"/>
                  </a:lnTo>
                  <a:lnTo>
                    <a:pt x="2166" y="19"/>
                  </a:lnTo>
                  <a:lnTo>
                    <a:pt x="2159" y="12"/>
                  </a:lnTo>
                  <a:lnTo>
                    <a:pt x="2151" y="7"/>
                  </a:lnTo>
                  <a:lnTo>
                    <a:pt x="2140" y="3"/>
                  </a:lnTo>
                  <a:lnTo>
                    <a:pt x="2132" y="2"/>
                  </a:lnTo>
                  <a:lnTo>
                    <a:pt x="2125" y="0"/>
                  </a:lnTo>
                  <a:lnTo>
                    <a:pt x="2115" y="0"/>
                  </a:lnTo>
                  <a:lnTo>
                    <a:pt x="2104" y="2"/>
                  </a:lnTo>
                  <a:lnTo>
                    <a:pt x="2082" y="5"/>
                  </a:lnTo>
                  <a:lnTo>
                    <a:pt x="2060" y="10"/>
                  </a:lnTo>
                  <a:lnTo>
                    <a:pt x="2039" y="15"/>
                  </a:lnTo>
                  <a:lnTo>
                    <a:pt x="2019" y="24"/>
                  </a:lnTo>
                  <a:lnTo>
                    <a:pt x="2000" y="34"/>
                  </a:lnTo>
                  <a:lnTo>
                    <a:pt x="1985" y="44"/>
                  </a:lnTo>
                  <a:lnTo>
                    <a:pt x="1974" y="58"/>
                  </a:lnTo>
                  <a:lnTo>
                    <a:pt x="1969" y="74"/>
                  </a:lnTo>
                  <a:lnTo>
                    <a:pt x="1966" y="89"/>
                  </a:lnTo>
                  <a:lnTo>
                    <a:pt x="1962" y="101"/>
                  </a:lnTo>
                  <a:lnTo>
                    <a:pt x="1959" y="113"/>
                  </a:lnTo>
                  <a:lnTo>
                    <a:pt x="1952" y="121"/>
                  </a:lnTo>
                  <a:lnTo>
                    <a:pt x="1942" y="128"/>
                  </a:lnTo>
                  <a:lnTo>
                    <a:pt x="1930" y="133"/>
                  </a:lnTo>
                  <a:lnTo>
                    <a:pt x="1913" y="135"/>
                  </a:lnTo>
                  <a:lnTo>
                    <a:pt x="1891" y="137"/>
                  </a:lnTo>
                  <a:lnTo>
                    <a:pt x="1868" y="139"/>
                  </a:lnTo>
                  <a:lnTo>
                    <a:pt x="1851" y="142"/>
                  </a:lnTo>
                  <a:lnTo>
                    <a:pt x="1836" y="147"/>
                  </a:lnTo>
                  <a:lnTo>
                    <a:pt x="1824" y="152"/>
                  </a:lnTo>
                  <a:lnTo>
                    <a:pt x="1812" y="159"/>
                  </a:lnTo>
                  <a:lnTo>
                    <a:pt x="1800" y="164"/>
                  </a:lnTo>
                  <a:lnTo>
                    <a:pt x="1786" y="169"/>
                  </a:lnTo>
                  <a:lnTo>
                    <a:pt x="1769" y="173"/>
                  </a:lnTo>
                  <a:lnTo>
                    <a:pt x="1749" y="174"/>
                  </a:lnTo>
                  <a:lnTo>
                    <a:pt x="1726" y="174"/>
                  </a:lnTo>
                  <a:lnTo>
                    <a:pt x="1706" y="174"/>
                  </a:lnTo>
                  <a:lnTo>
                    <a:pt x="1684" y="174"/>
                  </a:lnTo>
                  <a:lnTo>
                    <a:pt x="1665" y="176"/>
                  </a:lnTo>
                  <a:lnTo>
                    <a:pt x="1649" y="180"/>
                  </a:lnTo>
                  <a:lnTo>
                    <a:pt x="1637" y="188"/>
                  </a:lnTo>
                  <a:lnTo>
                    <a:pt x="1632" y="202"/>
                  </a:lnTo>
                  <a:lnTo>
                    <a:pt x="1627" y="217"/>
                  </a:lnTo>
                  <a:lnTo>
                    <a:pt x="1620" y="231"/>
                  </a:lnTo>
                  <a:lnTo>
                    <a:pt x="1610" y="241"/>
                  </a:lnTo>
                  <a:lnTo>
                    <a:pt x="1596" y="250"/>
                  </a:lnTo>
                  <a:lnTo>
                    <a:pt x="1583" y="255"/>
                  </a:lnTo>
                  <a:lnTo>
                    <a:pt x="1569" y="256"/>
                  </a:lnTo>
                  <a:lnTo>
                    <a:pt x="1554" y="253"/>
                  </a:lnTo>
                  <a:lnTo>
                    <a:pt x="1540" y="245"/>
                  </a:lnTo>
                  <a:lnTo>
                    <a:pt x="1521" y="226"/>
                  </a:lnTo>
                  <a:lnTo>
                    <a:pt x="1513" y="214"/>
                  </a:lnTo>
                  <a:lnTo>
                    <a:pt x="1507" y="205"/>
                  </a:lnTo>
                  <a:lnTo>
                    <a:pt x="1495" y="195"/>
                  </a:lnTo>
                  <a:lnTo>
                    <a:pt x="1487" y="188"/>
                  </a:lnTo>
                  <a:lnTo>
                    <a:pt x="1477" y="178"/>
                  </a:lnTo>
                  <a:lnTo>
                    <a:pt x="1466" y="168"/>
                  </a:lnTo>
                  <a:lnTo>
                    <a:pt x="1454" y="157"/>
                  </a:lnTo>
                  <a:lnTo>
                    <a:pt x="1441" y="147"/>
                  </a:lnTo>
                  <a:lnTo>
                    <a:pt x="1427" y="142"/>
                  </a:lnTo>
                  <a:lnTo>
                    <a:pt x="1412" y="140"/>
                  </a:lnTo>
                  <a:lnTo>
                    <a:pt x="1396" y="145"/>
                  </a:lnTo>
                  <a:lnTo>
                    <a:pt x="1381" y="152"/>
                  </a:lnTo>
                  <a:lnTo>
                    <a:pt x="1367" y="157"/>
                  </a:lnTo>
                  <a:lnTo>
                    <a:pt x="1355" y="162"/>
                  </a:lnTo>
                  <a:lnTo>
                    <a:pt x="1345" y="164"/>
                  </a:lnTo>
                  <a:lnTo>
                    <a:pt x="1335" y="164"/>
                  </a:lnTo>
                  <a:lnTo>
                    <a:pt x="1324" y="162"/>
                  </a:lnTo>
                  <a:lnTo>
                    <a:pt x="1314" y="159"/>
                  </a:lnTo>
                  <a:lnTo>
                    <a:pt x="1304" y="152"/>
                  </a:lnTo>
                  <a:lnTo>
                    <a:pt x="1294" y="145"/>
                  </a:lnTo>
                  <a:lnTo>
                    <a:pt x="1282" y="144"/>
                  </a:lnTo>
                  <a:lnTo>
                    <a:pt x="1270" y="142"/>
                  </a:lnTo>
                  <a:lnTo>
                    <a:pt x="1258" y="144"/>
                  </a:lnTo>
                  <a:lnTo>
                    <a:pt x="1247" y="147"/>
                  </a:lnTo>
                  <a:lnTo>
                    <a:pt x="1239" y="149"/>
                  </a:lnTo>
                  <a:lnTo>
                    <a:pt x="1234" y="150"/>
                  </a:lnTo>
                  <a:lnTo>
                    <a:pt x="1232" y="152"/>
                  </a:lnTo>
                  <a:lnTo>
                    <a:pt x="1230" y="150"/>
                  </a:lnTo>
                  <a:lnTo>
                    <a:pt x="1229" y="147"/>
                  </a:lnTo>
                  <a:lnTo>
                    <a:pt x="1222" y="142"/>
                  </a:lnTo>
                  <a:lnTo>
                    <a:pt x="1215" y="135"/>
                  </a:lnTo>
                  <a:lnTo>
                    <a:pt x="1203" y="130"/>
                  </a:lnTo>
                  <a:lnTo>
                    <a:pt x="1191" y="125"/>
                  </a:lnTo>
                  <a:lnTo>
                    <a:pt x="1174" y="123"/>
                  </a:lnTo>
                  <a:lnTo>
                    <a:pt x="1153" y="123"/>
                  </a:lnTo>
                  <a:lnTo>
                    <a:pt x="1135" y="127"/>
                  </a:lnTo>
                  <a:lnTo>
                    <a:pt x="1117" y="130"/>
                  </a:lnTo>
                  <a:lnTo>
                    <a:pt x="1105" y="132"/>
                  </a:lnTo>
                  <a:lnTo>
                    <a:pt x="1095" y="133"/>
                  </a:lnTo>
                  <a:lnTo>
                    <a:pt x="1085" y="135"/>
                  </a:lnTo>
                  <a:lnTo>
                    <a:pt x="1076" y="133"/>
                  </a:lnTo>
                  <a:lnTo>
                    <a:pt x="1070" y="130"/>
                  </a:lnTo>
                  <a:lnTo>
                    <a:pt x="1061" y="123"/>
                  </a:lnTo>
                  <a:lnTo>
                    <a:pt x="1054" y="115"/>
                  </a:lnTo>
                  <a:lnTo>
                    <a:pt x="1047" y="108"/>
                  </a:lnTo>
                  <a:lnTo>
                    <a:pt x="1040" y="99"/>
                  </a:lnTo>
                  <a:lnTo>
                    <a:pt x="1035" y="94"/>
                  </a:lnTo>
                  <a:lnTo>
                    <a:pt x="1028" y="87"/>
                  </a:lnTo>
                  <a:lnTo>
                    <a:pt x="1022" y="84"/>
                  </a:lnTo>
                  <a:lnTo>
                    <a:pt x="1013" y="82"/>
                  </a:lnTo>
                  <a:lnTo>
                    <a:pt x="1003" y="80"/>
                  </a:lnTo>
                  <a:lnTo>
                    <a:pt x="994" y="82"/>
                  </a:lnTo>
                  <a:lnTo>
                    <a:pt x="986" y="87"/>
                  </a:lnTo>
                  <a:lnTo>
                    <a:pt x="981" y="94"/>
                  </a:lnTo>
                  <a:lnTo>
                    <a:pt x="974" y="101"/>
                  </a:lnTo>
                  <a:lnTo>
                    <a:pt x="969" y="108"/>
                  </a:lnTo>
                  <a:lnTo>
                    <a:pt x="960" y="113"/>
                  </a:lnTo>
                  <a:lnTo>
                    <a:pt x="951" y="116"/>
                  </a:lnTo>
                  <a:lnTo>
                    <a:pt x="939" y="116"/>
                  </a:lnTo>
                  <a:lnTo>
                    <a:pt x="926" y="116"/>
                  </a:lnTo>
                  <a:lnTo>
                    <a:pt x="916" y="120"/>
                  </a:lnTo>
                  <a:lnTo>
                    <a:pt x="904" y="127"/>
                  </a:lnTo>
                  <a:lnTo>
                    <a:pt x="895" y="135"/>
                  </a:lnTo>
                  <a:lnTo>
                    <a:pt x="885" y="145"/>
                  </a:lnTo>
                  <a:lnTo>
                    <a:pt x="876" y="157"/>
                  </a:lnTo>
                  <a:lnTo>
                    <a:pt x="869" y="169"/>
                  </a:lnTo>
                  <a:lnTo>
                    <a:pt x="861" y="181"/>
                  </a:lnTo>
                  <a:lnTo>
                    <a:pt x="852" y="192"/>
                  </a:lnTo>
                  <a:lnTo>
                    <a:pt x="844" y="200"/>
                  </a:lnTo>
                  <a:lnTo>
                    <a:pt x="837" y="207"/>
                  </a:lnTo>
                  <a:lnTo>
                    <a:pt x="828" y="212"/>
                  </a:lnTo>
                  <a:lnTo>
                    <a:pt x="820" y="215"/>
                  </a:lnTo>
                  <a:lnTo>
                    <a:pt x="813" y="217"/>
                  </a:lnTo>
                  <a:lnTo>
                    <a:pt x="804" y="217"/>
                  </a:lnTo>
                  <a:lnTo>
                    <a:pt x="796" y="215"/>
                  </a:lnTo>
                  <a:lnTo>
                    <a:pt x="779" y="214"/>
                  </a:lnTo>
                  <a:lnTo>
                    <a:pt x="763" y="217"/>
                  </a:lnTo>
                  <a:lnTo>
                    <a:pt x="751" y="222"/>
                  </a:lnTo>
                  <a:lnTo>
                    <a:pt x="746" y="224"/>
                  </a:lnTo>
                  <a:lnTo>
                    <a:pt x="744" y="224"/>
                  </a:lnTo>
                  <a:lnTo>
                    <a:pt x="741" y="222"/>
                  </a:lnTo>
                  <a:lnTo>
                    <a:pt x="736" y="221"/>
                  </a:lnTo>
                  <a:lnTo>
                    <a:pt x="729" y="222"/>
                  </a:lnTo>
                  <a:lnTo>
                    <a:pt x="721" y="224"/>
                  </a:lnTo>
                  <a:lnTo>
                    <a:pt x="712" y="229"/>
                  </a:lnTo>
                  <a:lnTo>
                    <a:pt x="703" y="238"/>
                  </a:lnTo>
                  <a:lnTo>
                    <a:pt x="695" y="251"/>
                  </a:lnTo>
                  <a:lnTo>
                    <a:pt x="685" y="267"/>
                  </a:lnTo>
                  <a:lnTo>
                    <a:pt x="671" y="280"/>
                  </a:lnTo>
                  <a:lnTo>
                    <a:pt x="656" y="294"/>
                  </a:lnTo>
                  <a:lnTo>
                    <a:pt x="640" y="306"/>
                  </a:lnTo>
                  <a:lnTo>
                    <a:pt x="625" y="318"/>
                  </a:lnTo>
                  <a:lnTo>
                    <a:pt x="611" y="330"/>
                  </a:lnTo>
                  <a:lnTo>
                    <a:pt x="601" y="344"/>
                  </a:lnTo>
                  <a:lnTo>
                    <a:pt x="596" y="359"/>
                  </a:lnTo>
                  <a:lnTo>
                    <a:pt x="592" y="376"/>
                  </a:lnTo>
                  <a:lnTo>
                    <a:pt x="587" y="392"/>
                  </a:lnTo>
                  <a:lnTo>
                    <a:pt x="582" y="409"/>
                  </a:lnTo>
                  <a:lnTo>
                    <a:pt x="575" y="426"/>
                  </a:lnTo>
                  <a:lnTo>
                    <a:pt x="568" y="443"/>
                  </a:lnTo>
                  <a:lnTo>
                    <a:pt x="561" y="460"/>
                  </a:lnTo>
                  <a:lnTo>
                    <a:pt x="553" y="475"/>
                  </a:lnTo>
                  <a:lnTo>
                    <a:pt x="544" y="489"/>
                  </a:lnTo>
                  <a:lnTo>
                    <a:pt x="536" y="503"/>
                  </a:lnTo>
                  <a:lnTo>
                    <a:pt x="527" y="515"/>
                  </a:lnTo>
                  <a:lnTo>
                    <a:pt x="517" y="527"/>
                  </a:lnTo>
                  <a:lnTo>
                    <a:pt x="508" y="539"/>
                  </a:lnTo>
                  <a:lnTo>
                    <a:pt x="498" y="552"/>
                  </a:lnTo>
                  <a:lnTo>
                    <a:pt x="491" y="566"/>
                  </a:lnTo>
                  <a:lnTo>
                    <a:pt x="484" y="580"/>
                  </a:lnTo>
                  <a:lnTo>
                    <a:pt x="481" y="595"/>
                  </a:lnTo>
                  <a:lnTo>
                    <a:pt x="476" y="610"/>
                  </a:lnTo>
                  <a:lnTo>
                    <a:pt x="469" y="624"/>
                  </a:lnTo>
                  <a:lnTo>
                    <a:pt x="459" y="636"/>
                  </a:lnTo>
                  <a:lnTo>
                    <a:pt x="449" y="646"/>
                  </a:lnTo>
                  <a:lnTo>
                    <a:pt x="437" y="657"/>
                  </a:lnTo>
                  <a:lnTo>
                    <a:pt x="428" y="669"/>
                  </a:lnTo>
                  <a:lnTo>
                    <a:pt x="421" y="681"/>
                  </a:lnTo>
                  <a:lnTo>
                    <a:pt x="416" y="696"/>
                  </a:lnTo>
                  <a:lnTo>
                    <a:pt x="413" y="722"/>
                  </a:lnTo>
                  <a:lnTo>
                    <a:pt x="409" y="737"/>
                  </a:lnTo>
                  <a:lnTo>
                    <a:pt x="402" y="744"/>
                  </a:lnTo>
                  <a:lnTo>
                    <a:pt x="387" y="746"/>
                  </a:lnTo>
                  <a:lnTo>
                    <a:pt x="377" y="749"/>
                  </a:lnTo>
                  <a:lnTo>
                    <a:pt x="365" y="757"/>
                  </a:lnTo>
                  <a:lnTo>
                    <a:pt x="354" y="771"/>
                  </a:lnTo>
                  <a:lnTo>
                    <a:pt x="346" y="787"/>
                  </a:lnTo>
                  <a:lnTo>
                    <a:pt x="337" y="805"/>
                  </a:lnTo>
                  <a:lnTo>
                    <a:pt x="332" y="824"/>
                  </a:lnTo>
                  <a:lnTo>
                    <a:pt x="330" y="843"/>
                  </a:lnTo>
                  <a:lnTo>
                    <a:pt x="330" y="8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71640" y="1730520"/>
            <a:ext cx="7488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T is actively pursuing PPPs, though there have been tendering and best practice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ucharest – Br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v PPP road concessions cancell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BRD working with consultants on possible PBM contra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projects include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oiesti - Buzau - Focsani,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-tendering of Ploiesti – Brasov(?), and Bucharest Airports(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Romani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700360" y="1844640"/>
            <a:ext cx="4680000" cy="4105440"/>
            <a:chOff x="2700360" y="1844640"/>
            <a:chExt cx="4680000" cy="4105440"/>
          </a:xfrm>
        </p:grpSpPr>
        <p:sp>
          <p:nvSpPr>
            <p:cNvPr id="148" name=""/>
            <p:cNvSpPr/>
            <p:nvPr/>
          </p:nvSpPr>
          <p:spPr>
            <a:xfrm>
              <a:off x="5003640" y="2239920"/>
              <a:ext cx="2376720" cy="3005280"/>
            </a:xfrm>
            <a:custGeom>
              <a:avLst/>
              <a:gdLst/>
              <a:ahLst/>
              <a:rect l="l" t="t" r="r" b="b"/>
              <a:pathLst>
                <a:path w="1497" h="1893">
                  <a:moveTo>
                    <a:pt x="1446" y="0"/>
                  </a:moveTo>
                  <a:lnTo>
                    <a:pt x="0" y="0"/>
                  </a:lnTo>
                  <a:lnTo>
                    <a:pt x="0" y="1893"/>
                  </a:lnTo>
                  <a:lnTo>
                    <a:pt x="1497" y="1893"/>
                  </a:lnTo>
                  <a:lnTo>
                    <a:pt x="1497" y="0"/>
                  </a:lnTo>
                  <a:lnTo>
                    <a:pt x="144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78520" y="2320920"/>
              <a:ext cx="2236680" cy="2854440"/>
            </a:xfrm>
            <a:custGeom>
              <a:avLst/>
              <a:gdLst/>
              <a:ahLst/>
              <a:rect l="l" t="t" r="r" b="b"/>
              <a:pathLst>
                <a:path w="1409" h="1798">
                  <a:moveTo>
                    <a:pt x="1409" y="1791"/>
                  </a:moveTo>
                  <a:lnTo>
                    <a:pt x="0" y="1798"/>
                  </a:lnTo>
                  <a:lnTo>
                    <a:pt x="4" y="1430"/>
                  </a:lnTo>
                  <a:lnTo>
                    <a:pt x="4" y="0"/>
                  </a:lnTo>
                  <a:lnTo>
                    <a:pt x="1399" y="0"/>
                  </a:lnTo>
                  <a:lnTo>
                    <a:pt x="1409" y="179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4120" y="2344680"/>
              <a:ext cx="2216160" cy="2800440"/>
            </a:xfrm>
            <a:custGeom>
              <a:avLst/>
              <a:gdLst/>
              <a:ahLst/>
              <a:rect l="l" t="t" r="r" b="b"/>
              <a:pathLst>
                <a:path w="1396" h="1764">
                  <a:moveTo>
                    <a:pt x="0" y="0"/>
                  </a:moveTo>
                  <a:lnTo>
                    <a:pt x="0" y="1339"/>
                  </a:lnTo>
                  <a:lnTo>
                    <a:pt x="22" y="1352"/>
                  </a:lnTo>
                  <a:lnTo>
                    <a:pt x="50" y="1377"/>
                  </a:lnTo>
                  <a:lnTo>
                    <a:pt x="85" y="1393"/>
                  </a:lnTo>
                  <a:lnTo>
                    <a:pt x="94" y="1412"/>
                  </a:lnTo>
                  <a:lnTo>
                    <a:pt x="132" y="1431"/>
                  </a:lnTo>
                  <a:lnTo>
                    <a:pt x="160" y="1446"/>
                  </a:lnTo>
                  <a:lnTo>
                    <a:pt x="179" y="1424"/>
                  </a:lnTo>
                  <a:lnTo>
                    <a:pt x="195" y="1412"/>
                  </a:lnTo>
                  <a:lnTo>
                    <a:pt x="217" y="1415"/>
                  </a:lnTo>
                  <a:lnTo>
                    <a:pt x="211" y="1437"/>
                  </a:lnTo>
                  <a:lnTo>
                    <a:pt x="214" y="1487"/>
                  </a:lnTo>
                  <a:lnTo>
                    <a:pt x="267" y="1541"/>
                  </a:lnTo>
                  <a:lnTo>
                    <a:pt x="280" y="1563"/>
                  </a:lnTo>
                  <a:lnTo>
                    <a:pt x="305" y="1591"/>
                  </a:lnTo>
                  <a:lnTo>
                    <a:pt x="302" y="1616"/>
                  </a:lnTo>
                  <a:lnTo>
                    <a:pt x="324" y="1641"/>
                  </a:lnTo>
                  <a:lnTo>
                    <a:pt x="365" y="1660"/>
                  </a:lnTo>
                  <a:lnTo>
                    <a:pt x="396" y="1648"/>
                  </a:lnTo>
                  <a:lnTo>
                    <a:pt x="431" y="1657"/>
                  </a:lnTo>
                  <a:lnTo>
                    <a:pt x="446" y="1688"/>
                  </a:lnTo>
                  <a:lnTo>
                    <a:pt x="434" y="1717"/>
                  </a:lnTo>
                  <a:lnTo>
                    <a:pt x="431" y="1742"/>
                  </a:lnTo>
                  <a:lnTo>
                    <a:pt x="412" y="1764"/>
                  </a:lnTo>
                  <a:lnTo>
                    <a:pt x="1396" y="1758"/>
                  </a:lnTo>
                  <a:lnTo>
                    <a:pt x="1396" y="0"/>
                  </a:lnTo>
                  <a:lnTo>
                    <a:pt x="0" y="0"/>
                  </a:lnTo>
                  <a:close/>
                  <a:moveTo>
                    <a:pt x="399" y="1566"/>
                  </a:moveTo>
                  <a:lnTo>
                    <a:pt x="377" y="1575"/>
                  </a:lnTo>
                  <a:lnTo>
                    <a:pt x="362" y="1597"/>
                  </a:lnTo>
                  <a:lnTo>
                    <a:pt x="349" y="1578"/>
                  </a:lnTo>
                  <a:lnTo>
                    <a:pt x="340" y="1553"/>
                  </a:lnTo>
                  <a:lnTo>
                    <a:pt x="324" y="1541"/>
                  </a:lnTo>
                  <a:lnTo>
                    <a:pt x="318" y="1516"/>
                  </a:lnTo>
                  <a:lnTo>
                    <a:pt x="296" y="1497"/>
                  </a:lnTo>
                  <a:lnTo>
                    <a:pt x="308" y="1490"/>
                  </a:lnTo>
                  <a:lnTo>
                    <a:pt x="336" y="1500"/>
                  </a:lnTo>
                  <a:lnTo>
                    <a:pt x="377" y="1500"/>
                  </a:lnTo>
                  <a:lnTo>
                    <a:pt x="390" y="1519"/>
                  </a:lnTo>
                  <a:lnTo>
                    <a:pt x="387" y="1541"/>
                  </a:lnTo>
                  <a:lnTo>
                    <a:pt x="402" y="1550"/>
                  </a:lnTo>
                  <a:lnTo>
                    <a:pt x="399" y="15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4640" y="2325600"/>
              <a:ext cx="2210040" cy="2833920"/>
            </a:xfrm>
            <a:custGeom>
              <a:avLst/>
              <a:gdLst/>
              <a:ahLst/>
              <a:rect l="l" t="t" r="r" b="b"/>
              <a:pathLst>
                <a:path w="1392" h="1785">
                  <a:moveTo>
                    <a:pt x="1392" y="1779"/>
                  </a:moveTo>
                  <a:lnTo>
                    <a:pt x="459" y="1785"/>
                  </a:lnTo>
                  <a:lnTo>
                    <a:pt x="459" y="1785"/>
                  </a:lnTo>
                  <a:lnTo>
                    <a:pt x="465" y="1773"/>
                  </a:lnTo>
                  <a:lnTo>
                    <a:pt x="474" y="1744"/>
                  </a:lnTo>
                  <a:lnTo>
                    <a:pt x="487" y="1707"/>
                  </a:lnTo>
                  <a:lnTo>
                    <a:pt x="446" y="1628"/>
                  </a:lnTo>
                  <a:lnTo>
                    <a:pt x="393" y="1622"/>
                  </a:lnTo>
                  <a:lnTo>
                    <a:pt x="393" y="1622"/>
                  </a:lnTo>
                  <a:lnTo>
                    <a:pt x="393" y="1622"/>
                  </a:lnTo>
                  <a:lnTo>
                    <a:pt x="393" y="1622"/>
                  </a:lnTo>
                  <a:lnTo>
                    <a:pt x="424" y="1606"/>
                  </a:lnTo>
                  <a:lnTo>
                    <a:pt x="440" y="1546"/>
                  </a:lnTo>
                  <a:lnTo>
                    <a:pt x="440" y="1546"/>
                  </a:lnTo>
                  <a:lnTo>
                    <a:pt x="421" y="1534"/>
                  </a:lnTo>
                  <a:lnTo>
                    <a:pt x="421" y="1534"/>
                  </a:lnTo>
                  <a:lnTo>
                    <a:pt x="424" y="1518"/>
                  </a:lnTo>
                  <a:lnTo>
                    <a:pt x="386" y="1468"/>
                  </a:lnTo>
                  <a:lnTo>
                    <a:pt x="386" y="1468"/>
                  </a:lnTo>
                  <a:lnTo>
                    <a:pt x="333" y="1468"/>
                  </a:lnTo>
                  <a:lnTo>
                    <a:pt x="333" y="1468"/>
                  </a:lnTo>
                  <a:lnTo>
                    <a:pt x="292" y="1455"/>
                  </a:lnTo>
                  <a:lnTo>
                    <a:pt x="242" y="1480"/>
                  </a:lnTo>
                  <a:lnTo>
                    <a:pt x="242" y="1480"/>
                  </a:lnTo>
                  <a:lnTo>
                    <a:pt x="235" y="1471"/>
                  </a:lnTo>
                  <a:lnTo>
                    <a:pt x="235" y="1471"/>
                  </a:lnTo>
                  <a:lnTo>
                    <a:pt x="261" y="1392"/>
                  </a:lnTo>
                  <a:lnTo>
                    <a:pt x="154" y="1373"/>
                  </a:lnTo>
                  <a:lnTo>
                    <a:pt x="154" y="1373"/>
                  </a:lnTo>
                  <a:lnTo>
                    <a:pt x="141" y="1405"/>
                  </a:lnTo>
                  <a:lnTo>
                    <a:pt x="141" y="1405"/>
                  </a:lnTo>
                  <a:lnTo>
                    <a:pt x="141" y="1405"/>
                  </a:lnTo>
                  <a:lnTo>
                    <a:pt x="141" y="1405"/>
                  </a:lnTo>
                  <a:lnTo>
                    <a:pt x="113" y="1389"/>
                  </a:lnTo>
                  <a:lnTo>
                    <a:pt x="113" y="1389"/>
                  </a:lnTo>
                  <a:lnTo>
                    <a:pt x="103" y="1373"/>
                  </a:lnTo>
                  <a:lnTo>
                    <a:pt x="103" y="1373"/>
                  </a:lnTo>
                  <a:lnTo>
                    <a:pt x="59" y="1351"/>
                  </a:lnTo>
                  <a:lnTo>
                    <a:pt x="59" y="1351"/>
                  </a:lnTo>
                  <a:lnTo>
                    <a:pt x="50" y="1348"/>
                  </a:lnTo>
                  <a:lnTo>
                    <a:pt x="28" y="1342"/>
                  </a:lnTo>
                  <a:lnTo>
                    <a:pt x="0" y="1336"/>
                  </a:lnTo>
                  <a:lnTo>
                    <a:pt x="0" y="1336"/>
                  </a:lnTo>
                  <a:lnTo>
                    <a:pt x="3" y="1295"/>
                  </a:lnTo>
                  <a:lnTo>
                    <a:pt x="12" y="0"/>
                  </a:lnTo>
                  <a:lnTo>
                    <a:pt x="1386" y="0"/>
                  </a:lnTo>
                  <a:lnTo>
                    <a:pt x="1392" y="177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3280" y="2414520"/>
              <a:ext cx="2031840" cy="2679840"/>
            </a:xfrm>
            <a:custGeom>
              <a:avLst/>
              <a:gdLst/>
              <a:ahLst/>
              <a:rect l="l" t="t" r="r" b="b"/>
              <a:pathLst>
                <a:path w="1280" h="1688">
                  <a:moveTo>
                    <a:pt x="356" y="1578"/>
                  </a:moveTo>
                  <a:lnTo>
                    <a:pt x="356" y="1578"/>
                  </a:lnTo>
                  <a:lnTo>
                    <a:pt x="359" y="1544"/>
                  </a:lnTo>
                  <a:lnTo>
                    <a:pt x="359" y="1544"/>
                  </a:lnTo>
                  <a:lnTo>
                    <a:pt x="340" y="1494"/>
                  </a:lnTo>
                  <a:lnTo>
                    <a:pt x="340" y="1494"/>
                  </a:lnTo>
                  <a:lnTo>
                    <a:pt x="375" y="1478"/>
                  </a:lnTo>
                  <a:lnTo>
                    <a:pt x="375" y="1478"/>
                  </a:lnTo>
                  <a:lnTo>
                    <a:pt x="375" y="1446"/>
                  </a:lnTo>
                  <a:lnTo>
                    <a:pt x="375" y="1446"/>
                  </a:lnTo>
                  <a:lnTo>
                    <a:pt x="384" y="1440"/>
                  </a:lnTo>
                  <a:lnTo>
                    <a:pt x="384" y="1440"/>
                  </a:lnTo>
                  <a:lnTo>
                    <a:pt x="387" y="1446"/>
                  </a:lnTo>
                  <a:lnTo>
                    <a:pt x="387" y="1446"/>
                  </a:lnTo>
                  <a:lnTo>
                    <a:pt x="434" y="1431"/>
                  </a:lnTo>
                  <a:lnTo>
                    <a:pt x="434" y="1431"/>
                  </a:lnTo>
                  <a:lnTo>
                    <a:pt x="472" y="1434"/>
                  </a:lnTo>
                  <a:lnTo>
                    <a:pt x="472" y="1434"/>
                  </a:lnTo>
                  <a:lnTo>
                    <a:pt x="472" y="1434"/>
                  </a:lnTo>
                  <a:lnTo>
                    <a:pt x="497" y="1494"/>
                  </a:lnTo>
                  <a:lnTo>
                    <a:pt x="497" y="1494"/>
                  </a:lnTo>
                  <a:lnTo>
                    <a:pt x="535" y="1494"/>
                  </a:lnTo>
                  <a:lnTo>
                    <a:pt x="535" y="1494"/>
                  </a:lnTo>
                  <a:lnTo>
                    <a:pt x="551" y="1522"/>
                  </a:lnTo>
                  <a:lnTo>
                    <a:pt x="551" y="1522"/>
                  </a:lnTo>
                  <a:lnTo>
                    <a:pt x="557" y="1572"/>
                  </a:lnTo>
                  <a:lnTo>
                    <a:pt x="557" y="1572"/>
                  </a:lnTo>
                  <a:lnTo>
                    <a:pt x="569" y="1578"/>
                  </a:lnTo>
                  <a:lnTo>
                    <a:pt x="569" y="1578"/>
                  </a:lnTo>
                  <a:lnTo>
                    <a:pt x="560" y="1616"/>
                  </a:lnTo>
                  <a:lnTo>
                    <a:pt x="642" y="1688"/>
                  </a:lnTo>
                  <a:lnTo>
                    <a:pt x="714" y="1619"/>
                  </a:lnTo>
                  <a:lnTo>
                    <a:pt x="714" y="1619"/>
                  </a:lnTo>
                  <a:lnTo>
                    <a:pt x="708" y="1572"/>
                  </a:lnTo>
                  <a:lnTo>
                    <a:pt x="708" y="1572"/>
                  </a:lnTo>
                  <a:lnTo>
                    <a:pt x="717" y="1566"/>
                  </a:lnTo>
                  <a:lnTo>
                    <a:pt x="717" y="1566"/>
                  </a:lnTo>
                  <a:lnTo>
                    <a:pt x="761" y="1563"/>
                  </a:lnTo>
                  <a:lnTo>
                    <a:pt x="761" y="1563"/>
                  </a:lnTo>
                  <a:lnTo>
                    <a:pt x="771" y="1550"/>
                  </a:lnTo>
                  <a:lnTo>
                    <a:pt x="771" y="1550"/>
                  </a:lnTo>
                  <a:lnTo>
                    <a:pt x="815" y="1556"/>
                  </a:lnTo>
                  <a:lnTo>
                    <a:pt x="856" y="1522"/>
                  </a:lnTo>
                  <a:lnTo>
                    <a:pt x="856" y="1522"/>
                  </a:lnTo>
                  <a:lnTo>
                    <a:pt x="862" y="1516"/>
                  </a:lnTo>
                  <a:lnTo>
                    <a:pt x="862" y="1516"/>
                  </a:lnTo>
                  <a:lnTo>
                    <a:pt x="890" y="1516"/>
                  </a:lnTo>
                  <a:lnTo>
                    <a:pt x="890" y="1516"/>
                  </a:lnTo>
                  <a:lnTo>
                    <a:pt x="928" y="1506"/>
                  </a:lnTo>
                  <a:lnTo>
                    <a:pt x="928" y="1506"/>
                  </a:lnTo>
                  <a:lnTo>
                    <a:pt x="1000" y="1512"/>
                  </a:lnTo>
                  <a:lnTo>
                    <a:pt x="1000" y="1512"/>
                  </a:lnTo>
                  <a:lnTo>
                    <a:pt x="1006" y="1487"/>
                  </a:lnTo>
                  <a:lnTo>
                    <a:pt x="1006" y="1487"/>
                  </a:lnTo>
                  <a:lnTo>
                    <a:pt x="1047" y="1490"/>
                  </a:lnTo>
                  <a:lnTo>
                    <a:pt x="1047" y="1490"/>
                  </a:lnTo>
                  <a:lnTo>
                    <a:pt x="1054" y="1487"/>
                  </a:lnTo>
                  <a:lnTo>
                    <a:pt x="1054" y="1487"/>
                  </a:lnTo>
                  <a:lnTo>
                    <a:pt x="1057" y="1490"/>
                  </a:lnTo>
                  <a:lnTo>
                    <a:pt x="1142" y="1490"/>
                  </a:lnTo>
                  <a:lnTo>
                    <a:pt x="1142" y="1490"/>
                  </a:lnTo>
                  <a:lnTo>
                    <a:pt x="1154" y="1440"/>
                  </a:lnTo>
                  <a:lnTo>
                    <a:pt x="1154" y="1440"/>
                  </a:lnTo>
                  <a:lnTo>
                    <a:pt x="1189" y="1405"/>
                  </a:lnTo>
                  <a:lnTo>
                    <a:pt x="1189" y="1327"/>
                  </a:lnTo>
                  <a:lnTo>
                    <a:pt x="1189" y="1327"/>
                  </a:lnTo>
                  <a:lnTo>
                    <a:pt x="1164" y="1314"/>
                  </a:lnTo>
                  <a:lnTo>
                    <a:pt x="1164" y="1314"/>
                  </a:lnTo>
                  <a:lnTo>
                    <a:pt x="1167" y="1286"/>
                  </a:lnTo>
                  <a:lnTo>
                    <a:pt x="1167" y="1286"/>
                  </a:lnTo>
                  <a:lnTo>
                    <a:pt x="1198" y="1277"/>
                  </a:lnTo>
                  <a:lnTo>
                    <a:pt x="1230" y="1233"/>
                  </a:lnTo>
                  <a:lnTo>
                    <a:pt x="1230" y="1233"/>
                  </a:lnTo>
                  <a:lnTo>
                    <a:pt x="1236" y="1214"/>
                  </a:lnTo>
                  <a:lnTo>
                    <a:pt x="1236" y="1214"/>
                  </a:lnTo>
                  <a:lnTo>
                    <a:pt x="1245" y="1201"/>
                  </a:lnTo>
                  <a:lnTo>
                    <a:pt x="1245" y="1201"/>
                  </a:lnTo>
                  <a:lnTo>
                    <a:pt x="1274" y="1179"/>
                  </a:lnTo>
                  <a:lnTo>
                    <a:pt x="1280" y="1113"/>
                  </a:lnTo>
                  <a:lnTo>
                    <a:pt x="1242" y="1060"/>
                  </a:lnTo>
                  <a:lnTo>
                    <a:pt x="1242" y="1060"/>
                  </a:lnTo>
                  <a:lnTo>
                    <a:pt x="1239" y="1057"/>
                  </a:lnTo>
                  <a:lnTo>
                    <a:pt x="1239" y="1057"/>
                  </a:lnTo>
                  <a:lnTo>
                    <a:pt x="1230" y="1038"/>
                  </a:lnTo>
                  <a:lnTo>
                    <a:pt x="1164" y="987"/>
                  </a:lnTo>
                  <a:lnTo>
                    <a:pt x="1164" y="987"/>
                  </a:lnTo>
                  <a:lnTo>
                    <a:pt x="1154" y="984"/>
                  </a:lnTo>
                  <a:lnTo>
                    <a:pt x="1154" y="984"/>
                  </a:lnTo>
                  <a:lnTo>
                    <a:pt x="1161" y="965"/>
                  </a:lnTo>
                  <a:lnTo>
                    <a:pt x="1161" y="965"/>
                  </a:lnTo>
                  <a:lnTo>
                    <a:pt x="1139" y="925"/>
                  </a:lnTo>
                  <a:lnTo>
                    <a:pt x="1139" y="925"/>
                  </a:lnTo>
                  <a:lnTo>
                    <a:pt x="1135" y="909"/>
                  </a:lnTo>
                  <a:lnTo>
                    <a:pt x="1135" y="909"/>
                  </a:lnTo>
                  <a:lnTo>
                    <a:pt x="1139" y="877"/>
                  </a:lnTo>
                  <a:lnTo>
                    <a:pt x="1139" y="877"/>
                  </a:lnTo>
                  <a:lnTo>
                    <a:pt x="1132" y="859"/>
                  </a:lnTo>
                  <a:lnTo>
                    <a:pt x="1132" y="859"/>
                  </a:lnTo>
                  <a:lnTo>
                    <a:pt x="1148" y="852"/>
                  </a:lnTo>
                  <a:lnTo>
                    <a:pt x="1183" y="802"/>
                  </a:lnTo>
                  <a:lnTo>
                    <a:pt x="1183" y="802"/>
                  </a:lnTo>
                  <a:lnTo>
                    <a:pt x="1183" y="796"/>
                  </a:lnTo>
                  <a:lnTo>
                    <a:pt x="1183" y="796"/>
                  </a:lnTo>
                  <a:lnTo>
                    <a:pt x="1189" y="789"/>
                  </a:lnTo>
                  <a:lnTo>
                    <a:pt x="1198" y="780"/>
                  </a:lnTo>
                  <a:lnTo>
                    <a:pt x="1208" y="764"/>
                  </a:lnTo>
                  <a:lnTo>
                    <a:pt x="1192" y="698"/>
                  </a:lnTo>
                  <a:lnTo>
                    <a:pt x="1192" y="698"/>
                  </a:lnTo>
                  <a:lnTo>
                    <a:pt x="1186" y="692"/>
                  </a:lnTo>
                  <a:lnTo>
                    <a:pt x="1186" y="692"/>
                  </a:lnTo>
                  <a:lnTo>
                    <a:pt x="1208" y="620"/>
                  </a:lnTo>
                  <a:lnTo>
                    <a:pt x="1170" y="554"/>
                  </a:lnTo>
                  <a:lnTo>
                    <a:pt x="1101" y="525"/>
                  </a:lnTo>
                  <a:lnTo>
                    <a:pt x="1054" y="535"/>
                  </a:lnTo>
                  <a:lnTo>
                    <a:pt x="1016" y="557"/>
                  </a:lnTo>
                  <a:lnTo>
                    <a:pt x="1016" y="557"/>
                  </a:lnTo>
                  <a:lnTo>
                    <a:pt x="1010" y="563"/>
                  </a:lnTo>
                  <a:lnTo>
                    <a:pt x="1010" y="563"/>
                  </a:lnTo>
                  <a:lnTo>
                    <a:pt x="1010" y="560"/>
                  </a:lnTo>
                  <a:lnTo>
                    <a:pt x="940" y="550"/>
                  </a:lnTo>
                  <a:lnTo>
                    <a:pt x="940" y="550"/>
                  </a:lnTo>
                  <a:lnTo>
                    <a:pt x="912" y="547"/>
                  </a:lnTo>
                  <a:lnTo>
                    <a:pt x="912" y="547"/>
                  </a:lnTo>
                  <a:lnTo>
                    <a:pt x="900" y="472"/>
                  </a:lnTo>
                  <a:lnTo>
                    <a:pt x="900" y="472"/>
                  </a:lnTo>
                  <a:lnTo>
                    <a:pt x="890" y="469"/>
                  </a:lnTo>
                  <a:lnTo>
                    <a:pt x="890" y="469"/>
                  </a:lnTo>
                  <a:lnTo>
                    <a:pt x="906" y="453"/>
                  </a:lnTo>
                  <a:lnTo>
                    <a:pt x="887" y="374"/>
                  </a:lnTo>
                  <a:lnTo>
                    <a:pt x="834" y="349"/>
                  </a:lnTo>
                  <a:lnTo>
                    <a:pt x="834" y="349"/>
                  </a:lnTo>
                  <a:lnTo>
                    <a:pt x="812" y="349"/>
                  </a:lnTo>
                  <a:lnTo>
                    <a:pt x="812" y="349"/>
                  </a:lnTo>
                  <a:lnTo>
                    <a:pt x="808" y="343"/>
                  </a:lnTo>
                  <a:lnTo>
                    <a:pt x="768" y="312"/>
                  </a:lnTo>
                  <a:lnTo>
                    <a:pt x="768" y="312"/>
                  </a:lnTo>
                  <a:lnTo>
                    <a:pt x="752" y="312"/>
                  </a:lnTo>
                  <a:lnTo>
                    <a:pt x="752" y="312"/>
                  </a:lnTo>
                  <a:lnTo>
                    <a:pt x="752" y="308"/>
                  </a:lnTo>
                  <a:lnTo>
                    <a:pt x="752" y="308"/>
                  </a:lnTo>
                  <a:lnTo>
                    <a:pt x="727" y="286"/>
                  </a:lnTo>
                  <a:lnTo>
                    <a:pt x="727" y="286"/>
                  </a:lnTo>
                  <a:lnTo>
                    <a:pt x="730" y="280"/>
                  </a:lnTo>
                  <a:lnTo>
                    <a:pt x="730" y="208"/>
                  </a:lnTo>
                  <a:lnTo>
                    <a:pt x="717" y="154"/>
                  </a:lnTo>
                  <a:lnTo>
                    <a:pt x="717" y="154"/>
                  </a:lnTo>
                  <a:lnTo>
                    <a:pt x="673" y="151"/>
                  </a:lnTo>
                  <a:lnTo>
                    <a:pt x="673" y="151"/>
                  </a:lnTo>
                  <a:lnTo>
                    <a:pt x="654" y="113"/>
                  </a:lnTo>
                  <a:lnTo>
                    <a:pt x="654" y="113"/>
                  </a:lnTo>
                  <a:lnTo>
                    <a:pt x="632" y="104"/>
                  </a:lnTo>
                  <a:lnTo>
                    <a:pt x="632" y="104"/>
                  </a:lnTo>
                  <a:lnTo>
                    <a:pt x="610" y="79"/>
                  </a:lnTo>
                  <a:lnTo>
                    <a:pt x="610" y="79"/>
                  </a:lnTo>
                  <a:lnTo>
                    <a:pt x="579" y="69"/>
                  </a:lnTo>
                  <a:lnTo>
                    <a:pt x="579" y="69"/>
                  </a:lnTo>
                  <a:lnTo>
                    <a:pt x="576" y="63"/>
                  </a:lnTo>
                  <a:lnTo>
                    <a:pt x="576" y="63"/>
                  </a:lnTo>
                  <a:lnTo>
                    <a:pt x="557" y="29"/>
                  </a:lnTo>
                  <a:lnTo>
                    <a:pt x="497" y="0"/>
                  </a:lnTo>
                  <a:lnTo>
                    <a:pt x="459" y="10"/>
                  </a:lnTo>
                  <a:lnTo>
                    <a:pt x="459" y="10"/>
                  </a:lnTo>
                  <a:lnTo>
                    <a:pt x="450" y="16"/>
                  </a:lnTo>
                  <a:lnTo>
                    <a:pt x="450" y="16"/>
                  </a:lnTo>
                  <a:lnTo>
                    <a:pt x="431" y="7"/>
                  </a:lnTo>
                  <a:lnTo>
                    <a:pt x="378" y="0"/>
                  </a:lnTo>
                  <a:lnTo>
                    <a:pt x="318" y="22"/>
                  </a:lnTo>
                  <a:lnTo>
                    <a:pt x="318" y="22"/>
                  </a:lnTo>
                  <a:lnTo>
                    <a:pt x="312" y="35"/>
                  </a:lnTo>
                  <a:lnTo>
                    <a:pt x="312" y="35"/>
                  </a:lnTo>
                  <a:lnTo>
                    <a:pt x="290" y="35"/>
                  </a:lnTo>
                  <a:lnTo>
                    <a:pt x="290" y="35"/>
                  </a:lnTo>
                  <a:lnTo>
                    <a:pt x="277" y="69"/>
                  </a:lnTo>
                  <a:lnTo>
                    <a:pt x="277" y="69"/>
                  </a:lnTo>
                  <a:lnTo>
                    <a:pt x="246" y="60"/>
                  </a:lnTo>
                  <a:lnTo>
                    <a:pt x="246" y="60"/>
                  </a:lnTo>
                  <a:lnTo>
                    <a:pt x="208" y="88"/>
                  </a:lnTo>
                  <a:lnTo>
                    <a:pt x="208" y="88"/>
                  </a:lnTo>
                  <a:lnTo>
                    <a:pt x="192" y="91"/>
                  </a:lnTo>
                  <a:lnTo>
                    <a:pt x="170" y="101"/>
                  </a:lnTo>
                  <a:lnTo>
                    <a:pt x="142" y="113"/>
                  </a:lnTo>
                  <a:lnTo>
                    <a:pt x="142" y="113"/>
                  </a:lnTo>
                  <a:lnTo>
                    <a:pt x="142" y="142"/>
                  </a:lnTo>
                  <a:lnTo>
                    <a:pt x="148" y="173"/>
                  </a:lnTo>
                  <a:lnTo>
                    <a:pt x="148" y="173"/>
                  </a:lnTo>
                  <a:lnTo>
                    <a:pt x="142" y="202"/>
                  </a:lnTo>
                  <a:lnTo>
                    <a:pt x="142" y="202"/>
                  </a:lnTo>
                  <a:lnTo>
                    <a:pt x="155" y="227"/>
                  </a:lnTo>
                  <a:lnTo>
                    <a:pt x="155" y="227"/>
                  </a:lnTo>
                  <a:lnTo>
                    <a:pt x="151" y="233"/>
                  </a:lnTo>
                  <a:lnTo>
                    <a:pt x="148" y="239"/>
                  </a:lnTo>
                  <a:lnTo>
                    <a:pt x="145" y="255"/>
                  </a:lnTo>
                  <a:lnTo>
                    <a:pt x="148" y="274"/>
                  </a:lnTo>
                  <a:lnTo>
                    <a:pt x="148" y="274"/>
                  </a:lnTo>
                  <a:lnTo>
                    <a:pt x="177" y="305"/>
                  </a:lnTo>
                  <a:lnTo>
                    <a:pt x="177" y="30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83" y="352"/>
                  </a:lnTo>
                  <a:lnTo>
                    <a:pt x="183" y="352"/>
                  </a:lnTo>
                  <a:lnTo>
                    <a:pt x="183" y="400"/>
                  </a:lnTo>
                  <a:lnTo>
                    <a:pt x="183" y="400"/>
                  </a:lnTo>
                  <a:lnTo>
                    <a:pt x="202" y="409"/>
                  </a:lnTo>
                  <a:lnTo>
                    <a:pt x="202" y="409"/>
                  </a:lnTo>
                  <a:lnTo>
                    <a:pt x="199" y="425"/>
                  </a:lnTo>
                  <a:lnTo>
                    <a:pt x="199" y="497"/>
                  </a:lnTo>
                  <a:lnTo>
                    <a:pt x="217" y="563"/>
                  </a:lnTo>
                  <a:lnTo>
                    <a:pt x="217" y="563"/>
                  </a:lnTo>
                  <a:lnTo>
                    <a:pt x="249" y="563"/>
                  </a:lnTo>
                  <a:lnTo>
                    <a:pt x="249" y="563"/>
                  </a:lnTo>
                  <a:lnTo>
                    <a:pt x="246" y="566"/>
                  </a:lnTo>
                  <a:lnTo>
                    <a:pt x="246" y="566"/>
                  </a:lnTo>
                  <a:lnTo>
                    <a:pt x="221" y="594"/>
                  </a:lnTo>
                  <a:lnTo>
                    <a:pt x="199" y="638"/>
                  </a:lnTo>
                  <a:lnTo>
                    <a:pt x="199" y="638"/>
                  </a:lnTo>
                  <a:lnTo>
                    <a:pt x="205" y="664"/>
                  </a:lnTo>
                  <a:lnTo>
                    <a:pt x="205" y="664"/>
                  </a:lnTo>
                  <a:lnTo>
                    <a:pt x="199" y="686"/>
                  </a:lnTo>
                  <a:lnTo>
                    <a:pt x="199" y="748"/>
                  </a:lnTo>
                  <a:lnTo>
                    <a:pt x="239" y="780"/>
                  </a:lnTo>
                  <a:lnTo>
                    <a:pt x="239" y="780"/>
                  </a:lnTo>
                  <a:lnTo>
                    <a:pt x="255" y="789"/>
                  </a:lnTo>
                  <a:lnTo>
                    <a:pt x="255" y="789"/>
                  </a:lnTo>
                  <a:lnTo>
                    <a:pt x="233" y="865"/>
                  </a:lnTo>
                  <a:lnTo>
                    <a:pt x="252" y="909"/>
                  </a:lnTo>
                  <a:lnTo>
                    <a:pt x="252" y="909"/>
                  </a:lnTo>
                  <a:lnTo>
                    <a:pt x="283" y="940"/>
                  </a:lnTo>
                  <a:lnTo>
                    <a:pt x="283" y="940"/>
                  </a:lnTo>
                  <a:lnTo>
                    <a:pt x="255" y="950"/>
                  </a:lnTo>
                  <a:lnTo>
                    <a:pt x="255" y="950"/>
                  </a:lnTo>
                  <a:lnTo>
                    <a:pt x="239" y="962"/>
                  </a:lnTo>
                  <a:lnTo>
                    <a:pt x="239" y="962"/>
                  </a:lnTo>
                  <a:lnTo>
                    <a:pt x="230" y="956"/>
                  </a:lnTo>
                  <a:lnTo>
                    <a:pt x="155" y="965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123" y="1050"/>
                  </a:lnTo>
                  <a:lnTo>
                    <a:pt x="88" y="1069"/>
                  </a:lnTo>
                  <a:lnTo>
                    <a:pt x="51" y="1116"/>
                  </a:lnTo>
                  <a:lnTo>
                    <a:pt x="51" y="1116"/>
                  </a:lnTo>
                  <a:lnTo>
                    <a:pt x="60" y="1148"/>
                  </a:lnTo>
                  <a:lnTo>
                    <a:pt x="60" y="1148"/>
                  </a:lnTo>
                  <a:lnTo>
                    <a:pt x="26" y="1160"/>
                  </a:lnTo>
                  <a:lnTo>
                    <a:pt x="26" y="1160"/>
                  </a:lnTo>
                  <a:lnTo>
                    <a:pt x="26" y="1211"/>
                  </a:lnTo>
                  <a:lnTo>
                    <a:pt x="26" y="1211"/>
                  </a:lnTo>
                  <a:lnTo>
                    <a:pt x="10" y="1258"/>
                  </a:lnTo>
                  <a:lnTo>
                    <a:pt x="10" y="1258"/>
                  </a:lnTo>
                  <a:lnTo>
                    <a:pt x="32" y="1289"/>
                  </a:lnTo>
                  <a:lnTo>
                    <a:pt x="32" y="1289"/>
                  </a:lnTo>
                  <a:lnTo>
                    <a:pt x="7" y="1302"/>
                  </a:lnTo>
                  <a:lnTo>
                    <a:pt x="7" y="1302"/>
                  </a:lnTo>
                  <a:lnTo>
                    <a:pt x="0" y="1346"/>
                  </a:lnTo>
                  <a:lnTo>
                    <a:pt x="10" y="1349"/>
                  </a:lnTo>
                  <a:lnTo>
                    <a:pt x="19" y="1368"/>
                  </a:lnTo>
                  <a:lnTo>
                    <a:pt x="57" y="1387"/>
                  </a:lnTo>
                  <a:lnTo>
                    <a:pt x="85" y="1402"/>
                  </a:lnTo>
                  <a:lnTo>
                    <a:pt x="98" y="1396"/>
                  </a:lnTo>
                  <a:lnTo>
                    <a:pt x="104" y="1377"/>
                  </a:lnTo>
                  <a:lnTo>
                    <a:pt x="120" y="1368"/>
                  </a:lnTo>
                  <a:lnTo>
                    <a:pt x="142" y="1371"/>
                  </a:lnTo>
                  <a:lnTo>
                    <a:pt x="136" y="1393"/>
                  </a:lnTo>
                  <a:lnTo>
                    <a:pt x="139" y="1443"/>
                  </a:lnTo>
                  <a:lnTo>
                    <a:pt x="192" y="1497"/>
                  </a:lnTo>
                  <a:lnTo>
                    <a:pt x="205" y="1519"/>
                  </a:lnTo>
                  <a:lnTo>
                    <a:pt x="230" y="1547"/>
                  </a:lnTo>
                  <a:lnTo>
                    <a:pt x="227" y="1572"/>
                  </a:lnTo>
                  <a:lnTo>
                    <a:pt x="249" y="1597"/>
                  </a:lnTo>
                  <a:lnTo>
                    <a:pt x="290" y="1616"/>
                  </a:lnTo>
                  <a:lnTo>
                    <a:pt x="321" y="1604"/>
                  </a:lnTo>
                  <a:lnTo>
                    <a:pt x="356" y="1613"/>
                  </a:lnTo>
                  <a:lnTo>
                    <a:pt x="356" y="1616"/>
                  </a:lnTo>
                  <a:lnTo>
                    <a:pt x="359" y="1594"/>
                  </a:lnTo>
                  <a:lnTo>
                    <a:pt x="359" y="1594"/>
                  </a:lnTo>
                  <a:lnTo>
                    <a:pt x="356" y="1578"/>
                  </a:lnTo>
                  <a:lnTo>
                    <a:pt x="356" y="157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3120" y="2489040"/>
              <a:ext cx="1892160" cy="2500560"/>
            </a:xfrm>
            <a:custGeom>
              <a:avLst/>
              <a:gdLst/>
              <a:ahLst/>
              <a:rect l="l" t="t" r="r" b="b"/>
              <a:pathLst>
                <a:path w="1192" h="1575">
                  <a:moveTo>
                    <a:pt x="41" y="1355"/>
                  </a:moveTo>
                  <a:lnTo>
                    <a:pt x="51" y="1352"/>
                  </a:lnTo>
                  <a:lnTo>
                    <a:pt x="60" y="1333"/>
                  </a:lnTo>
                  <a:lnTo>
                    <a:pt x="76" y="1321"/>
                  </a:lnTo>
                  <a:lnTo>
                    <a:pt x="98" y="1324"/>
                  </a:lnTo>
                  <a:lnTo>
                    <a:pt x="104" y="1336"/>
                  </a:lnTo>
                  <a:lnTo>
                    <a:pt x="95" y="1368"/>
                  </a:lnTo>
                  <a:lnTo>
                    <a:pt x="95" y="1396"/>
                  </a:lnTo>
                  <a:lnTo>
                    <a:pt x="123" y="1425"/>
                  </a:lnTo>
                  <a:lnTo>
                    <a:pt x="148" y="1450"/>
                  </a:lnTo>
                  <a:lnTo>
                    <a:pt x="161" y="1472"/>
                  </a:lnTo>
                  <a:lnTo>
                    <a:pt x="186" y="1500"/>
                  </a:lnTo>
                  <a:lnTo>
                    <a:pt x="183" y="1525"/>
                  </a:lnTo>
                  <a:lnTo>
                    <a:pt x="205" y="1550"/>
                  </a:lnTo>
                  <a:lnTo>
                    <a:pt x="246" y="1569"/>
                  </a:lnTo>
                  <a:lnTo>
                    <a:pt x="261" y="1566"/>
                  </a:lnTo>
                  <a:lnTo>
                    <a:pt x="265" y="1550"/>
                  </a:lnTo>
                  <a:lnTo>
                    <a:pt x="261" y="1535"/>
                  </a:lnTo>
                  <a:lnTo>
                    <a:pt x="265" y="1503"/>
                  </a:lnTo>
                  <a:lnTo>
                    <a:pt x="258" y="1484"/>
                  </a:lnTo>
                  <a:lnTo>
                    <a:pt x="258" y="1484"/>
                  </a:lnTo>
                  <a:lnTo>
                    <a:pt x="243" y="1506"/>
                  </a:lnTo>
                  <a:lnTo>
                    <a:pt x="230" y="1487"/>
                  </a:lnTo>
                  <a:lnTo>
                    <a:pt x="221" y="1462"/>
                  </a:lnTo>
                  <a:lnTo>
                    <a:pt x="205" y="1450"/>
                  </a:lnTo>
                  <a:lnTo>
                    <a:pt x="199" y="1425"/>
                  </a:lnTo>
                  <a:lnTo>
                    <a:pt x="177" y="1406"/>
                  </a:lnTo>
                  <a:lnTo>
                    <a:pt x="189" y="1399"/>
                  </a:lnTo>
                  <a:lnTo>
                    <a:pt x="217" y="1409"/>
                  </a:lnTo>
                  <a:lnTo>
                    <a:pt x="230" y="1409"/>
                  </a:lnTo>
                  <a:lnTo>
                    <a:pt x="258" y="1409"/>
                  </a:lnTo>
                  <a:lnTo>
                    <a:pt x="280" y="1399"/>
                  </a:lnTo>
                  <a:lnTo>
                    <a:pt x="280" y="1374"/>
                  </a:lnTo>
                  <a:lnTo>
                    <a:pt x="293" y="1365"/>
                  </a:lnTo>
                  <a:lnTo>
                    <a:pt x="296" y="1340"/>
                  </a:lnTo>
                  <a:lnTo>
                    <a:pt x="321" y="1318"/>
                  </a:lnTo>
                  <a:lnTo>
                    <a:pt x="334" y="1283"/>
                  </a:lnTo>
                  <a:lnTo>
                    <a:pt x="365" y="1283"/>
                  </a:lnTo>
                  <a:lnTo>
                    <a:pt x="371" y="1308"/>
                  </a:lnTo>
                  <a:lnTo>
                    <a:pt x="349" y="1318"/>
                  </a:lnTo>
                  <a:lnTo>
                    <a:pt x="365" y="1340"/>
                  </a:lnTo>
                  <a:lnTo>
                    <a:pt x="387" y="1333"/>
                  </a:lnTo>
                  <a:lnTo>
                    <a:pt x="422" y="1336"/>
                  </a:lnTo>
                  <a:lnTo>
                    <a:pt x="447" y="1321"/>
                  </a:lnTo>
                  <a:lnTo>
                    <a:pt x="469" y="1343"/>
                  </a:lnTo>
                  <a:lnTo>
                    <a:pt x="475" y="1371"/>
                  </a:lnTo>
                  <a:lnTo>
                    <a:pt x="485" y="1396"/>
                  </a:lnTo>
                  <a:lnTo>
                    <a:pt x="522" y="1396"/>
                  </a:lnTo>
                  <a:lnTo>
                    <a:pt x="541" y="1434"/>
                  </a:lnTo>
                  <a:lnTo>
                    <a:pt x="576" y="1425"/>
                  </a:lnTo>
                  <a:lnTo>
                    <a:pt x="579" y="1447"/>
                  </a:lnTo>
                  <a:lnTo>
                    <a:pt x="557" y="1472"/>
                  </a:lnTo>
                  <a:lnTo>
                    <a:pt x="560" y="1497"/>
                  </a:lnTo>
                  <a:lnTo>
                    <a:pt x="582" y="1509"/>
                  </a:lnTo>
                  <a:lnTo>
                    <a:pt x="569" y="1553"/>
                  </a:lnTo>
                  <a:lnTo>
                    <a:pt x="595" y="1575"/>
                  </a:lnTo>
                  <a:lnTo>
                    <a:pt x="617" y="1553"/>
                  </a:lnTo>
                  <a:lnTo>
                    <a:pt x="614" y="1513"/>
                  </a:lnTo>
                  <a:lnTo>
                    <a:pt x="623" y="1494"/>
                  </a:lnTo>
                  <a:lnTo>
                    <a:pt x="658" y="1472"/>
                  </a:lnTo>
                  <a:lnTo>
                    <a:pt x="692" y="1469"/>
                  </a:lnTo>
                  <a:lnTo>
                    <a:pt x="711" y="1447"/>
                  </a:lnTo>
                  <a:lnTo>
                    <a:pt x="730" y="1453"/>
                  </a:lnTo>
                  <a:lnTo>
                    <a:pt x="755" y="1456"/>
                  </a:lnTo>
                  <a:lnTo>
                    <a:pt x="777" y="1440"/>
                  </a:lnTo>
                  <a:lnTo>
                    <a:pt x="796" y="1421"/>
                  </a:lnTo>
                  <a:lnTo>
                    <a:pt x="837" y="1418"/>
                  </a:lnTo>
                  <a:lnTo>
                    <a:pt x="881" y="1406"/>
                  </a:lnTo>
                  <a:lnTo>
                    <a:pt x="915" y="1409"/>
                  </a:lnTo>
                  <a:lnTo>
                    <a:pt x="925" y="1377"/>
                  </a:lnTo>
                  <a:lnTo>
                    <a:pt x="953" y="1390"/>
                  </a:lnTo>
                  <a:lnTo>
                    <a:pt x="988" y="1393"/>
                  </a:lnTo>
                  <a:lnTo>
                    <a:pt x="1010" y="1374"/>
                  </a:lnTo>
                  <a:lnTo>
                    <a:pt x="1032" y="1393"/>
                  </a:lnTo>
                  <a:lnTo>
                    <a:pt x="1060" y="1393"/>
                  </a:lnTo>
                  <a:lnTo>
                    <a:pt x="1066" y="1368"/>
                  </a:lnTo>
                  <a:lnTo>
                    <a:pt x="1095" y="1340"/>
                  </a:lnTo>
                  <a:lnTo>
                    <a:pt x="1095" y="1311"/>
                  </a:lnTo>
                  <a:lnTo>
                    <a:pt x="1066" y="1296"/>
                  </a:lnTo>
                  <a:lnTo>
                    <a:pt x="1069" y="1258"/>
                  </a:lnTo>
                  <a:lnTo>
                    <a:pt x="1050" y="1245"/>
                  </a:lnTo>
                  <a:lnTo>
                    <a:pt x="1044" y="1214"/>
                  </a:lnTo>
                  <a:lnTo>
                    <a:pt x="1060" y="1189"/>
                  </a:lnTo>
                  <a:lnTo>
                    <a:pt x="1088" y="1198"/>
                  </a:lnTo>
                  <a:lnTo>
                    <a:pt x="1123" y="1186"/>
                  </a:lnTo>
                  <a:lnTo>
                    <a:pt x="1142" y="1160"/>
                  </a:lnTo>
                  <a:lnTo>
                    <a:pt x="1148" y="1145"/>
                  </a:lnTo>
                  <a:lnTo>
                    <a:pt x="1167" y="1120"/>
                  </a:lnTo>
                  <a:lnTo>
                    <a:pt x="1183" y="1104"/>
                  </a:lnTo>
                  <a:lnTo>
                    <a:pt x="1192" y="1072"/>
                  </a:lnTo>
                  <a:lnTo>
                    <a:pt x="1170" y="1054"/>
                  </a:lnTo>
                  <a:lnTo>
                    <a:pt x="1154" y="1047"/>
                  </a:lnTo>
                  <a:lnTo>
                    <a:pt x="1145" y="1022"/>
                  </a:lnTo>
                  <a:lnTo>
                    <a:pt x="1120" y="1003"/>
                  </a:lnTo>
                  <a:lnTo>
                    <a:pt x="1095" y="988"/>
                  </a:lnTo>
                  <a:lnTo>
                    <a:pt x="1066" y="975"/>
                  </a:lnTo>
                  <a:lnTo>
                    <a:pt x="1050" y="956"/>
                  </a:lnTo>
                  <a:lnTo>
                    <a:pt x="1063" y="922"/>
                  </a:lnTo>
                  <a:lnTo>
                    <a:pt x="1047" y="893"/>
                  </a:lnTo>
                  <a:lnTo>
                    <a:pt x="1041" y="865"/>
                  </a:lnTo>
                  <a:lnTo>
                    <a:pt x="1044" y="837"/>
                  </a:lnTo>
                  <a:lnTo>
                    <a:pt x="1032" y="802"/>
                  </a:lnTo>
                  <a:lnTo>
                    <a:pt x="1038" y="774"/>
                  </a:lnTo>
                  <a:lnTo>
                    <a:pt x="1072" y="761"/>
                  </a:lnTo>
                  <a:lnTo>
                    <a:pt x="1088" y="742"/>
                  </a:lnTo>
                  <a:lnTo>
                    <a:pt x="1088" y="717"/>
                  </a:lnTo>
                  <a:lnTo>
                    <a:pt x="1113" y="705"/>
                  </a:lnTo>
                  <a:lnTo>
                    <a:pt x="1104" y="679"/>
                  </a:lnTo>
                  <a:lnTo>
                    <a:pt x="1088" y="667"/>
                  </a:lnTo>
                  <a:lnTo>
                    <a:pt x="1050" y="667"/>
                  </a:lnTo>
                  <a:lnTo>
                    <a:pt x="1038" y="651"/>
                  </a:lnTo>
                  <a:lnTo>
                    <a:pt x="1060" y="629"/>
                  </a:lnTo>
                  <a:lnTo>
                    <a:pt x="1050" y="610"/>
                  </a:lnTo>
                  <a:lnTo>
                    <a:pt x="1076" y="595"/>
                  </a:lnTo>
                  <a:lnTo>
                    <a:pt x="1104" y="598"/>
                  </a:lnTo>
                  <a:lnTo>
                    <a:pt x="1117" y="573"/>
                  </a:lnTo>
                  <a:lnTo>
                    <a:pt x="1095" y="547"/>
                  </a:lnTo>
                  <a:lnTo>
                    <a:pt x="1050" y="532"/>
                  </a:lnTo>
                  <a:lnTo>
                    <a:pt x="1025" y="535"/>
                  </a:lnTo>
                  <a:lnTo>
                    <a:pt x="1006" y="547"/>
                  </a:lnTo>
                  <a:lnTo>
                    <a:pt x="988" y="566"/>
                  </a:lnTo>
                  <a:lnTo>
                    <a:pt x="994" y="591"/>
                  </a:lnTo>
                  <a:lnTo>
                    <a:pt x="981" y="617"/>
                  </a:lnTo>
                  <a:lnTo>
                    <a:pt x="962" y="613"/>
                  </a:lnTo>
                  <a:lnTo>
                    <a:pt x="940" y="582"/>
                  </a:lnTo>
                  <a:lnTo>
                    <a:pt x="931" y="560"/>
                  </a:lnTo>
                  <a:lnTo>
                    <a:pt x="890" y="554"/>
                  </a:lnTo>
                  <a:lnTo>
                    <a:pt x="849" y="547"/>
                  </a:lnTo>
                  <a:lnTo>
                    <a:pt x="821" y="535"/>
                  </a:lnTo>
                  <a:lnTo>
                    <a:pt x="808" y="516"/>
                  </a:lnTo>
                  <a:lnTo>
                    <a:pt x="790" y="500"/>
                  </a:lnTo>
                  <a:lnTo>
                    <a:pt x="812" y="481"/>
                  </a:lnTo>
                  <a:lnTo>
                    <a:pt x="808" y="459"/>
                  </a:lnTo>
                  <a:lnTo>
                    <a:pt x="790" y="450"/>
                  </a:lnTo>
                  <a:lnTo>
                    <a:pt x="780" y="415"/>
                  </a:lnTo>
                  <a:lnTo>
                    <a:pt x="805" y="393"/>
                  </a:lnTo>
                  <a:lnTo>
                    <a:pt x="799" y="365"/>
                  </a:lnTo>
                  <a:lnTo>
                    <a:pt x="777" y="353"/>
                  </a:lnTo>
                  <a:lnTo>
                    <a:pt x="727" y="353"/>
                  </a:lnTo>
                  <a:lnTo>
                    <a:pt x="720" y="324"/>
                  </a:lnTo>
                  <a:lnTo>
                    <a:pt x="705" y="315"/>
                  </a:lnTo>
                  <a:lnTo>
                    <a:pt x="676" y="315"/>
                  </a:lnTo>
                  <a:lnTo>
                    <a:pt x="667" y="293"/>
                  </a:lnTo>
                  <a:lnTo>
                    <a:pt x="642" y="271"/>
                  </a:lnTo>
                  <a:lnTo>
                    <a:pt x="617" y="252"/>
                  </a:lnTo>
                  <a:lnTo>
                    <a:pt x="636" y="221"/>
                  </a:lnTo>
                  <a:lnTo>
                    <a:pt x="636" y="167"/>
                  </a:lnTo>
                  <a:lnTo>
                    <a:pt x="632" y="155"/>
                  </a:lnTo>
                  <a:lnTo>
                    <a:pt x="601" y="151"/>
                  </a:lnTo>
                  <a:lnTo>
                    <a:pt x="576" y="107"/>
                  </a:lnTo>
                  <a:lnTo>
                    <a:pt x="557" y="101"/>
                  </a:lnTo>
                  <a:lnTo>
                    <a:pt x="535" y="76"/>
                  </a:lnTo>
                  <a:lnTo>
                    <a:pt x="507" y="63"/>
                  </a:lnTo>
                  <a:lnTo>
                    <a:pt x="488" y="48"/>
                  </a:lnTo>
                  <a:lnTo>
                    <a:pt x="475" y="19"/>
                  </a:lnTo>
                  <a:lnTo>
                    <a:pt x="447" y="0"/>
                  </a:lnTo>
                  <a:lnTo>
                    <a:pt x="428" y="16"/>
                  </a:lnTo>
                  <a:lnTo>
                    <a:pt x="403" y="26"/>
                  </a:lnTo>
                  <a:lnTo>
                    <a:pt x="371" y="7"/>
                  </a:lnTo>
                  <a:lnTo>
                    <a:pt x="340" y="4"/>
                  </a:lnTo>
                  <a:lnTo>
                    <a:pt x="312" y="16"/>
                  </a:lnTo>
                  <a:lnTo>
                    <a:pt x="299" y="38"/>
                  </a:lnTo>
                  <a:lnTo>
                    <a:pt x="280" y="38"/>
                  </a:lnTo>
                  <a:lnTo>
                    <a:pt x="268" y="70"/>
                  </a:lnTo>
                  <a:lnTo>
                    <a:pt x="239" y="76"/>
                  </a:lnTo>
                  <a:lnTo>
                    <a:pt x="211" y="70"/>
                  </a:lnTo>
                  <a:lnTo>
                    <a:pt x="183" y="88"/>
                  </a:lnTo>
                  <a:lnTo>
                    <a:pt x="145" y="92"/>
                  </a:lnTo>
                  <a:lnTo>
                    <a:pt x="155" y="117"/>
                  </a:lnTo>
                  <a:lnTo>
                    <a:pt x="151" y="145"/>
                  </a:lnTo>
                  <a:lnTo>
                    <a:pt x="161" y="170"/>
                  </a:lnTo>
                  <a:lnTo>
                    <a:pt x="180" y="186"/>
                  </a:lnTo>
                  <a:lnTo>
                    <a:pt x="167" y="199"/>
                  </a:lnTo>
                  <a:lnTo>
                    <a:pt x="155" y="211"/>
                  </a:lnTo>
                  <a:lnTo>
                    <a:pt x="177" y="233"/>
                  </a:lnTo>
                  <a:lnTo>
                    <a:pt x="205" y="243"/>
                  </a:lnTo>
                  <a:lnTo>
                    <a:pt x="199" y="265"/>
                  </a:lnTo>
                  <a:lnTo>
                    <a:pt x="183" y="277"/>
                  </a:lnTo>
                  <a:lnTo>
                    <a:pt x="189" y="296"/>
                  </a:lnTo>
                  <a:lnTo>
                    <a:pt x="189" y="321"/>
                  </a:lnTo>
                  <a:lnTo>
                    <a:pt x="217" y="334"/>
                  </a:lnTo>
                  <a:lnTo>
                    <a:pt x="255" y="331"/>
                  </a:lnTo>
                  <a:lnTo>
                    <a:pt x="274" y="343"/>
                  </a:lnTo>
                  <a:lnTo>
                    <a:pt x="268" y="365"/>
                  </a:lnTo>
                  <a:lnTo>
                    <a:pt x="236" y="368"/>
                  </a:lnTo>
                  <a:lnTo>
                    <a:pt x="211" y="359"/>
                  </a:lnTo>
                  <a:lnTo>
                    <a:pt x="205" y="384"/>
                  </a:lnTo>
                  <a:lnTo>
                    <a:pt x="205" y="412"/>
                  </a:lnTo>
                  <a:lnTo>
                    <a:pt x="205" y="441"/>
                  </a:lnTo>
                  <a:lnTo>
                    <a:pt x="211" y="466"/>
                  </a:lnTo>
                  <a:lnTo>
                    <a:pt x="236" y="466"/>
                  </a:lnTo>
                  <a:lnTo>
                    <a:pt x="265" y="463"/>
                  </a:lnTo>
                  <a:lnTo>
                    <a:pt x="271" y="485"/>
                  </a:lnTo>
                  <a:lnTo>
                    <a:pt x="271" y="507"/>
                  </a:lnTo>
                  <a:lnTo>
                    <a:pt x="258" y="522"/>
                  </a:lnTo>
                  <a:lnTo>
                    <a:pt x="243" y="547"/>
                  </a:lnTo>
                  <a:lnTo>
                    <a:pt x="217" y="576"/>
                  </a:lnTo>
                  <a:lnTo>
                    <a:pt x="208" y="598"/>
                  </a:lnTo>
                  <a:lnTo>
                    <a:pt x="211" y="620"/>
                  </a:lnTo>
                  <a:lnTo>
                    <a:pt x="205" y="645"/>
                  </a:lnTo>
                  <a:lnTo>
                    <a:pt x="205" y="676"/>
                  </a:lnTo>
                  <a:lnTo>
                    <a:pt x="221" y="692"/>
                  </a:lnTo>
                  <a:lnTo>
                    <a:pt x="236" y="698"/>
                  </a:lnTo>
                  <a:lnTo>
                    <a:pt x="261" y="711"/>
                  </a:lnTo>
                  <a:lnTo>
                    <a:pt x="268" y="730"/>
                  </a:lnTo>
                  <a:lnTo>
                    <a:pt x="290" y="742"/>
                  </a:lnTo>
                  <a:lnTo>
                    <a:pt x="309" y="755"/>
                  </a:lnTo>
                  <a:lnTo>
                    <a:pt x="337" y="783"/>
                  </a:lnTo>
                  <a:lnTo>
                    <a:pt x="343" y="802"/>
                  </a:lnTo>
                  <a:lnTo>
                    <a:pt x="312" y="805"/>
                  </a:lnTo>
                  <a:lnTo>
                    <a:pt x="280" y="812"/>
                  </a:lnTo>
                  <a:lnTo>
                    <a:pt x="246" y="802"/>
                  </a:lnTo>
                  <a:lnTo>
                    <a:pt x="243" y="815"/>
                  </a:lnTo>
                  <a:lnTo>
                    <a:pt x="252" y="834"/>
                  </a:lnTo>
                  <a:lnTo>
                    <a:pt x="268" y="852"/>
                  </a:lnTo>
                  <a:lnTo>
                    <a:pt x="293" y="878"/>
                  </a:lnTo>
                  <a:lnTo>
                    <a:pt x="309" y="903"/>
                  </a:lnTo>
                  <a:lnTo>
                    <a:pt x="299" y="922"/>
                  </a:lnTo>
                  <a:lnTo>
                    <a:pt x="305" y="950"/>
                  </a:lnTo>
                  <a:lnTo>
                    <a:pt x="293" y="962"/>
                  </a:lnTo>
                  <a:lnTo>
                    <a:pt x="274" y="950"/>
                  </a:lnTo>
                  <a:lnTo>
                    <a:pt x="255" y="940"/>
                  </a:lnTo>
                  <a:lnTo>
                    <a:pt x="236" y="947"/>
                  </a:lnTo>
                  <a:lnTo>
                    <a:pt x="214" y="966"/>
                  </a:lnTo>
                  <a:lnTo>
                    <a:pt x="199" y="972"/>
                  </a:lnTo>
                  <a:lnTo>
                    <a:pt x="177" y="962"/>
                  </a:lnTo>
                  <a:lnTo>
                    <a:pt x="148" y="966"/>
                  </a:lnTo>
                  <a:lnTo>
                    <a:pt x="139" y="984"/>
                  </a:lnTo>
                  <a:lnTo>
                    <a:pt x="161" y="997"/>
                  </a:lnTo>
                  <a:lnTo>
                    <a:pt x="180" y="1019"/>
                  </a:lnTo>
                  <a:lnTo>
                    <a:pt x="177" y="1047"/>
                  </a:lnTo>
                  <a:lnTo>
                    <a:pt x="145" y="1047"/>
                  </a:lnTo>
                  <a:lnTo>
                    <a:pt x="120" y="1038"/>
                  </a:lnTo>
                  <a:lnTo>
                    <a:pt x="104" y="1047"/>
                  </a:lnTo>
                  <a:lnTo>
                    <a:pt x="76" y="1060"/>
                  </a:lnTo>
                  <a:lnTo>
                    <a:pt x="63" y="1079"/>
                  </a:lnTo>
                  <a:lnTo>
                    <a:pt x="70" y="1104"/>
                  </a:lnTo>
                  <a:lnTo>
                    <a:pt x="76" y="1129"/>
                  </a:lnTo>
                  <a:lnTo>
                    <a:pt x="51" y="1138"/>
                  </a:lnTo>
                  <a:lnTo>
                    <a:pt x="32" y="1148"/>
                  </a:lnTo>
                  <a:lnTo>
                    <a:pt x="32" y="1173"/>
                  </a:lnTo>
                  <a:lnTo>
                    <a:pt x="22" y="1204"/>
                  </a:lnTo>
                  <a:lnTo>
                    <a:pt x="41" y="1233"/>
                  </a:lnTo>
                  <a:lnTo>
                    <a:pt x="63" y="1255"/>
                  </a:lnTo>
                  <a:lnTo>
                    <a:pt x="54" y="1283"/>
                  </a:lnTo>
                  <a:lnTo>
                    <a:pt x="26" y="1283"/>
                  </a:lnTo>
                  <a:lnTo>
                    <a:pt x="10" y="1289"/>
                  </a:lnTo>
                  <a:lnTo>
                    <a:pt x="4" y="1318"/>
                  </a:lnTo>
                  <a:lnTo>
                    <a:pt x="0" y="1333"/>
                  </a:lnTo>
                  <a:lnTo>
                    <a:pt x="13" y="1340"/>
                  </a:lnTo>
                  <a:lnTo>
                    <a:pt x="41" y="13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360" y="1844640"/>
              <a:ext cx="3849840" cy="4105440"/>
            </a:xfrm>
            <a:custGeom>
              <a:avLst/>
              <a:gdLst/>
              <a:ahLst/>
              <a:rect l="l" t="t" r="r" b="b"/>
              <a:pathLst>
                <a:path w="1065" h="1392">
                  <a:moveTo>
                    <a:pt x="276" y="0"/>
                  </a:moveTo>
                  <a:lnTo>
                    <a:pt x="276" y="0"/>
                  </a:lnTo>
                  <a:lnTo>
                    <a:pt x="289" y="3"/>
                  </a:lnTo>
                  <a:lnTo>
                    <a:pt x="289" y="3"/>
                  </a:lnTo>
                  <a:lnTo>
                    <a:pt x="330" y="25"/>
                  </a:lnTo>
                  <a:lnTo>
                    <a:pt x="330" y="25"/>
                  </a:lnTo>
                  <a:lnTo>
                    <a:pt x="374" y="9"/>
                  </a:lnTo>
                  <a:lnTo>
                    <a:pt x="374" y="9"/>
                  </a:lnTo>
                  <a:lnTo>
                    <a:pt x="383" y="25"/>
                  </a:lnTo>
                  <a:lnTo>
                    <a:pt x="411" y="53"/>
                  </a:lnTo>
                  <a:lnTo>
                    <a:pt x="411" y="53"/>
                  </a:lnTo>
                  <a:lnTo>
                    <a:pt x="440" y="66"/>
                  </a:lnTo>
                  <a:lnTo>
                    <a:pt x="440" y="66"/>
                  </a:lnTo>
                  <a:lnTo>
                    <a:pt x="462" y="88"/>
                  </a:lnTo>
                  <a:lnTo>
                    <a:pt x="462" y="88"/>
                  </a:lnTo>
                  <a:lnTo>
                    <a:pt x="474" y="94"/>
                  </a:lnTo>
                  <a:lnTo>
                    <a:pt x="474" y="94"/>
                  </a:lnTo>
                  <a:lnTo>
                    <a:pt x="503" y="144"/>
                  </a:lnTo>
                  <a:lnTo>
                    <a:pt x="503" y="144"/>
                  </a:lnTo>
                  <a:lnTo>
                    <a:pt x="522" y="144"/>
                  </a:lnTo>
                  <a:lnTo>
                    <a:pt x="522" y="144"/>
                  </a:lnTo>
                  <a:lnTo>
                    <a:pt x="522" y="163"/>
                  </a:lnTo>
                  <a:lnTo>
                    <a:pt x="522" y="163"/>
                  </a:lnTo>
                  <a:lnTo>
                    <a:pt x="490" y="220"/>
                  </a:lnTo>
                  <a:lnTo>
                    <a:pt x="490" y="220"/>
                  </a:lnTo>
                  <a:lnTo>
                    <a:pt x="544" y="257"/>
                  </a:lnTo>
                  <a:lnTo>
                    <a:pt x="544" y="257"/>
                  </a:lnTo>
                  <a:lnTo>
                    <a:pt x="562" y="273"/>
                  </a:lnTo>
                  <a:lnTo>
                    <a:pt x="562" y="273"/>
                  </a:lnTo>
                  <a:lnTo>
                    <a:pt x="581" y="311"/>
                  </a:lnTo>
                  <a:lnTo>
                    <a:pt x="581" y="311"/>
                  </a:lnTo>
                  <a:lnTo>
                    <a:pt x="613" y="311"/>
                  </a:lnTo>
                  <a:lnTo>
                    <a:pt x="613" y="311"/>
                  </a:lnTo>
                  <a:lnTo>
                    <a:pt x="622" y="349"/>
                  </a:lnTo>
                  <a:lnTo>
                    <a:pt x="622" y="349"/>
                  </a:lnTo>
                  <a:lnTo>
                    <a:pt x="669" y="349"/>
                  </a:lnTo>
                  <a:lnTo>
                    <a:pt x="669" y="349"/>
                  </a:lnTo>
                  <a:lnTo>
                    <a:pt x="663" y="355"/>
                  </a:lnTo>
                  <a:lnTo>
                    <a:pt x="663" y="355"/>
                  </a:lnTo>
                  <a:lnTo>
                    <a:pt x="679" y="424"/>
                  </a:lnTo>
                  <a:lnTo>
                    <a:pt x="679" y="424"/>
                  </a:lnTo>
                  <a:lnTo>
                    <a:pt x="647" y="449"/>
                  </a:lnTo>
                  <a:lnTo>
                    <a:pt x="647" y="449"/>
                  </a:lnTo>
                  <a:lnTo>
                    <a:pt x="707" y="496"/>
                  </a:lnTo>
                  <a:lnTo>
                    <a:pt x="707" y="496"/>
                  </a:lnTo>
                  <a:lnTo>
                    <a:pt x="720" y="521"/>
                  </a:lnTo>
                  <a:lnTo>
                    <a:pt x="767" y="543"/>
                  </a:lnTo>
                  <a:lnTo>
                    <a:pt x="767" y="543"/>
                  </a:lnTo>
                  <a:lnTo>
                    <a:pt x="817" y="547"/>
                  </a:lnTo>
                  <a:lnTo>
                    <a:pt x="817" y="547"/>
                  </a:lnTo>
                  <a:lnTo>
                    <a:pt x="830" y="550"/>
                  </a:lnTo>
                  <a:lnTo>
                    <a:pt x="830" y="550"/>
                  </a:lnTo>
                  <a:lnTo>
                    <a:pt x="833" y="556"/>
                  </a:lnTo>
                  <a:lnTo>
                    <a:pt x="867" y="603"/>
                  </a:lnTo>
                  <a:lnTo>
                    <a:pt x="867" y="603"/>
                  </a:lnTo>
                  <a:lnTo>
                    <a:pt x="914" y="616"/>
                  </a:lnTo>
                  <a:lnTo>
                    <a:pt x="914" y="616"/>
                  </a:lnTo>
                  <a:lnTo>
                    <a:pt x="965" y="663"/>
                  </a:lnTo>
                  <a:lnTo>
                    <a:pt x="965" y="663"/>
                  </a:lnTo>
                  <a:lnTo>
                    <a:pt x="974" y="663"/>
                  </a:lnTo>
                  <a:lnTo>
                    <a:pt x="974" y="663"/>
                  </a:lnTo>
                  <a:lnTo>
                    <a:pt x="974" y="679"/>
                  </a:lnTo>
                  <a:lnTo>
                    <a:pt x="974" y="679"/>
                  </a:lnTo>
                  <a:lnTo>
                    <a:pt x="930" y="691"/>
                  </a:lnTo>
                  <a:lnTo>
                    <a:pt x="914" y="757"/>
                  </a:lnTo>
                  <a:lnTo>
                    <a:pt x="914" y="757"/>
                  </a:lnTo>
                  <a:lnTo>
                    <a:pt x="930" y="795"/>
                  </a:lnTo>
                  <a:lnTo>
                    <a:pt x="930" y="795"/>
                  </a:lnTo>
                  <a:lnTo>
                    <a:pt x="927" y="820"/>
                  </a:lnTo>
                  <a:lnTo>
                    <a:pt x="936" y="861"/>
                  </a:lnTo>
                  <a:lnTo>
                    <a:pt x="936" y="861"/>
                  </a:lnTo>
                  <a:lnTo>
                    <a:pt x="946" y="877"/>
                  </a:lnTo>
                  <a:lnTo>
                    <a:pt x="946" y="877"/>
                  </a:lnTo>
                  <a:lnTo>
                    <a:pt x="933" y="914"/>
                  </a:lnTo>
                  <a:lnTo>
                    <a:pt x="968" y="965"/>
                  </a:lnTo>
                  <a:lnTo>
                    <a:pt x="968" y="965"/>
                  </a:lnTo>
                  <a:lnTo>
                    <a:pt x="1002" y="977"/>
                  </a:lnTo>
                  <a:lnTo>
                    <a:pt x="1002" y="977"/>
                  </a:lnTo>
                  <a:lnTo>
                    <a:pt x="1037" y="1002"/>
                  </a:lnTo>
                  <a:lnTo>
                    <a:pt x="1037" y="1002"/>
                  </a:lnTo>
                  <a:lnTo>
                    <a:pt x="1050" y="1031"/>
                  </a:lnTo>
                  <a:lnTo>
                    <a:pt x="1050" y="1031"/>
                  </a:lnTo>
                  <a:lnTo>
                    <a:pt x="1065" y="1037"/>
                  </a:lnTo>
                  <a:lnTo>
                    <a:pt x="1065" y="1037"/>
                  </a:lnTo>
                  <a:lnTo>
                    <a:pt x="1062" y="1040"/>
                  </a:lnTo>
                  <a:lnTo>
                    <a:pt x="1040" y="1075"/>
                  </a:lnTo>
                  <a:lnTo>
                    <a:pt x="1040" y="1075"/>
                  </a:lnTo>
                  <a:lnTo>
                    <a:pt x="1031" y="1090"/>
                  </a:lnTo>
                  <a:lnTo>
                    <a:pt x="1031" y="1090"/>
                  </a:lnTo>
                  <a:lnTo>
                    <a:pt x="1025" y="1100"/>
                  </a:lnTo>
                  <a:lnTo>
                    <a:pt x="1025" y="1100"/>
                  </a:lnTo>
                  <a:lnTo>
                    <a:pt x="1015" y="1103"/>
                  </a:lnTo>
                  <a:lnTo>
                    <a:pt x="1015" y="1103"/>
                  </a:lnTo>
                  <a:lnTo>
                    <a:pt x="968" y="1090"/>
                  </a:lnTo>
                  <a:lnTo>
                    <a:pt x="927" y="1160"/>
                  </a:lnTo>
                  <a:lnTo>
                    <a:pt x="943" y="1226"/>
                  </a:lnTo>
                  <a:lnTo>
                    <a:pt x="943" y="1226"/>
                  </a:lnTo>
                  <a:lnTo>
                    <a:pt x="952" y="1232"/>
                  </a:lnTo>
                  <a:lnTo>
                    <a:pt x="952" y="1232"/>
                  </a:lnTo>
                  <a:lnTo>
                    <a:pt x="949" y="1273"/>
                  </a:lnTo>
                  <a:lnTo>
                    <a:pt x="949" y="1273"/>
                  </a:lnTo>
                  <a:lnTo>
                    <a:pt x="968" y="1285"/>
                  </a:lnTo>
                  <a:lnTo>
                    <a:pt x="968" y="1285"/>
                  </a:lnTo>
                  <a:lnTo>
                    <a:pt x="965" y="1288"/>
                  </a:lnTo>
                  <a:lnTo>
                    <a:pt x="965" y="1288"/>
                  </a:lnTo>
                  <a:lnTo>
                    <a:pt x="940" y="1270"/>
                  </a:lnTo>
                  <a:lnTo>
                    <a:pt x="940" y="1270"/>
                  </a:lnTo>
                  <a:lnTo>
                    <a:pt x="905" y="1298"/>
                  </a:lnTo>
                  <a:lnTo>
                    <a:pt x="905" y="1298"/>
                  </a:lnTo>
                  <a:lnTo>
                    <a:pt x="892" y="1298"/>
                  </a:lnTo>
                  <a:lnTo>
                    <a:pt x="892" y="1298"/>
                  </a:lnTo>
                  <a:lnTo>
                    <a:pt x="820" y="1273"/>
                  </a:lnTo>
                  <a:lnTo>
                    <a:pt x="820" y="1273"/>
                  </a:lnTo>
                  <a:lnTo>
                    <a:pt x="811" y="1314"/>
                  </a:lnTo>
                  <a:lnTo>
                    <a:pt x="811" y="1314"/>
                  </a:lnTo>
                  <a:lnTo>
                    <a:pt x="808" y="1314"/>
                  </a:lnTo>
                  <a:lnTo>
                    <a:pt x="808" y="1314"/>
                  </a:lnTo>
                  <a:lnTo>
                    <a:pt x="760" y="1326"/>
                  </a:lnTo>
                  <a:lnTo>
                    <a:pt x="760" y="1326"/>
                  </a:lnTo>
                  <a:lnTo>
                    <a:pt x="707" y="1329"/>
                  </a:lnTo>
                  <a:lnTo>
                    <a:pt x="707" y="1329"/>
                  </a:lnTo>
                  <a:lnTo>
                    <a:pt x="679" y="1358"/>
                  </a:lnTo>
                  <a:lnTo>
                    <a:pt x="679" y="1358"/>
                  </a:lnTo>
                  <a:lnTo>
                    <a:pt x="672" y="1361"/>
                  </a:lnTo>
                  <a:lnTo>
                    <a:pt x="672" y="1361"/>
                  </a:lnTo>
                  <a:lnTo>
                    <a:pt x="672" y="1361"/>
                  </a:lnTo>
                  <a:lnTo>
                    <a:pt x="672" y="1361"/>
                  </a:lnTo>
                  <a:lnTo>
                    <a:pt x="625" y="1345"/>
                  </a:lnTo>
                  <a:lnTo>
                    <a:pt x="625" y="1345"/>
                  </a:lnTo>
                  <a:lnTo>
                    <a:pt x="600" y="1377"/>
                  </a:lnTo>
                  <a:lnTo>
                    <a:pt x="600" y="1377"/>
                  </a:lnTo>
                  <a:lnTo>
                    <a:pt x="572" y="1380"/>
                  </a:lnTo>
                  <a:lnTo>
                    <a:pt x="572" y="1380"/>
                  </a:lnTo>
                  <a:lnTo>
                    <a:pt x="553" y="1392"/>
                  </a:lnTo>
                  <a:lnTo>
                    <a:pt x="553" y="1392"/>
                  </a:lnTo>
                  <a:lnTo>
                    <a:pt x="540" y="1320"/>
                  </a:lnTo>
                  <a:lnTo>
                    <a:pt x="540" y="1320"/>
                  </a:lnTo>
                  <a:lnTo>
                    <a:pt x="493" y="1332"/>
                  </a:lnTo>
                  <a:lnTo>
                    <a:pt x="493" y="1332"/>
                  </a:lnTo>
                  <a:lnTo>
                    <a:pt x="477" y="1304"/>
                  </a:lnTo>
                  <a:lnTo>
                    <a:pt x="477" y="1304"/>
                  </a:lnTo>
                  <a:lnTo>
                    <a:pt x="446" y="1304"/>
                  </a:lnTo>
                  <a:lnTo>
                    <a:pt x="446" y="1304"/>
                  </a:lnTo>
                  <a:lnTo>
                    <a:pt x="437" y="1273"/>
                  </a:lnTo>
                  <a:lnTo>
                    <a:pt x="383" y="1219"/>
                  </a:lnTo>
                  <a:lnTo>
                    <a:pt x="383" y="1219"/>
                  </a:lnTo>
                  <a:lnTo>
                    <a:pt x="342" y="1241"/>
                  </a:lnTo>
                  <a:lnTo>
                    <a:pt x="342" y="1241"/>
                  </a:lnTo>
                  <a:lnTo>
                    <a:pt x="327" y="1191"/>
                  </a:lnTo>
                  <a:lnTo>
                    <a:pt x="229" y="1191"/>
                  </a:lnTo>
                  <a:lnTo>
                    <a:pt x="229" y="1191"/>
                  </a:lnTo>
                  <a:lnTo>
                    <a:pt x="213" y="1244"/>
                  </a:lnTo>
                  <a:lnTo>
                    <a:pt x="213" y="1244"/>
                  </a:lnTo>
                  <a:lnTo>
                    <a:pt x="185" y="1270"/>
                  </a:lnTo>
                  <a:lnTo>
                    <a:pt x="185" y="1270"/>
                  </a:lnTo>
                  <a:lnTo>
                    <a:pt x="182" y="1292"/>
                  </a:lnTo>
                  <a:lnTo>
                    <a:pt x="182" y="1292"/>
                  </a:lnTo>
                  <a:lnTo>
                    <a:pt x="166" y="1304"/>
                  </a:lnTo>
                  <a:lnTo>
                    <a:pt x="166" y="1304"/>
                  </a:lnTo>
                  <a:lnTo>
                    <a:pt x="166" y="1317"/>
                  </a:lnTo>
                  <a:lnTo>
                    <a:pt x="166" y="1317"/>
                  </a:lnTo>
                  <a:lnTo>
                    <a:pt x="157" y="1317"/>
                  </a:lnTo>
                  <a:lnTo>
                    <a:pt x="157" y="1317"/>
                  </a:lnTo>
                  <a:lnTo>
                    <a:pt x="116" y="1304"/>
                  </a:lnTo>
                  <a:lnTo>
                    <a:pt x="116" y="1304"/>
                  </a:lnTo>
                  <a:lnTo>
                    <a:pt x="66" y="1329"/>
                  </a:lnTo>
                  <a:lnTo>
                    <a:pt x="66" y="1329"/>
                  </a:lnTo>
                  <a:lnTo>
                    <a:pt x="59" y="1320"/>
                  </a:lnTo>
                  <a:lnTo>
                    <a:pt x="59" y="1320"/>
                  </a:lnTo>
                  <a:lnTo>
                    <a:pt x="85" y="1241"/>
                  </a:lnTo>
                  <a:lnTo>
                    <a:pt x="85" y="1241"/>
                  </a:lnTo>
                  <a:lnTo>
                    <a:pt x="31" y="1232"/>
                  </a:lnTo>
                  <a:lnTo>
                    <a:pt x="31" y="1232"/>
                  </a:lnTo>
                  <a:lnTo>
                    <a:pt x="41" y="1191"/>
                  </a:lnTo>
                  <a:lnTo>
                    <a:pt x="41" y="1191"/>
                  </a:lnTo>
                  <a:lnTo>
                    <a:pt x="6" y="1156"/>
                  </a:lnTo>
                  <a:lnTo>
                    <a:pt x="6" y="1156"/>
                  </a:lnTo>
                  <a:lnTo>
                    <a:pt x="0" y="1150"/>
                  </a:lnTo>
                  <a:lnTo>
                    <a:pt x="0" y="1150"/>
                  </a:lnTo>
                  <a:lnTo>
                    <a:pt x="6" y="1131"/>
                  </a:lnTo>
                  <a:lnTo>
                    <a:pt x="6" y="1131"/>
                  </a:lnTo>
                  <a:lnTo>
                    <a:pt x="6" y="1128"/>
                  </a:lnTo>
                  <a:lnTo>
                    <a:pt x="6" y="1128"/>
                  </a:lnTo>
                  <a:lnTo>
                    <a:pt x="59" y="1106"/>
                  </a:lnTo>
                  <a:lnTo>
                    <a:pt x="59" y="1106"/>
                  </a:lnTo>
                  <a:lnTo>
                    <a:pt x="41" y="1043"/>
                  </a:lnTo>
                  <a:lnTo>
                    <a:pt x="41" y="1043"/>
                  </a:lnTo>
                  <a:lnTo>
                    <a:pt x="53" y="1037"/>
                  </a:lnTo>
                  <a:lnTo>
                    <a:pt x="53" y="1037"/>
                  </a:lnTo>
                  <a:lnTo>
                    <a:pt x="66" y="1043"/>
                  </a:lnTo>
                  <a:lnTo>
                    <a:pt x="144" y="1043"/>
                  </a:lnTo>
                  <a:lnTo>
                    <a:pt x="144" y="1043"/>
                  </a:lnTo>
                  <a:lnTo>
                    <a:pt x="154" y="962"/>
                  </a:lnTo>
                  <a:lnTo>
                    <a:pt x="154" y="962"/>
                  </a:lnTo>
                  <a:lnTo>
                    <a:pt x="166" y="955"/>
                  </a:lnTo>
                  <a:lnTo>
                    <a:pt x="166" y="955"/>
                  </a:lnTo>
                  <a:lnTo>
                    <a:pt x="185" y="943"/>
                  </a:lnTo>
                  <a:lnTo>
                    <a:pt x="185" y="943"/>
                  </a:lnTo>
                  <a:lnTo>
                    <a:pt x="229" y="968"/>
                  </a:lnTo>
                  <a:lnTo>
                    <a:pt x="279" y="918"/>
                  </a:lnTo>
                  <a:lnTo>
                    <a:pt x="279" y="918"/>
                  </a:lnTo>
                  <a:lnTo>
                    <a:pt x="276" y="880"/>
                  </a:lnTo>
                  <a:lnTo>
                    <a:pt x="276" y="880"/>
                  </a:lnTo>
                  <a:lnTo>
                    <a:pt x="286" y="848"/>
                  </a:lnTo>
                  <a:lnTo>
                    <a:pt x="257" y="801"/>
                  </a:lnTo>
                  <a:lnTo>
                    <a:pt x="257" y="801"/>
                  </a:lnTo>
                  <a:lnTo>
                    <a:pt x="257" y="798"/>
                  </a:lnTo>
                  <a:lnTo>
                    <a:pt x="257" y="798"/>
                  </a:lnTo>
                  <a:lnTo>
                    <a:pt x="336" y="792"/>
                  </a:lnTo>
                  <a:lnTo>
                    <a:pt x="305" y="710"/>
                  </a:lnTo>
                  <a:lnTo>
                    <a:pt x="267" y="675"/>
                  </a:lnTo>
                  <a:lnTo>
                    <a:pt x="245" y="657"/>
                  </a:lnTo>
                  <a:lnTo>
                    <a:pt x="245" y="657"/>
                  </a:lnTo>
                  <a:lnTo>
                    <a:pt x="232" y="650"/>
                  </a:lnTo>
                  <a:lnTo>
                    <a:pt x="232" y="650"/>
                  </a:lnTo>
                  <a:lnTo>
                    <a:pt x="226" y="635"/>
                  </a:lnTo>
                  <a:lnTo>
                    <a:pt x="188" y="613"/>
                  </a:lnTo>
                  <a:lnTo>
                    <a:pt x="188" y="613"/>
                  </a:lnTo>
                  <a:lnTo>
                    <a:pt x="179" y="606"/>
                  </a:lnTo>
                  <a:lnTo>
                    <a:pt x="179" y="606"/>
                  </a:lnTo>
                  <a:lnTo>
                    <a:pt x="179" y="603"/>
                  </a:lnTo>
                  <a:lnTo>
                    <a:pt x="179" y="603"/>
                  </a:lnTo>
                  <a:lnTo>
                    <a:pt x="185" y="575"/>
                  </a:lnTo>
                  <a:lnTo>
                    <a:pt x="185" y="575"/>
                  </a:lnTo>
                  <a:lnTo>
                    <a:pt x="185" y="556"/>
                  </a:lnTo>
                  <a:lnTo>
                    <a:pt x="185" y="556"/>
                  </a:lnTo>
                  <a:lnTo>
                    <a:pt x="185" y="553"/>
                  </a:lnTo>
                  <a:lnTo>
                    <a:pt x="185" y="553"/>
                  </a:lnTo>
                  <a:lnTo>
                    <a:pt x="210" y="528"/>
                  </a:lnTo>
                  <a:lnTo>
                    <a:pt x="210" y="528"/>
                  </a:lnTo>
                  <a:lnTo>
                    <a:pt x="223" y="499"/>
                  </a:lnTo>
                  <a:lnTo>
                    <a:pt x="223" y="499"/>
                  </a:lnTo>
                  <a:lnTo>
                    <a:pt x="245" y="474"/>
                  </a:lnTo>
                  <a:lnTo>
                    <a:pt x="245" y="430"/>
                  </a:lnTo>
                  <a:lnTo>
                    <a:pt x="226" y="367"/>
                  </a:lnTo>
                  <a:lnTo>
                    <a:pt x="226" y="367"/>
                  </a:lnTo>
                  <a:lnTo>
                    <a:pt x="179" y="374"/>
                  </a:lnTo>
                  <a:lnTo>
                    <a:pt x="179" y="374"/>
                  </a:lnTo>
                  <a:lnTo>
                    <a:pt x="179" y="361"/>
                  </a:lnTo>
                  <a:lnTo>
                    <a:pt x="179" y="361"/>
                  </a:lnTo>
                  <a:lnTo>
                    <a:pt x="232" y="355"/>
                  </a:lnTo>
                  <a:lnTo>
                    <a:pt x="261" y="273"/>
                  </a:lnTo>
                  <a:lnTo>
                    <a:pt x="191" y="239"/>
                  </a:lnTo>
                  <a:lnTo>
                    <a:pt x="191" y="239"/>
                  </a:lnTo>
                  <a:lnTo>
                    <a:pt x="163" y="242"/>
                  </a:lnTo>
                  <a:lnTo>
                    <a:pt x="163" y="242"/>
                  </a:lnTo>
                  <a:lnTo>
                    <a:pt x="163" y="242"/>
                  </a:lnTo>
                  <a:lnTo>
                    <a:pt x="163" y="242"/>
                  </a:lnTo>
                  <a:lnTo>
                    <a:pt x="166" y="239"/>
                  </a:lnTo>
                  <a:lnTo>
                    <a:pt x="188" y="169"/>
                  </a:lnTo>
                  <a:lnTo>
                    <a:pt x="188" y="169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69" y="129"/>
                  </a:lnTo>
                  <a:lnTo>
                    <a:pt x="169" y="129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84"/>
                  </a:lnTo>
                  <a:lnTo>
                    <a:pt x="125" y="84"/>
                  </a:lnTo>
                  <a:lnTo>
                    <a:pt x="129" y="84"/>
                  </a:lnTo>
                  <a:lnTo>
                    <a:pt x="129" y="84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69" y="72"/>
                  </a:lnTo>
                  <a:lnTo>
                    <a:pt x="232" y="56"/>
                  </a:lnTo>
                  <a:lnTo>
                    <a:pt x="232" y="56"/>
                  </a:lnTo>
                  <a:lnTo>
                    <a:pt x="239" y="34"/>
                  </a:lnTo>
                  <a:lnTo>
                    <a:pt x="239" y="34"/>
                  </a:lnTo>
                  <a:lnTo>
                    <a:pt x="261" y="34"/>
                  </a:lnTo>
                  <a:lnTo>
                    <a:pt x="261" y="34"/>
                  </a:lnTo>
                  <a:lnTo>
                    <a:pt x="273" y="3"/>
                  </a:lnTo>
                  <a:lnTo>
                    <a:pt x="273" y="3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4640" y="4591080"/>
              <a:ext cx="547920" cy="563400"/>
            </a:xfrm>
            <a:custGeom>
              <a:avLst/>
              <a:gdLst/>
              <a:ahLst/>
              <a:rect l="l" t="t" r="r" b="b"/>
              <a:pathLst>
                <a:path w="345" h="355">
                  <a:moveTo>
                    <a:pt x="28" y="12"/>
                  </a:moveTo>
                  <a:lnTo>
                    <a:pt x="56" y="28"/>
                  </a:lnTo>
                  <a:lnTo>
                    <a:pt x="81" y="53"/>
                  </a:lnTo>
                  <a:lnTo>
                    <a:pt x="103" y="82"/>
                  </a:lnTo>
                  <a:lnTo>
                    <a:pt x="122" y="97"/>
                  </a:lnTo>
                  <a:lnTo>
                    <a:pt x="147" y="110"/>
                  </a:lnTo>
                  <a:lnTo>
                    <a:pt x="185" y="138"/>
                  </a:lnTo>
                  <a:lnTo>
                    <a:pt x="226" y="167"/>
                  </a:lnTo>
                  <a:lnTo>
                    <a:pt x="229" y="192"/>
                  </a:lnTo>
                  <a:lnTo>
                    <a:pt x="239" y="223"/>
                  </a:lnTo>
                  <a:lnTo>
                    <a:pt x="267" y="248"/>
                  </a:lnTo>
                  <a:lnTo>
                    <a:pt x="286" y="270"/>
                  </a:lnTo>
                  <a:lnTo>
                    <a:pt x="323" y="286"/>
                  </a:lnTo>
                  <a:lnTo>
                    <a:pt x="345" y="299"/>
                  </a:lnTo>
                  <a:lnTo>
                    <a:pt x="308" y="352"/>
                  </a:lnTo>
                  <a:lnTo>
                    <a:pt x="0" y="3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8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1640" y="2060640"/>
              <a:ext cx="3807000" cy="3402000"/>
            </a:xfrm>
            <a:custGeom>
              <a:avLst/>
              <a:gdLst/>
              <a:ahLst/>
              <a:rect l="l" t="t" r="r" b="b"/>
              <a:pathLst>
                <a:path w="1308" h="1685">
                  <a:moveTo>
                    <a:pt x="1283" y="1056"/>
                  </a:moveTo>
                  <a:lnTo>
                    <a:pt x="1283" y="1056"/>
                  </a:lnTo>
                  <a:lnTo>
                    <a:pt x="1271" y="1050"/>
                  </a:lnTo>
                  <a:lnTo>
                    <a:pt x="1271" y="1050"/>
                  </a:lnTo>
                  <a:lnTo>
                    <a:pt x="1261" y="1025"/>
                  </a:lnTo>
                  <a:lnTo>
                    <a:pt x="1208" y="987"/>
                  </a:lnTo>
                  <a:lnTo>
                    <a:pt x="1208" y="987"/>
                  </a:lnTo>
                  <a:lnTo>
                    <a:pt x="1182" y="978"/>
                  </a:lnTo>
                  <a:lnTo>
                    <a:pt x="1182" y="978"/>
                  </a:lnTo>
                  <a:lnTo>
                    <a:pt x="1170" y="962"/>
                  </a:lnTo>
                  <a:lnTo>
                    <a:pt x="1170" y="962"/>
                  </a:lnTo>
                  <a:lnTo>
                    <a:pt x="1182" y="931"/>
                  </a:lnTo>
                  <a:lnTo>
                    <a:pt x="1182" y="931"/>
                  </a:lnTo>
                  <a:lnTo>
                    <a:pt x="1167" y="899"/>
                  </a:lnTo>
                  <a:lnTo>
                    <a:pt x="1167" y="899"/>
                  </a:lnTo>
                  <a:lnTo>
                    <a:pt x="1160" y="874"/>
                  </a:lnTo>
                  <a:lnTo>
                    <a:pt x="1160" y="874"/>
                  </a:lnTo>
                  <a:lnTo>
                    <a:pt x="1164" y="846"/>
                  </a:lnTo>
                  <a:lnTo>
                    <a:pt x="1164" y="846"/>
                  </a:lnTo>
                  <a:lnTo>
                    <a:pt x="1148" y="811"/>
                  </a:lnTo>
                  <a:lnTo>
                    <a:pt x="1148" y="811"/>
                  </a:lnTo>
                  <a:lnTo>
                    <a:pt x="1154" y="789"/>
                  </a:lnTo>
                  <a:lnTo>
                    <a:pt x="1154" y="789"/>
                  </a:lnTo>
                  <a:lnTo>
                    <a:pt x="1189" y="780"/>
                  </a:lnTo>
                  <a:lnTo>
                    <a:pt x="1205" y="751"/>
                  </a:lnTo>
                  <a:lnTo>
                    <a:pt x="1205" y="751"/>
                  </a:lnTo>
                  <a:lnTo>
                    <a:pt x="1205" y="729"/>
                  </a:lnTo>
                  <a:lnTo>
                    <a:pt x="1205" y="729"/>
                  </a:lnTo>
                  <a:lnTo>
                    <a:pt x="1233" y="720"/>
                  </a:lnTo>
                  <a:lnTo>
                    <a:pt x="1223" y="685"/>
                  </a:lnTo>
                  <a:lnTo>
                    <a:pt x="1201" y="666"/>
                  </a:lnTo>
                  <a:lnTo>
                    <a:pt x="1201" y="666"/>
                  </a:lnTo>
                  <a:lnTo>
                    <a:pt x="1164" y="666"/>
                  </a:lnTo>
                  <a:lnTo>
                    <a:pt x="1164" y="666"/>
                  </a:lnTo>
                  <a:lnTo>
                    <a:pt x="1157" y="660"/>
                  </a:lnTo>
                  <a:lnTo>
                    <a:pt x="1157" y="660"/>
                  </a:lnTo>
                  <a:lnTo>
                    <a:pt x="1179" y="641"/>
                  </a:lnTo>
                  <a:lnTo>
                    <a:pt x="1179" y="641"/>
                  </a:lnTo>
                  <a:lnTo>
                    <a:pt x="1170" y="622"/>
                  </a:lnTo>
                  <a:lnTo>
                    <a:pt x="1170" y="622"/>
                  </a:lnTo>
                  <a:lnTo>
                    <a:pt x="1189" y="613"/>
                  </a:lnTo>
                  <a:lnTo>
                    <a:pt x="1189" y="613"/>
                  </a:lnTo>
                  <a:lnTo>
                    <a:pt x="1220" y="616"/>
                  </a:lnTo>
                  <a:lnTo>
                    <a:pt x="1236" y="582"/>
                  </a:lnTo>
                  <a:lnTo>
                    <a:pt x="1211" y="550"/>
                  </a:lnTo>
                  <a:lnTo>
                    <a:pt x="1164" y="531"/>
                  </a:lnTo>
                  <a:lnTo>
                    <a:pt x="1132" y="534"/>
                  </a:lnTo>
                  <a:lnTo>
                    <a:pt x="1110" y="550"/>
                  </a:lnTo>
                  <a:lnTo>
                    <a:pt x="1088" y="572"/>
                  </a:lnTo>
                  <a:lnTo>
                    <a:pt x="1088" y="572"/>
                  </a:lnTo>
                  <a:lnTo>
                    <a:pt x="1094" y="600"/>
                  </a:lnTo>
                  <a:lnTo>
                    <a:pt x="1094" y="600"/>
                  </a:lnTo>
                  <a:lnTo>
                    <a:pt x="1085" y="616"/>
                  </a:lnTo>
                  <a:lnTo>
                    <a:pt x="1085" y="616"/>
                  </a:lnTo>
                  <a:lnTo>
                    <a:pt x="1079" y="613"/>
                  </a:lnTo>
                  <a:lnTo>
                    <a:pt x="1079" y="613"/>
                  </a:lnTo>
                  <a:lnTo>
                    <a:pt x="1057" y="585"/>
                  </a:lnTo>
                  <a:lnTo>
                    <a:pt x="1057" y="585"/>
                  </a:lnTo>
                  <a:lnTo>
                    <a:pt x="1047" y="566"/>
                  </a:lnTo>
                  <a:lnTo>
                    <a:pt x="1047" y="560"/>
                  </a:lnTo>
                  <a:lnTo>
                    <a:pt x="1003" y="553"/>
                  </a:lnTo>
                  <a:lnTo>
                    <a:pt x="1003" y="553"/>
                  </a:lnTo>
                  <a:lnTo>
                    <a:pt x="962" y="550"/>
                  </a:lnTo>
                  <a:lnTo>
                    <a:pt x="962" y="550"/>
                  </a:lnTo>
                  <a:lnTo>
                    <a:pt x="937" y="538"/>
                  </a:lnTo>
                  <a:lnTo>
                    <a:pt x="937" y="538"/>
                  </a:lnTo>
                  <a:lnTo>
                    <a:pt x="925" y="519"/>
                  </a:lnTo>
                  <a:lnTo>
                    <a:pt x="925" y="519"/>
                  </a:lnTo>
                  <a:lnTo>
                    <a:pt x="912" y="509"/>
                  </a:lnTo>
                  <a:lnTo>
                    <a:pt x="912" y="509"/>
                  </a:lnTo>
                  <a:lnTo>
                    <a:pt x="931" y="494"/>
                  </a:lnTo>
                  <a:lnTo>
                    <a:pt x="928" y="462"/>
                  </a:lnTo>
                  <a:lnTo>
                    <a:pt x="928" y="462"/>
                  </a:lnTo>
                  <a:lnTo>
                    <a:pt x="906" y="453"/>
                  </a:lnTo>
                  <a:lnTo>
                    <a:pt x="906" y="453"/>
                  </a:lnTo>
                  <a:lnTo>
                    <a:pt x="900" y="428"/>
                  </a:lnTo>
                  <a:lnTo>
                    <a:pt x="900" y="428"/>
                  </a:lnTo>
                  <a:lnTo>
                    <a:pt x="925" y="402"/>
                  </a:lnTo>
                  <a:lnTo>
                    <a:pt x="915" y="368"/>
                  </a:lnTo>
                  <a:lnTo>
                    <a:pt x="890" y="355"/>
                  </a:lnTo>
                  <a:lnTo>
                    <a:pt x="890" y="355"/>
                  </a:lnTo>
                  <a:lnTo>
                    <a:pt x="843" y="355"/>
                  </a:lnTo>
                  <a:lnTo>
                    <a:pt x="843" y="355"/>
                  </a:lnTo>
                  <a:lnTo>
                    <a:pt x="837" y="330"/>
                  </a:lnTo>
                  <a:lnTo>
                    <a:pt x="818" y="314"/>
                  </a:lnTo>
                  <a:lnTo>
                    <a:pt x="818" y="314"/>
                  </a:lnTo>
                  <a:lnTo>
                    <a:pt x="793" y="314"/>
                  </a:lnTo>
                  <a:lnTo>
                    <a:pt x="793" y="314"/>
                  </a:lnTo>
                  <a:lnTo>
                    <a:pt x="783" y="296"/>
                  </a:lnTo>
                  <a:lnTo>
                    <a:pt x="758" y="274"/>
                  </a:lnTo>
                  <a:lnTo>
                    <a:pt x="758" y="274"/>
                  </a:lnTo>
                  <a:lnTo>
                    <a:pt x="739" y="261"/>
                  </a:lnTo>
                  <a:lnTo>
                    <a:pt x="739" y="261"/>
                  </a:lnTo>
                  <a:lnTo>
                    <a:pt x="752" y="233"/>
                  </a:lnTo>
                  <a:lnTo>
                    <a:pt x="752" y="176"/>
                  </a:lnTo>
                  <a:lnTo>
                    <a:pt x="749" y="154"/>
                  </a:lnTo>
                  <a:lnTo>
                    <a:pt x="749" y="154"/>
                  </a:lnTo>
                  <a:lnTo>
                    <a:pt x="714" y="151"/>
                  </a:lnTo>
                  <a:lnTo>
                    <a:pt x="714" y="151"/>
                  </a:lnTo>
                  <a:lnTo>
                    <a:pt x="689" y="110"/>
                  </a:lnTo>
                  <a:lnTo>
                    <a:pt x="689" y="110"/>
                  </a:lnTo>
                  <a:lnTo>
                    <a:pt x="670" y="104"/>
                  </a:lnTo>
                  <a:lnTo>
                    <a:pt x="670" y="104"/>
                  </a:lnTo>
                  <a:lnTo>
                    <a:pt x="651" y="79"/>
                  </a:lnTo>
                  <a:lnTo>
                    <a:pt x="651" y="79"/>
                  </a:lnTo>
                  <a:lnTo>
                    <a:pt x="623" y="66"/>
                  </a:lnTo>
                  <a:lnTo>
                    <a:pt x="623" y="66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591" y="22"/>
                  </a:lnTo>
                  <a:lnTo>
                    <a:pt x="557" y="0"/>
                  </a:lnTo>
                  <a:lnTo>
                    <a:pt x="551" y="3"/>
                  </a:lnTo>
                  <a:lnTo>
                    <a:pt x="551" y="3"/>
                  </a:lnTo>
                  <a:lnTo>
                    <a:pt x="535" y="16"/>
                  </a:lnTo>
                  <a:lnTo>
                    <a:pt x="535" y="16"/>
                  </a:lnTo>
                  <a:lnTo>
                    <a:pt x="513" y="25"/>
                  </a:lnTo>
                  <a:lnTo>
                    <a:pt x="513" y="25"/>
                  </a:lnTo>
                  <a:lnTo>
                    <a:pt x="485" y="9"/>
                  </a:lnTo>
                  <a:lnTo>
                    <a:pt x="450" y="3"/>
                  </a:lnTo>
                  <a:lnTo>
                    <a:pt x="415" y="16"/>
                  </a:lnTo>
                  <a:lnTo>
                    <a:pt x="415" y="16"/>
                  </a:lnTo>
                  <a:lnTo>
                    <a:pt x="406" y="41"/>
                  </a:lnTo>
                  <a:lnTo>
                    <a:pt x="406" y="41"/>
                  </a:lnTo>
                  <a:lnTo>
                    <a:pt x="384" y="41"/>
                  </a:lnTo>
                  <a:lnTo>
                    <a:pt x="384" y="41"/>
                  </a:lnTo>
                  <a:lnTo>
                    <a:pt x="371" y="69"/>
                  </a:lnTo>
                  <a:lnTo>
                    <a:pt x="371" y="69"/>
                  </a:lnTo>
                  <a:lnTo>
                    <a:pt x="349" y="75"/>
                  </a:lnTo>
                  <a:lnTo>
                    <a:pt x="349" y="75"/>
                  </a:lnTo>
                  <a:lnTo>
                    <a:pt x="321" y="69"/>
                  </a:lnTo>
                  <a:lnTo>
                    <a:pt x="321" y="69"/>
                  </a:lnTo>
                  <a:lnTo>
                    <a:pt x="290" y="91"/>
                  </a:lnTo>
                  <a:lnTo>
                    <a:pt x="290" y="91"/>
                  </a:lnTo>
                  <a:lnTo>
                    <a:pt x="243" y="94"/>
                  </a:lnTo>
                  <a:lnTo>
                    <a:pt x="243" y="94"/>
                  </a:lnTo>
                  <a:lnTo>
                    <a:pt x="255" y="129"/>
                  </a:lnTo>
                  <a:lnTo>
                    <a:pt x="255" y="129"/>
                  </a:lnTo>
                  <a:lnTo>
                    <a:pt x="252" y="157"/>
                  </a:lnTo>
                  <a:lnTo>
                    <a:pt x="265" y="186"/>
                  </a:lnTo>
                  <a:lnTo>
                    <a:pt x="265" y="186"/>
                  </a:lnTo>
                  <a:lnTo>
                    <a:pt x="277" y="195"/>
                  </a:lnTo>
                  <a:lnTo>
                    <a:pt x="277" y="195"/>
                  </a:lnTo>
                  <a:lnTo>
                    <a:pt x="274" y="204"/>
                  </a:lnTo>
                  <a:lnTo>
                    <a:pt x="274" y="204"/>
                  </a:lnTo>
                  <a:lnTo>
                    <a:pt x="252" y="220"/>
                  </a:lnTo>
                  <a:lnTo>
                    <a:pt x="280" y="248"/>
                  </a:lnTo>
                  <a:lnTo>
                    <a:pt x="280" y="248"/>
                  </a:lnTo>
                  <a:lnTo>
                    <a:pt x="305" y="258"/>
                  </a:lnTo>
                  <a:lnTo>
                    <a:pt x="305" y="258"/>
                  </a:lnTo>
                  <a:lnTo>
                    <a:pt x="299" y="267"/>
                  </a:lnTo>
                  <a:lnTo>
                    <a:pt x="299" y="267"/>
                  </a:lnTo>
                  <a:lnTo>
                    <a:pt x="283" y="286"/>
                  </a:lnTo>
                  <a:lnTo>
                    <a:pt x="283" y="286"/>
                  </a:lnTo>
                  <a:lnTo>
                    <a:pt x="293" y="305"/>
                  </a:lnTo>
                  <a:lnTo>
                    <a:pt x="293" y="305"/>
                  </a:lnTo>
                  <a:lnTo>
                    <a:pt x="293" y="336"/>
                  </a:lnTo>
                  <a:lnTo>
                    <a:pt x="327" y="352"/>
                  </a:lnTo>
                  <a:lnTo>
                    <a:pt x="327" y="352"/>
                  </a:lnTo>
                  <a:lnTo>
                    <a:pt x="362" y="349"/>
                  </a:lnTo>
                  <a:lnTo>
                    <a:pt x="362" y="349"/>
                  </a:lnTo>
                  <a:lnTo>
                    <a:pt x="375" y="355"/>
                  </a:lnTo>
                  <a:lnTo>
                    <a:pt x="375" y="355"/>
                  </a:lnTo>
                  <a:lnTo>
                    <a:pt x="371" y="365"/>
                  </a:lnTo>
                  <a:lnTo>
                    <a:pt x="371" y="365"/>
                  </a:lnTo>
                  <a:lnTo>
                    <a:pt x="346" y="368"/>
                  </a:lnTo>
                  <a:lnTo>
                    <a:pt x="346" y="368"/>
                  </a:lnTo>
                  <a:lnTo>
                    <a:pt x="315" y="358"/>
                  </a:lnTo>
                  <a:lnTo>
                    <a:pt x="305" y="393"/>
                  </a:lnTo>
                  <a:lnTo>
                    <a:pt x="305" y="453"/>
                  </a:lnTo>
                  <a:lnTo>
                    <a:pt x="315" y="484"/>
                  </a:lnTo>
                  <a:lnTo>
                    <a:pt x="346" y="484"/>
                  </a:lnTo>
                  <a:lnTo>
                    <a:pt x="346" y="484"/>
                  </a:lnTo>
                  <a:lnTo>
                    <a:pt x="368" y="481"/>
                  </a:lnTo>
                  <a:lnTo>
                    <a:pt x="368" y="481"/>
                  </a:lnTo>
                  <a:lnTo>
                    <a:pt x="375" y="494"/>
                  </a:lnTo>
                  <a:lnTo>
                    <a:pt x="375" y="512"/>
                  </a:lnTo>
                  <a:lnTo>
                    <a:pt x="375" y="512"/>
                  </a:lnTo>
                  <a:lnTo>
                    <a:pt x="362" y="528"/>
                  </a:lnTo>
                  <a:lnTo>
                    <a:pt x="362" y="528"/>
                  </a:lnTo>
                  <a:lnTo>
                    <a:pt x="346" y="553"/>
                  </a:lnTo>
                  <a:lnTo>
                    <a:pt x="346" y="553"/>
                  </a:lnTo>
                  <a:lnTo>
                    <a:pt x="321" y="582"/>
                  </a:lnTo>
                  <a:lnTo>
                    <a:pt x="309" y="607"/>
                  </a:lnTo>
                  <a:lnTo>
                    <a:pt x="309" y="607"/>
                  </a:lnTo>
                  <a:lnTo>
                    <a:pt x="312" y="629"/>
                  </a:lnTo>
                  <a:lnTo>
                    <a:pt x="312" y="629"/>
                  </a:lnTo>
                  <a:lnTo>
                    <a:pt x="305" y="654"/>
                  </a:lnTo>
                  <a:lnTo>
                    <a:pt x="305" y="688"/>
                  </a:lnTo>
                  <a:lnTo>
                    <a:pt x="327" y="707"/>
                  </a:lnTo>
                  <a:lnTo>
                    <a:pt x="343" y="714"/>
                  </a:lnTo>
                  <a:lnTo>
                    <a:pt x="343" y="714"/>
                  </a:lnTo>
                  <a:lnTo>
                    <a:pt x="365" y="726"/>
                  </a:lnTo>
                  <a:lnTo>
                    <a:pt x="365" y="726"/>
                  </a:lnTo>
                  <a:lnTo>
                    <a:pt x="371" y="745"/>
                  </a:lnTo>
                  <a:lnTo>
                    <a:pt x="371" y="745"/>
                  </a:lnTo>
                  <a:lnTo>
                    <a:pt x="397" y="758"/>
                  </a:lnTo>
                  <a:lnTo>
                    <a:pt x="397" y="758"/>
                  </a:lnTo>
                  <a:lnTo>
                    <a:pt x="412" y="770"/>
                  </a:lnTo>
                  <a:lnTo>
                    <a:pt x="412" y="770"/>
                  </a:lnTo>
                  <a:lnTo>
                    <a:pt x="437" y="799"/>
                  </a:lnTo>
                  <a:lnTo>
                    <a:pt x="437" y="799"/>
                  </a:lnTo>
                  <a:lnTo>
                    <a:pt x="441" y="805"/>
                  </a:lnTo>
                  <a:lnTo>
                    <a:pt x="441" y="805"/>
                  </a:lnTo>
                  <a:lnTo>
                    <a:pt x="422" y="805"/>
                  </a:lnTo>
                  <a:lnTo>
                    <a:pt x="422" y="805"/>
                  </a:lnTo>
                  <a:lnTo>
                    <a:pt x="390" y="814"/>
                  </a:lnTo>
                  <a:lnTo>
                    <a:pt x="390" y="814"/>
                  </a:lnTo>
                  <a:lnTo>
                    <a:pt x="353" y="799"/>
                  </a:lnTo>
                  <a:lnTo>
                    <a:pt x="346" y="827"/>
                  </a:lnTo>
                  <a:lnTo>
                    <a:pt x="353" y="846"/>
                  </a:lnTo>
                  <a:lnTo>
                    <a:pt x="353" y="846"/>
                  </a:lnTo>
                  <a:lnTo>
                    <a:pt x="397" y="890"/>
                  </a:lnTo>
                  <a:lnTo>
                    <a:pt x="397" y="890"/>
                  </a:lnTo>
                  <a:lnTo>
                    <a:pt x="409" y="912"/>
                  </a:lnTo>
                  <a:lnTo>
                    <a:pt x="409" y="912"/>
                  </a:lnTo>
                  <a:lnTo>
                    <a:pt x="403" y="931"/>
                  </a:lnTo>
                  <a:lnTo>
                    <a:pt x="403" y="931"/>
                  </a:lnTo>
                  <a:lnTo>
                    <a:pt x="406" y="956"/>
                  </a:lnTo>
                  <a:lnTo>
                    <a:pt x="406" y="956"/>
                  </a:lnTo>
                  <a:lnTo>
                    <a:pt x="403" y="959"/>
                  </a:lnTo>
                  <a:lnTo>
                    <a:pt x="403" y="959"/>
                  </a:lnTo>
                  <a:lnTo>
                    <a:pt x="390" y="953"/>
                  </a:lnTo>
                  <a:lnTo>
                    <a:pt x="390" y="953"/>
                  </a:lnTo>
                  <a:lnTo>
                    <a:pt x="368" y="943"/>
                  </a:lnTo>
                  <a:lnTo>
                    <a:pt x="365" y="940"/>
                  </a:lnTo>
                  <a:lnTo>
                    <a:pt x="343" y="949"/>
                  </a:lnTo>
                  <a:lnTo>
                    <a:pt x="343" y="949"/>
                  </a:lnTo>
                  <a:lnTo>
                    <a:pt x="321" y="968"/>
                  </a:lnTo>
                  <a:lnTo>
                    <a:pt x="321" y="968"/>
                  </a:lnTo>
                  <a:lnTo>
                    <a:pt x="309" y="971"/>
                  </a:lnTo>
                  <a:lnTo>
                    <a:pt x="309" y="971"/>
                  </a:lnTo>
                  <a:lnTo>
                    <a:pt x="287" y="962"/>
                  </a:lnTo>
                  <a:lnTo>
                    <a:pt x="252" y="968"/>
                  </a:lnTo>
                  <a:lnTo>
                    <a:pt x="239" y="997"/>
                  </a:lnTo>
                  <a:lnTo>
                    <a:pt x="239" y="997"/>
                  </a:lnTo>
                  <a:lnTo>
                    <a:pt x="265" y="1012"/>
                  </a:lnTo>
                  <a:lnTo>
                    <a:pt x="265" y="1012"/>
                  </a:lnTo>
                  <a:lnTo>
                    <a:pt x="280" y="1031"/>
                  </a:lnTo>
                  <a:lnTo>
                    <a:pt x="280" y="1031"/>
                  </a:lnTo>
                  <a:lnTo>
                    <a:pt x="277" y="1047"/>
                  </a:lnTo>
                  <a:lnTo>
                    <a:pt x="255" y="1047"/>
                  </a:lnTo>
                  <a:lnTo>
                    <a:pt x="255" y="1047"/>
                  </a:lnTo>
                  <a:lnTo>
                    <a:pt x="227" y="1037"/>
                  </a:lnTo>
                  <a:lnTo>
                    <a:pt x="227" y="1037"/>
                  </a:lnTo>
                  <a:lnTo>
                    <a:pt x="211" y="1050"/>
                  </a:lnTo>
                  <a:lnTo>
                    <a:pt x="211" y="1050"/>
                  </a:lnTo>
                  <a:lnTo>
                    <a:pt x="180" y="1063"/>
                  </a:lnTo>
                  <a:lnTo>
                    <a:pt x="164" y="1088"/>
                  </a:lnTo>
                  <a:lnTo>
                    <a:pt x="164" y="1088"/>
                  </a:lnTo>
                  <a:lnTo>
                    <a:pt x="176" y="1135"/>
                  </a:lnTo>
                  <a:lnTo>
                    <a:pt x="176" y="1135"/>
                  </a:lnTo>
                  <a:lnTo>
                    <a:pt x="158" y="1141"/>
                  </a:lnTo>
                  <a:lnTo>
                    <a:pt x="158" y="1141"/>
                  </a:lnTo>
                  <a:lnTo>
                    <a:pt x="139" y="1147"/>
                  </a:lnTo>
                  <a:lnTo>
                    <a:pt x="136" y="1151"/>
                  </a:lnTo>
                  <a:lnTo>
                    <a:pt x="136" y="1151"/>
                  </a:lnTo>
                  <a:lnTo>
                    <a:pt x="136" y="1179"/>
                  </a:lnTo>
                  <a:lnTo>
                    <a:pt x="136" y="1179"/>
                  </a:lnTo>
                  <a:lnTo>
                    <a:pt x="123" y="1213"/>
                  </a:lnTo>
                  <a:lnTo>
                    <a:pt x="145" y="1245"/>
                  </a:lnTo>
                  <a:lnTo>
                    <a:pt x="145" y="1245"/>
                  </a:lnTo>
                  <a:lnTo>
                    <a:pt x="164" y="1264"/>
                  </a:lnTo>
                  <a:lnTo>
                    <a:pt x="164" y="1264"/>
                  </a:lnTo>
                  <a:lnTo>
                    <a:pt x="158" y="1283"/>
                  </a:lnTo>
                  <a:lnTo>
                    <a:pt x="158" y="1283"/>
                  </a:lnTo>
                  <a:lnTo>
                    <a:pt x="136" y="1283"/>
                  </a:lnTo>
                  <a:lnTo>
                    <a:pt x="110" y="1292"/>
                  </a:lnTo>
                  <a:lnTo>
                    <a:pt x="104" y="1330"/>
                  </a:lnTo>
                  <a:lnTo>
                    <a:pt x="104" y="1330"/>
                  </a:lnTo>
                  <a:lnTo>
                    <a:pt x="92" y="1323"/>
                  </a:lnTo>
                  <a:lnTo>
                    <a:pt x="92" y="1323"/>
                  </a:lnTo>
                  <a:lnTo>
                    <a:pt x="73" y="1301"/>
                  </a:lnTo>
                  <a:lnTo>
                    <a:pt x="10" y="1257"/>
                  </a:lnTo>
                  <a:lnTo>
                    <a:pt x="0" y="1270"/>
                  </a:lnTo>
                  <a:lnTo>
                    <a:pt x="0" y="1270"/>
                  </a:lnTo>
                  <a:lnTo>
                    <a:pt x="60" y="1314"/>
                  </a:lnTo>
                  <a:lnTo>
                    <a:pt x="60" y="1314"/>
                  </a:lnTo>
                  <a:lnTo>
                    <a:pt x="82" y="1336"/>
                  </a:lnTo>
                  <a:lnTo>
                    <a:pt x="151" y="1377"/>
                  </a:lnTo>
                  <a:lnTo>
                    <a:pt x="151" y="1377"/>
                  </a:lnTo>
                  <a:lnTo>
                    <a:pt x="183" y="1339"/>
                  </a:lnTo>
                  <a:lnTo>
                    <a:pt x="183" y="1339"/>
                  </a:lnTo>
                  <a:lnTo>
                    <a:pt x="205" y="1342"/>
                  </a:lnTo>
                  <a:lnTo>
                    <a:pt x="205" y="1342"/>
                  </a:lnTo>
                  <a:lnTo>
                    <a:pt x="189" y="1402"/>
                  </a:lnTo>
                  <a:lnTo>
                    <a:pt x="189" y="1402"/>
                  </a:lnTo>
                  <a:lnTo>
                    <a:pt x="290" y="1512"/>
                  </a:lnTo>
                  <a:lnTo>
                    <a:pt x="290" y="1512"/>
                  </a:lnTo>
                  <a:lnTo>
                    <a:pt x="287" y="1544"/>
                  </a:lnTo>
                  <a:lnTo>
                    <a:pt x="353" y="1591"/>
                  </a:lnTo>
                  <a:lnTo>
                    <a:pt x="353" y="1591"/>
                  </a:lnTo>
                  <a:lnTo>
                    <a:pt x="387" y="1572"/>
                  </a:lnTo>
                  <a:lnTo>
                    <a:pt x="387" y="1572"/>
                  </a:lnTo>
                  <a:lnTo>
                    <a:pt x="419" y="1578"/>
                  </a:lnTo>
                  <a:lnTo>
                    <a:pt x="419" y="1578"/>
                  </a:lnTo>
                  <a:lnTo>
                    <a:pt x="431" y="1603"/>
                  </a:lnTo>
                  <a:lnTo>
                    <a:pt x="431" y="1603"/>
                  </a:lnTo>
                  <a:lnTo>
                    <a:pt x="400" y="1679"/>
                  </a:lnTo>
                  <a:lnTo>
                    <a:pt x="415" y="1685"/>
                  </a:lnTo>
                  <a:lnTo>
                    <a:pt x="447" y="1603"/>
                  </a:lnTo>
                  <a:lnTo>
                    <a:pt x="428" y="1562"/>
                  </a:lnTo>
                  <a:lnTo>
                    <a:pt x="384" y="1553"/>
                  </a:lnTo>
                  <a:lnTo>
                    <a:pt x="384" y="1553"/>
                  </a:lnTo>
                  <a:lnTo>
                    <a:pt x="384" y="1553"/>
                  </a:lnTo>
                  <a:lnTo>
                    <a:pt x="384" y="1553"/>
                  </a:lnTo>
                  <a:lnTo>
                    <a:pt x="381" y="1544"/>
                  </a:lnTo>
                  <a:lnTo>
                    <a:pt x="381" y="1544"/>
                  </a:lnTo>
                  <a:lnTo>
                    <a:pt x="384" y="1512"/>
                  </a:lnTo>
                  <a:lnTo>
                    <a:pt x="375" y="1493"/>
                  </a:lnTo>
                  <a:lnTo>
                    <a:pt x="362" y="1490"/>
                  </a:lnTo>
                  <a:lnTo>
                    <a:pt x="362" y="1490"/>
                  </a:lnTo>
                  <a:lnTo>
                    <a:pt x="353" y="1503"/>
                  </a:lnTo>
                  <a:lnTo>
                    <a:pt x="353" y="1503"/>
                  </a:lnTo>
                  <a:lnTo>
                    <a:pt x="346" y="1493"/>
                  </a:lnTo>
                  <a:lnTo>
                    <a:pt x="346" y="1493"/>
                  </a:lnTo>
                  <a:lnTo>
                    <a:pt x="340" y="1468"/>
                  </a:lnTo>
                  <a:lnTo>
                    <a:pt x="340" y="1468"/>
                  </a:lnTo>
                  <a:lnTo>
                    <a:pt x="321" y="1452"/>
                  </a:lnTo>
                  <a:lnTo>
                    <a:pt x="321" y="1452"/>
                  </a:lnTo>
                  <a:lnTo>
                    <a:pt x="315" y="1430"/>
                  </a:lnTo>
                  <a:lnTo>
                    <a:pt x="315" y="1430"/>
                  </a:lnTo>
                  <a:lnTo>
                    <a:pt x="302" y="1418"/>
                  </a:lnTo>
                  <a:lnTo>
                    <a:pt x="302" y="1418"/>
                  </a:lnTo>
                  <a:lnTo>
                    <a:pt x="327" y="1427"/>
                  </a:lnTo>
                  <a:lnTo>
                    <a:pt x="368" y="1427"/>
                  </a:lnTo>
                  <a:lnTo>
                    <a:pt x="397" y="1415"/>
                  </a:lnTo>
                  <a:lnTo>
                    <a:pt x="397" y="1415"/>
                  </a:lnTo>
                  <a:lnTo>
                    <a:pt x="397" y="1386"/>
                  </a:lnTo>
                  <a:lnTo>
                    <a:pt x="397" y="1386"/>
                  </a:lnTo>
                  <a:lnTo>
                    <a:pt x="412" y="1377"/>
                  </a:lnTo>
                  <a:lnTo>
                    <a:pt x="412" y="1377"/>
                  </a:lnTo>
                  <a:lnTo>
                    <a:pt x="415" y="1352"/>
                  </a:lnTo>
                  <a:lnTo>
                    <a:pt x="415" y="1352"/>
                  </a:lnTo>
                  <a:lnTo>
                    <a:pt x="437" y="1330"/>
                  </a:lnTo>
                  <a:lnTo>
                    <a:pt x="437" y="1330"/>
                  </a:lnTo>
                  <a:lnTo>
                    <a:pt x="450" y="1298"/>
                  </a:lnTo>
                  <a:lnTo>
                    <a:pt x="469" y="1298"/>
                  </a:lnTo>
                  <a:lnTo>
                    <a:pt x="469" y="1298"/>
                  </a:lnTo>
                  <a:lnTo>
                    <a:pt x="472" y="1311"/>
                  </a:lnTo>
                  <a:lnTo>
                    <a:pt x="472" y="1311"/>
                  </a:lnTo>
                  <a:lnTo>
                    <a:pt x="447" y="1323"/>
                  </a:lnTo>
                  <a:lnTo>
                    <a:pt x="472" y="1358"/>
                  </a:lnTo>
                  <a:lnTo>
                    <a:pt x="472" y="1358"/>
                  </a:lnTo>
                  <a:lnTo>
                    <a:pt x="497" y="1349"/>
                  </a:lnTo>
                  <a:lnTo>
                    <a:pt x="497" y="1349"/>
                  </a:lnTo>
                  <a:lnTo>
                    <a:pt x="532" y="1352"/>
                  </a:lnTo>
                  <a:lnTo>
                    <a:pt x="532" y="1352"/>
                  </a:lnTo>
                  <a:lnTo>
                    <a:pt x="554" y="1339"/>
                  </a:lnTo>
                  <a:lnTo>
                    <a:pt x="554" y="1339"/>
                  </a:lnTo>
                  <a:lnTo>
                    <a:pt x="569" y="1355"/>
                  </a:lnTo>
                  <a:lnTo>
                    <a:pt x="569" y="1355"/>
                  </a:lnTo>
                  <a:lnTo>
                    <a:pt x="576" y="1383"/>
                  </a:lnTo>
                  <a:lnTo>
                    <a:pt x="576" y="1383"/>
                  </a:lnTo>
                  <a:lnTo>
                    <a:pt x="588" y="1408"/>
                  </a:lnTo>
                  <a:lnTo>
                    <a:pt x="591" y="1415"/>
                  </a:lnTo>
                  <a:lnTo>
                    <a:pt x="591" y="1415"/>
                  </a:lnTo>
                  <a:lnTo>
                    <a:pt x="626" y="1415"/>
                  </a:lnTo>
                  <a:lnTo>
                    <a:pt x="626" y="1415"/>
                  </a:lnTo>
                  <a:lnTo>
                    <a:pt x="648" y="1456"/>
                  </a:lnTo>
                  <a:lnTo>
                    <a:pt x="648" y="1456"/>
                  </a:lnTo>
                  <a:lnTo>
                    <a:pt x="679" y="1443"/>
                  </a:lnTo>
                  <a:lnTo>
                    <a:pt x="679" y="1443"/>
                  </a:lnTo>
                  <a:lnTo>
                    <a:pt x="679" y="1452"/>
                  </a:lnTo>
                  <a:lnTo>
                    <a:pt x="679" y="1452"/>
                  </a:lnTo>
                  <a:lnTo>
                    <a:pt x="657" y="1478"/>
                  </a:lnTo>
                  <a:lnTo>
                    <a:pt x="664" y="1509"/>
                  </a:lnTo>
                  <a:lnTo>
                    <a:pt x="664" y="1509"/>
                  </a:lnTo>
                  <a:lnTo>
                    <a:pt x="683" y="1522"/>
                  </a:lnTo>
                  <a:lnTo>
                    <a:pt x="683" y="1522"/>
                  </a:lnTo>
                  <a:lnTo>
                    <a:pt x="673" y="1566"/>
                  </a:lnTo>
                  <a:lnTo>
                    <a:pt x="708" y="1594"/>
                  </a:lnTo>
                  <a:lnTo>
                    <a:pt x="736" y="1566"/>
                  </a:lnTo>
                  <a:lnTo>
                    <a:pt x="736" y="1566"/>
                  </a:lnTo>
                  <a:lnTo>
                    <a:pt x="733" y="1525"/>
                  </a:lnTo>
                  <a:lnTo>
                    <a:pt x="733" y="1525"/>
                  </a:lnTo>
                  <a:lnTo>
                    <a:pt x="739" y="1506"/>
                  </a:lnTo>
                  <a:lnTo>
                    <a:pt x="739" y="1506"/>
                  </a:lnTo>
                  <a:lnTo>
                    <a:pt x="771" y="1487"/>
                  </a:lnTo>
                  <a:lnTo>
                    <a:pt x="771" y="1487"/>
                  </a:lnTo>
                  <a:lnTo>
                    <a:pt x="805" y="1484"/>
                  </a:lnTo>
                  <a:lnTo>
                    <a:pt x="805" y="1484"/>
                  </a:lnTo>
                  <a:lnTo>
                    <a:pt x="821" y="1465"/>
                  </a:lnTo>
                  <a:lnTo>
                    <a:pt x="821" y="1465"/>
                  </a:lnTo>
                  <a:lnTo>
                    <a:pt x="840" y="1471"/>
                  </a:lnTo>
                  <a:lnTo>
                    <a:pt x="868" y="1474"/>
                  </a:lnTo>
                  <a:lnTo>
                    <a:pt x="893" y="1456"/>
                  </a:lnTo>
                  <a:lnTo>
                    <a:pt x="893" y="1456"/>
                  </a:lnTo>
                  <a:lnTo>
                    <a:pt x="909" y="1437"/>
                  </a:lnTo>
                  <a:lnTo>
                    <a:pt x="909" y="1437"/>
                  </a:lnTo>
                  <a:lnTo>
                    <a:pt x="950" y="1434"/>
                  </a:lnTo>
                  <a:lnTo>
                    <a:pt x="950" y="1434"/>
                  </a:lnTo>
                  <a:lnTo>
                    <a:pt x="991" y="1424"/>
                  </a:lnTo>
                  <a:lnTo>
                    <a:pt x="991" y="1424"/>
                  </a:lnTo>
                  <a:lnTo>
                    <a:pt x="1032" y="1427"/>
                  </a:lnTo>
                  <a:lnTo>
                    <a:pt x="1032" y="1427"/>
                  </a:lnTo>
                  <a:lnTo>
                    <a:pt x="1038" y="1399"/>
                  </a:lnTo>
                  <a:lnTo>
                    <a:pt x="1038" y="1399"/>
                  </a:lnTo>
                  <a:lnTo>
                    <a:pt x="1060" y="1405"/>
                  </a:lnTo>
                  <a:lnTo>
                    <a:pt x="1101" y="1408"/>
                  </a:lnTo>
                  <a:lnTo>
                    <a:pt x="1101" y="1408"/>
                  </a:lnTo>
                  <a:lnTo>
                    <a:pt x="1120" y="1396"/>
                  </a:lnTo>
                  <a:lnTo>
                    <a:pt x="1120" y="1396"/>
                  </a:lnTo>
                  <a:lnTo>
                    <a:pt x="1138" y="1408"/>
                  </a:lnTo>
                  <a:lnTo>
                    <a:pt x="1176" y="1408"/>
                  </a:lnTo>
                  <a:lnTo>
                    <a:pt x="1176" y="1408"/>
                  </a:lnTo>
                  <a:lnTo>
                    <a:pt x="1182" y="1380"/>
                  </a:lnTo>
                  <a:lnTo>
                    <a:pt x="1182" y="1380"/>
                  </a:lnTo>
                  <a:lnTo>
                    <a:pt x="1214" y="1352"/>
                  </a:lnTo>
                  <a:lnTo>
                    <a:pt x="1214" y="1314"/>
                  </a:lnTo>
                  <a:lnTo>
                    <a:pt x="1214" y="1314"/>
                  </a:lnTo>
                  <a:lnTo>
                    <a:pt x="1186" y="1301"/>
                  </a:lnTo>
                  <a:lnTo>
                    <a:pt x="1186" y="1301"/>
                  </a:lnTo>
                  <a:lnTo>
                    <a:pt x="1189" y="1261"/>
                  </a:lnTo>
                  <a:lnTo>
                    <a:pt x="1189" y="1261"/>
                  </a:lnTo>
                  <a:lnTo>
                    <a:pt x="1170" y="1251"/>
                  </a:lnTo>
                  <a:lnTo>
                    <a:pt x="1170" y="1251"/>
                  </a:lnTo>
                  <a:lnTo>
                    <a:pt x="1164" y="1226"/>
                  </a:lnTo>
                  <a:lnTo>
                    <a:pt x="1164" y="1226"/>
                  </a:lnTo>
                  <a:lnTo>
                    <a:pt x="1173" y="1207"/>
                  </a:lnTo>
                  <a:lnTo>
                    <a:pt x="1173" y="1207"/>
                  </a:lnTo>
                  <a:lnTo>
                    <a:pt x="1198" y="1213"/>
                  </a:lnTo>
                  <a:lnTo>
                    <a:pt x="1239" y="1201"/>
                  </a:lnTo>
                  <a:lnTo>
                    <a:pt x="1258" y="1173"/>
                  </a:lnTo>
                  <a:lnTo>
                    <a:pt x="1258" y="1173"/>
                  </a:lnTo>
                  <a:lnTo>
                    <a:pt x="1264" y="1157"/>
                  </a:lnTo>
                  <a:lnTo>
                    <a:pt x="1264" y="1157"/>
                  </a:lnTo>
                  <a:lnTo>
                    <a:pt x="1280" y="1132"/>
                  </a:lnTo>
                  <a:lnTo>
                    <a:pt x="1280" y="1132"/>
                  </a:lnTo>
                  <a:lnTo>
                    <a:pt x="1302" y="1119"/>
                  </a:lnTo>
                  <a:lnTo>
                    <a:pt x="1308" y="1078"/>
                  </a:lnTo>
                  <a:lnTo>
                    <a:pt x="1283" y="1056"/>
                  </a:lnTo>
                  <a:close/>
                  <a:moveTo>
                    <a:pt x="1286" y="1110"/>
                  </a:moveTo>
                  <a:lnTo>
                    <a:pt x="1286" y="1110"/>
                  </a:lnTo>
                  <a:lnTo>
                    <a:pt x="1271" y="1122"/>
                  </a:lnTo>
                  <a:lnTo>
                    <a:pt x="1252" y="1147"/>
                  </a:lnTo>
                  <a:lnTo>
                    <a:pt x="1252" y="1147"/>
                  </a:lnTo>
                  <a:lnTo>
                    <a:pt x="1242" y="1166"/>
                  </a:lnTo>
                  <a:lnTo>
                    <a:pt x="1242" y="1166"/>
                  </a:lnTo>
                  <a:lnTo>
                    <a:pt x="1227" y="1188"/>
                  </a:lnTo>
                  <a:lnTo>
                    <a:pt x="1227" y="1188"/>
                  </a:lnTo>
                  <a:lnTo>
                    <a:pt x="1198" y="1198"/>
                  </a:lnTo>
                  <a:lnTo>
                    <a:pt x="1198" y="1198"/>
                  </a:lnTo>
                  <a:lnTo>
                    <a:pt x="1164" y="1188"/>
                  </a:lnTo>
                  <a:lnTo>
                    <a:pt x="1145" y="1223"/>
                  </a:lnTo>
                  <a:lnTo>
                    <a:pt x="1154" y="1261"/>
                  </a:lnTo>
                  <a:lnTo>
                    <a:pt x="1154" y="1261"/>
                  </a:lnTo>
                  <a:lnTo>
                    <a:pt x="1170" y="1270"/>
                  </a:lnTo>
                  <a:lnTo>
                    <a:pt x="1170" y="1270"/>
                  </a:lnTo>
                  <a:lnTo>
                    <a:pt x="1167" y="1311"/>
                  </a:lnTo>
                  <a:lnTo>
                    <a:pt x="1167" y="1311"/>
                  </a:lnTo>
                  <a:lnTo>
                    <a:pt x="1195" y="1323"/>
                  </a:lnTo>
                  <a:lnTo>
                    <a:pt x="1195" y="1345"/>
                  </a:lnTo>
                  <a:lnTo>
                    <a:pt x="1195" y="1345"/>
                  </a:lnTo>
                  <a:lnTo>
                    <a:pt x="1170" y="1374"/>
                  </a:lnTo>
                  <a:lnTo>
                    <a:pt x="1170" y="1374"/>
                  </a:lnTo>
                  <a:lnTo>
                    <a:pt x="1164" y="1393"/>
                  </a:lnTo>
                  <a:lnTo>
                    <a:pt x="1142" y="1393"/>
                  </a:lnTo>
                  <a:lnTo>
                    <a:pt x="1142" y="1393"/>
                  </a:lnTo>
                  <a:lnTo>
                    <a:pt x="1120" y="1374"/>
                  </a:lnTo>
                  <a:lnTo>
                    <a:pt x="1120" y="1374"/>
                  </a:lnTo>
                  <a:lnTo>
                    <a:pt x="1094" y="1393"/>
                  </a:lnTo>
                  <a:lnTo>
                    <a:pt x="1094" y="1393"/>
                  </a:lnTo>
                  <a:lnTo>
                    <a:pt x="1063" y="1389"/>
                  </a:lnTo>
                  <a:lnTo>
                    <a:pt x="1063" y="1389"/>
                  </a:lnTo>
                  <a:lnTo>
                    <a:pt x="1028" y="1377"/>
                  </a:lnTo>
                  <a:lnTo>
                    <a:pt x="1028" y="1377"/>
                  </a:lnTo>
                  <a:lnTo>
                    <a:pt x="1019" y="1411"/>
                  </a:lnTo>
                  <a:lnTo>
                    <a:pt x="1019" y="1411"/>
                  </a:lnTo>
                  <a:lnTo>
                    <a:pt x="991" y="1408"/>
                  </a:lnTo>
                  <a:lnTo>
                    <a:pt x="991" y="1408"/>
                  </a:lnTo>
                  <a:lnTo>
                    <a:pt x="947" y="1418"/>
                  </a:lnTo>
                  <a:lnTo>
                    <a:pt x="947" y="1418"/>
                  </a:lnTo>
                  <a:lnTo>
                    <a:pt x="906" y="1421"/>
                  </a:lnTo>
                  <a:lnTo>
                    <a:pt x="903" y="1421"/>
                  </a:lnTo>
                  <a:lnTo>
                    <a:pt x="881" y="1443"/>
                  </a:lnTo>
                  <a:lnTo>
                    <a:pt x="881" y="1443"/>
                  </a:lnTo>
                  <a:lnTo>
                    <a:pt x="865" y="1456"/>
                  </a:lnTo>
                  <a:lnTo>
                    <a:pt x="865" y="1456"/>
                  </a:lnTo>
                  <a:lnTo>
                    <a:pt x="843" y="1456"/>
                  </a:lnTo>
                  <a:lnTo>
                    <a:pt x="843" y="1456"/>
                  </a:lnTo>
                  <a:lnTo>
                    <a:pt x="818" y="1446"/>
                  </a:lnTo>
                  <a:lnTo>
                    <a:pt x="818" y="1446"/>
                  </a:lnTo>
                  <a:lnTo>
                    <a:pt x="799" y="1468"/>
                  </a:lnTo>
                  <a:lnTo>
                    <a:pt x="799" y="1468"/>
                  </a:lnTo>
                  <a:lnTo>
                    <a:pt x="764" y="1471"/>
                  </a:lnTo>
                  <a:lnTo>
                    <a:pt x="727" y="1496"/>
                  </a:lnTo>
                  <a:lnTo>
                    <a:pt x="714" y="1522"/>
                  </a:lnTo>
                  <a:lnTo>
                    <a:pt x="714" y="1522"/>
                  </a:lnTo>
                  <a:lnTo>
                    <a:pt x="717" y="1559"/>
                  </a:lnTo>
                  <a:lnTo>
                    <a:pt x="717" y="1559"/>
                  </a:lnTo>
                  <a:lnTo>
                    <a:pt x="705" y="1572"/>
                  </a:lnTo>
                  <a:lnTo>
                    <a:pt x="705" y="1572"/>
                  </a:lnTo>
                  <a:lnTo>
                    <a:pt x="689" y="1559"/>
                  </a:lnTo>
                  <a:lnTo>
                    <a:pt x="689" y="1559"/>
                  </a:lnTo>
                  <a:lnTo>
                    <a:pt x="702" y="1515"/>
                  </a:lnTo>
                  <a:lnTo>
                    <a:pt x="702" y="1515"/>
                  </a:lnTo>
                  <a:lnTo>
                    <a:pt x="676" y="1500"/>
                  </a:lnTo>
                  <a:lnTo>
                    <a:pt x="676" y="1500"/>
                  </a:lnTo>
                  <a:lnTo>
                    <a:pt x="676" y="1484"/>
                  </a:lnTo>
                  <a:lnTo>
                    <a:pt x="676" y="1484"/>
                  </a:lnTo>
                  <a:lnTo>
                    <a:pt x="695" y="1459"/>
                  </a:lnTo>
                  <a:lnTo>
                    <a:pt x="692" y="1424"/>
                  </a:lnTo>
                  <a:lnTo>
                    <a:pt x="692" y="1424"/>
                  </a:lnTo>
                  <a:lnTo>
                    <a:pt x="657" y="1434"/>
                  </a:lnTo>
                  <a:lnTo>
                    <a:pt x="657" y="1434"/>
                  </a:lnTo>
                  <a:lnTo>
                    <a:pt x="635" y="1396"/>
                  </a:lnTo>
                  <a:lnTo>
                    <a:pt x="635" y="1396"/>
                  </a:lnTo>
                  <a:lnTo>
                    <a:pt x="601" y="1396"/>
                  </a:lnTo>
                  <a:lnTo>
                    <a:pt x="601" y="1396"/>
                  </a:lnTo>
                  <a:lnTo>
                    <a:pt x="591" y="1377"/>
                  </a:lnTo>
                  <a:lnTo>
                    <a:pt x="591" y="1377"/>
                  </a:lnTo>
                  <a:lnTo>
                    <a:pt x="585" y="1349"/>
                  </a:lnTo>
                  <a:lnTo>
                    <a:pt x="585" y="1349"/>
                  </a:lnTo>
                  <a:lnTo>
                    <a:pt x="557" y="1320"/>
                  </a:lnTo>
                  <a:lnTo>
                    <a:pt x="557" y="1320"/>
                  </a:lnTo>
                  <a:lnTo>
                    <a:pt x="529" y="1336"/>
                  </a:lnTo>
                  <a:lnTo>
                    <a:pt x="529" y="1336"/>
                  </a:lnTo>
                  <a:lnTo>
                    <a:pt x="494" y="1333"/>
                  </a:lnTo>
                  <a:lnTo>
                    <a:pt x="494" y="1333"/>
                  </a:lnTo>
                  <a:lnTo>
                    <a:pt x="478" y="1339"/>
                  </a:lnTo>
                  <a:lnTo>
                    <a:pt x="478" y="1339"/>
                  </a:lnTo>
                  <a:lnTo>
                    <a:pt x="472" y="1330"/>
                  </a:lnTo>
                  <a:lnTo>
                    <a:pt x="472" y="1330"/>
                  </a:lnTo>
                  <a:lnTo>
                    <a:pt x="491" y="1320"/>
                  </a:lnTo>
                  <a:lnTo>
                    <a:pt x="481" y="1283"/>
                  </a:lnTo>
                  <a:lnTo>
                    <a:pt x="437" y="1283"/>
                  </a:lnTo>
                  <a:lnTo>
                    <a:pt x="437" y="1283"/>
                  </a:lnTo>
                  <a:lnTo>
                    <a:pt x="425" y="1323"/>
                  </a:lnTo>
                  <a:lnTo>
                    <a:pt x="425" y="1323"/>
                  </a:lnTo>
                  <a:lnTo>
                    <a:pt x="400" y="1342"/>
                  </a:lnTo>
                  <a:lnTo>
                    <a:pt x="400" y="1342"/>
                  </a:lnTo>
                  <a:lnTo>
                    <a:pt x="397" y="1367"/>
                  </a:lnTo>
                  <a:lnTo>
                    <a:pt x="397" y="1367"/>
                  </a:lnTo>
                  <a:lnTo>
                    <a:pt x="381" y="1380"/>
                  </a:lnTo>
                  <a:lnTo>
                    <a:pt x="381" y="1380"/>
                  </a:lnTo>
                  <a:lnTo>
                    <a:pt x="381" y="1402"/>
                  </a:lnTo>
                  <a:lnTo>
                    <a:pt x="381" y="1402"/>
                  </a:lnTo>
                  <a:lnTo>
                    <a:pt x="365" y="1411"/>
                  </a:lnTo>
                  <a:lnTo>
                    <a:pt x="331" y="1411"/>
                  </a:lnTo>
                  <a:lnTo>
                    <a:pt x="331" y="1411"/>
                  </a:lnTo>
                  <a:lnTo>
                    <a:pt x="299" y="1399"/>
                  </a:lnTo>
                  <a:lnTo>
                    <a:pt x="271" y="1415"/>
                  </a:lnTo>
                  <a:lnTo>
                    <a:pt x="271" y="1415"/>
                  </a:lnTo>
                  <a:lnTo>
                    <a:pt x="299" y="1437"/>
                  </a:lnTo>
                  <a:lnTo>
                    <a:pt x="299" y="1437"/>
                  </a:lnTo>
                  <a:lnTo>
                    <a:pt x="309" y="1462"/>
                  </a:lnTo>
                  <a:lnTo>
                    <a:pt x="309" y="1462"/>
                  </a:lnTo>
                  <a:lnTo>
                    <a:pt x="324" y="1478"/>
                  </a:lnTo>
                  <a:lnTo>
                    <a:pt x="324" y="1478"/>
                  </a:lnTo>
                  <a:lnTo>
                    <a:pt x="331" y="1503"/>
                  </a:lnTo>
                  <a:lnTo>
                    <a:pt x="353" y="1528"/>
                  </a:lnTo>
                  <a:lnTo>
                    <a:pt x="353" y="1528"/>
                  </a:lnTo>
                  <a:lnTo>
                    <a:pt x="365" y="1512"/>
                  </a:lnTo>
                  <a:lnTo>
                    <a:pt x="365" y="1512"/>
                  </a:lnTo>
                  <a:lnTo>
                    <a:pt x="365" y="1512"/>
                  </a:lnTo>
                  <a:lnTo>
                    <a:pt x="365" y="1512"/>
                  </a:lnTo>
                  <a:lnTo>
                    <a:pt x="368" y="1522"/>
                  </a:lnTo>
                  <a:lnTo>
                    <a:pt x="368" y="1534"/>
                  </a:lnTo>
                  <a:lnTo>
                    <a:pt x="362" y="1544"/>
                  </a:lnTo>
                  <a:lnTo>
                    <a:pt x="368" y="1562"/>
                  </a:lnTo>
                  <a:lnTo>
                    <a:pt x="368" y="1562"/>
                  </a:lnTo>
                  <a:lnTo>
                    <a:pt x="353" y="1569"/>
                  </a:lnTo>
                  <a:lnTo>
                    <a:pt x="353" y="1569"/>
                  </a:lnTo>
                  <a:lnTo>
                    <a:pt x="305" y="1534"/>
                  </a:lnTo>
                  <a:lnTo>
                    <a:pt x="305" y="1534"/>
                  </a:lnTo>
                  <a:lnTo>
                    <a:pt x="305" y="1506"/>
                  </a:lnTo>
                  <a:lnTo>
                    <a:pt x="305" y="1506"/>
                  </a:lnTo>
                  <a:lnTo>
                    <a:pt x="208" y="1399"/>
                  </a:lnTo>
                  <a:lnTo>
                    <a:pt x="208" y="1399"/>
                  </a:lnTo>
                  <a:lnTo>
                    <a:pt x="224" y="1330"/>
                  </a:lnTo>
                  <a:lnTo>
                    <a:pt x="176" y="1320"/>
                  </a:lnTo>
                  <a:lnTo>
                    <a:pt x="176" y="1320"/>
                  </a:lnTo>
                  <a:lnTo>
                    <a:pt x="148" y="1355"/>
                  </a:lnTo>
                  <a:lnTo>
                    <a:pt x="148" y="1355"/>
                  </a:lnTo>
                  <a:lnTo>
                    <a:pt x="120" y="1339"/>
                  </a:lnTo>
                  <a:lnTo>
                    <a:pt x="120" y="1339"/>
                  </a:lnTo>
                  <a:lnTo>
                    <a:pt x="126" y="1305"/>
                  </a:lnTo>
                  <a:lnTo>
                    <a:pt x="126" y="1305"/>
                  </a:lnTo>
                  <a:lnTo>
                    <a:pt x="139" y="1298"/>
                  </a:lnTo>
                  <a:lnTo>
                    <a:pt x="139" y="1298"/>
                  </a:lnTo>
                  <a:lnTo>
                    <a:pt x="170" y="1298"/>
                  </a:lnTo>
                  <a:lnTo>
                    <a:pt x="180" y="1261"/>
                  </a:lnTo>
                  <a:lnTo>
                    <a:pt x="180" y="1261"/>
                  </a:lnTo>
                  <a:lnTo>
                    <a:pt x="158" y="1235"/>
                  </a:lnTo>
                  <a:lnTo>
                    <a:pt x="158" y="1235"/>
                  </a:lnTo>
                  <a:lnTo>
                    <a:pt x="142" y="1210"/>
                  </a:lnTo>
                  <a:lnTo>
                    <a:pt x="142" y="1210"/>
                  </a:lnTo>
                  <a:lnTo>
                    <a:pt x="151" y="1182"/>
                  </a:lnTo>
                  <a:lnTo>
                    <a:pt x="151" y="1182"/>
                  </a:lnTo>
                  <a:lnTo>
                    <a:pt x="151" y="1160"/>
                  </a:lnTo>
                  <a:lnTo>
                    <a:pt x="151" y="1160"/>
                  </a:lnTo>
                  <a:lnTo>
                    <a:pt x="164" y="1157"/>
                  </a:lnTo>
                  <a:lnTo>
                    <a:pt x="164" y="1157"/>
                  </a:lnTo>
                  <a:lnTo>
                    <a:pt x="195" y="1141"/>
                  </a:lnTo>
                  <a:lnTo>
                    <a:pt x="195" y="1141"/>
                  </a:lnTo>
                  <a:lnTo>
                    <a:pt x="180" y="1091"/>
                  </a:lnTo>
                  <a:lnTo>
                    <a:pt x="180" y="1091"/>
                  </a:lnTo>
                  <a:lnTo>
                    <a:pt x="192" y="1078"/>
                  </a:lnTo>
                  <a:lnTo>
                    <a:pt x="192" y="1078"/>
                  </a:lnTo>
                  <a:lnTo>
                    <a:pt x="217" y="1063"/>
                  </a:lnTo>
                  <a:lnTo>
                    <a:pt x="217" y="1063"/>
                  </a:lnTo>
                  <a:lnTo>
                    <a:pt x="230" y="1056"/>
                  </a:lnTo>
                  <a:lnTo>
                    <a:pt x="230" y="1056"/>
                  </a:lnTo>
                  <a:lnTo>
                    <a:pt x="252" y="1066"/>
                  </a:lnTo>
                  <a:lnTo>
                    <a:pt x="293" y="1066"/>
                  </a:lnTo>
                  <a:lnTo>
                    <a:pt x="299" y="1025"/>
                  </a:lnTo>
                  <a:lnTo>
                    <a:pt x="277" y="1000"/>
                  </a:lnTo>
                  <a:lnTo>
                    <a:pt x="277" y="1000"/>
                  </a:lnTo>
                  <a:lnTo>
                    <a:pt x="261" y="990"/>
                  </a:lnTo>
                  <a:lnTo>
                    <a:pt x="261" y="990"/>
                  </a:lnTo>
                  <a:lnTo>
                    <a:pt x="265" y="981"/>
                  </a:lnTo>
                  <a:lnTo>
                    <a:pt x="265" y="981"/>
                  </a:lnTo>
                  <a:lnTo>
                    <a:pt x="283" y="978"/>
                  </a:lnTo>
                  <a:lnTo>
                    <a:pt x="283" y="978"/>
                  </a:lnTo>
                  <a:lnTo>
                    <a:pt x="305" y="990"/>
                  </a:lnTo>
                  <a:lnTo>
                    <a:pt x="331" y="981"/>
                  </a:lnTo>
                  <a:lnTo>
                    <a:pt x="331" y="981"/>
                  </a:lnTo>
                  <a:lnTo>
                    <a:pt x="349" y="962"/>
                  </a:lnTo>
                  <a:lnTo>
                    <a:pt x="349" y="962"/>
                  </a:lnTo>
                  <a:lnTo>
                    <a:pt x="365" y="959"/>
                  </a:lnTo>
                  <a:lnTo>
                    <a:pt x="365" y="959"/>
                  </a:lnTo>
                  <a:lnTo>
                    <a:pt x="381" y="968"/>
                  </a:lnTo>
                  <a:lnTo>
                    <a:pt x="381" y="968"/>
                  </a:lnTo>
                  <a:lnTo>
                    <a:pt x="400" y="978"/>
                  </a:lnTo>
                  <a:lnTo>
                    <a:pt x="406" y="981"/>
                  </a:lnTo>
                  <a:lnTo>
                    <a:pt x="422" y="962"/>
                  </a:lnTo>
                  <a:lnTo>
                    <a:pt x="422" y="962"/>
                  </a:lnTo>
                  <a:lnTo>
                    <a:pt x="419" y="934"/>
                  </a:lnTo>
                  <a:lnTo>
                    <a:pt x="419" y="934"/>
                  </a:lnTo>
                  <a:lnTo>
                    <a:pt x="425" y="909"/>
                  </a:lnTo>
                  <a:lnTo>
                    <a:pt x="409" y="880"/>
                  </a:lnTo>
                  <a:lnTo>
                    <a:pt x="409" y="880"/>
                  </a:lnTo>
                  <a:lnTo>
                    <a:pt x="368" y="839"/>
                  </a:lnTo>
                  <a:lnTo>
                    <a:pt x="368" y="839"/>
                  </a:lnTo>
                  <a:lnTo>
                    <a:pt x="362" y="824"/>
                  </a:lnTo>
                  <a:lnTo>
                    <a:pt x="362" y="824"/>
                  </a:lnTo>
                  <a:lnTo>
                    <a:pt x="362" y="821"/>
                  </a:lnTo>
                  <a:lnTo>
                    <a:pt x="362" y="821"/>
                  </a:lnTo>
                  <a:lnTo>
                    <a:pt x="387" y="830"/>
                  </a:lnTo>
                  <a:lnTo>
                    <a:pt x="387" y="830"/>
                  </a:lnTo>
                  <a:lnTo>
                    <a:pt x="422" y="821"/>
                  </a:lnTo>
                  <a:lnTo>
                    <a:pt x="422" y="821"/>
                  </a:lnTo>
                  <a:lnTo>
                    <a:pt x="453" y="817"/>
                  </a:lnTo>
                  <a:lnTo>
                    <a:pt x="466" y="817"/>
                  </a:lnTo>
                  <a:lnTo>
                    <a:pt x="453" y="789"/>
                  </a:lnTo>
                  <a:lnTo>
                    <a:pt x="422" y="758"/>
                  </a:lnTo>
                  <a:lnTo>
                    <a:pt x="422" y="758"/>
                  </a:lnTo>
                  <a:lnTo>
                    <a:pt x="406" y="745"/>
                  </a:lnTo>
                  <a:lnTo>
                    <a:pt x="403" y="742"/>
                  </a:lnTo>
                  <a:lnTo>
                    <a:pt x="403" y="742"/>
                  </a:lnTo>
                  <a:lnTo>
                    <a:pt x="384" y="732"/>
                  </a:lnTo>
                  <a:lnTo>
                    <a:pt x="384" y="732"/>
                  </a:lnTo>
                  <a:lnTo>
                    <a:pt x="378" y="717"/>
                  </a:lnTo>
                  <a:lnTo>
                    <a:pt x="349" y="701"/>
                  </a:lnTo>
                  <a:lnTo>
                    <a:pt x="349" y="701"/>
                  </a:lnTo>
                  <a:lnTo>
                    <a:pt x="337" y="692"/>
                  </a:lnTo>
                  <a:lnTo>
                    <a:pt x="337" y="692"/>
                  </a:lnTo>
                  <a:lnTo>
                    <a:pt x="321" y="682"/>
                  </a:lnTo>
                  <a:lnTo>
                    <a:pt x="321" y="654"/>
                  </a:lnTo>
                  <a:lnTo>
                    <a:pt x="321" y="654"/>
                  </a:lnTo>
                  <a:lnTo>
                    <a:pt x="331" y="629"/>
                  </a:lnTo>
                  <a:lnTo>
                    <a:pt x="331" y="629"/>
                  </a:lnTo>
                  <a:lnTo>
                    <a:pt x="327" y="610"/>
                  </a:lnTo>
                  <a:lnTo>
                    <a:pt x="327" y="610"/>
                  </a:lnTo>
                  <a:lnTo>
                    <a:pt x="337" y="591"/>
                  </a:lnTo>
                  <a:lnTo>
                    <a:pt x="337" y="591"/>
                  </a:lnTo>
                  <a:lnTo>
                    <a:pt x="359" y="563"/>
                  </a:lnTo>
                  <a:lnTo>
                    <a:pt x="359" y="563"/>
                  </a:lnTo>
                  <a:lnTo>
                    <a:pt x="375" y="538"/>
                  </a:lnTo>
                  <a:lnTo>
                    <a:pt x="375" y="538"/>
                  </a:lnTo>
                  <a:lnTo>
                    <a:pt x="387" y="519"/>
                  </a:lnTo>
                  <a:lnTo>
                    <a:pt x="390" y="519"/>
                  </a:lnTo>
                  <a:lnTo>
                    <a:pt x="390" y="494"/>
                  </a:lnTo>
                  <a:lnTo>
                    <a:pt x="381" y="462"/>
                  </a:lnTo>
                  <a:lnTo>
                    <a:pt x="346" y="468"/>
                  </a:lnTo>
                  <a:lnTo>
                    <a:pt x="346" y="468"/>
                  </a:lnTo>
                  <a:lnTo>
                    <a:pt x="327" y="468"/>
                  </a:lnTo>
                  <a:lnTo>
                    <a:pt x="327" y="468"/>
                  </a:lnTo>
                  <a:lnTo>
                    <a:pt x="321" y="450"/>
                  </a:lnTo>
                  <a:lnTo>
                    <a:pt x="321" y="396"/>
                  </a:lnTo>
                  <a:lnTo>
                    <a:pt x="321" y="396"/>
                  </a:lnTo>
                  <a:lnTo>
                    <a:pt x="327" y="380"/>
                  </a:lnTo>
                  <a:lnTo>
                    <a:pt x="327" y="380"/>
                  </a:lnTo>
                  <a:lnTo>
                    <a:pt x="346" y="384"/>
                  </a:lnTo>
                  <a:lnTo>
                    <a:pt x="384" y="380"/>
                  </a:lnTo>
                  <a:lnTo>
                    <a:pt x="397" y="346"/>
                  </a:lnTo>
                  <a:lnTo>
                    <a:pt x="365" y="333"/>
                  </a:lnTo>
                  <a:lnTo>
                    <a:pt x="365" y="333"/>
                  </a:lnTo>
                  <a:lnTo>
                    <a:pt x="331" y="336"/>
                  </a:lnTo>
                  <a:lnTo>
                    <a:pt x="331" y="336"/>
                  </a:lnTo>
                  <a:lnTo>
                    <a:pt x="309" y="324"/>
                  </a:lnTo>
                  <a:lnTo>
                    <a:pt x="309" y="324"/>
                  </a:lnTo>
                  <a:lnTo>
                    <a:pt x="309" y="302"/>
                  </a:lnTo>
                  <a:lnTo>
                    <a:pt x="309" y="302"/>
                  </a:lnTo>
                  <a:lnTo>
                    <a:pt x="302" y="289"/>
                  </a:lnTo>
                  <a:lnTo>
                    <a:pt x="302" y="289"/>
                  </a:lnTo>
                  <a:lnTo>
                    <a:pt x="315" y="277"/>
                  </a:lnTo>
                  <a:lnTo>
                    <a:pt x="324" y="245"/>
                  </a:lnTo>
                  <a:lnTo>
                    <a:pt x="324" y="245"/>
                  </a:lnTo>
                  <a:lnTo>
                    <a:pt x="290" y="233"/>
                  </a:lnTo>
                  <a:lnTo>
                    <a:pt x="290" y="233"/>
                  </a:lnTo>
                  <a:lnTo>
                    <a:pt x="277" y="220"/>
                  </a:lnTo>
                  <a:lnTo>
                    <a:pt x="277" y="220"/>
                  </a:lnTo>
                  <a:lnTo>
                    <a:pt x="283" y="214"/>
                  </a:lnTo>
                  <a:lnTo>
                    <a:pt x="299" y="192"/>
                  </a:lnTo>
                  <a:lnTo>
                    <a:pt x="299" y="192"/>
                  </a:lnTo>
                  <a:lnTo>
                    <a:pt x="277" y="176"/>
                  </a:lnTo>
                  <a:lnTo>
                    <a:pt x="277" y="176"/>
                  </a:lnTo>
                  <a:lnTo>
                    <a:pt x="268" y="154"/>
                  </a:lnTo>
                  <a:lnTo>
                    <a:pt x="268" y="154"/>
                  </a:lnTo>
                  <a:lnTo>
                    <a:pt x="274" y="126"/>
                  </a:lnTo>
                  <a:lnTo>
                    <a:pt x="274" y="126"/>
                  </a:lnTo>
                  <a:lnTo>
                    <a:pt x="265" y="110"/>
                  </a:lnTo>
                  <a:lnTo>
                    <a:pt x="265" y="110"/>
                  </a:lnTo>
                  <a:lnTo>
                    <a:pt x="296" y="107"/>
                  </a:lnTo>
                  <a:lnTo>
                    <a:pt x="296" y="107"/>
                  </a:lnTo>
                  <a:lnTo>
                    <a:pt x="324" y="85"/>
                  </a:lnTo>
                  <a:lnTo>
                    <a:pt x="324" y="85"/>
                  </a:lnTo>
                  <a:lnTo>
                    <a:pt x="349" y="91"/>
                  </a:lnTo>
                  <a:lnTo>
                    <a:pt x="384" y="85"/>
                  </a:lnTo>
                  <a:lnTo>
                    <a:pt x="384" y="85"/>
                  </a:lnTo>
                  <a:lnTo>
                    <a:pt x="393" y="57"/>
                  </a:lnTo>
                  <a:lnTo>
                    <a:pt x="393" y="57"/>
                  </a:lnTo>
                  <a:lnTo>
                    <a:pt x="415" y="57"/>
                  </a:lnTo>
                  <a:lnTo>
                    <a:pt x="415" y="57"/>
                  </a:lnTo>
                  <a:lnTo>
                    <a:pt x="428" y="31"/>
                  </a:lnTo>
                  <a:lnTo>
                    <a:pt x="428" y="31"/>
                  </a:lnTo>
                  <a:lnTo>
                    <a:pt x="450" y="22"/>
                  </a:lnTo>
                  <a:lnTo>
                    <a:pt x="450" y="22"/>
                  </a:lnTo>
                  <a:lnTo>
                    <a:pt x="478" y="25"/>
                  </a:lnTo>
                  <a:lnTo>
                    <a:pt x="478" y="25"/>
                  </a:lnTo>
                  <a:lnTo>
                    <a:pt x="513" y="44"/>
                  </a:lnTo>
                  <a:lnTo>
                    <a:pt x="544" y="31"/>
                  </a:lnTo>
                  <a:lnTo>
                    <a:pt x="544" y="31"/>
                  </a:lnTo>
                  <a:lnTo>
                    <a:pt x="557" y="19"/>
                  </a:lnTo>
                  <a:lnTo>
                    <a:pt x="557" y="19"/>
                  </a:lnTo>
                  <a:lnTo>
                    <a:pt x="579" y="31"/>
                  </a:lnTo>
                  <a:lnTo>
                    <a:pt x="579" y="31"/>
                  </a:lnTo>
                  <a:lnTo>
                    <a:pt x="591" y="60"/>
                  </a:lnTo>
                  <a:lnTo>
                    <a:pt x="613" y="82"/>
                  </a:lnTo>
                  <a:lnTo>
                    <a:pt x="613" y="82"/>
                  </a:lnTo>
                  <a:lnTo>
                    <a:pt x="642" y="91"/>
                  </a:lnTo>
                  <a:lnTo>
                    <a:pt x="642" y="91"/>
                  </a:lnTo>
                  <a:lnTo>
                    <a:pt x="661" y="116"/>
                  </a:lnTo>
                  <a:lnTo>
                    <a:pt x="661" y="116"/>
                  </a:lnTo>
                  <a:lnTo>
                    <a:pt x="679" y="123"/>
                  </a:lnTo>
                  <a:lnTo>
                    <a:pt x="679" y="123"/>
                  </a:lnTo>
                  <a:lnTo>
                    <a:pt x="705" y="167"/>
                  </a:lnTo>
                  <a:lnTo>
                    <a:pt x="705" y="167"/>
                  </a:lnTo>
                  <a:lnTo>
                    <a:pt x="736" y="170"/>
                  </a:lnTo>
                  <a:lnTo>
                    <a:pt x="736" y="170"/>
                  </a:lnTo>
                  <a:lnTo>
                    <a:pt x="736" y="179"/>
                  </a:lnTo>
                  <a:lnTo>
                    <a:pt x="736" y="230"/>
                  </a:lnTo>
                  <a:lnTo>
                    <a:pt x="736" y="230"/>
                  </a:lnTo>
                  <a:lnTo>
                    <a:pt x="717" y="264"/>
                  </a:lnTo>
                  <a:lnTo>
                    <a:pt x="749" y="286"/>
                  </a:lnTo>
                  <a:lnTo>
                    <a:pt x="749" y="286"/>
                  </a:lnTo>
                  <a:lnTo>
                    <a:pt x="771" y="305"/>
                  </a:lnTo>
                  <a:lnTo>
                    <a:pt x="771" y="305"/>
                  </a:lnTo>
                  <a:lnTo>
                    <a:pt x="783" y="330"/>
                  </a:lnTo>
                  <a:lnTo>
                    <a:pt x="783" y="330"/>
                  </a:lnTo>
                  <a:lnTo>
                    <a:pt x="815" y="330"/>
                  </a:lnTo>
                  <a:lnTo>
                    <a:pt x="815" y="330"/>
                  </a:lnTo>
                  <a:lnTo>
                    <a:pt x="824" y="340"/>
                  </a:lnTo>
                  <a:lnTo>
                    <a:pt x="824" y="340"/>
                  </a:lnTo>
                  <a:lnTo>
                    <a:pt x="830" y="371"/>
                  </a:lnTo>
                  <a:lnTo>
                    <a:pt x="830" y="371"/>
                  </a:lnTo>
                  <a:lnTo>
                    <a:pt x="887" y="371"/>
                  </a:lnTo>
                  <a:lnTo>
                    <a:pt x="887" y="371"/>
                  </a:lnTo>
                  <a:lnTo>
                    <a:pt x="903" y="377"/>
                  </a:lnTo>
                  <a:lnTo>
                    <a:pt x="903" y="377"/>
                  </a:lnTo>
                  <a:lnTo>
                    <a:pt x="906" y="399"/>
                  </a:lnTo>
                  <a:lnTo>
                    <a:pt x="906" y="399"/>
                  </a:lnTo>
                  <a:lnTo>
                    <a:pt x="881" y="424"/>
                  </a:lnTo>
                  <a:lnTo>
                    <a:pt x="890" y="462"/>
                  </a:lnTo>
                  <a:lnTo>
                    <a:pt x="890" y="462"/>
                  </a:lnTo>
                  <a:lnTo>
                    <a:pt x="912" y="475"/>
                  </a:lnTo>
                  <a:lnTo>
                    <a:pt x="912" y="475"/>
                  </a:lnTo>
                  <a:lnTo>
                    <a:pt x="915" y="487"/>
                  </a:lnTo>
                  <a:lnTo>
                    <a:pt x="915" y="487"/>
                  </a:lnTo>
                  <a:lnTo>
                    <a:pt x="884" y="506"/>
                  </a:lnTo>
                  <a:lnTo>
                    <a:pt x="884" y="506"/>
                  </a:lnTo>
                  <a:lnTo>
                    <a:pt x="912" y="531"/>
                  </a:lnTo>
                  <a:lnTo>
                    <a:pt x="912" y="531"/>
                  </a:lnTo>
                  <a:lnTo>
                    <a:pt x="925" y="550"/>
                  </a:lnTo>
                  <a:lnTo>
                    <a:pt x="956" y="566"/>
                  </a:lnTo>
                  <a:lnTo>
                    <a:pt x="956" y="566"/>
                  </a:lnTo>
                  <a:lnTo>
                    <a:pt x="1000" y="569"/>
                  </a:lnTo>
                  <a:lnTo>
                    <a:pt x="1000" y="569"/>
                  </a:lnTo>
                  <a:lnTo>
                    <a:pt x="1035" y="575"/>
                  </a:lnTo>
                  <a:lnTo>
                    <a:pt x="1035" y="575"/>
                  </a:lnTo>
                  <a:lnTo>
                    <a:pt x="1044" y="594"/>
                  </a:lnTo>
                  <a:lnTo>
                    <a:pt x="1044" y="594"/>
                  </a:lnTo>
                  <a:lnTo>
                    <a:pt x="1066" y="626"/>
                  </a:lnTo>
                  <a:lnTo>
                    <a:pt x="1066" y="629"/>
                  </a:lnTo>
                  <a:lnTo>
                    <a:pt x="1094" y="635"/>
                  </a:lnTo>
                  <a:lnTo>
                    <a:pt x="1113" y="600"/>
                  </a:lnTo>
                  <a:lnTo>
                    <a:pt x="1113" y="600"/>
                  </a:lnTo>
                  <a:lnTo>
                    <a:pt x="1107" y="578"/>
                  </a:lnTo>
                  <a:lnTo>
                    <a:pt x="1120" y="563"/>
                  </a:lnTo>
                  <a:lnTo>
                    <a:pt x="1120" y="563"/>
                  </a:lnTo>
                  <a:lnTo>
                    <a:pt x="1138" y="550"/>
                  </a:lnTo>
                  <a:lnTo>
                    <a:pt x="1138" y="550"/>
                  </a:lnTo>
                  <a:lnTo>
                    <a:pt x="1160" y="547"/>
                  </a:lnTo>
                  <a:lnTo>
                    <a:pt x="1160" y="547"/>
                  </a:lnTo>
                  <a:lnTo>
                    <a:pt x="1198" y="566"/>
                  </a:lnTo>
                  <a:lnTo>
                    <a:pt x="1198" y="566"/>
                  </a:lnTo>
                  <a:lnTo>
                    <a:pt x="1217" y="585"/>
                  </a:lnTo>
                  <a:lnTo>
                    <a:pt x="1217" y="585"/>
                  </a:lnTo>
                  <a:lnTo>
                    <a:pt x="1211" y="597"/>
                  </a:lnTo>
                  <a:lnTo>
                    <a:pt x="1211" y="597"/>
                  </a:lnTo>
                  <a:lnTo>
                    <a:pt x="1186" y="594"/>
                  </a:lnTo>
                  <a:lnTo>
                    <a:pt x="1151" y="613"/>
                  </a:lnTo>
                  <a:lnTo>
                    <a:pt x="1151" y="613"/>
                  </a:lnTo>
                  <a:lnTo>
                    <a:pt x="1160" y="638"/>
                  </a:lnTo>
                  <a:lnTo>
                    <a:pt x="1160" y="638"/>
                  </a:lnTo>
                  <a:lnTo>
                    <a:pt x="1135" y="660"/>
                  </a:lnTo>
                  <a:lnTo>
                    <a:pt x="1157" y="682"/>
                  </a:lnTo>
                  <a:lnTo>
                    <a:pt x="1157" y="682"/>
                  </a:lnTo>
                  <a:lnTo>
                    <a:pt x="1195" y="682"/>
                  </a:lnTo>
                  <a:lnTo>
                    <a:pt x="1195" y="682"/>
                  </a:lnTo>
                  <a:lnTo>
                    <a:pt x="1208" y="695"/>
                  </a:lnTo>
                  <a:lnTo>
                    <a:pt x="1208" y="695"/>
                  </a:lnTo>
                  <a:lnTo>
                    <a:pt x="1211" y="710"/>
                  </a:lnTo>
                  <a:lnTo>
                    <a:pt x="1211" y="710"/>
                  </a:lnTo>
                  <a:lnTo>
                    <a:pt x="1189" y="720"/>
                  </a:lnTo>
                  <a:lnTo>
                    <a:pt x="1189" y="720"/>
                  </a:lnTo>
                  <a:lnTo>
                    <a:pt x="1189" y="748"/>
                  </a:lnTo>
                  <a:lnTo>
                    <a:pt x="1189" y="748"/>
                  </a:lnTo>
                  <a:lnTo>
                    <a:pt x="1176" y="764"/>
                  </a:lnTo>
                  <a:lnTo>
                    <a:pt x="1176" y="764"/>
                  </a:lnTo>
                  <a:lnTo>
                    <a:pt x="1142" y="776"/>
                  </a:lnTo>
                  <a:lnTo>
                    <a:pt x="1132" y="811"/>
                  </a:lnTo>
                  <a:lnTo>
                    <a:pt x="1132" y="811"/>
                  </a:lnTo>
                  <a:lnTo>
                    <a:pt x="1145" y="846"/>
                  </a:lnTo>
                  <a:lnTo>
                    <a:pt x="1145" y="846"/>
                  </a:lnTo>
                  <a:lnTo>
                    <a:pt x="1142" y="874"/>
                  </a:lnTo>
                  <a:lnTo>
                    <a:pt x="1151" y="905"/>
                  </a:lnTo>
                  <a:lnTo>
                    <a:pt x="1151" y="905"/>
                  </a:lnTo>
                  <a:lnTo>
                    <a:pt x="1164" y="934"/>
                  </a:lnTo>
                  <a:lnTo>
                    <a:pt x="1164" y="934"/>
                  </a:lnTo>
                  <a:lnTo>
                    <a:pt x="1151" y="965"/>
                  </a:lnTo>
                  <a:lnTo>
                    <a:pt x="1170" y="990"/>
                  </a:lnTo>
                  <a:lnTo>
                    <a:pt x="1170" y="990"/>
                  </a:lnTo>
                  <a:lnTo>
                    <a:pt x="1201" y="1003"/>
                  </a:lnTo>
                  <a:lnTo>
                    <a:pt x="1201" y="1003"/>
                  </a:lnTo>
                  <a:lnTo>
                    <a:pt x="1249" y="1037"/>
                  </a:lnTo>
                  <a:lnTo>
                    <a:pt x="1249" y="1037"/>
                  </a:lnTo>
                  <a:lnTo>
                    <a:pt x="1258" y="1063"/>
                  </a:lnTo>
                  <a:lnTo>
                    <a:pt x="1258" y="1063"/>
                  </a:lnTo>
                  <a:lnTo>
                    <a:pt x="1274" y="1069"/>
                  </a:lnTo>
                  <a:lnTo>
                    <a:pt x="1274" y="1069"/>
                  </a:lnTo>
                  <a:lnTo>
                    <a:pt x="1293" y="1085"/>
                  </a:lnTo>
                  <a:lnTo>
                    <a:pt x="1293" y="1085"/>
                  </a:lnTo>
                  <a:lnTo>
                    <a:pt x="1286" y="1110"/>
                  </a:lnTo>
                  <a:lnTo>
                    <a:pt x="1286" y="111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4760" y="2290680"/>
              <a:ext cx="2274840" cy="2903760"/>
            </a:xfrm>
            <a:custGeom>
              <a:avLst/>
              <a:gdLst/>
              <a:ahLst/>
              <a:rect l="l" t="t" r="r" b="b"/>
              <a:pathLst>
                <a:path w="1433" h="1829">
                  <a:moveTo>
                    <a:pt x="1414" y="0"/>
                  </a:moveTo>
                  <a:lnTo>
                    <a:pt x="0" y="0"/>
                  </a:lnTo>
                  <a:lnTo>
                    <a:pt x="0" y="1829"/>
                  </a:lnTo>
                  <a:lnTo>
                    <a:pt x="1433" y="1829"/>
                  </a:lnTo>
                  <a:lnTo>
                    <a:pt x="1433" y="0"/>
                  </a:lnTo>
                  <a:lnTo>
                    <a:pt x="1414" y="0"/>
                  </a:lnTo>
                  <a:close/>
                  <a:moveTo>
                    <a:pt x="1396" y="37"/>
                  </a:moveTo>
                  <a:lnTo>
                    <a:pt x="1396" y="37"/>
                  </a:lnTo>
                  <a:lnTo>
                    <a:pt x="1396" y="1792"/>
                  </a:lnTo>
                  <a:lnTo>
                    <a:pt x="1396" y="1792"/>
                  </a:lnTo>
                  <a:lnTo>
                    <a:pt x="37" y="1792"/>
                  </a:lnTo>
                  <a:lnTo>
                    <a:pt x="37" y="1792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1396" y="37"/>
                  </a:lnTo>
                  <a:lnTo>
                    <a:pt x="1396" y="3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eview of Countries – Serbia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802880"/>
            <a:ext cx="775332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ry of Infrastructure promoting concept for road development.  EBRD has tried to assist the Ministry to improve its understanding of PPP concept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gos-Pozega motorway concession signed in 2007 with FCC/Alpine who may seek finance from EBRD and/or other IF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s held with IMF concerning the treatment of government payment obligations under PPP conc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75200" y="2903400"/>
            <a:ext cx="1800" cy="324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close/>
              </a:path>
            </a:pathLst>
          </a:custGeom>
          <a:solidFill>
            <a:srgbClr val="7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9080" y="3021120"/>
            <a:ext cx="1440" cy="61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3240" y="3033720"/>
            <a:ext cx="14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8480" y="1693800"/>
            <a:ext cx="8008920" cy="4283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EBRD Contac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2640" y="2057040"/>
            <a:ext cx="3944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lvl="1"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Direc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ransport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el:  + 44 20 7338 73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-mail: pulitir@ebr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70160" y="2133720"/>
            <a:ext cx="38242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1560" y="2151000"/>
            <a:ext cx="3067200" cy="398880"/>
          </a:xfrm>
          <a:prstGeom prst="rect">
            <a:avLst/>
          </a:prstGeom>
          <a:solidFill>
            <a:srgbClr val="074d93"/>
          </a:solidFill>
          <a:ln w="0">
            <a:noFill/>
          </a:ln>
          <a:effectLst>
            <a:outerShdw dist="53966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Christopher Ous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8760" y="2139840"/>
            <a:ext cx="3060720" cy="398880"/>
          </a:xfrm>
          <a:prstGeom prst="rect">
            <a:avLst/>
          </a:prstGeom>
          <a:solidFill>
            <a:srgbClr val="074d93"/>
          </a:solidFill>
          <a:ln w="0">
            <a:noFill/>
          </a:ln>
          <a:effectLst>
            <a:outerShdw dist="53966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iccardo Pu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09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nior Adviso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port T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el:  + 44 20 7338 72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-mail: ouseyc@ebrd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What Opportunities?</a:t>
            </a: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vate sector finance for transport infrastructure can be mobilised through one of the many variants of “Public Private Partnerships” (PP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Ps are based around a contract to deliver a project and/ or provide services to, for or on behalf of the government, in which risks are shared between the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not all concessions involve the provision of finance; for example: road maintenance concessions are becoming increasingly po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t what is the role of the IF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Opportunities for PPPs: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me preconditions for IFI involve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must want to bring private finance into infrastructure pro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n enabling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 suitable project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illingness to follow IFI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Key Steps: Legal Environm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93400" y="2480760"/>
            <a:ext cx="742788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islation needs be clear &amp; consistent, avoiding loopholes &amp; conflict with other legisl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islative framework should be predictable, stable and fa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islation should allow for procurement procedures appropriate for award of concessions and long-term relationships between public &amp; private sector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procedures should take priority over other legislation (e.g. sector specific or reg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ility is needed to allow for negotiation and alternative approaches, where appropri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39680" y="1844640"/>
            <a:ext cx="67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ppropriate legal framework is key</a:t>
            </a: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2060640"/>
          <a:ext cx="7589880" cy="41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2060640"/>
                    <a:ext cx="758988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Quality of the Legal Environment </a:t>
            </a: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628640"/>
            <a:ext cx="77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How good are concessions law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20" y="6302520"/>
            <a:ext cx="59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BRD Assessment of Concessions Law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3080" y="2133720"/>
            <a:ext cx="51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untries with a Concession La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Problems with PPPs</a:t>
            </a: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oblems typically arise w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abling environment is inadeq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ject has not been well structured – which is particularly likely to happen if the Govt. is reluctant to engage experienced advi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 procedures are not followed – which is often the result of a misplaced desire for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8040" y="275760"/>
            <a:ext cx="7843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PP failures: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5040" y="25030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examples of failed PPPs in the reg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47 road in Czech Republic which followed a negotiated  process and failed to attract private fi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 PPPs in Romania for Bucharest-Brasov motorway where tender was not satisfactory, EBRD was not able to participate and private finance could not be mobil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ad maintenance PPPs in Bulgaria awarded without a tender and failed to attract financing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74880"/>
            <a:ext cx="76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ilures are often associated with inadequate tenders  or directly negotiated de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8040" y="275760"/>
            <a:ext cx="7843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What</a:t>
            </a:r>
            <a:r>
              <a:rPr b="1" lang="en-GB" sz="2900" spc="-1" strike="noStrike">
                <a:solidFill>
                  <a:srgbClr val="ffff99"/>
                </a:solidFill>
                <a:latin typeface="Arial"/>
              </a:rPr>
              <a:t> role is there for the IFIs ?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5040" y="250308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istance with the enabl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lping the Government to become aware of best practice and ensuring access to good quality advice at all st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99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tting up a central PPP un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874880"/>
            <a:ext cx="76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FIs can play a key role in improving the likelihood of launching a successful PP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45:38Z</dcterms:created>
  <dc:creator>sandersj</dc:creator>
  <dc:description/>
  <dc:language>en-US</dc:language>
  <cp:lastModifiedBy>ousey</cp:lastModifiedBy>
  <cp:lastPrinted>2003-03-19T15:53:51Z</cp:lastPrinted>
  <dcterms:modified xsi:type="dcterms:W3CDTF">2007-09-07T17:15:28Z</dcterms:modified>
  <cp:revision>255</cp:revision>
  <dc:subject/>
  <dc:title>Presentation title  Presenter’s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55330765</vt:r8>
  </property>
  <property fmtid="{D5CDD505-2E9C-101B-9397-08002B2CF9AE}" pid="3" name="_AuthorEmail">
    <vt:lpwstr>OuseyC@ebrd.com</vt:lpwstr>
  </property>
  <property fmtid="{D5CDD505-2E9C-101B-9397-08002B2CF9AE}" pid="4" name="_AuthorEmailDisplayName">
    <vt:lpwstr>Ousey, Christopher</vt:lpwstr>
  </property>
  <property fmtid="{D5CDD505-2E9C-101B-9397-08002B2CF9AE}" pid="5" name="_EmailSubject">
    <vt:lpwstr>IFIAG Working Group on Transport - September 10, Brussels</vt:lpwstr>
  </property>
</Properties>
</file>