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F210-96DD-413F-A587-348BE07C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F2E-CDAC-4848-89D6-A268C49C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A3FF-3962-47E8-9774-181BB49C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2C9F-0587-4FDA-97AE-FE3C156B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371-51A6-4281-9344-E7A26676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885-17C6-4DCF-8584-21B4BDEF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CE6-7536-48BC-B66A-D50DD39E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FA60-E1D6-474D-B59D-2E575F25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613-92E5-4401-97B0-2CFCB362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5A6-FBFF-4C48-934F-AFB09709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B1C-24DE-4FA5-BC5F-15C084D5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76B-46F4-4D72-BD70-7B40D9A6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B019-AC9F-4F88-8B84-9E859EC24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67640" y="0"/>
          <a:ext cx="147636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7640" y="0"/>
                    <a:ext cx="14763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IB FUNDING FOR TRANSPORT PROJECTS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estern Balkans 2003-2007</a:t>
            </a:r>
            <a:br>
              <a:rPr sz="4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0/09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396720" y="549360"/>
          <a:ext cx="9144000" cy="57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549360"/>
                    <a:ext cx="9144000" cy="57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-27000"/>
          <a:ext cx="8364240" cy="63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-27000"/>
                    <a:ext cx="836424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-181080" y="476280"/>
          <a:ext cx="914400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476280"/>
                    <a:ext cx="914400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33400" y="695160"/>
          <a:ext cx="7964640" cy="49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695160"/>
                    <a:ext cx="796464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9960" y="512640"/>
          <a:ext cx="8012160" cy="604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512640"/>
                    <a:ext cx="8012160" cy="60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5280" y="692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1640" y="692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149544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9544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8:25:45Z</dcterms:created>
  <dc:creator>MIHALJCI</dc:creator>
  <dc:description/>
  <dc:language>en-US</dc:language>
  <cp:lastModifiedBy>MARTINK</cp:lastModifiedBy>
  <dcterms:modified xsi:type="dcterms:W3CDTF">2007-09-10T10:43:07Z</dcterms:modified>
  <cp:revision>21</cp:revision>
  <dc:subject/>
  <dc:title>Slide 1</dc:title>
</cp:coreProperties>
</file>