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15138" cy="995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108A-08B7-461A-9355-1BCB02F56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6EDF-4299-407F-AF66-6FD444BE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4905-490F-4F0D-85B3-4C84C8E63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C3AA-ED08-4984-A8A9-ED6CBD7EF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0A0C-EBE5-4B20-B852-0FE30516B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34197-158E-4EB0-8E75-0D1847D2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0996-0209-4194-99BB-D72C69BA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824C-87D4-4F8A-8DE6-0E016009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62DD-E095-445E-9B58-8F176B50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3C21-4194-4BD7-9CF4-459373ED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B4ABD-9E8E-4B15-B671-556FEF5D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FD72-95B5-4997-9C12-E05070DB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06C5-D4D6-4395-BE0C-58A2DBA7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018C3-063C-48C4-A98C-7F25EF93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9A54-4056-4438-A7FB-45C70FBE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5B419-3C2E-4DC6-9F1B-D1A1C3289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C330-BE15-44A6-B98C-63291516D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E7FC-3AE6-4B43-8A51-8DB07918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84FD-7AD9-44F1-9D6B-5E6F0885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C955-2730-4A7E-A182-602319FB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BF30-19DD-4B39-8933-3CA2BDF6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FB8F-D2FF-4A7E-8428-AA6B5658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0708-9FE7-46A3-8D3F-56D49ACB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9881-B31C-4152-8D04-5DB11AF8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EETO South East Europe Transport Observat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BC24-0697-4A5B-8179-809A203F23A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5486400" cy="56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8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EETO South East Europe Transport Observat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BF87-5C0B-4D13-8468-8503582CA89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5486400" cy="5684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IFI AG Meeting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russels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0 September 2007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ulti Annual Plan for the Development of the South East Europe Core Transport Network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2008-2012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9764-DCF9-48CE-AC0A-69C285A8824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ailways and other mod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New RW bottleneck limits introduced and discussion on capaci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Limitations and Further Needs Outlined everywhe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New indicators for Seaports and Airports introduc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Border crossings extended with Transport agreements in the reg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Table with RW border crossing times introduc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AC0C-2F87-40F9-B204-FDBC6E0826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Border Crossing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13 external and 18 internal road border crossings on the Core Netwo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complex procedures, difficult data colle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Road waiting times improv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Verdana"/>
              </a:rPr>
              <a:t>Rail waiting times much greater than those at road border crossing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1D9C-786D-4D5C-AF35-A52D8084F2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ransport Policy and Sector Reform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2920" indent="-4129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ansport sector reforms necessary for achieving EU policies and for efficient use of infrastructure and investm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12920" indent="-4129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in issue is not what or how to reform but wh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12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12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12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2CE0-8AA9-41FE-8287-DFCCCB5B11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99072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pecific Objectives for soft measures 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programm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in MAP 2008-12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Road Reform Objectiv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Enhancing regional interest through coherence with actions in other countr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Providing safer – and consequently better managed roa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Border crossing facili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Rail Reform Objectiv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Regional approach to infrastructure manage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Common Network Statement in line with EU Directiv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Developing common conditions for access to the network and scale of user charg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To eliminate delays for freight and passengers at border crossing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80F5-6FA3-4CDB-B1D2-8340C634A9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dicative Priority Project Lis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350 projects submitt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o SEETO until MAP 2008-2012 of which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228 projects evaluated and prioritized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30 projects in priority project list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sented in the MAP 2008-12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9 project groups with 39 individual subproject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84A6-A866-4E64-99FF-8583AF95F8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gramm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priority list of projects takes into account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The most </a:t>
            </a: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strategically important individual projects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Balanced network development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orridors (16 projects); Routes (9) terminals (5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Modal balance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: Road (13), Rail (11) Waterway (1), Airports (4) Sea Port (1) 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Regional balance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roject </a:t>
            </a: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preparatory status: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feasibility studies or completed design 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20, but 10 at early stag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B2B0-3097-40EF-A797-EF546E7993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pected Results, Monitoring and Evaluati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Verdana"/>
              </a:rPr>
              <a:t>Important to appreciate result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Verdana"/>
              </a:rPr>
              <a:t>Related to strategic objectives for the MAP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1. Enhancing regional interest, cooper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Common regulations, common rail network statement, open access, common levels of service for road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ntegrated border management, regional agreements, negligible waiting tim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2.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Stimulating Economic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mproved condition of infrastructu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mproved travel times on route and border crossing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ncreased traffic, more on rai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3.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Efficient / Effective Management / modal balan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Deregulation of sector advanced / completed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New independent regulatory authorities in place and working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Autonomous and commercially orientated sub-sectoral organisations in plac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Equitable tolls/user charges in place for road and rail covering expens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More long distance passenger movements by public transport, more long distance freight by train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4CF5-89FD-4C0D-B6B2-FE02B541767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9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pected Results, Monitoring and Evaluati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Results expected cont.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4.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Social Integration, improving living conditions environ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mproved  accessibility to services, better connectivity between social group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Less congestion, more efficient operations, minimal waiting times at border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consumer protection laws for all transport user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Better energy efficiency, lower carbon use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Relatively lower emission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5.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Improved safety and securit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Safer operations, road fatalities approaching that of EU average 3 per million vehicl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Safer train operation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Better public transport securit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6.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Adopting common technical standar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chnically interoperable transport and communications system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mmon inter-modal transport plan, equipment, terminals common operating standards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A8C2-B31D-48BB-993E-911360CE2B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UTCOME OF MA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Enhance credibility of beneficiaries to negotiate necessary funding for the projec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Internally justify allocation of available resourc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Attract donors (esp. financial/ technical   assistance for soft measures) and attention of  IF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Initiate possible private sector involv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Raise interest of users, enhance cooperation in cross- border funding and promote PPP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Core Network as vehicle for peace, stability and development in South-East Europ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SEETO to continue implementation and monitor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BECC-DDE9-4E5B-85B9-0AF99963AE6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nitoring Implement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Verdana"/>
              </a:rPr>
              <a:t>Important to monitor results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(Developing indicators and monitoring historic results continuously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Verdana"/>
              </a:rPr>
              <a:t>SEETO web site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as a focal point for data dissemination and sharing informati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C8E4-8F67-46EF-A6C2-634D14CCFA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ackgroun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U establishes requirement for annual MAP prepar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teering Committee had 3 meetings in 200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ew Chairman elected at the 1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SC Meeting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ational Coordinators have met for the 6th times at Ohri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ail and Intermodal Working Group has met 3 times in 200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1</a:t>
            </a:r>
            <a:r>
              <a:rPr b="0" lang="en-US" sz="1800" spc="-1" strike="noStrike" baseline="30000">
                <a:solidFill>
                  <a:srgbClr val="ffff00"/>
                </a:solidFill>
                <a:latin typeface="Verdana"/>
              </a:rPr>
              <a:t>st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MAP 2006-10 adopted by SC in April, 2006, Montenegr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Verdana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Map 2007-11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approved by the SC  (November 2006, Croatia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adopted at the 2</a:t>
            </a:r>
            <a:r>
              <a:rPr b="0" lang="en-US" sz="1600" spc="-1" strike="noStrike" baseline="30000">
                <a:solidFill>
                  <a:srgbClr val="ffff00"/>
                </a:solidFill>
                <a:latin typeface="Verdana"/>
              </a:rPr>
              <a:t>nd</a:t>
            </a: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 AM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3</a:t>
            </a:r>
            <a:r>
              <a:rPr b="0" lang="en-US" sz="1800" spc="-1" strike="noStrike" baseline="30000">
                <a:solidFill>
                  <a:srgbClr val="ffff00"/>
                </a:solidFill>
                <a:latin typeface="Verdana"/>
              </a:rPr>
              <a:t>rd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Map 2008-12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approval by the SC  (October 2006, Croatia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adoption at the 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Verdana"/>
              </a:rPr>
              <a:t>rd</a:t>
            </a: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 AM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AC1A-584A-4621-9524-24D7441A57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Verdana"/>
              </a:rPr>
              <a:t>Thank you for your attention!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0EB6-AA40-47B7-95BE-2C8E8B0E8A3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bjectives for the MAP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ider objectiv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To facilitate social and economic development in South East  Europ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pecific Objectiv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To put focus on regional cooper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To 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provide</a:t>
            </a: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 a base of information on the performance of the core networ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To provide a programme of soft mesure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To list the projects with the highest priority investment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To provide a regional planning and programming too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To encourage and harmonise reform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71BA-4773-4A1D-943B-CBE7ABFF44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mprovements MAP 2007-11 to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P 2008-12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Regional emphasis on projects by introducing Chapter 4 focusing on CN corridor and road leve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Separate Chapter dedicated to priority 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Several project pools according to maturi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Project Cycle Management as a monitoring to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Focus on regional approach, missing links, intermodali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Additional information from the new Questionnaires introduc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Core Network Modification Propos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New (sub)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52D2-468B-41F0-9589-8F266FCBE1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Condition and performance of the Core Network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Core road network: 43% is classified as good or very good. Improvement of 15% since the REBIS assesment. Bottlenecks can affect about 8 % of road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Core railway network: 10% of network was graded as good condition. On 20% of network there are up to 20 trains per day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Inland waterways traffic flows for 2005 were 14,3 million tons of cargo and 60000 passenger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7 Sea Ports – over 2 million passengers; over 22 million tons, over 150,000 teus containers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11 airports, 8 million passengers, 20,000 tons of carg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85A2-F7C5-4FD4-9085-BA2761E861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ottleneck Analy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New better methodology, Based on Road Capacity and Level of Service (LO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Assuming that LOS worst than “C” is a bottlenec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Identifying Bottlenecks for 2012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0273-3125-4CE0-948F-415AFF24F9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raffic Forecast for 201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Forecast based on GDP and Population (REBIS methodology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Forecasted traffic calculated per section, with accepted elasticity of 1.5 for road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Identifying future traffic we are forecasting Bottlenecks which coud occur in the futur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7BDB-AC78-4944-AED1-0255FD8C79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oad Safe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28600" y="1266840"/>
          <a:ext cx="8669160" cy="434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66840"/>
                    <a:ext cx="8669160" cy="43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CC91-51AD-4B5C-A7CB-90FF5440CE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cessibil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In terms of travel time needed to reach a specific destination from a specific origin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Along specific corridor and routes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From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border to border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 along Core Network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Between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major poles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 of the region, along the Core Network, i.e. major cities and/or ports and airports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as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travel time contours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 (of 1h, 2h, 4h, 6h, etc)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around the major pol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DD4B-6030-4748-8790-63EDF84F7B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3T08:12:10Z</dcterms:created>
  <dc:creator> </dc:creator>
  <dc:description/>
  <dc:language>en-US</dc:language>
  <cp:lastModifiedBy> </cp:lastModifiedBy>
  <dcterms:modified xsi:type="dcterms:W3CDTF">2007-09-10T07:16:43Z</dcterms:modified>
  <cp:revision>78</cp:revision>
  <dc:subject/>
  <dc:title>ISG Presentation for MAP 2008-12</dc:title>
</cp:coreProperties>
</file>