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446-806E-4F21-B318-CB6014FD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CC1-D45E-4F50-B91E-3FB2DBE7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85C-D280-4868-BDC4-A6DCA2E5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742-9C44-4391-A4E0-A6F08F21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95F2-6E4B-4162-8655-70B444FA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7D67-E9B6-4836-86ED-4FFF0A36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BE24-CDAE-4F6B-9553-80EB28E5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88CD-0DC5-4EEC-81D2-769DD743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8136-537F-4538-8151-355C62E8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D52B-160B-429A-AE33-F57B205C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C47A-B5DD-4E9F-9CD3-6C1ABBA2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5D1-93EA-4149-9317-8CFE5BE3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61DB-A9BD-4EDA-8334-18FFC95E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7152-D6CC-485C-8DCF-05038D4A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9F97-4C6B-4CFF-BB64-3831E9A6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D16C-172E-481D-BF8A-2F329742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1D97-E847-4C61-928F-1A4324D3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2C0-1CF9-4CB5-8B8A-86B217D5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C74-2945-4509-9625-4EB0A1D0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F9A-416D-4E98-BA49-647B8A7E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EFE-73F0-4BC4-B8FE-E4CF337A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51B-42E2-4ACF-BAE2-72C275DA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F89-6B4E-4117-957F-1A35FB26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DFC-0B06-4EB8-98A2-D7C3FEF6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515D-75C9-49EE-808E-1A29A99476F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F84E-A3EF-48D7-8669-8CC67CFD8B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FI AG Meeting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ussel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 September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lti Annual Plan for the Development of the South East Europe Core Transport Network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08-201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554E-09A3-414F-98A2-4A796BFF16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ways and other m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RW bottleneck limits introduced and discussion on capac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imitations and Further Needs Outlined everywhe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indicators for Seaports and Airport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Border crossings extended with Transport agreements in the reg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Table with RW border crossing tim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25F-B295-4F60-8C89-384B630B39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Border Cross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3 external and 18 internal road border crossings on the Core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plex procedures, difficult data colle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ad waiting times impro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Rail waiting times much greater than those at road border cross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137-3B31-4CEB-BB4B-7AB003DEF1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ort Policy and Sector Reform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 sector reforms necessary for achieving EU policies and for efficient use of infrastructure and invest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in issue is not what or how to reform but w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CFB-75B2-4D3F-A57C-0F720C6E21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fic Objectives for soft measures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n MAP 2008-12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oad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hancing regional interest through coherence with actions in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roviding safer – and consequently better managed roa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order crossing facil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ail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egional approach to infrastructure manag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mmon Network Statement in line with EU Dir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veloping common conditions for access to the network and scale of user charg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eliminate delays for freight and passengers at border cross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5BB-72A8-42CB-AB49-5468BBAE89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icative Priority Project Lis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50 projects submit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SEETO until MAP 2008-2012 of which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228 projects evaluated and prioritiz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0 projects in priority project list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ed in the MAP 2008-1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 project groups with 39 individual subprojec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523-08BF-4DB4-98D2-A07D15BF68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iority list of projects takes into accoun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 mos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strategically important individual project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Balanced network development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rridors (16 projects); Routes (9) terminals (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Modal balance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Road (13), Rail (11) Waterway (1), Airports (4) Sea Port (1)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Regional balanc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jec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preparatory status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easibility studies or completed design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20, but 10 at early stag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DF5-43F8-43BF-A6CC-41FAD4A8DA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Important to appreciate result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Related to strategic objectives for the MA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1. Enhancing regional interest,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mmon regulations, common rail network statement, open access, common levels of service for road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tegrated border management, regional agreements, negligible waiting tim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2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timulating Economi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condition of infrastruc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travel times on route and border crossing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creased traffic, more on ra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3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Efficient / Effective Management / modal bal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Deregulation of sector advanced / complet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New independent regulatory authorities in place and wor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Autonomous and commercially orientated sub-sectoral organisations in pla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Equitable tolls/user charges in place for road and rail covering expens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More long distance passenger movements by public transport, more long distance freight by train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3302-6503-4C14-87FD-5C3ADF6BA4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sults expected cont.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4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ocial Integration, improving living conditions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 accessibility to services, better connectivity between social group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Less congestion, more efficient operations, minimal waiting times at border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nsumer protection laws for all transport us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energy efficiency, lower carbon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latively lower emission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5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Improved safety and secur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operations, road fatalities approaching that of EU average 3 per million vehic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train operatio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public transport securi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6.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Adopting common technical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ically interoperable transport and communications syste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mon inter-modal transport plan, equipment, terminals common operating standards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D79-2BE2-4DB0-A77B-CE69BE9FCD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COME OF M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nhance credibility of beneficiaries to negotiate necessary funding for the proj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rnally justify allocation of available resour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ttract donors (esp. financial/ technical   assistance for soft measures) and attention of  IF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itiate possible private sector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aise interest of users, enhance cooperation in cross- border funding and promote PP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Core Network as vehicle for peace, stability and development in South-East Euro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SEETO to continue implementation and monito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0CC1-EECF-487E-9836-C62416DE1A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ing Implement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Important to monitor result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Developing indicators and monitoring historic results continuousl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SEETO web site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s a focal point for data dissemination and sharing inform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B1AF-604B-473C-A933-EA516C312E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 establishes requirement for annual MAP 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ering Committee had 3 meeting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 Chairman elected at the 1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 Meet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tional Coordinators have met for the 6th times at Ohr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il and Intermodal Working Group has met 3 time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6-10 adopted by SC in April, 2006, Montenegr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7-11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ed by the SC  (Novem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ed at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8-12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al by the SC  (Octo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ion at the 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BBB-3532-43EC-B8CF-791B9A8B76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Verdana"/>
              </a:rPr>
              <a:t>Thank you for your attention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3F8-FBDD-4F18-8419-3D9E2AA449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s for the MAP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der obj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facilitate social and economic development in South East  Europ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pecific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ut focus on regional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vide</a:t>
            </a: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 a base of information on the performance of the core net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provide a programme of soft mesu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list the projects with the highest priority invest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rovide a regional planning and programming too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encourage and harmonise refor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B7F-C0B6-44AB-998D-0773326577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rovements MAP 2007-11 to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P 2008-1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Regional emphasis on projects by introducing Chapter 4 focusing on CN corridor and road leve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parate Chapter dedicated to priority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veral project pools according to matur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ject Cycle Management as a monitor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ocus on regional approach, missing links, intermoda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dditional information from the new Questionnair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Core Network Modification Propos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New (sub)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215-834C-4F2D-AFE2-5604AEE78B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Condition and performance of the Core Netwo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oad network: 43% is classified as good or very good. Improvement of 15% since the REBIS assesment. Bottlenecks can affect about 8 % of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ailway network: 10% of network was graded as good condition. On 20% of network there are up to 20 trains per da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Inland waterways traffic flows for 2005 were 14,3 million tons of cargo and 60000 passeng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7 Sea Ports – over 2 million passengers; over 22 million tons, over 150,000 teus container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11 airports, 8 million passengers, 20,000 tons of car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FB1-9AC7-42BE-9D2B-C7D016B0B9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ttleneck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New better methodology, Based on Road Capacity and Level of Service (L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ssuming that LOS worst than “C” is a bottlenec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Bottlenecks fo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989-3CFC-4915-B844-BEB9675696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ffic Forecast for 20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 based on GDP and Population (REBIS methodology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ed traffic calculated per section, with accepted elasticity of 1.5 for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future traffic we are forecasting Bottlenecks which coud occur in the fu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C3EF-C618-4AD1-8A60-7C9D2B6FD1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ad Safe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1266840"/>
          <a:ext cx="866916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6840"/>
                    <a:ext cx="866916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F59-2645-4315-9832-B1FF07DBFC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i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In terms of travel time needed to reach a specific destination from a specific origin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long specific corridor and rout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rom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border to border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along Core Networ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Between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major pol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of the region, along the Core Network, i.e. major cities and/or ports and airport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s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travel time contour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(of 1h, 2h, 4h, 6h, etc)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round the major po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893-B485-4723-BA9C-C2108DC485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 </cp:lastModifiedBy>
  <dcterms:modified xsi:type="dcterms:W3CDTF">2007-09-10T07:16:43Z</dcterms:modified>
  <cp:revision>78</cp:revision>
  <dc:subject/>
  <dc:title>ISG Presentation for MAP 2008-12</dc:title>
</cp:coreProperties>
</file>