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7"/>
          <p:cNvSpPr/>
          <p:nvPr/>
        </p:nvSpPr>
        <p:spPr>
          <a:xfrm>
            <a:off x="7932240" y="6389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F711-00F9-4C4D-B157-97726A5003E8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ooter Placeholder 6"/>
          <p:cNvSpPr/>
          <p:nvPr/>
        </p:nvSpPr>
        <p:spPr>
          <a:xfrm>
            <a:off x="2857680" y="6350040"/>
            <a:ext cx="52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Transeuropean Networks Energy &amp;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6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7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3141360"/>
            <a:chOff x="0" y="0"/>
            <a:chExt cx="9144000" cy="314136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274840" cy="311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124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4356000" y="0"/>
              <a:ext cx="2340000" cy="31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6588000" y="0"/>
              <a:ext cx="2556000" cy="311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52"/>
          <p:cNvGrpSpPr/>
          <p:nvPr/>
        </p:nvGrpSpPr>
        <p:grpSpPr>
          <a:xfrm>
            <a:off x="0" y="2536920"/>
            <a:ext cx="9144000" cy="4321080"/>
            <a:chOff x="0" y="2536920"/>
            <a:chExt cx="9144000" cy="4321080"/>
          </a:xfrm>
        </p:grpSpPr>
        <p:sp>
          <p:nvSpPr>
            <p:cNvPr id="163" name="Freeform 5"/>
            <p:cNvSpPr/>
            <p:nvPr/>
          </p:nvSpPr>
          <p:spPr>
            <a:xfrm>
              <a:off x="0" y="2536920"/>
              <a:ext cx="9144000" cy="339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8"/>
            <p:cNvSpPr/>
            <p:nvPr/>
          </p:nvSpPr>
          <p:spPr>
            <a:xfrm>
              <a:off x="0" y="5644080"/>
              <a:ext cx="914400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fr-BE" sz="1800" spc="-1" strike="noStrike">
                  <a:solidFill>
                    <a:srgbClr val="000000"/>
                  </a:solidFill>
                  <a:latin typeface="Arial"/>
                </a:rPr>
                <a:t>Mr François Bégeot – Policy Offi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Date Placeholder 3"/>
          <p:cNvSpPr/>
          <p:nvPr/>
        </p:nvSpPr>
        <p:spPr>
          <a:xfrm>
            <a:off x="3119400" y="5661000"/>
            <a:ext cx="3108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THE TINA STUDY FOR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119400" y="5084640"/>
            <a:ext cx="5773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IFIAG Transport Working Group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5bab"/>
                </a:solidFill>
                <a:latin typeface="Arial"/>
              </a:rPr>
              <a:t>14 April 2008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  <p:sp>
        <p:nvSpPr>
          <p:cNvPr id="168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0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800"/>
                            </p:stCondLst>
                            <p:childTnLst>
                              <p:par>
                                <p:cTn id="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300"/>
                            </p:stCondLst>
                            <p:childTnLst>
                              <p:par>
                                <p:cTn id="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71280" y="189000"/>
            <a:ext cx="9331200" cy="6416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PROJECT PRIORIT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f a Multi-Criteria Analysis based on projects defined by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3 Rail projects mainly in the West side of Turkey and to improve main connections wit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Road projects mainly to upgrade existing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ports projects in all seas in order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nter-al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increase capacity for 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Text Placeholder 2" descr=""/>
          <p:cNvPicPr/>
          <p:nvPr/>
        </p:nvPicPr>
        <p:blipFill>
          <a:blip r:embed="rId1"/>
          <a:stretch/>
        </p:blipFill>
        <p:spPr>
          <a:xfrm>
            <a:off x="0" y="338040"/>
            <a:ext cx="9217080" cy="65199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Text Placeholder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COST OF THE CO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ail Network: € 8,87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oad Network: € 8,59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irports: € 1,18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eaports: € 1,488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 Cost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€ 20,145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rkey by defining its Core Network has a sound basis to negotiate the future TEN-T network in the framework of Chapter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develop a project pipeline with further investments supported by appropriate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rease administrative capacity as well as regulatory measures in particular to improve rail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motion of Public Private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764640"/>
            <a:ext cx="783756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755640" y="-387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404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6021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Britannic Bold"/>
              </a:rPr>
              <a:t>ISTANB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velop a multi-modal transport network (Core Network) within the Republic of Turkey comprising of roads, railway lines, seaports and airports using the TINA method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REE MAI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traffic forecasting model and the projection of traffic flows for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ng and analyzing the multimodal network, and then prioritizing potential network improvement projects by means of a Multi-Criteri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ment of a common database using GIS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TURKEY’S UNIQUE GEOGRAPHIC LOC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OFFERS MANY POSSIBILIT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transport in the North-South and East-West axes to better integrate Turkish transport with international transport networ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intermodal transport facilities and services, to take advantage of the strong growth in container transport; an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roving maritime connections and nodal points (seaports), to take advantage of their potential strategic role as industrial and logistic platfor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26680" cy="65502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based o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ree main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etwork should be consistent with the criteria set forth in the EU guidelines for development of the TEN-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echnical features of the future infrastructure should ensure consistency between the capacity of the network components and the expected traffic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time horizon for network completion should be 202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ailways : 10,912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which High Speed Rail Lines 3,50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1,438 km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re Roads: 11,984 k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tential Network Extensions (not yet part of the Core Network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350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THE CORE NETWORK (II)</a:t>
            </a:r>
            <a:br>
              <a:rPr sz="3200"/>
            </a:b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Horizon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airports:   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A: 2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B: 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tegory C: 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tal number of seaports: 39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-71280" y="185760"/>
            <a:ext cx="9335880" cy="6418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begeofr</cp:lastModifiedBy>
  <dcterms:modified xsi:type="dcterms:W3CDTF">2008-04-14T05:54:08Z</dcterms:modified>
  <cp:revision>110</cp:revision>
  <dc:subject>NEW GUIDELINES</dc:subject>
  <dc:title>DG TREN</dc:title>
</cp:coreProperties>
</file>