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90875-3794-404C-B390-F2EB0BC7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B2BDB-26F8-44CF-9DED-5A3A339B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F87CC-5A39-4BC9-8532-3C3C4892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2BD34-1A0B-4957-B75B-CD912FBA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3BCC-193C-4959-8039-5D2AEA3B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62F2-294F-462A-AC9E-75CB59CA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5C489-C6CF-43B0-B39F-804E45E5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E256-1CD6-402B-B6BF-1940F65E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4656-1300-49B0-8852-FCC35839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AFF0-0E9A-4B25-AD9E-BDE38E11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CE82-A5BD-4087-AC9F-8B61AD10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36594-391C-46CB-A0E9-660341D1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24D0-15E3-44B5-9493-3AAD50D0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48DF-87E6-4615-B067-A9253BC4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C516-4C7D-4950-B6F6-43CFB468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C604-69A3-4B53-A545-F85C335F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9982-3320-4CA6-99C2-B27BDF95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F6AF4-B9FA-4DCB-B665-83DCD04A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0D77F-2207-4B78-B2A3-10A9C6A5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D7953-D154-4440-97D3-E3526C29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BF8B9-0D5C-4F91-A632-AFB80C7A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173AB-0437-4C77-B7A2-87658E4D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0493-E5ED-48EA-A290-7F791150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7EB81-350F-4F0D-BC97-7E6C638E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1E355-5B8D-40EA-9323-484069E1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B4BF3-9816-447A-A9A6-1A0194C1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505F9-EC1E-46CD-A845-8E5FF16F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1498E-E9D6-40C9-B92C-5473770B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F8F5C-DDFA-48E8-9BDD-B2F88C4C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FFD5E-6FAE-4DD0-8475-CB424F55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2D413-A4D8-4CF1-9F66-55FCD96D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F2608-A352-4C05-86B4-4EECD6D8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F445C-AFE2-4BFE-A827-D8A80005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E4210-B386-4937-9DDB-51D923E7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A7B39-97EA-4B79-8E81-357B4268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604DA-A6E5-49FA-B012-3B165771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C72E-63F3-47B7-8E9E-D2484DF6C8AE}" type="datetime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B8EF-6FF3-4B77-85F4-F0EE83069546}" type="slidenum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D845-4283-434D-815F-AC91D886340C}" type="datetime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886C-7DD7-43CD-A466-FEF9F9AD5020}" type="slidenum">
              <a:rPr b="0" lang="hr-H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0A29-66C8-4490-B98B-C066A759EE98}" type="datetime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99E7-D441-4551-ACD5-1CE1F3281F3D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32000" y="33336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769080" cy="4537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4360" y="404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00"/>
                </a:solidFill>
                <a:latin typeface="Arial"/>
                <a:ea typeface="Arial"/>
              </a:rPr>
              <a:t>REHABILITATION AND DEVELOPMENT OF THE NAVIGATION ON THE SAVA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486900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229360"/>
            <a:ext cx="540072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EA61-52D9-4EB8-9C54-7DD891C1D63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Rehabilitation and development of navig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460836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ims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are to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-625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velop and improve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waterway Belgrade-Sisak up to class IV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-625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velop and improve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waterway Belgrade-Sisak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up to class V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25680" indent="-6256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Extention of Navigation from Sisak upstream to Brezice (Sloveni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219640" y="2565360"/>
            <a:ext cx="3673440" cy="27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2A486-1A5F-47D1-A948-B6039DB0A5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Activities on the traffic developmen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Prefeasibility study for I. phase finish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Transport demand and institutional, policy and legal framework study finish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Feasibility study ongo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Restoration of the marking system in 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RIS develop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FF298-D83B-4405-AB67-69C0460520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0" y="888480"/>
            <a:ext cx="914400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sent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f th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Pre-Feasibility Report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For th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Rehabilitation and Developmen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of th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Sava River Waterw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BD9F-C1C9-4E4F-917A-C267C0697E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Construction costs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 rkm 586 to rkm 207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– SC class IV waterwa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2052720"/>
            <a:ext cx="91440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dredging and training works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28.3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river bend improvement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1.3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arking improvement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0.6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bridge construction 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10.0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Total construction costs 40.2 million EU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D9825-6D12-47C2-BCF7-951BA0DA47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Construction costs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 rkm 207 to rkm 0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C class V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 waterway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12,6 million E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C class V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b </a:t>
            </a: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waterway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56,7 million E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E562D-5367-4539-85C8-FE75C1D856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RR - Probability indicators and con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30040" y="1673280"/>
            <a:ext cx="8913960" cy="420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EE20C-FCB0-4117-88F3-1512CECD54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roject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evaluation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 - S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ummar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The proposed package for the expansion of the section Brcko - Sisak to a SC class IV waterway seems to be a project with a clear positive financial result. The investment seems to soun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Furthermore, the positive results are STRONG against rather significant adverse effects and high requirements with regard to profitability, i.e. high interest rate of 15%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In the medium case scenario with a probability investment of only 51% considering the high interest rate (of 15%) the NPV calculation is breakeve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The fact that many distinct companies with different traffic flows as well as authorities see interesting possibilities of the proposed activities along the Sava is a very positive fact and a stimulation to improve the Sava to SC class IV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97EEF-79D8-40CA-9A3F-D67AB4B7CA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FOLLOW UP ACTIVITIES (1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1: Carry out a Feasibility Study of the entire Sava River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(including also the Sava 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ection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from Sisak to Brezice)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and integrate all the study results of the various studies carried out till date in the various Sava Riparian States (Serbian FS results, Pre-FS results, economic demand study, institutional, river basin studies, design studies, Acquis, etc.) on IW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2: Carry out a Detailed Field Investigation (hydraulic, geotechnics, etc.) using the results of the FS (step 1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3: Carry out Detailed Design Study, designs, costs, implementation schedules, technical specifications, propose packages of works, et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tep 4: Prepare Contract Documents to tender internationally and prepare Prequalification Document for Contractor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A6970-8D3C-4064-B844-5C1FDF8185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Arial"/>
              </a:rPr>
              <a:t>FOLLOW UP ACTIVITIES (2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5: Secure funding either from the Sava Riparian States or from international funding institutes (IFI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6: Prequalify Contractors and start tender procedur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7: Supervision services for the Works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8: Signing of Works Contract and Supervision Contract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tep 9: Implement Work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43D41-F2C9-4D77-BCA5-DF32BB485E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66"/>
                </a:solidFill>
                <a:latin typeface="Arial"/>
              </a:rPr>
              <a:t>Feasibility stud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Contract signed with the Consortium - PCI, Witteveen Bos, NEA, CRUP, Dvoku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Financed by the Contracting States to the FASRB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raft Final Report – July 31, 2008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AA3AE-F56C-4AD1-9182-B6B8DCF577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87512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888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1120" y="1413000"/>
            <a:ext cx="244800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Sign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Dec. 3,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In for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Garamond"/>
              </a:rPr>
              <a:t>Dec. 29,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arti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osnia &amp; Herzegov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roat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erb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Slove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33360"/>
            <a:ext cx="8208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Framework Agreement on the Sava River Basin -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S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678040" y="981000"/>
            <a:ext cx="6286680" cy="53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5C7E9-E118-4A4A-B36E-D201385D82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11280" y="342900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3300"/>
                </a:solidFill>
                <a:latin typeface="Tahoma"/>
              </a:rPr>
              <a:t>Thank you for your attention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4149720"/>
            <a:ext cx="4535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hr-HR" sz="2800" spc="-1" strike="noStrike">
                <a:solidFill>
                  <a:srgbClr val="ff3300"/>
                </a:solidFill>
                <a:latin typeface="Tahoma"/>
              </a:rPr>
              <a:t>Željko Milkovi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4360" y="4797360"/>
            <a:ext cx="38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5B3C8-605E-40D4-A842-354BC05FD9C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Objectives of the FASRB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Establishment of an international regime of navigation on the Sava River and its navigable tributarie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Establishment of sustainable water management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Undertaking of measures to prevent or limit hazards, and reduce and eliminate adverse consequences</a:t>
            </a:r>
            <a:br>
              <a:rPr sz="2400"/>
            </a:b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(floods, ice hazards, droughts and incidents involving substances hazardous to water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EB14A-2C46-4491-9C9F-103F20FE86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87512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38880" y="4807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54936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International Sava River Basin Commission -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SR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25600" y="1888560"/>
            <a:ext cx="7371720" cy="3047400"/>
            <a:chOff x="525600" y="1888560"/>
            <a:chExt cx="7371720" cy="3047400"/>
          </a:xfrm>
        </p:grpSpPr>
        <p:sp>
          <p:nvSpPr>
            <p:cNvPr id="157" name=""/>
            <p:cNvSpPr/>
            <p:nvPr/>
          </p:nvSpPr>
          <p:spPr>
            <a:xfrm>
              <a:off x="2410920" y="2351160"/>
              <a:ext cx="3430440" cy="6933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International Sava River Basin Commission (ISRBC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BiH, HR, SLO, S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69240" y="2466720"/>
              <a:ext cx="1715040" cy="4622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Secretariat of the ISRB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1056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 Navig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8248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</a:t>
              </a:r>
              <a:br>
                <a:rPr sz="1200"/>
              </a:b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Flood Preven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5260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 Accident Prevention and Contro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5600" y="3622320"/>
              <a:ext cx="1715040" cy="7941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Expert Group for</a:t>
              </a:r>
              <a:br>
                <a:rPr sz="1200"/>
              </a:br>
              <a:r>
                <a:rPr b="1" lang="hr-HR" sz="1200" spc="-1" strike="noStrike">
                  <a:solidFill>
                    <a:srgbClr val="ffffff"/>
                  </a:solidFill>
                  <a:latin typeface="Tahoma"/>
                </a:rPr>
                <a:t>River Basin Manageme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3" name=""/>
            <p:cNvCxnSpPr>
              <a:endCxn id="158" idx="1"/>
            </p:cNvCxnSpPr>
            <p:nvPr/>
          </p:nvCxnSpPr>
          <p:spPr>
            <a:xfrm>
              <a:off x="5840280" y="2695680"/>
              <a:ext cx="229680" cy="1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64" name=""/>
            <p:cNvCxnSpPr>
              <a:stCxn id="158" idx="3"/>
            </p:cNvCxnSpPr>
            <p:nvPr/>
          </p:nvCxnSpPr>
          <p:spPr>
            <a:xfrm>
              <a:off x="7784280" y="2697120"/>
              <a:ext cx="99000" cy="2181240"/>
            </a:xfrm>
            <a:prstGeom prst="bentConnector2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5" name=""/>
            <p:cNvCxnSpPr>
              <a:stCxn id="162" idx="2"/>
              <a:endCxn id="161" idx="2"/>
            </p:cNvCxnSpPr>
            <p:nvPr/>
          </p:nvCxnSpPr>
          <p:spPr>
            <a:xfrm flipH="1" flipV="1" rot="5400000">
              <a:off x="2295720" y="3503520"/>
              <a:ext cx="1800" cy="18273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6" name=""/>
            <p:cNvCxnSpPr>
              <a:stCxn id="161" idx="2"/>
              <a:endCxn id="160" idx="2"/>
            </p:cNvCxnSpPr>
            <p:nvPr/>
          </p:nvCxnSpPr>
          <p:spPr>
            <a:xfrm flipH="1" flipV="1" rot="5400000">
              <a:off x="4123440" y="3501720"/>
              <a:ext cx="1800" cy="183060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7" name=""/>
            <p:cNvCxnSpPr>
              <a:stCxn id="160" idx="2"/>
              <a:endCxn id="159" idx="2"/>
            </p:cNvCxnSpPr>
            <p:nvPr/>
          </p:nvCxnSpPr>
          <p:spPr>
            <a:xfrm flipH="1" flipV="1" rot="5400000">
              <a:off x="5952600" y="3502800"/>
              <a:ext cx="1800" cy="182844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8" name=""/>
            <p:cNvCxnSpPr>
              <a:stCxn id="159" idx="2"/>
            </p:cNvCxnSpPr>
            <p:nvPr/>
          </p:nvCxnSpPr>
          <p:spPr>
            <a:xfrm flipH="1" rot="16200000">
              <a:off x="7151040" y="4133160"/>
              <a:ext cx="463320" cy="1029600"/>
            </a:xfrm>
            <a:prstGeom prst="bentConnector2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</p:cxnSp>
        <p:cxnSp>
          <p:nvCxnSpPr>
            <p:cNvPr id="169" name=""/>
            <p:cNvCxnSpPr>
              <a:stCxn id="162" idx="0"/>
              <a:endCxn id="161" idx="0"/>
            </p:cNvCxnSpPr>
            <p:nvPr/>
          </p:nvCxnSpPr>
          <p:spPr>
            <a:xfrm flipH="1" rot="16200000">
              <a:off x="2296080" y="2709000"/>
              <a:ext cx="1440" cy="18273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0" name=""/>
            <p:cNvCxnSpPr>
              <a:stCxn id="161" idx="0"/>
              <a:endCxn id="160" idx="0"/>
            </p:cNvCxnSpPr>
            <p:nvPr/>
          </p:nvCxnSpPr>
          <p:spPr>
            <a:xfrm flipH="1" rot="16200000">
              <a:off x="4124520" y="2707560"/>
              <a:ext cx="1440" cy="183060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1" name=""/>
            <p:cNvCxnSpPr>
              <a:stCxn id="160" idx="0"/>
              <a:endCxn id="159" idx="0"/>
            </p:cNvCxnSpPr>
            <p:nvPr/>
          </p:nvCxnSpPr>
          <p:spPr>
            <a:xfrm flipH="1" rot="16200000">
              <a:off x="5953680" y="2708640"/>
              <a:ext cx="1440" cy="182844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ff0000"/>
              </a:solidFill>
              <a:miter/>
            </a:ln>
          </p:spPr>
        </p:cxnSp>
        <p:cxnSp>
          <p:nvCxnSpPr>
            <p:cNvPr id="172" name=""/>
            <p:cNvCxnSpPr>
              <a:stCxn id="157" idx="2"/>
            </p:cNvCxnSpPr>
            <p:nvPr/>
          </p:nvCxnSpPr>
          <p:spPr>
            <a:xfrm flipH="1">
              <a:off x="4124520" y="3044520"/>
              <a:ext cx="1800" cy="115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3324960" y="1888560"/>
              <a:ext cx="17150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ffffff"/>
                  </a:solidFill>
                  <a:latin typeface="Tahoma"/>
                </a:rPr>
                <a:t>STRUCTU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A08CE-39D8-4EA3-B5BB-2C558775BD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International Sava River Basin Commission -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SRBC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579400" y="1382040"/>
            <a:ext cx="5029200" cy="4914360"/>
            <a:chOff x="2579400" y="1382040"/>
            <a:chExt cx="5029200" cy="4914360"/>
          </a:xfrm>
        </p:grpSpPr>
        <p:sp>
          <p:nvSpPr>
            <p:cNvPr id="177" name=""/>
            <p:cNvSpPr/>
            <p:nvPr/>
          </p:nvSpPr>
          <p:spPr>
            <a:xfrm>
              <a:off x="2694600" y="2753640"/>
              <a:ext cx="2281320" cy="9288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Members of International Sava River Basin Commission (ISRBC)</a:t>
              </a:r>
              <a:br>
                <a:rPr sz="1100"/>
              </a:b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BiH, HR, SLO, SC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79320" y="2068200"/>
              <a:ext cx="916200" cy="2613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roble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51360" y="4811040"/>
              <a:ext cx="1371240" cy="4572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Recommand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79400" y="4811040"/>
              <a:ext cx="1259280" cy="4572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Decis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36240" y="5726160"/>
              <a:ext cx="1715040" cy="5702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Implemantat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BiH, HR, SLO, SC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36240" y="3897000"/>
              <a:ext cx="1487160" cy="6858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Plenary session</a:t>
              </a:r>
              <a:br>
                <a:rPr sz="1100"/>
              </a:b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of ISRBC</a:t>
              </a:r>
              <a:br>
                <a:rPr sz="1100"/>
              </a:b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Discussi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80800" y="3897000"/>
              <a:ext cx="1027800" cy="57384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Work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group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94720" y="4011120"/>
              <a:ext cx="1027800" cy="26136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1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Secretaria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36240" y="1382040"/>
              <a:ext cx="159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FUNCTION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6" name=""/>
            <p:cNvCxnSpPr/>
            <p:nvPr/>
          </p:nvCxnSpPr>
          <p:spPr>
            <a:xfrm flipH="1">
              <a:off x="3779280" y="3682800"/>
              <a:ext cx="55800" cy="2145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/>
            <p:nvPr/>
          </p:nvCxnSpPr>
          <p:spPr>
            <a:xfrm flipH="1">
              <a:off x="3835080" y="2413800"/>
              <a:ext cx="2880" cy="3402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8" name=""/>
            <p:cNvCxnSpPr/>
            <p:nvPr/>
          </p:nvCxnSpPr>
          <p:spPr>
            <a:xfrm rot="5400000">
              <a:off x="3380400" y="4411080"/>
              <a:ext cx="228600" cy="571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/>
            <p:nvPr/>
          </p:nvCxnSpPr>
          <p:spPr>
            <a:xfrm flipH="1" rot="16200000">
              <a:off x="4094640" y="4267440"/>
              <a:ext cx="22860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/>
            <p:nvPr/>
          </p:nvCxnSpPr>
          <p:spPr>
            <a:xfrm flipH="1" rot="16200000">
              <a:off x="3322800" y="5154480"/>
              <a:ext cx="457920" cy="68544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1" name=""/>
            <p:cNvCxnSpPr/>
            <p:nvPr/>
          </p:nvCxnSpPr>
          <p:spPr>
            <a:xfrm rot="5400000">
              <a:off x="4036320" y="5125320"/>
              <a:ext cx="457920" cy="74448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/>
            <p:nvPr/>
          </p:nvCxnSpPr>
          <p:spPr>
            <a:xfrm>
              <a:off x="6122880" y="4240080"/>
              <a:ext cx="460800" cy="1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/>
            <p:nvPr/>
          </p:nvCxnSpPr>
          <p:spPr>
            <a:xfrm>
              <a:off x="4522320" y="4240080"/>
              <a:ext cx="516960" cy="1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/>
            <p:nvPr/>
          </p:nvCxnSpPr>
          <p:spPr>
            <a:xfrm flipH="1">
              <a:off x="4522320" y="4125240"/>
              <a:ext cx="518400" cy="1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/>
            <p:nvPr/>
          </p:nvCxnSpPr>
          <p:spPr>
            <a:xfrm flipH="1">
              <a:off x="6122520" y="4125240"/>
              <a:ext cx="462240" cy="1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/>
            <p:nvPr/>
          </p:nvCxnSpPr>
          <p:spPr>
            <a:xfrm>
              <a:off x="4295160" y="2241000"/>
              <a:ext cx="1314360" cy="1770120"/>
            </a:xfrm>
            <a:prstGeom prst="bentConnector2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97" name=""/>
          <p:cNvSpPr/>
          <p:nvPr/>
        </p:nvSpPr>
        <p:spPr>
          <a:xfrm>
            <a:off x="0" y="5875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718C9-612C-463F-8AF8-3FEA243A39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-36360" y="-27000"/>
          <a:ext cx="9216720" cy="49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-27000"/>
                    <a:ext cx="9216720" cy="49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79280" y="5013360"/>
            <a:ext cx="860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586 rkm of the waterway from Belgrad up to Sis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Connection  between Adriatic and Central and Eastern Europe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47640" y="1844640"/>
            <a:ext cx="648000" cy="276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Arial"/>
              </a:rPr>
              <a:t>Rije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907280" y="162864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51280" y="4076640"/>
            <a:ext cx="649440" cy="276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Arial"/>
              </a:rPr>
              <a:t>Ploč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1640" y="3860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124000" y="1557000"/>
            <a:ext cx="792360" cy="14436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4284720" y="2133360"/>
            <a:ext cx="503280" cy="165564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4284720" y="1988640"/>
            <a:ext cx="71280" cy="180036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6165720"/>
            <a:ext cx="78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Future canal Dunav-Sava (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onnecting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Vukova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</a:t>
            </a:r>
            <a:r>
              <a:rPr b="1" lang="hr-HR" sz="2000" spc="-1" strike="noStrike">
                <a:solidFill>
                  <a:srgbClr val="ffffff"/>
                </a:solidFill>
                <a:latin typeface="Garamond"/>
              </a:rPr>
              <a:t> and Šama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3280" y="1341360"/>
            <a:ext cx="295560" cy="358920"/>
          </a:xfrm>
          <a:custGeom>
            <a:avLst/>
            <a:gdLst/>
            <a:ahLst/>
            <a:rect l="l" t="t" r="r" b="b"/>
            <a:pathLst>
              <a:path w="186" h="192">
                <a:moveTo>
                  <a:pt x="186" y="0"/>
                </a:moveTo>
                <a:cubicBezTo>
                  <a:pt x="180" y="4"/>
                  <a:pt x="174" y="9"/>
                  <a:pt x="168" y="12"/>
                </a:cubicBezTo>
                <a:cubicBezTo>
                  <a:pt x="162" y="15"/>
                  <a:pt x="156" y="15"/>
                  <a:pt x="150" y="18"/>
                </a:cubicBezTo>
                <a:cubicBezTo>
                  <a:pt x="137" y="25"/>
                  <a:pt x="114" y="42"/>
                  <a:pt x="114" y="42"/>
                </a:cubicBezTo>
                <a:cubicBezTo>
                  <a:pt x="108" y="51"/>
                  <a:pt x="87" y="82"/>
                  <a:pt x="78" y="96"/>
                </a:cubicBezTo>
                <a:cubicBezTo>
                  <a:pt x="71" y="107"/>
                  <a:pt x="52" y="105"/>
                  <a:pt x="42" y="114"/>
                </a:cubicBezTo>
                <a:cubicBezTo>
                  <a:pt x="25" y="128"/>
                  <a:pt x="24" y="132"/>
                  <a:pt x="12" y="150"/>
                </a:cubicBezTo>
                <a:cubicBezTo>
                  <a:pt x="10" y="158"/>
                  <a:pt x="8" y="166"/>
                  <a:pt x="6" y="174"/>
                </a:cubicBezTo>
                <a:cubicBezTo>
                  <a:pt x="4" y="180"/>
                  <a:pt x="0" y="192"/>
                  <a:pt x="0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4160" y="2576520"/>
            <a:ext cx="729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300" spc="-1" strike="noStrike">
                <a:solidFill>
                  <a:srgbClr val="000514"/>
                </a:solidFill>
                <a:latin typeface="Arial"/>
              </a:rPr>
              <a:t>Serbia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34923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514"/>
                </a:solidFill>
                <a:latin typeface="Garamond"/>
              </a:rPr>
              <a:t>Monteneg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B472-E37F-4532-97E6-6791840BAE46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History of the navigation</a:t>
            </a:r>
            <a:r>
              <a:rPr b="0" lang="hr-HR" sz="36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48355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In the middle of th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XVIII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cent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ury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lmost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 50 ships</a:t>
            </a:r>
            <a:br>
              <a:rPr sz="2400"/>
            </a:b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operated on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Sava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river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First passanger line Sisak – Zemu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started in 1844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About 15 mil. T in 1990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Activities were stopped during</a:t>
            </a:r>
            <a:br>
              <a:rPr sz="2400"/>
            </a:b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the war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148360" y="1773360"/>
          <a:ext cx="381636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773360"/>
                    <a:ext cx="381636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1133C-14CB-4E6D-B221-705508A6CB72}" type="slidenum">
              <a:t>7</a:t>
            </a:fld>
          </a:p>
        </p:txBody>
      </p:sp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r-HR" sz="3200" spc="-1" strike="noStrike">
                <a:solidFill>
                  <a:srgbClr val="ffcc00"/>
                </a:solidFill>
                <a:latin typeface="Arial"/>
              </a:rPr>
              <a:t>Navigation regime under the FASRB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2062080"/>
            <a:ext cx="46800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Navigation is open for merchant vessels of any stat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Merchant vessels are free to enter the port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The Parties shall undertake measures to maintain the waterwa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Decisions of the Sava Commission shall be binding upon all the Partie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435640" y="2009880"/>
            <a:ext cx="3101760" cy="37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339EA-4289-4CB8-9090-451C5AB4DD31}" type="slidenum">
              <a:t>8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Sava waterway - Navigation problem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28036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The physical parameters of the Sava cause unfavourable navigation conditions related t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limited draft during large period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sharp river bends limiting the length and width of vessels and convoy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36520" indent="-236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Other problems for navigations ar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limited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height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for passages under </a:t>
            </a: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some 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bridge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512640" indent="-19692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insufficient markin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8DF26-8262-4059-B260-054E27E362C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10:44:22Z</dcterms:created>
  <dc:creator>Željko Milković</dc:creator>
  <dc:description/>
  <dc:language>en-US</dc:language>
  <cp:lastModifiedBy>Korisnik</cp:lastModifiedBy>
  <dcterms:modified xsi:type="dcterms:W3CDTF">2008-04-10T14:48:48Z</dcterms:modified>
  <cp:revision>170</cp:revision>
  <dc:subject/>
  <dc:title>Rehabilitation and Development Working Group</dc:title>
</cp:coreProperties>
</file>