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5009-26D8-43D8-9220-2024320E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01E-9944-42F7-BBF6-3AA069F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9CE-CD70-4C91-9631-12BF1A35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DF3-4DD9-459E-8DC9-DAF3043A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DB07-80AC-4AEA-ABE0-971A720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934A-F809-4F98-9840-6D4AB900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765C-7BF0-43A1-A929-29E596CB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FC7B-AD41-461E-B419-70DDA02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6305-693D-44FE-9D55-FE414EA1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F026-6101-4217-B97A-E4C4BD62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B6DE-8871-49C8-9FC1-C6B908D9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A0C-9E65-4CE8-AC8B-1FB39A7E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B54E-A0AF-48F2-9F0E-35C472EE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3F3A-6DC3-4681-9603-F3B85D5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E57E-0545-4F07-B4AF-C5D15B5B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D158-E7B5-4B26-BC97-E59481BC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896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3240" y="137628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68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896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3240" y="3841560"/>
            <a:ext cx="278460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1FEA-4C5F-4CAD-AC8B-54CFF62A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450-FA93-4A41-9B46-35A03DB8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3EBE-10B5-4D3F-9C90-FAF2A253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9EF-6DC1-489F-B979-BD91F88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68040"/>
            <a:ext cx="755172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E39-F7E0-4266-B214-5FEF66D3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E04-7BE1-46C9-A0CD-B735F0D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6280" y="384156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C5F-9B3A-4D06-AE9B-3B10994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6280" y="1376280"/>
            <a:ext cx="422028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680" y="3841560"/>
            <a:ext cx="864864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D0D-1751-4076-89BD-9D0F7E7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90D9-40D5-4B2A-9340-CD638E4BF4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50920" y="1720440"/>
            <a:ext cx="6110280" cy="11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57560" y="6265800"/>
            <a:ext cx="281448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21400" y="6265800"/>
            <a:ext cx="19224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A6F2-F753-45F6-9E91-378670ECB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5257800" y="510552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rtin Humphrey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pril 14, 200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0968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80880"/>
            <a:ext cx="61102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European Union - The World Ba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895480" y="2133360"/>
            <a:ext cx="608976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Developing a Sustainable Transport System for Kosovo</a:t>
            </a:r>
            <a:br>
              <a:rPr sz="37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the railway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76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3434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19051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742840"/>
            <a:ext cx="6713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What is the vision of the author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ion for development of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of the transport infrastructure of Kosovo into the international regional transport networks – priority construction of routes 6 and 7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of European standards in all transport secto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 backlog and modernization existing infrastructu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cost of transport to facilitate economic development; an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the number of accidents in traffi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2120" y="325908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ntain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rmal maintenance needs on primary/regional network  - € 20 million (2006 € 8.1 mill)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2 per ye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cal Roads normal €12 mill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acklog additional €11 million per year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otal Maintenance needs €53.9 mill pa, or approx. €270 million over the next five yea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ing the road net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605808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685800" y="1523880"/>
          <a:ext cx="7772400" cy="4668840"/>
        </p:xfrm>
        <a:graphic>
          <a:graphicData uri="http://schemas.openxmlformats.org/drawingml/2006/table">
            <a:tbl>
              <a:tblPr/>
              <a:tblGrid>
                <a:gridCol w="1996920"/>
                <a:gridCol w="2251080"/>
                <a:gridCol w="1000440"/>
                <a:gridCol w="2523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commended 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Investment (€ mill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Remar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Serb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close to Pristina, new 2 lane road between Podujeve and Besi and upgrade of existing road to the border with 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project should be closely co-coordinated with the Pristina Ring Road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Albania (Route 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between Pristina and Shtime and upgrade of existing road for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13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Motorway design should be optimized including a supplementary interchange at Lip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FYROM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between Pristina and Doganaj, and upgrade existing road to bor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9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Pristina – Border with Montenegro (Route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New high standard 2-lane road from bypass at Fushe Kosove to Komorane. Restoring design standards and smaller upgrading works on other parts of the ro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5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Sections close to Pristina should be co-coordinated with the construction of the Fushe-kosove byp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4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sed implementation n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railway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ollowing projects are considered to be priority projects in the short ter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assistance to strengthen the institutional framework, develop the new law on railways and other legislation and establish the railway regulatory body 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1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freight wagons -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€ 2.5 millio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air of existing locomotiv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3.3 million;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chase of new diesel locomotives to replace life expired locomotives in the current flee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€ 10 mill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tal Needs over the next 5 yea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nservative estimate is €1100 million over next 5 years -  € 220 per year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verage spend 2000-2006 €40 per annum (€90 mill in 2008)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uthorities predict €100 million from budge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stimated gap - €600 million in total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main messag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rrent transport infrastructure is limited in scope and quality, and under increasing pres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itutional framework and sector organizations, despite improvements, remain w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outes 6 and 7 are priorities for the authorities – but needs are far broa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line of the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in challenges facing the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sion of th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financing n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A. The Main Challenges.</a:t>
            </a:r>
            <a:br>
              <a:rPr sz="3100"/>
            </a:b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institutional frame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herent strategy of policy to guide developmen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updated inventory of all roa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unctional classification needs updating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 consistent design and construction standards; Reform of the legal and policy framework for railways yet to star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ir sector remains a reserved func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w Law on Land Acquisition – remains to be teste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organizations in the sec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ganization structure and responsibilities are in need of reform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adequate allocations for maintenance at all levels of the road networ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 consistent use of asset management system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nt signs of strain in absorbing modest amounts of technical assistance and capacity build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ondition of the transport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etwork is isolated from wider regional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imary road network is (2005) in reasonable condition, but updated surveys are required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e recent study found 94% of secondary and local roads are in poor or very poor condition;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ailway network has been neglected since end of conflict – and stock is old (although not life expired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80880" y="1219320"/>
          <a:ext cx="8458200" cy="5029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ad safety is a major and growing economic and social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1080" y="68040"/>
            <a:ext cx="755172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mand continues to gr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680" y="1376280"/>
            <a:ext cx="864864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liable data on vehicle ownership is not available, but estimated rate 105 per 1000 head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ehicle use is predicated to grow at 3-6% pa; 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Routes 6 and 7 levels range from 1900 AADT at N/S to over 27000 AADT around Pristin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4T07:26:08Z</dcterms:created>
  <dc:creator>WB154283</dc:creator>
  <dc:description/>
  <dc:language>en-US</dc:language>
  <cp:lastModifiedBy>wb251351</cp:lastModifiedBy>
  <dcterms:modified xsi:type="dcterms:W3CDTF">2008-04-14T07:20:42Z</dcterms:modified>
  <cp:revision>248</cp:revision>
  <dc:subject/>
  <dc:title>Slide 1</dc:title>
</cp:coreProperties>
</file>