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15138" cy="9950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0BC-3115-4692-833C-44BCA3FA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ADD-517B-47F3-AC12-94ABC324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B41-E462-4002-8FFD-75B8B27E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484-DAEB-4649-AF57-02250780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1A2A-3F00-4804-B6A0-68686F2C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8273-6C74-483A-8DEF-271E663F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FFD5-2618-4600-B259-373994A4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92B8-396B-46B3-9381-A673C48F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4121-511D-4AFA-98EB-014D9020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1765-8AA9-4A76-ACE7-29A6908A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F70B-F3BB-4642-93C0-5B4EEE18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8C3-05ED-42A0-B52C-2033D008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69111-199A-40D0-BDB8-4A278FDE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10AD-E230-47DB-A9ED-7E0EECAC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7367-FC49-428A-82AD-EDA3130E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B12F-5EE1-496F-9283-6C01917A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CF13-2ACF-4699-A0FA-8B5FF62E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BA5-31CD-4B13-AEE5-8EDCBD98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587-914F-4DC5-9335-514D559F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C3BB-260E-495D-AE4C-6A87654E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154-B3BC-42CA-8F6B-19E3BE78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113-0FB5-483B-9379-F156645A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13EB-0AE3-4519-9D41-96895F40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8E1-72C5-44F4-9FB7-C467972B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EETO 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D57C-F187-4312-81BC-A5B211DC26A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548640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8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5"/>
          </p:nvPr>
        </p:nvSpPr>
        <p:spPr>
          <a:xfrm>
            <a:off x="2666880" y="6248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outh East Europe Transport Observat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DD76-2F52-4BCB-8EDB-999F2FCCAE3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5486400" cy="568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Verdana"/>
              </a:rPr>
              <a:t>International Financial Institutions Advisory Group meeting on Transport</a:t>
            </a:r>
            <a:br>
              <a:rPr sz="2400"/>
            </a:br>
            <a:r>
              <a:rPr b="1" i="1" lang="en-US" sz="1600" spc="-1" strike="noStrike">
                <a:solidFill>
                  <a:srgbClr val="ccecff"/>
                </a:solidFill>
                <a:latin typeface="Verdana"/>
              </a:rPr>
              <a:t>April 14, 2008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28600" y="40381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Update on SEETO Activities in 2008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C739-3956-4168-89A3-A75413DF4E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Verdana"/>
              </a:rPr>
              <a:t>Priorities of 2008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improve the general quality of the Multi-annual Plan and, specifically, the quality of the analysis of projects’ statu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improve the data collection proces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assist the Steering Committee and to facilitate its work on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he reform of railways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order-crossing issues, including the establishment of the Border-Crossing Working Group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oad safety issues, including the establishment of the Road Safety Working Group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o fill the vacancies in personnel and to improve the internal procedures of the Permanent Secretaria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19F5-E583-46F6-A82C-AE4407827A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ecff"/>
                </a:solidFill>
                <a:latin typeface="Arial"/>
              </a:rPr>
              <a:t>Assistance to SC for fostering policy reforms and harmonisation in the transport sector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 u="sng">
                <a:solidFill>
                  <a:srgbClr val="ffffff"/>
                </a:solidFill>
                <a:uFillTx/>
                <a:latin typeface="Verdana"/>
              </a:rPr>
              <a:t>In the framework of the implementation of the 2007 Addendum to the MoU for a South East European Railway Transport Area, provide support to the SC for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60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a) the preparation of a detailed timetable for the implementation the targets foreseen in the Addendum signed on 4.12.2007;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Verdana"/>
              </a:rPr>
              <a:t>b) fostering the preparation of a Common Network Statement, as proposed by the Railways Working Group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24172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9521-5F86-46FF-9DC8-3D4DCCDE65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Between two MAP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EETIS ver.2 is launched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nfrastructure projects have been financed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e.g. Belgrade by pass in Serbia, Corridor Vc in Bosnia, Route 7 and parts of Corridor VIII in Albania, Corridor X in Macedonia, rail Corridor X in Croatia, etc...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tinuation on work on the soft measure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Addendum on MoU was signed in December 2007 and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working group start with activities for implementation of Addendu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ailway working group support preparation of network statemen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operation with Corridors secretaria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42F-1918-4B3E-BDFF-78F24C4543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ecff"/>
                </a:solidFill>
                <a:latin typeface="Arial"/>
              </a:rPr>
              <a:t>MAP 2009-13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Verdana"/>
              </a:rPr>
              <a:t>Same Structure – Improved and Updated Content!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1. Introduc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2. Description of the core network and its conditio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Description and Condition in 2007 for all transport mod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3. Assessment of core network performanc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Traffic, Bottlenecks and Accessibility in 2007 for all transport modes and Border Crossings and Road Safety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4. Priority projects of the core net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To identify common projects of regional interes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5. Transport policy and sector reform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Sector Reforms, EU Policy Guidelines, Horizontal Measures, Priority Soft Measure for 2009, Soft Measures Priorities and Draft Action Pla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6. Monitoring, evaluation and expected achievement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oal: Describe Monitoring,  Basic Indicators – Evolution 2005-2008, A Vision for Future MAPs, Expected Achievements, Implementation and Associated Risks, Expected decision mak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0509-1666-4C70-9E9D-FB24B3EC38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tages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fining key data providers in March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nd of April Workshop for data collection and SEETIS 2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for users, National Coordinators and Key User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ata Collection Start in May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rnal 1st Draft: end of June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raft by:  end of Ju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akeholder Comments by: early September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Draft: end of September (end of data collectio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C Meeting – Adoption: October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nal version for Printing: November 200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Annual Meeting of Ministers: 4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December 2008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5596-1F4F-490C-A603-96D4C12840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5400" spc="-1" strike="noStrike">
                <a:solidFill>
                  <a:srgbClr val="ffff00"/>
                </a:solidFill>
                <a:latin typeface="Verdana"/>
              </a:rPr>
              <a:t>Thank you for your attention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3EE-BB68-4A2E-8B22-7E6F6127C8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8:12:10Z</dcterms:created>
  <dc:creator> </dc:creator>
  <dc:description/>
  <dc:language>en-US</dc:language>
  <cp:lastModifiedBy>SEETO</cp:lastModifiedBy>
  <dcterms:modified xsi:type="dcterms:W3CDTF">2008-04-13T18:42:02Z</dcterms:modified>
  <cp:revision>184</cp:revision>
  <dc:subject/>
  <dc:title>ISG Presentation for MAP 2008-12</dc:title>
</cp:coreProperties>
</file>