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6E0-87AC-49BA-A17C-68E46607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F63-68AF-489C-9671-AFF401E0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7FA-6498-41CB-A23D-7625F1EB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342-5424-4F58-8906-62397BAE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5805-135C-4757-BB66-DC04A222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E88F-17DA-4184-83A7-ED84020B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E429-364C-4310-99D4-9EF6E56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0E7-172A-493F-9DC8-D9124ECB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2211-7D17-49C4-A15D-104B18B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28B4-9EDF-4801-A0C6-05AB29ED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8F04-51A1-4187-8369-BAFF163D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211-32B7-402C-B598-7CB6C92F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2BA0-50DB-4E3A-B08D-7FAF61A0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6FE6-B06A-4D45-8C97-767095B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003A-0E61-4EC0-A206-0598295D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308B-962E-4533-9B65-538AF005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0C7-8BF4-4A10-94BD-7DD2D644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98A-7089-4A88-B988-8A77B0D1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31B-DBEA-4485-8268-AD7F8BD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029-28D2-40AC-A690-52D7785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B35-D7D7-43CA-8B5A-82CA00C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371-367D-4525-B949-2DF7A05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E7B-2661-4B9B-8FE7-7F0A16B1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A8B-DE63-447A-8CB1-1AF5BD6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097A-3889-4BA4-BF61-0C61EA127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0920" y="1720440"/>
            <a:ext cx="61102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57560" y="6265800"/>
            <a:ext cx="281448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214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262-BC84-465A-8C77-102448044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800" y="5105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tin Humphr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 14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880"/>
            <a:ext cx="6110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uropean Union - The World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608976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ing a Sustainable Transport System for Kosovo</a:t>
            </a:r>
            <a:br>
              <a:rPr sz="37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rail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671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hat is the vision of the author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on for development of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transport infrastructure of Kosovo into the international regional transport networks – priority construction of routes 6 and 7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European standards in all transport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backlog and modernization existing infra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cost of transport to facilitate economic development;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number of accidents in traffi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325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ain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rmal maintenance needs on primary/regional network  - € 20 million (2006 € 8.1 mill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2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cal Roads normal €12 mill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1 million per year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tal Maintenance needs €53.9 mill pa, or approx. €270 million over the next five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0580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5800" y="1523880"/>
          <a:ext cx="7772400" cy="4668840"/>
        </p:xfrm>
        <a:graphic>
          <a:graphicData uri="http://schemas.openxmlformats.org/drawingml/2006/table">
            <a:tbl>
              <a:tblPr/>
              <a:tblGrid>
                <a:gridCol w="1996920"/>
                <a:gridCol w="2251080"/>
                <a:gridCol w="1000440"/>
                <a:gridCol w="2523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commended 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Investment (€ mill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ma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Serb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close to Pristina, new 2 lane road between Podujeve and Besi and upgrade of existing road to the border with 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project should be closely co-coordinated with the Pristina Ring Road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Alban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between Pristina and Shtime and upgrade of existing road for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design should be optimized including a supplementary interchange at Lip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FYROM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between Pristina and Doganaj, and upgrade existing road to b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Montenegro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from bypass at Fushe Kosove to Komorane. Restoring design standards and smaller upgrading works on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s close to Pristina should be co-coordinated with the construction of the Fushe-kosove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4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d implementation n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railway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llowing projects are considered to be priority projects in the short ter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 to strengthen the institutional framework, develop the new law on railways and other legislation and establish the railway regulatory body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1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freight wagons -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2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locomoti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3.3 million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e of new diesel locomotives to replace life expired locomotives in the current flee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10 mill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Needs over the next 5 yea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ervative estimate is €1100 million over next 5 years -  € 220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erage spend 2000-2006 €40 per annum (€90 mill in 2008)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thorities predict €100 million from budge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timated gap - €600 million in tota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main messag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transport infrastructure is limited in scope and quality, and under increasing pres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framework and sector organizations, despite improvements, remain w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outes 6 and 7 are priorities for the authorities – but needs are far bro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llenges facing the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sion of th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. The Main Challenges.</a:t>
            </a:r>
            <a:br>
              <a:rPr sz="3100"/>
            </a:b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stitutional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herent strategy of policy to guide developmen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updated inventory of all ro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unctional classification needs updating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nsistent design and construction standards; Reform of the legal and policy framework for railways yet to star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ir sector remains a reserved fun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w Law on Land Acquisition – remains to be teste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rganizations in the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 structure and responsibilities are in need of reform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dequate allocations for maintenance at all levels of the road networ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consistent use of asset management syste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nt signs of strain in absorbing modest amounts of technical assistance and capacity build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 of the transport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twork is isolated from wider regional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imary road network is (2005) in reasonable condition, but updated surveys are required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recent study found 94% of secondary and local roads are in poor or very poor condition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ilway network has been neglected since end of conflict – and stock is old (although not life expired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219320"/>
          <a:ext cx="8458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 safety is a major and growing economic and social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continues to g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iable data on vehicle ownership is not available, but estimated rate 105 per 1000 hea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hicle use is predicated to grow at 3-6% pa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Routes 6 and 7 levels range from 1900 AADT at N/S to over 27000 AADT around Pristin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6:08Z</dcterms:created>
  <dc:creator>WB154283</dc:creator>
  <dc:description/>
  <dc:language>en-US</dc:language>
  <cp:lastModifiedBy>wb251351</cp:lastModifiedBy>
  <dcterms:modified xsi:type="dcterms:W3CDTF">2008-04-14T07:20:42Z</dcterms:modified>
  <cp:revision>248</cp:revision>
  <dc:subject/>
  <dc:title>Slide 1</dc:title>
</cp:coreProperties>
</file>