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CE3D-B627-489D-A41A-54C11458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929E-3A7E-4C4C-949F-9B8C77D2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B27F4-451E-4D12-84E2-C7E65FB6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1EB2-80A8-4EA9-96D2-6B05ACB9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909B-D0F0-4F3C-8464-04C16794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68B5-47D8-427A-A14D-A35F0E51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7440-98F9-4D2E-B929-A6D3810A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E9F7-8D44-47EC-BFBC-CB024F9D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E642-162A-4EED-818C-1EFD155A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91E4-1B54-475E-99C9-A227FD7D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A0A9-870E-4B74-8314-4EA8B551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5D71-F7F7-42DE-8AAF-35FD3DEB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7E2A-AFD9-4B9F-BFA3-B5BC0038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B2C9-5C05-4DF9-9B5D-BB76A3BD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D43B-958C-438A-9198-F05C6088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0D3B-89C0-4168-BF2F-387BE54B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4DC9-F21D-427B-BE30-06715BF6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FE972-8A36-430E-A435-36207550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3AC50-9ECD-43D6-B97F-7C093295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2F4B5-1431-4510-88EC-64244939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06F06-0991-46D1-AFE3-F849D804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455BF-16F4-480E-B2BC-F7EA1798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C5F03-68A8-4E79-B575-C6D3CDD0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1A27D-8205-4072-89F6-B1716258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E64A7-6A8B-48F0-9ED2-F274EC5F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BE08-09A2-4036-979E-F85A58E7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8A90A-A515-4E4A-83B3-DDE5A92E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62B99-E544-4AF1-B753-ABF17AEE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74CB5-0138-401F-9E07-D6ED9A9E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2103C-EBC8-4535-AA32-2729F1E7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C7314-7F51-4EF0-8D59-69AEAFC2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4D1C6-863D-4530-9400-AE8527B3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31880-FE66-40B2-9194-1883F184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0785-8B35-40D6-B147-038A61FC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8C12-F782-4378-8EA5-F2A71FE9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983B-234B-4529-B178-AF776830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8836-DCBE-4502-B88F-73CA234719CF}" type="datetime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ED54-8BE3-4818-9822-87D359C42F99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686E-7E68-499A-82E9-398181241F85}" type="datetime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1293-3AA5-4AFC-A386-ED74CC36A095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73CF-26C9-4A86-9A03-6F12E3465DF1}" type="datetime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500E-3D39-4AEC-84CB-4D7543378F73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32000" y="333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76908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404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00"/>
                </a:solidFill>
                <a:latin typeface="Arial"/>
                <a:ea typeface="Arial"/>
              </a:rPr>
              <a:t>REHABILITATION AND DEVELOPMENT OF THE NAVIGATION ON THE SAVA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4869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229360"/>
            <a:ext cx="540072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C196-E7DD-41D5-A0AB-947FD9D5F95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Rehabilitation and development of navig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60836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ims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are to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elop and improve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waterway Belgrade-Sisak up to class IV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elop and improve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waterway Belgrade-Sisa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p to class V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xtention of Navigation from Sisak upstream to Brezice (Sloveni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673440" cy="27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0C66F-9BCC-4800-9765-9F78EDC711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Activities on the traffic developmen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refeasibility study for I. phase fin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ransport demand and institutional, policy and legal framework study fin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Feasibility study ongo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estoration of the marking system in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IS develo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0919-F6DE-4D95-AE94-E47DDE0C8D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0" y="888480"/>
            <a:ext cx="9144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sent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f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-Feasibility Repor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For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Rehabilitation and Develop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f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Sava River Waterw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EFBD-9BCC-4AC9-BCF3-E12B02FC6A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Construction cost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 rkm 586 to rkm 207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– SC class IV waterwa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2052720"/>
            <a:ext cx="9144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dredging and training works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28.3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river bend improvement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1.3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arking improvement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0.6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bridge construction 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10.0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Total construction costs 40.2 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A2092-2D93-4183-97FB-4693BF4E2C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Construction cost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 rkm 207 to rkm 0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C class V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waterway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12,6 million 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C class V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waterway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56,7 million 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24A1-14CF-4052-A600-22C0398679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RR - Probability indicators and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30040" y="1673280"/>
            <a:ext cx="8913960" cy="420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40E98-B2B8-456A-9EC1-D1D53560C4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roject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evaluation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- 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ummar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proposed package for the expansion of the section Brcko - Sisak to a SC class IV waterway seems to be a project with a clear positive financial result. The investment seems to soun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Furthermore, the positive results are STRONG against rather significant adverse effects and high requirements with regard to profitability, i.e. high interest rate of 15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n the medium case scenario with a probability investment of only 51% considering the high interest rate (of 15%) the NPV calculation is breakev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fact that many distinct companies with different traffic flows as well as authorities see interesting possibilities of the proposed activities along the Sava is a very positive fact and a stimulation to improve the Sava to SC class IV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F629-5488-4864-9D51-C8206158AB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FOLLOW UP ACTIVITIES (1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1: Carry out a Feasibility Study of the entire Sava River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(including also the Sava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ection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rom Sisak to Brezice)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and integrate all the study results of the various studies carried out till date in the various Sava Riparian States (Serbian FS results, Pre-FS results, economic demand study, institutional, river basin studies, design studies, Acquis, etc.) on IW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2: Carry out a Detailed Field Investigation (hydraulic, geotechnics, etc.) using the results of the FS (step 1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3: Carry out Detailed Design Study, designs, costs, implementation schedules, technical specifications, propose packages of works, 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4: Prepare Contract Documents to tender internationally and prepare Prequalification Document for Contractor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70A7-E9A9-43AA-B380-B446530D1A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FOLLOW UP ACTIVITIES (2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5: Secure funding either from the Sava Riparian States or from international funding institutes (IFI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6: Prequalify Contractors and start tender procedur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7: Supervision services for the Works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8: Signing of Works Contract and Supervision Contract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9: Implement Work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EF56-9D8F-4230-A8C3-98BCEB0BA7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66"/>
                </a:solidFill>
                <a:latin typeface="Arial"/>
              </a:rPr>
              <a:t>Feasibility stud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Contract signed with the Consortium - PCI, Witteveen Bos, NEA, CRUP, Dvoku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inanced by the Contracting States to the FASRB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raft Final Report – July 31, 2008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4994-5648-4F7E-B8DE-472F18DE08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7512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888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1120" y="1413000"/>
            <a:ext cx="24480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Sign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Dec. 3,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In for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Dec. 29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ti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snia &amp; Herzegov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roat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erb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love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33360"/>
            <a:ext cx="820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Framework Agreement on the Sava River Basin 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S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678040" y="981000"/>
            <a:ext cx="6286680" cy="53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E845-5D59-4D47-89C5-E717506456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11280" y="3429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3300"/>
                </a:solidFill>
                <a:latin typeface="Tahoma"/>
              </a:rPr>
              <a:t>Thank you for your attention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4149720"/>
            <a:ext cx="45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Željko Milkovi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479736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55B8-45F4-4C59-8DDB-78C705BE72C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Objectives of the FASRB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stablishment of an international regime of navigation on the Sava River and its navigable tributarie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stablishment of sustainable water managemen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ndertaking of measures to prevent or limit hazards, and reduce and eliminate adverse consequences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(floods, ice hazards, droughts and incidents involving substances hazardous to water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47618-E8A9-4567-A098-C6B4A44D72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87512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3888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54936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International Sava River Basin Commission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R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25600" y="1888560"/>
            <a:ext cx="7371720" cy="3047400"/>
            <a:chOff x="525600" y="1888560"/>
            <a:chExt cx="7371720" cy="3047400"/>
          </a:xfrm>
        </p:grpSpPr>
        <p:sp>
          <p:nvSpPr>
            <p:cNvPr id="157" name=""/>
            <p:cNvSpPr/>
            <p:nvPr/>
          </p:nvSpPr>
          <p:spPr>
            <a:xfrm>
              <a:off x="2410920" y="2351160"/>
              <a:ext cx="3430440" cy="693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International Sava River Basin Commission (ISRBC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BiH, HR, SLO, S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69240" y="2466720"/>
              <a:ext cx="1715040" cy="4622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Secretariat of the ISRB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056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 Navi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8248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</a:t>
              </a:r>
              <a:br>
                <a:rPr sz="1200"/>
              </a:b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Flood Preven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5260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 Accident Prevention and Contr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60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</a:t>
              </a:r>
              <a:br>
                <a:rPr sz="1200"/>
              </a:b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River Basin Manag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3" name=""/>
            <p:cNvCxnSpPr>
              <a:endCxn id="158" idx="1"/>
            </p:cNvCxnSpPr>
            <p:nvPr/>
          </p:nvCxnSpPr>
          <p:spPr>
            <a:xfrm>
              <a:off x="5840280" y="2695680"/>
              <a:ext cx="22968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4" name=""/>
            <p:cNvCxnSpPr>
              <a:stCxn id="158" idx="3"/>
            </p:cNvCxnSpPr>
            <p:nvPr/>
          </p:nvCxnSpPr>
          <p:spPr>
            <a:xfrm>
              <a:off x="7784280" y="2697120"/>
              <a:ext cx="99000" cy="2181240"/>
            </a:xfrm>
            <a:prstGeom prst="bentConnector2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5" name=""/>
            <p:cNvCxnSpPr>
              <a:stCxn id="162" idx="2"/>
              <a:endCxn id="161" idx="2"/>
            </p:cNvCxnSpPr>
            <p:nvPr/>
          </p:nvCxnSpPr>
          <p:spPr>
            <a:xfrm flipH="1" flipV="1" rot="5400000">
              <a:off x="2295720" y="3503520"/>
              <a:ext cx="1800" cy="18273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6" name=""/>
            <p:cNvCxnSpPr>
              <a:stCxn id="161" idx="2"/>
              <a:endCxn id="160" idx="2"/>
            </p:cNvCxnSpPr>
            <p:nvPr/>
          </p:nvCxnSpPr>
          <p:spPr>
            <a:xfrm flipH="1" flipV="1" rot="5400000">
              <a:off x="4123440" y="3501720"/>
              <a:ext cx="1800" cy="183060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7" name=""/>
            <p:cNvCxnSpPr>
              <a:stCxn id="160" idx="2"/>
              <a:endCxn id="159" idx="2"/>
            </p:cNvCxnSpPr>
            <p:nvPr/>
          </p:nvCxnSpPr>
          <p:spPr>
            <a:xfrm flipH="1" flipV="1" rot="5400000">
              <a:off x="5952600" y="3502800"/>
              <a:ext cx="1800" cy="182844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8" name=""/>
            <p:cNvCxnSpPr>
              <a:stCxn id="159" idx="2"/>
            </p:cNvCxnSpPr>
            <p:nvPr/>
          </p:nvCxnSpPr>
          <p:spPr>
            <a:xfrm flipH="1" rot="16200000">
              <a:off x="7151040" y="4133160"/>
              <a:ext cx="463320" cy="1029600"/>
            </a:xfrm>
            <a:prstGeom prst="bentConnector2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9" name=""/>
            <p:cNvCxnSpPr>
              <a:stCxn id="162" idx="0"/>
              <a:endCxn id="161" idx="0"/>
            </p:cNvCxnSpPr>
            <p:nvPr/>
          </p:nvCxnSpPr>
          <p:spPr>
            <a:xfrm flipH="1" rot="16200000">
              <a:off x="2296080" y="2709000"/>
              <a:ext cx="1440" cy="18273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0" name=""/>
            <p:cNvCxnSpPr>
              <a:stCxn id="161" idx="0"/>
              <a:endCxn id="160" idx="0"/>
            </p:cNvCxnSpPr>
            <p:nvPr/>
          </p:nvCxnSpPr>
          <p:spPr>
            <a:xfrm flipH="1" rot="16200000">
              <a:off x="4124520" y="2707560"/>
              <a:ext cx="1440" cy="183060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1" name=""/>
            <p:cNvCxnSpPr>
              <a:stCxn id="160" idx="0"/>
              <a:endCxn id="159" idx="0"/>
            </p:cNvCxnSpPr>
            <p:nvPr/>
          </p:nvCxnSpPr>
          <p:spPr>
            <a:xfrm flipH="1" rot="16200000">
              <a:off x="5953680" y="2708640"/>
              <a:ext cx="1440" cy="182844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2" name=""/>
            <p:cNvCxnSpPr>
              <a:stCxn id="157" idx="2"/>
            </p:cNvCxnSpPr>
            <p:nvPr/>
          </p:nvCxnSpPr>
          <p:spPr>
            <a:xfrm flipH="1">
              <a:off x="4124520" y="3044520"/>
              <a:ext cx="1800" cy="11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3324960" y="1888560"/>
              <a:ext cx="17150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ffffff"/>
                  </a:solidFill>
                  <a:latin typeface="Tahoma"/>
                </a:rPr>
                <a:t>STRUCTU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1AB8-0752-4767-9048-0C7BEC1339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International Sava River Basin Commission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RBC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79400" y="1382040"/>
            <a:ext cx="5029200" cy="4914360"/>
            <a:chOff x="2579400" y="1382040"/>
            <a:chExt cx="5029200" cy="4914360"/>
          </a:xfrm>
        </p:grpSpPr>
        <p:sp>
          <p:nvSpPr>
            <p:cNvPr id="177" name=""/>
            <p:cNvSpPr/>
            <p:nvPr/>
          </p:nvSpPr>
          <p:spPr>
            <a:xfrm>
              <a:off x="2694600" y="2753640"/>
              <a:ext cx="2281320" cy="9288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Members of International Sava River Basin Commission (ISRBC)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iH, HR, SLO, SC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79320" y="2068200"/>
              <a:ext cx="916200" cy="261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roble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51360" y="4811040"/>
              <a:ext cx="1371240" cy="457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Recommand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79400" y="4811040"/>
              <a:ext cx="1259280" cy="457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Decis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36240" y="5726160"/>
              <a:ext cx="1715040" cy="5702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Implemanta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iH, HR, SLO, SC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36240" y="3897000"/>
              <a:ext cx="1487160" cy="6858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lenary session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of ISRBC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Discuss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80800" y="3897000"/>
              <a:ext cx="1027800" cy="5738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Work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group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4720" y="4011120"/>
              <a:ext cx="1027800" cy="261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Secretaria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36240" y="1382040"/>
              <a:ext cx="15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FUNCTION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6" name=""/>
            <p:cNvCxnSpPr/>
            <p:nvPr/>
          </p:nvCxnSpPr>
          <p:spPr>
            <a:xfrm flipH="1">
              <a:off x="3779280" y="3682800"/>
              <a:ext cx="55800" cy="2145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/>
            <p:nvPr/>
          </p:nvCxnSpPr>
          <p:spPr>
            <a:xfrm flipH="1">
              <a:off x="3835080" y="2413800"/>
              <a:ext cx="2880" cy="340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/>
            <p:nvPr/>
          </p:nvCxnSpPr>
          <p:spPr>
            <a:xfrm rot="5400000">
              <a:off x="3380400" y="4411080"/>
              <a:ext cx="228600" cy="571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/>
            <p:nvPr/>
          </p:nvCxnSpPr>
          <p:spPr>
            <a:xfrm flipH="1" rot="16200000">
              <a:off x="4094640" y="4267440"/>
              <a:ext cx="22860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/>
            <p:nvPr/>
          </p:nvCxnSpPr>
          <p:spPr>
            <a:xfrm flipH="1" rot="16200000">
              <a:off x="3322800" y="5154480"/>
              <a:ext cx="457920" cy="6854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 rot="5400000">
              <a:off x="4036320" y="5125320"/>
              <a:ext cx="457920" cy="74448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>
              <a:off x="6122880" y="4240080"/>
              <a:ext cx="46080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4522320" y="4240080"/>
              <a:ext cx="51696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/>
            <p:nvPr/>
          </p:nvCxnSpPr>
          <p:spPr>
            <a:xfrm flipH="1">
              <a:off x="4522320" y="4125240"/>
              <a:ext cx="518400" cy="1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/>
            <p:nvPr/>
          </p:nvCxnSpPr>
          <p:spPr>
            <a:xfrm flipH="1">
              <a:off x="6122520" y="4125240"/>
              <a:ext cx="462240" cy="1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/>
            <p:nvPr/>
          </p:nvCxnSpPr>
          <p:spPr>
            <a:xfrm>
              <a:off x="4295160" y="2241000"/>
              <a:ext cx="1314360" cy="17701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97" name=""/>
          <p:cNvSpPr/>
          <p:nvPr/>
        </p:nvSpPr>
        <p:spPr>
          <a:xfrm>
            <a:off x="0" y="5875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5A67-551A-44A2-A699-64762656BB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-36360" y="-27000"/>
          <a:ext cx="9216720" cy="49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-27000"/>
                    <a:ext cx="92167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79280" y="5013360"/>
            <a:ext cx="860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586 rkm of the waterway from Belgrad up to Sis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Connection  between Adriatic and Central and Eastern Europe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1844640"/>
            <a:ext cx="648000" cy="27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Rije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07280" y="162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4076640"/>
            <a:ext cx="649440" cy="27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Ploč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3860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24000" y="1557000"/>
            <a:ext cx="792360" cy="14436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284720" y="2133360"/>
            <a:ext cx="503280" cy="165564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284720" y="1988640"/>
            <a:ext cx="71280" cy="180036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616572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Future canal Dunav-Sava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nnecting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Vukova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and Šama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1341360"/>
            <a:ext cx="295560" cy="358920"/>
          </a:xfrm>
          <a:custGeom>
            <a:avLst/>
            <a:gdLst/>
            <a:ahLst/>
            <a:rect l="l" t="t" r="r" b="b"/>
            <a:pathLst>
              <a:path w="186" h="192">
                <a:moveTo>
                  <a:pt x="186" y="0"/>
                </a:moveTo>
                <a:cubicBezTo>
                  <a:pt x="180" y="4"/>
                  <a:pt x="174" y="9"/>
                  <a:pt x="168" y="12"/>
                </a:cubicBezTo>
                <a:cubicBezTo>
                  <a:pt x="162" y="15"/>
                  <a:pt x="156" y="15"/>
                  <a:pt x="150" y="18"/>
                </a:cubicBezTo>
                <a:cubicBezTo>
                  <a:pt x="137" y="25"/>
                  <a:pt x="114" y="42"/>
                  <a:pt x="114" y="42"/>
                </a:cubicBezTo>
                <a:cubicBezTo>
                  <a:pt x="108" y="51"/>
                  <a:pt x="87" y="82"/>
                  <a:pt x="78" y="96"/>
                </a:cubicBezTo>
                <a:cubicBezTo>
                  <a:pt x="71" y="107"/>
                  <a:pt x="52" y="105"/>
                  <a:pt x="42" y="114"/>
                </a:cubicBezTo>
                <a:cubicBezTo>
                  <a:pt x="25" y="128"/>
                  <a:pt x="24" y="132"/>
                  <a:pt x="12" y="150"/>
                </a:cubicBezTo>
                <a:cubicBezTo>
                  <a:pt x="10" y="158"/>
                  <a:pt x="8" y="166"/>
                  <a:pt x="6" y="174"/>
                </a:cubicBezTo>
                <a:cubicBezTo>
                  <a:pt x="4" y="180"/>
                  <a:pt x="0" y="192"/>
                  <a:pt x="0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4160" y="2576520"/>
            <a:ext cx="72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514"/>
                </a:solidFill>
                <a:latin typeface="Arial"/>
              </a:rPr>
              <a:t>Serbi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3492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514"/>
                </a:solidFill>
                <a:latin typeface="Garamond"/>
              </a:rPr>
              <a:t>Monteneg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5C0A-CA65-4ADB-9189-0E414748A9DE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History of the navigation</a:t>
            </a:r>
            <a:r>
              <a:rPr b="0" lang="hr-HR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835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In the middle of th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VIII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cen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ry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lmost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50 ships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operated o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ava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river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irst passanger line Sisak – Zemu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started in 1844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bout 15 mil. T in 199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ctivities were stopped during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he war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48360" y="1773360"/>
          <a:ext cx="38163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773360"/>
                    <a:ext cx="38163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972B0-B345-46D9-9DD1-BEB3EB7025FD}" type="slidenum">
              <a:t>7</a:t>
            </a:fld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Navigation regime under the FASRB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2062080"/>
            <a:ext cx="4680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Navigation is open for merchant vessels of any stat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Merchant vessels are free to enter the port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he Parties shall undertake measures to maintain the waterwa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ecisions of the Sava Commission shall be binding upon all the Parti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435640" y="2009880"/>
            <a:ext cx="3101760" cy="37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8C98-8DF8-47BB-8771-58367A988623}" type="slidenum">
              <a:t>8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ava waterway - Navigation problem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280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physical parameters of the Sava cause unfavourable navigation conditions related t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limited draft during large period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harp river bends limiting the length and width of vessels and convoy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Other problems for navigations ar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limited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height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for passages under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ome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bridge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nsufficient mark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EC38-D58F-4856-B365-A71BBF9C194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0:44:22Z</dcterms:created>
  <dc:creator>Željko Milković</dc:creator>
  <dc:description/>
  <dc:language>en-US</dc:language>
  <cp:lastModifiedBy>Korisnik</cp:lastModifiedBy>
  <dcterms:modified xsi:type="dcterms:W3CDTF">2008-04-10T14:48:48Z</dcterms:modified>
  <cp:revision>170</cp:revision>
  <dc:subject/>
  <dc:title>Rehabilitation and Development Working Group</dc:title>
</cp:coreProperties>
</file>