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298-B59D-43FB-9BD1-8725FE41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970-15E3-4D28-BB84-AD44B9F2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948-3B1F-444C-B668-6C71DBDE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402-3A2D-43A3-823A-A933A635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4245-C2EF-44E0-9B17-44062433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0E38-B2D3-4EFE-A60D-D6A085CD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6ADB-9561-4024-B54E-C1118CBE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733B-561E-431D-9955-DC1969E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74E4-537B-4993-967A-A2BE1B8A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5208-70A8-4358-88CB-EF7E5723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0DC5-4097-49E9-8205-D6554565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CDA-3CEA-4201-958F-28361C20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B4A9-61E9-4128-9D68-355A589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0D2C-00B5-4A0E-930D-F501DE9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F386-8E3F-4E95-A736-03915D43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0B8F-EA01-433B-802E-9B7E4AA6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C751-75F4-4B41-84BA-0AC209FF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637-8503-4D4C-9878-760D521F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940-2BC2-4809-A35E-7BB1DF58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444-4421-4BB5-AB62-E020D98A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694-7620-4C5E-80A1-C6F0E325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CDF-1847-4CBD-A4CE-89C8F1B1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E61-C34F-4226-82FC-F570DC0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7AC-D39C-43DE-9D2C-1CB6768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52DE-3B54-4CAB-AAF4-1466A4E3B0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A9D5-B734-4C77-AEAE-5D88C1653A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Verdana"/>
              </a:rPr>
              <a:t>International Financial Institutions Advisory Group meeting on Transport</a:t>
            </a:r>
            <a:br>
              <a:rPr sz="2400"/>
            </a:br>
            <a:r>
              <a:rPr b="1" i="1" lang="en-US" sz="1600" spc="-1" strike="noStrike">
                <a:solidFill>
                  <a:srgbClr val="ccecff"/>
                </a:solidFill>
                <a:latin typeface="Verdana"/>
              </a:rPr>
              <a:t>April 14, 2008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8600" y="40381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Update on SEETO Activities in 2008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2355-81E8-459F-A4D9-30A5AAF418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Priorities of 200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general quality of the Multi-annual Plan and, specifically, the quality of the analysis of projects’ statu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data collection proces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assist the Steering Committee and to facilitate its work o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he reform of railways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order-crossing issues, including the establishment of the Border-Crossing Working Group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oad safety issues, including the establishment of the Road Safety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fill the vacancies in personnel and to improve the internal procedures of the Permanent Secretaria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D82-CD53-4B46-97E0-41145D535B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ecff"/>
                </a:solidFill>
                <a:latin typeface="Arial"/>
              </a:rPr>
              <a:t>Assistance to SC for fostering policy reforms and harmonisation in the transport sector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ffffff"/>
                </a:solidFill>
                <a:uFillTx/>
                <a:latin typeface="Verdana"/>
              </a:rPr>
              <a:t>In the framework of the implementation of the 2007 Addendum to the MoU for a South East European Railway Transport Area, provide support to the SC f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a) the preparation of a detailed timetable for the implementation the targets foreseen in the Addendum signed on 4.12.2007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b) fostering the preparation of a Common Network Statement, as proposed by the Railways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2417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BF9-B4CD-4D25-9B6A-5084BBA3D3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Between two MAP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ETIS ver.2 is launch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frastructure projects have been financ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e.g. Belgrade by pass in Serbia, Corridor Vc in Bosnia, Route 7 and parts of Corridor VIII in Albania, Corridor X in Macedonia, rail Corridor X in Croatia, etc..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tinuation on work on the soft measure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Addendum on MoU was signed in December 2007 an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tart with activities for implementation of Addendu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upport preparation of network state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operation with Corridors secretaria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8E9-1511-46DE-A61C-4A5E532ADD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MAP 2009-1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Same Structure – Improved and Updated Content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Description of the core network and its condi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ption and Condition in 2007 for all transport mod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Assessment of core network performan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raffic, Bottlenecks and Accessibility in 2007 for all transport modes and Border Crossings and Road Safe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Priority projects of the core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o identify common projects of regional interes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Transport policy and sector refor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Sector Reforms, EU Policy Guidelines, Horizontal Measures, Priority Soft Measure for 2009, Soft Measures Priorities and Draft Action P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Monitoring, evaluation and expected achievem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be Monitoring,  Basic Indicators – Evolution 2005-2008, A Vision for Future MAPs, Expected Achievements, Implementation and Associated Risks, Expected decision ma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78A-137F-4A85-B008-6E11F3F8EF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ag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fining key data providers in March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d of April Workshop for data collection and SEETIS 2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for users, National Coordinators and Key Use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Collection Start in May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rnal 1st Draft: end of June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raft by:  end of Ju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keholder Comments by: early Septembe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Draft: end of September (end of data collectio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C Meeting – Adoption: Octo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nal version for Printing: Novem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nnual Meeting of Ministers: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cember 2008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E30-4C38-49A0-BFA5-15C25CF98E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ff00"/>
                </a:solidFill>
                <a:latin typeface="Verdana"/>
              </a:rPr>
              <a:t>Thank you for your attentio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F2D-77F5-4B40-BED2-F0BB7D80A3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SEETO</cp:lastModifiedBy>
  <dcterms:modified xsi:type="dcterms:W3CDTF">2008-04-13T18:42:02Z</dcterms:modified>
  <cp:revision>184</cp:revision>
  <dc:subject/>
  <dc:title>ISG Presentation for MAP 2008-12</dc:title>
</cp:coreProperties>
</file>