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840B-2F45-4316-BBD2-AC1063910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864864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680" y="3841560"/>
            <a:ext cx="864864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5265-36C9-43AE-84E2-4A21EE77C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6280" y="137628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680" y="384156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6280" y="384156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47F6-CA6A-423E-90D5-A674BD511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278460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8960" y="1376280"/>
            <a:ext cx="278460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3240" y="1376280"/>
            <a:ext cx="278460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680" y="3841560"/>
            <a:ext cx="278460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8960" y="3841560"/>
            <a:ext cx="278460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3240" y="3841560"/>
            <a:ext cx="278460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896B-6F61-4CC4-B3F7-732D11635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5EC80-D8DE-45B3-8BA5-BA2F642CD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4680" y="1376280"/>
            <a:ext cx="8648640" cy="47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BFFBD-EB5E-4E5E-A1EC-ED43E4335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864864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7A46C-D301-4529-B663-46EE47FC9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422028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6280" y="1376280"/>
            <a:ext cx="422028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ED598-E407-4C01-83C7-E5CAE08C6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93347-C89E-4D83-BD0F-D9E2952F0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1080" y="68040"/>
            <a:ext cx="7551720" cy="38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04AAE-74E3-454C-8826-AD3FC427C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6280" y="1376280"/>
            <a:ext cx="422028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4680" y="384156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5B557-8CF8-4574-A5C9-8224ECA8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680" y="1376280"/>
            <a:ext cx="8648640" cy="47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9783-D3E8-47FB-BE8C-6045400F5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422028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6280" y="137628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6280" y="384156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8F04D-D580-40DE-8B54-FCEF5C6D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6280" y="137628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4680" y="3841560"/>
            <a:ext cx="864864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9AE4D-2292-4172-A7C8-7BEC4CF2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864864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4680" y="3841560"/>
            <a:ext cx="864864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CB802-4B27-4519-A315-1FDD81A0A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6280" y="137628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4680" y="384156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6280" y="384156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7ED10-D279-458E-8BEE-87995DB65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278460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8960" y="1376280"/>
            <a:ext cx="278460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23240" y="1376280"/>
            <a:ext cx="278460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4680" y="3841560"/>
            <a:ext cx="278460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8960" y="3841560"/>
            <a:ext cx="278460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23240" y="3841560"/>
            <a:ext cx="278460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AD427-FE86-40CB-A84C-EE1FFF193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864864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1366-CA81-45C1-8EE9-B0F3A6BE6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422028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6280" y="1376280"/>
            <a:ext cx="422028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ACFA-7F63-4207-9BAA-8C3D7D786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9B4C-107E-4B5D-B2D9-67E4B6133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1080" y="68040"/>
            <a:ext cx="7551720" cy="38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823A-1EF5-4F44-BE1E-ACCE66313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6280" y="1376280"/>
            <a:ext cx="422028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680" y="384156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4648-CD80-49FE-B044-4CA822A1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422028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6280" y="137628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6280" y="384156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0964-2192-420C-8E47-AF3EAB94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6280" y="137628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680" y="3841560"/>
            <a:ext cx="864864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7271-ADE6-4FA6-89B5-A54071C5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4680" y="1376280"/>
            <a:ext cx="864864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1339E-0ACD-424B-8C51-34F3F71E11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50920" y="1720440"/>
            <a:ext cx="6110280" cy="11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65800"/>
            <a:ext cx="1922400" cy="4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57560" y="6265800"/>
            <a:ext cx="2814480" cy="4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21400" y="6265800"/>
            <a:ext cx="1922400" cy="4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FBCAA-01B4-444E-84C8-2A1649F1BB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5257800" y="510552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artin Humphrey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pril 14, 200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2209680"/>
            <a:ext cx="6324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43200" y="380880"/>
            <a:ext cx="611028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European Union - The World Ban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2895480" y="2133360"/>
            <a:ext cx="6089760" cy="28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Developing a Sustainable Transport System for Kosovo</a:t>
            </a:r>
            <a:br>
              <a:rPr sz="37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n the railway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676520"/>
            <a:ext cx="822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4343400" cy="38862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495680" y="1905120"/>
            <a:ext cx="4343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28440" y="2742840"/>
            <a:ext cx="67136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 What is the vision of the authoriti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ision for development of Sect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864864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gration of the transport infrastructure of Kosovo into the international regional transport networks – priority construction of routes 6 and 7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lementation of European standards in all transport sector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ear backlog and modernization existing infrastructur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ing the cost of transport to facilitate economic development; and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ing the number of accidents in traffic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62120" y="3259080"/>
            <a:ext cx="7619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What are the financing nee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intaining the road networ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864864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ormal maintenance needs on primary/regional network  - € 20 million (2006 € 8.1 mill)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acklog additional €12 per yea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ocal Roads normal €12 mill per year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acklog additional €11 million per year; an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otal Maintenance needs €53.9 mill pa, or approx. €270 million over the next five year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veloping the road networ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371600" y="1219320"/>
            <a:ext cx="6058080" cy="53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685800" y="1523880"/>
          <a:ext cx="7772400" cy="4668840"/>
        </p:xfrm>
        <a:graphic>
          <a:graphicData uri="http://schemas.openxmlformats.org/drawingml/2006/table">
            <a:tbl>
              <a:tblPr/>
              <a:tblGrid>
                <a:gridCol w="1996920"/>
                <a:gridCol w="2251080"/>
                <a:gridCol w="1000440"/>
                <a:gridCol w="252396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S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Recommended Interven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Investment (€ millio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Remark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Pristina – border with Serbia (Route 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Motorway close to Pristina, new 2 lane road between Podujeve and Besi and upgrade of existing road to the border with Serb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132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Motorway project should be closely co-coordinated with the Pristina Ring Road proj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Pristina – Border with Albania (Route 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Motorway between Pristina and Shtime and upgrade of existing road for other parts of the rou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13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Motorway design should be optimized including a supplementary interchange at Lipj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Pristina – Border with FYROM (Route 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New high standard 2-lane road between Pristina and Doganaj, and upgrade existing road to bord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97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Pristina – Border with Montenegro (Route 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New high standard 2-lane road from bypass at Fushe Kosove to Komorane. Restoring design standards and smaller upgrading works on other parts of the rou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53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Sections close to Pristina should be co-coordinated with the construction of the Fushe-kosove bypa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416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hased implementation nee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the railway sect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864864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33480" indent="-47628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llowing projects are considered to be priority projects in the short term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chnical assistance to strengthen the institutional framework, develop the new law on railways and other legislation and establish the railway regulatory body -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€ 1.5 million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air of existing freight wagons -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€ 2.5 million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air of existing locomotive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- € 3.3 million; 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rchase of new diesel locomotives to replace life expired locomotives in the current flee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- € 10 mill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tal Needs over the next 5 yea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864864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nservative estimate is €1100 million over next 5 years -  € 220 per year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verage spend 2000-2006 €40 per annum (€90 mill in 2008);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uthorities predict €100 million from budget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stimated gap - €600 million in total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74680" y="1376280"/>
            <a:ext cx="864864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ree main messages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urrent transport infrastructure is limited in scope and quality, and under increasing pressur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stitutional framework and sector organizations, despite improvements, remain weak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of Routes 6 and 7 are priorities for the authorities – but needs are far broa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tline of the Presen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in challenges facing the transport sec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ision of the author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financing nee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7428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A. The Main Challenges.</a:t>
            </a:r>
            <a:br>
              <a:rPr sz="3100"/>
            </a:b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institutional framewor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864864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o coherent strategy of policy to guide development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o updated inventory of all road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unctional classification needs updating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o consistent design and construction standards; Reform of the legal and policy framework for railways yet to start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ir sector remains a reserved function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ew Law on Land Acquisition – remains to be tested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organizations in the sect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864864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rganization structure and responsibilities are in need of reform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adequate allocations for maintenance at all levels of the road network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o consistent use of asset management system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cent signs of strain in absorbing modest amounts of technical assistance and capacity building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condition of the transport networ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864864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etwork is isolated from wider regional network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Primary road network is (2005) in reasonable condition, but updated surveys are required;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ne recent study found 94% of secondary and local roads are in poor or very poor condition;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Railway network has been neglected since end of conflict – and stock is old (although not life expired)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80880" y="1219320"/>
          <a:ext cx="8458200" cy="5029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219320"/>
                    <a:ext cx="84582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ad safety is a major and growing economic and social iss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mand continues to gro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864864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Reliable data on vehicle ownership is not available, but estimated rate 105 per 1000 head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Vehicle use is predicated to grow at 3-6% pa; an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n Routes 6 and 7 levels range from 1900 AADT at N/S to over 27000 AADT around Pristina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4T07:26:08Z</dcterms:created>
  <dc:creator>WB154283</dc:creator>
  <dc:description/>
  <dc:language>en-US</dc:language>
  <cp:lastModifiedBy>wb251351</cp:lastModifiedBy>
  <dcterms:modified xsi:type="dcterms:W3CDTF">2008-04-14T07:20:42Z</dcterms:modified>
  <cp:revision>248</cp:revision>
  <dc:subject/>
  <dc:title>Slide 1</dc:title>
</cp:coreProperties>
</file>