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360-D64E-447F-A39A-830E89C9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A4B-AFEC-49BB-A89F-F3129F08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572-8ACA-4050-BDEC-189DAF58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62B-C240-4C52-B519-62112CF2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2B6B-2E1E-468F-96E7-52DB11CC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7AF7-A8E8-4D04-B2B6-F4C70930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32E9-28DE-4826-8460-F40C2F23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58BF-A335-46D8-83A4-4A5FA1DF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62F2-5F09-4967-8F6D-87031565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8212-8569-428B-A95E-A3DA0F5D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95C1-C595-47C7-A51A-2F7842D5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837-D2A5-413D-9555-5538814A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14E7-5EFA-47BA-8CCC-5853DD0A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FA32-F11C-4FEC-BEE3-4A2790FE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58C2-8B93-4347-A7C7-4CC22242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EDB3-FF6A-4CF5-A2E8-ED886DFD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4E22-57A8-41EC-9A97-31DCBFA5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42F-DC41-4C2D-B1CD-81F482A5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1F7-66C5-4136-980D-5681923A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6F6-618E-45D6-9313-8D285C31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F25-48EC-4CA2-988F-BF5C68FE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0AC-4C81-428F-A54C-F66BA057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D98-F789-47FE-A74D-EE49F671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328F-A7A3-4577-984E-2E8E10D5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4B3C-4AF3-4990-BC53-352E8DBA00A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2666880" y="6248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45FF-6D65-4BCC-859C-91032E3EA20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Verdana"/>
              </a:rPr>
              <a:t>International Financial Institutions Advisory Group meeting on Transport</a:t>
            </a:r>
            <a:br>
              <a:rPr sz="2400"/>
            </a:br>
            <a:r>
              <a:rPr b="1" i="1" lang="en-US" sz="1600" spc="-1" strike="noStrike">
                <a:solidFill>
                  <a:srgbClr val="ccecff"/>
                </a:solidFill>
                <a:latin typeface="Verdana"/>
              </a:rPr>
              <a:t>April 14, 2008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28600" y="40381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Update on SEETO Activities in 2008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E732-1C9B-4DC1-AB0F-AEA7668CA5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Priorities of 2008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improve the general quality of the Multi-annual Plan and, specifically, the quality of the analysis of projects’ statu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improve the data collection proces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assist the Steering Committee and to facilitate its work on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he reform of railways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order-crossing issues, including the establishment of the Border-Crossing Working Group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oad safety issues, including the establishment of the Road Safety Working Group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fill the vacancies in personnel and to improve the internal procedures of the Permanent Secretaria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2B8-F84C-477C-BD10-4661FB82FF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ecff"/>
                </a:solidFill>
                <a:latin typeface="Arial"/>
              </a:rPr>
              <a:t>Assistance to SC for fostering policy reforms and harmonisation in the transport sector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 u="sng">
                <a:solidFill>
                  <a:srgbClr val="ffffff"/>
                </a:solidFill>
                <a:uFillTx/>
                <a:latin typeface="Verdana"/>
              </a:rPr>
              <a:t>In the framework of the implementation of the 2007 Addendum to the MoU for a South East European Railway Transport Area, provide support to the SC for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60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a) the preparation of a detailed timetable for the implementation the targets foreseen in the Addendum signed on 4.12.2007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b) fostering the preparation of a Common Network Statement, as proposed by the Railways Working Group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2417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AF8-D08B-4820-B43A-429DDDCFB8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Between two MAP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ETIS ver.2 is launch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frastructure projects have been finance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e.g. Belgrade by pass in Serbia, Corridor Vc in Bosnia, Route 7 and parts of Corridor VIII in Albania, Corridor X in Macedonia, rail Corridor X in Croatia, etc...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tinuation on work on the soft measure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Addendum on MoU was signed in December 2007 an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working group start with activities for implementation of Addendu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working group support preparation of network stateme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operation with Corridors secretaria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3A1-48A1-4A76-BD60-9DBC7CA0BA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MAP 2009-13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Same Structure – Improved and Updated Content!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. Introduc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. Description of the core network and its condi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Description and Condition in 2007 for all transport mod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3. Assessment of core network performan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Traffic, Bottlenecks and Accessibility in 2007 for all transport modes and Border Crossings and Road Safe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4. Priority projects of the core net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To identify common projects of regional interes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5. Transport policy and sector refor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Sector Reforms, EU Policy Guidelines, Horizontal Measures, Priority Soft Measure for 2009, Soft Measures Priorities and Draft Action Pl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6. Monitoring, evaluation and expected achievemen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Describe Monitoring,  Basic Indicators – Evolution 2005-2008, A Vision for Future MAPs, Expected Achievements, Implementation and Associated Risks, Expected decision ma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588-409E-4E61-ACFE-9862F2DF8B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age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fining key data providers in March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nd of April Workshop for data collection and SEETIS 2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for users, National Coordinators and Key User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ata Collection Start in May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rnal 1st Draft: end of June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raft by:  end of Ju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keholder Comments by: early September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Draft: end of September (end of data collectio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C Meeting – Adoption: October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nal version for Printing: November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nnual Meeting of Ministers: 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ecember 2008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3A35-548B-4391-B03C-5500A26643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ffff00"/>
                </a:solidFill>
                <a:latin typeface="Verdana"/>
              </a:rPr>
              <a:t>Thank you for your attentio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77C-446A-44AA-BBFF-D36B815EBB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SEETO</cp:lastModifiedBy>
  <dcterms:modified xsi:type="dcterms:W3CDTF">2008-04-13T18:42:02Z</dcterms:modified>
  <cp:revision>184</cp:revision>
  <dc:subject/>
  <dc:title>ISG Presentation for MAP 2008-12</dc:title>
</cp:coreProperties>
</file>