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E07E-A7EB-4120-A4A9-6202AC33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8AE5A-F9AD-49CC-80E6-3FF6FE04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1C3F-EE29-4338-9856-6FBF92F6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43B9-7BFF-4C9B-A6FD-52CEC151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0359-05A5-4DF7-94BC-94D14009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DCF8-5333-4C86-AB22-C5AF40F2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15FF-A51C-4174-8015-C5F5DBDD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9243-96B8-47A7-A5BB-4D81E8E3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4FB9-3A08-4F4A-8134-31108445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B632-F9AE-40DD-ABC8-C127B5C3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8772-0CE7-4FB7-9784-613C5207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B0DC-858C-4277-8CD9-0AA9F804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8BA2-FB97-437C-B08B-AFC56B7D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C8AB-1E20-486A-B3E5-CD29ACAB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9876-B410-4681-815B-3BE36386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8B87-F29C-4BD6-8CC6-F8935721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C32A-F5FE-4329-937E-B872DE86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4F1E-D436-4DB9-A688-781F36F4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1B7D7-76DB-4787-854D-6C691ECD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496F-DE6F-4C9D-8C1C-AD424A3F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ACAC2-4624-4B61-8DCC-22BA6F08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F9FC-3648-4C51-8B31-63CF736F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0A6C0-01C9-4D7E-BFB5-9E6FF7C5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6CBEB-0B99-4542-81BC-98CF47E6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2F15-467B-4C40-B649-FC24CC7A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615FC-3B7D-4F02-B5E1-A3014713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6BF56-E7DA-4A4C-A07F-9B870B2D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55FA2-25AE-4A6C-91DC-7580B3A9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DD8C9-E9AB-47CE-B674-FDF9F0D9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9C44-6E2B-4708-A250-EEC5A7DB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F4C5-04F7-4349-B905-16171E63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0FFE-1CF0-450C-B5F6-3AC5B677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7A813-0F04-4AA1-A339-0075FC2E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7E99A-9ACA-48ED-88F5-27ED6817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A9F67-4EEB-4B88-9560-3D7A06C0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FD5BC-B7FC-438E-863A-C474F4D2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F1BD-1442-4BC5-8FC8-E3ECEA12AEF6}" type="datetime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7EFD-3A29-48D4-A49E-B057DACD4E36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D5E4-0DCC-4DD0-9903-80595090D9BF}" type="datetime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EBB8-5E48-48CA-82CE-09AFA4B800C6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5A9B-027F-4579-AFA9-7FD1F4C9BFB9}" type="datetime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F661-3690-4321-96A1-D5FFAAD62D37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32000" y="333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76908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404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00"/>
                </a:solidFill>
                <a:latin typeface="Arial"/>
                <a:ea typeface="Arial"/>
              </a:rPr>
              <a:t>REHABILITATION AND DEVELOPMENT OF THE NAVIGATION ON THE SAVA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4869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229360"/>
            <a:ext cx="540072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E2E8-29B9-4597-9250-29D6C28FD9E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Rehabilitation and development of navig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60836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ims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are to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elop and improve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waterway Belgrade-Sisak up to class IV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elop and improve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waterway Belgrade-Sisa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p to class V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xtention of Navigation from Sisak upstream to Brezice (Sloveni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673440" cy="27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12316-E2CE-42E9-A357-0BB7AA758A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Activities on the traffic developmen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refeasibility study for I. phase fin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ransport demand and institutional, policy and legal framework study fin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Feasibility study ongo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estoration of the marking system in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IS develo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699C-F61B-4D4F-9346-DE77BAD2C1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0" y="888480"/>
            <a:ext cx="9144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sent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f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-Feasibility Repor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For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Rehabilitation and Develop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f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Sava River Waterw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D9AE-C176-4D3F-873D-0AAD2FEC98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Construction cost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 rkm 586 to rkm 207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– SC class IV waterwa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2052720"/>
            <a:ext cx="9144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dredging and training works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28.3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river bend improvement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1.3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arking improvement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0.6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bridge construction 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10.0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Total construction costs 40.2 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25858-E3CC-4AB0-80BB-FA285945C6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Construction cost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 rkm 207 to rkm 0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C class V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waterway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12,6 million 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C class V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waterway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56,7 million 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A7FF-61C6-4642-A168-BFEAFCAB81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RR - Probability indicators and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30040" y="1673280"/>
            <a:ext cx="8913960" cy="420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C2CF3-1F3F-4090-B57C-31EF780D42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roject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evaluation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- 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ummar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proposed package for the expansion of the section Brcko - Sisak to a SC class IV waterway seems to be a project with a clear positive financial result. The investment seems to soun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Furthermore, the positive results are STRONG against rather significant adverse effects and high requirements with regard to profitability, i.e. high interest rate of 15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n the medium case scenario with a probability investment of only 51% considering the high interest rate (of 15%) the NPV calculation is breakev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fact that many distinct companies with different traffic flows as well as authorities see interesting possibilities of the proposed activities along the Sava is a very positive fact and a stimulation to improve the Sava to SC class IV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1E65-BE04-4FD1-8319-0CC79AACDA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FOLLOW UP ACTIVITIES (1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1: Carry out a Feasibility Study of the entire Sava River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(including also the Sava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ection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rom Sisak to Brezice)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and integrate all the study results of the various studies carried out till date in the various Sava Riparian States (Serbian FS results, Pre-FS results, economic demand study, institutional, river basin studies, design studies, Acquis, etc.) on IW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2: Carry out a Detailed Field Investigation (hydraulic, geotechnics, etc.) using the results of the FS (step 1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3: Carry out Detailed Design Study, designs, costs, implementation schedules, technical specifications, propose packages of works, 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4: Prepare Contract Documents to tender internationally and prepare Prequalification Document for Contractor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53AA-4556-42AF-90E2-D803370984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FOLLOW UP ACTIVITIES (2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5: Secure funding either from the Sava Riparian States or from international funding institutes (IFI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6: Prequalify Contractors and start tender procedur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7: Supervision services for the Works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8: Signing of Works Contract and Supervision Contract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9: Implement Work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C2274-0EED-43FA-B235-4B3A69339E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66"/>
                </a:solidFill>
                <a:latin typeface="Arial"/>
              </a:rPr>
              <a:t>Feasibility stud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Contract signed with the Consortium - PCI, Witteveen Bos, NEA, CRUP, Dvoku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inanced by the Contracting States to the FASRB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raft Final Report – July 31, 2008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C3B6-7D5B-4221-9740-C2D589B1BE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7512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888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1120" y="1413000"/>
            <a:ext cx="24480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Sign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Dec. 3,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In for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Dec. 29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ti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snia &amp; Herzegov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roat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erb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love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33360"/>
            <a:ext cx="820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Framework Agreement on the Sava River Basin 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S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678040" y="981000"/>
            <a:ext cx="6286680" cy="53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2A9E7-32DC-498E-8926-81ECF4F5DF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11280" y="3429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3300"/>
                </a:solidFill>
                <a:latin typeface="Tahoma"/>
              </a:rPr>
              <a:t>Thank you for your attention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4149720"/>
            <a:ext cx="45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Željko Milkovi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479736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949B-0E48-4596-B2E6-133D9C17F2D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Objectives of the FASRB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stablishment of an international regime of navigation on the Sava River and its navigable tributarie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stablishment of sustainable water managemen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ndertaking of measures to prevent or limit hazards, and reduce and eliminate adverse consequences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(floods, ice hazards, droughts and incidents involving substances hazardous to water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F0AF-53FC-4610-833A-B87D21FA88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87512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3888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54936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International Sava River Basin Commission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R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25600" y="1888560"/>
            <a:ext cx="7371720" cy="3047400"/>
            <a:chOff x="525600" y="1888560"/>
            <a:chExt cx="7371720" cy="3047400"/>
          </a:xfrm>
        </p:grpSpPr>
        <p:sp>
          <p:nvSpPr>
            <p:cNvPr id="157" name=""/>
            <p:cNvSpPr/>
            <p:nvPr/>
          </p:nvSpPr>
          <p:spPr>
            <a:xfrm>
              <a:off x="2410920" y="2351160"/>
              <a:ext cx="3430440" cy="693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International Sava River Basin Commission (ISRBC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BiH, HR, SLO, S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69240" y="2466720"/>
              <a:ext cx="1715040" cy="4622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Secretariat of the ISRB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056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 Navi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8248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</a:t>
              </a:r>
              <a:br>
                <a:rPr sz="1200"/>
              </a:b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Flood Preven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5260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 Accident Prevention and Contr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60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</a:t>
              </a:r>
              <a:br>
                <a:rPr sz="1200"/>
              </a:b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River Basin Manag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3" name=""/>
            <p:cNvCxnSpPr>
              <a:endCxn id="158" idx="1"/>
            </p:cNvCxnSpPr>
            <p:nvPr/>
          </p:nvCxnSpPr>
          <p:spPr>
            <a:xfrm>
              <a:off x="5840280" y="2695680"/>
              <a:ext cx="22968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4" name=""/>
            <p:cNvCxnSpPr>
              <a:stCxn id="158" idx="3"/>
            </p:cNvCxnSpPr>
            <p:nvPr/>
          </p:nvCxnSpPr>
          <p:spPr>
            <a:xfrm>
              <a:off x="7784280" y="2697120"/>
              <a:ext cx="99000" cy="2181240"/>
            </a:xfrm>
            <a:prstGeom prst="bentConnector2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5" name=""/>
            <p:cNvCxnSpPr>
              <a:stCxn id="162" idx="2"/>
              <a:endCxn id="161" idx="2"/>
            </p:cNvCxnSpPr>
            <p:nvPr/>
          </p:nvCxnSpPr>
          <p:spPr>
            <a:xfrm flipH="1" flipV="1" rot="5400000">
              <a:off x="2295720" y="3503520"/>
              <a:ext cx="1800" cy="18273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6" name=""/>
            <p:cNvCxnSpPr>
              <a:stCxn id="161" idx="2"/>
              <a:endCxn id="160" idx="2"/>
            </p:cNvCxnSpPr>
            <p:nvPr/>
          </p:nvCxnSpPr>
          <p:spPr>
            <a:xfrm flipH="1" flipV="1" rot="5400000">
              <a:off x="4123440" y="3501720"/>
              <a:ext cx="1800" cy="183060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7" name=""/>
            <p:cNvCxnSpPr>
              <a:stCxn id="160" idx="2"/>
              <a:endCxn id="159" idx="2"/>
            </p:cNvCxnSpPr>
            <p:nvPr/>
          </p:nvCxnSpPr>
          <p:spPr>
            <a:xfrm flipH="1" flipV="1" rot="5400000">
              <a:off x="5952600" y="3502800"/>
              <a:ext cx="1800" cy="182844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8" name=""/>
            <p:cNvCxnSpPr>
              <a:stCxn id="159" idx="2"/>
            </p:cNvCxnSpPr>
            <p:nvPr/>
          </p:nvCxnSpPr>
          <p:spPr>
            <a:xfrm flipH="1" rot="16200000">
              <a:off x="7151040" y="4133160"/>
              <a:ext cx="463320" cy="1029600"/>
            </a:xfrm>
            <a:prstGeom prst="bentConnector2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9" name=""/>
            <p:cNvCxnSpPr>
              <a:stCxn id="162" idx="0"/>
              <a:endCxn id="161" idx="0"/>
            </p:cNvCxnSpPr>
            <p:nvPr/>
          </p:nvCxnSpPr>
          <p:spPr>
            <a:xfrm flipH="1" rot="16200000">
              <a:off x="2296080" y="2709000"/>
              <a:ext cx="1440" cy="18273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0" name=""/>
            <p:cNvCxnSpPr>
              <a:stCxn id="161" idx="0"/>
              <a:endCxn id="160" idx="0"/>
            </p:cNvCxnSpPr>
            <p:nvPr/>
          </p:nvCxnSpPr>
          <p:spPr>
            <a:xfrm flipH="1" rot="16200000">
              <a:off x="4124520" y="2707560"/>
              <a:ext cx="1440" cy="183060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1" name=""/>
            <p:cNvCxnSpPr>
              <a:stCxn id="160" idx="0"/>
              <a:endCxn id="159" idx="0"/>
            </p:cNvCxnSpPr>
            <p:nvPr/>
          </p:nvCxnSpPr>
          <p:spPr>
            <a:xfrm flipH="1" rot="16200000">
              <a:off x="5953680" y="2708640"/>
              <a:ext cx="1440" cy="182844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2" name=""/>
            <p:cNvCxnSpPr>
              <a:stCxn id="157" idx="2"/>
            </p:cNvCxnSpPr>
            <p:nvPr/>
          </p:nvCxnSpPr>
          <p:spPr>
            <a:xfrm flipH="1">
              <a:off x="4124520" y="3044520"/>
              <a:ext cx="1800" cy="11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3324960" y="1888560"/>
              <a:ext cx="17150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ffffff"/>
                  </a:solidFill>
                  <a:latin typeface="Tahoma"/>
                </a:rPr>
                <a:t>STRUCTU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AEAA-9C4C-48F8-A778-7B459D0C13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International Sava River Basin Commission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RBC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79400" y="1382040"/>
            <a:ext cx="5029200" cy="4914360"/>
            <a:chOff x="2579400" y="1382040"/>
            <a:chExt cx="5029200" cy="4914360"/>
          </a:xfrm>
        </p:grpSpPr>
        <p:sp>
          <p:nvSpPr>
            <p:cNvPr id="177" name=""/>
            <p:cNvSpPr/>
            <p:nvPr/>
          </p:nvSpPr>
          <p:spPr>
            <a:xfrm>
              <a:off x="2694600" y="2753640"/>
              <a:ext cx="2281320" cy="9288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Members of International Sava River Basin Commission (ISRBC)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iH, HR, SLO, SC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79320" y="2068200"/>
              <a:ext cx="916200" cy="261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roble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51360" y="4811040"/>
              <a:ext cx="1371240" cy="457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Recommand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79400" y="4811040"/>
              <a:ext cx="1259280" cy="457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Decis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36240" y="5726160"/>
              <a:ext cx="1715040" cy="5702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Implemanta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iH, HR, SLO, SC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36240" y="3897000"/>
              <a:ext cx="1487160" cy="6858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lenary session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of ISRBC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Discuss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80800" y="3897000"/>
              <a:ext cx="1027800" cy="5738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Work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group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4720" y="4011120"/>
              <a:ext cx="1027800" cy="261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Secretaria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36240" y="1382040"/>
              <a:ext cx="15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FUNCTION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6" name=""/>
            <p:cNvCxnSpPr/>
            <p:nvPr/>
          </p:nvCxnSpPr>
          <p:spPr>
            <a:xfrm flipH="1">
              <a:off x="3779280" y="3682800"/>
              <a:ext cx="55800" cy="2145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/>
            <p:nvPr/>
          </p:nvCxnSpPr>
          <p:spPr>
            <a:xfrm flipH="1">
              <a:off x="3835080" y="2413800"/>
              <a:ext cx="2880" cy="340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/>
            <p:nvPr/>
          </p:nvCxnSpPr>
          <p:spPr>
            <a:xfrm rot="5400000">
              <a:off x="3380400" y="4411080"/>
              <a:ext cx="228600" cy="571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/>
            <p:nvPr/>
          </p:nvCxnSpPr>
          <p:spPr>
            <a:xfrm flipH="1" rot="16200000">
              <a:off x="4094640" y="4267440"/>
              <a:ext cx="22860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/>
            <p:nvPr/>
          </p:nvCxnSpPr>
          <p:spPr>
            <a:xfrm flipH="1" rot="16200000">
              <a:off x="3322800" y="5154480"/>
              <a:ext cx="457920" cy="6854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 rot="5400000">
              <a:off x="4036320" y="5125320"/>
              <a:ext cx="457920" cy="74448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>
              <a:off x="6122880" y="4240080"/>
              <a:ext cx="46080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4522320" y="4240080"/>
              <a:ext cx="51696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/>
            <p:nvPr/>
          </p:nvCxnSpPr>
          <p:spPr>
            <a:xfrm flipH="1">
              <a:off x="4522320" y="4125240"/>
              <a:ext cx="518400" cy="1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/>
            <p:nvPr/>
          </p:nvCxnSpPr>
          <p:spPr>
            <a:xfrm flipH="1">
              <a:off x="6122520" y="4125240"/>
              <a:ext cx="462240" cy="1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/>
            <p:nvPr/>
          </p:nvCxnSpPr>
          <p:spPr>
            <a:xfrm>
              <a:off x="4295160" y="2241000"/>
              <a:ext cx="1314360" cy="17701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97" name=""/>
          <p:cNvSpPr/>
          <p:nvPr/>
        </p:nvSpPr>
        <p:spPr>
          <a:xfrm>
            <a:off x="0" y="5875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B6746-EB7A-4378-B8CC-1420B57435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-36360" y="-27000"/>
          <a:ext cx="9216720" cy="49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-27000"/>
                    <a:ext cx="92167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79280" y="5013360"/>
            <a:ext cx="860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586 rkm of the waterway from Belgrad up to Sis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Connection  between Adriatic and Central and Eastern Europe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1844640"/>
            <a:ext cx="648000" cy="27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Rije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07280" y="162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4076640"/>
            <a:ext cx="649440" cy="27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Ploč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3860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24000" y="1557000"/>
            <a:ext cx="792360" cy="14436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284720" y="2133360"/>
            <a:ext cx="503280" cy="165564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284720" y="1988640"/>
            <a:ext cx="71280" cy="180036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616572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Future canal Dunav-Sava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nnecting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Vukova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and Šama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1341360"/>
            <a:ext cx="295560" cy="358920"/>
          </a:xfrm>
          <a:custGeom>
            <a:avLst/>
            <a:gdLst/>
            <a:ahLst/>
            <a:rect l="l" t="t" r="r" b="b"/>
            <a:pathLst>
              <a:path w="186" h="192">
                <a:moveTo>
                  <a:pt x="186" y="0"/>
                </a:moveTo>
                <a:cubicBezTo>
                  <a:pt x="180" y="4"/>
                  <a:pt x="174" y="9"/>
                  <a:pt x="168" y="12"/>
                </a:cubicBezTo>
                <a:cubicBezTo>
                  <a:pt x="162" y="15"/>
                  <a:pt x="156" y="15"/>
                  <a:pt x="150" y="18"/>
                </a:cubicBezTo>
                <a:cubicBezTo>
                  <a:pt x="137" y="25"/>
                  <a:pt x="114" y="42"/>
                  <a:pt x="114" y="42"/>
                </a:cubicBezTo>
                <a:cubicBezTo>
                  <a:pt x="108" y="51"/>
                  <a:pt x="87" y="82"/>
                  <a:pt x="78" y="96"/>
                </a:cubicBezTo>
                <a:cubicBezTo>
                  <a:pt x="71" y="107"/>
                  <a:pt x="52" y="105"/>
                  <a:pt x="42" y="114"/>
                </a:cubicBezTo>
                <a:cubicBezTo>
                  <a:pt x="25" y="128"/>
                  <a:pt x="24" y="132"/>
                  <a:pt x="12" y="150"/>
                </a:cubicBezTo>
                <a:cubicBezTo>
                  <a:pt x="10" y="158"/>
                  <a:pt x="8" y="166"/>
                  <a:pt x="6" y="174"/>
                </a:cubicBezTo>
                <a:cubicBezTo>
                  <a:pt x="4" y="180"/>
                  <a:pt x="0" y="192"/>
                  <a:pt x="0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4160" y="2576520"/>
            <a:ext cx="72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514"/>
                </a:solidFill>
                <a:latin typeface="Arial"/>
              </a:rPr>
              <a:t>Serbi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3492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514"/>
                </a:solidFill>
                <a:latin typeface="Garamond"/>
              </a:rPr>
              <a:t>Monteneg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D5C5-8EA4-4EA8-9A61-EA32ABFA71A3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History of the navigation</a:t>
            </a:r>
            <a:r>
              <a:rPr b="0" lang="hr-HR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835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In the middle of th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VIII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cen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ry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lmost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50 ships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operated o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ava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river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irst passanger line Sisak – Zemu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started in 1844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bout 15 mil. T in 199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ctivities were stopped during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he war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48360" y="1773360"/>
          <a:ext cx="38163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773360"/>
                    <a:ext cx="38163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1E55D-D52D-42E6-A51D-5EBCB1473747}" type="slidenum">
              <a:t>7</a:t>
            </a:fld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Navigation regime under the FASRB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2062080"/>
            <a:ext cx="4680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Navigation is open for merchant vessels of any stat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Merchant vessels are free to enter the port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he Parties shall undertake measures to maintain the waterwa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ecisions of the Sava Commission shall be binding upon all the Parti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435640" y="2009880"/>
            <a:ext cx="3101760" cy="37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13139-1ED2-4D90-B5BD-881CDFB315F4}" type="slidenum">
              <a:t>8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ava waterway - Navigation problem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280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physical parameters of the Sava cause unfavourable navigation conditions related t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limited draft during large period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harp river bends limiting the length and width of vessels and convoy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Other problems for navigations ar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limited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height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for passages under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ome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bridge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nsufficient mark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8E48-82D9-421D-9925-3A7AB7E600A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0:44:22Z</dcterms:created>
  <dc:creator>Željko Milković</dc:creator>
  <dc:description/>
  <dc:language>en-US</dc:language>
  <cp:lastModifiedBy>Korisnik</cp:lastModifiedBy>
  <dcterms:modified xsi:type="dcterms:W3CDTF">2008-04-10T14:48:48Z</dcterms:modified>
  <cp:revision>170</cp:revision>
  <dc:subject/>
  <dc:title>Rehabilitation and Development Working Group</dc:title>
</cp:coreProperties>
</file>