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15138" cy="99504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A031-DEE6-4EAD-81E3-A1C0E892C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A80F-3473-4E32-B1C2-620DE78AF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B424-B505-4832-9A3F-8211D1689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5B62-C3AE-4E5B-BFD6-79CAB3D12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42CE8-46B2-4F50-9C81-D47444C61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1D19E-A0F4-42DE-A375-6FAB58CEC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3E5F5-E0A8-439C-ABC9-6054E87D6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04DC3-534A-481F-B87D-F8D093348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F5DEC-D0A4-475C-9526-C4E4BC899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73488-53B2-48B3-8D97-2F1F4E8E5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AB8B6-C7DE-412B-8787-EA5AA010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3427-8CA6-4659-86E9-EFA35A500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06633-861C-4A6E-A83F-C5DCE802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9F74E-CB35-4B19-978B-EA890F00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51F10-3AB1-4C12-AE49-B8702BCBC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C8268-D277-4EC6-AFC6-D0CB59758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5F783-0F14-4DD8-B9A2-43F816B1C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F287-A197-4463-8983-D3A6A5DB2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32BF-866D-42C2-83A1-EB02D474B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5C11-DAC7-4DCC-A123-1315A001A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DD0A-C5CF-41AE-9869-026E15095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F18E-8FF0-46D2-B5AC-9A2B1F4C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7CF0-1F1B-478E-A594-7EF752A1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D0A1-07EC-475D-B997-37A8F6B2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EETO South East Europe Transport Observato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B1FEC-9A8E-4491-8FEE-E06A1C5A12E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5486400" cy="56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80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4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9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ftr" idx="5"/>
          </p:nvPr>
        </p:nvSpPr>
        <p:spPr>
          <a:xfrm>
            <a:off x="2666880" y="6248520"/>
            <a:ext cx="381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outh East Europe Transport Observato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8F637-2ABE-4526-A816-0429FBCBE6E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5486400" cy="5684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Verdana"/>
              </a:rPr>
              <a:t>International Financial Institutions Advisory Group meeting on Transport</a:t>
            </a:r>
            <a:br>
              <a:rPr sz="2400"/>
            </a:br>
            <a:r>
              <a:rPr b="1" i="1" lang="en-US" sz="1600" spc="-1" strike="noStrike">
                <a:solidFill>
                  <a:srgbClr val="ccecff"/>
                </a:solidFill>
                <a:latin typeface="Verdana"/>
              </a:rPr>
              <a:t>April 14, 2008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228600" y="4038120"/>
            <a:ext cx="8610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Update on SEETO Activities in 2008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46AD7-9579-4ED4-BB3E-FAD57852E01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Verdana"/>
              </a:rPr>
              <a:t>Priorities of 2008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To improve the general quality of the Multi-annual Plan and, specifically, the quality of the analysis of projects’ status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To improve the data collection process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To assist the Steering Committee and to facilitate its work on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34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the reform of railways,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34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border-crossing issues, including the establishment of the Border-Crossing Working Group,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34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road safety issues, including the establishment of the Road Safety Working Group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To fill the vacancies in personnel and to improve the internal procedures of the Permanent Secretariat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A45F-003B-4CFB-9E9A-38EC2D3C104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ecff"/>
                </a:solidFill>
                <a:latin typeface="Arial"/>
              </a:rPr>
              <a:t>Assistance to SC for fostering policy reforms and harmonisation in the transport sector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 u="sng">
                <a:solidFill>
                  <a:srgbClr val="ffffff"/>
                </a:solidFill>
                <a:uFillTx/>
                <a:latin typeface="Verdana"/>
              </a:rPr>
              <a:t>In the framework of the implementation of the 2007 Addendum to the MoU for a South East European Railway Transport Area, provide support to the SC for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602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40976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ffff"/>
                </a:solidFill>
                <a:latin typeface="Verdana"/>
              </a:rPr>
              <a:t>a) the preparation of a detailed timetable for the implementation the targets foreseen in the Addendum signed on 4.12.2007;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40976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40976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ffff"/>
                </a:solidFill>
                <a:latin typeface="Verdana"/>
              </a:rPr>
              <a:t>b) fostering the preparation of a Common Network Statement, as proposed by the Railways Working Group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4" marL="224172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22AB-31F5-424E-A003-5C4010751E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ecff"/>
                </a:solidFill>
                <a:latin typeface="Arial"/>
              </a:rPr>
              <a:t>Between two MAP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EETIS ver.2 is launched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nfrastructure projects have been financed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(e.g. Belgrade by pass in Serbia, Corridor Vc in Bosnia, Route 7 and parts of Corridor VIII in Albania, Corridor X in Macedonia, rail Corridor X in Croatia, etc...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ntinuation on work on the soft measures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Railway Addendum on MoU was signed in December 2007 and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Railway working group start with activities for implementation of Addendu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Railway working group support preparation of network statement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operation with Corridors secretariat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71C2-8EB6-416A-8019-E6CFF844C4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ecff"/>
                </a:solidFill>
                <a:latin typeface="Arial"/>
              </a:rPr>
              <a:t>MAP 2009-13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Verdana"/>
              </a:rPr>
              <a:t>Same Structure – Improved and Updated Content!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. Introduction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2. Description of the core network and its condition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349"/>
              </a:spcBef>
              <a:buClr>
                <a:srgbClr val="66ccff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Goal: Description and Condition in 2007 for all transport mode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3. Assessment of core network performanc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349"/>
              </a:spcBef>
              <a:buClr>
                <a:srgbClr val="66ccff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Goal: Traffic, Bottlenecks and Accessibility in 2007 for all transport modes and Border Crossings and Road Safet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4. Priority projects of the core network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349"/>
              </a:spcBef>
              <a:buClr>
                <a:srgbClr val="66ccff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Goal: To identify common projects of regional interes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5. Transport policy and sector reform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349"/>
              </a:spcBef>
              <a:buClr>
                <a:srgbClr val="66ccff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Goal: Sector Reforms, EU Policy Guidelines, Horizontal Measures, Priority Soft Measure for 2009, Soft Measures Priorities and Draft Action Plan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6. Monitoring, evaluation and expected achievement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349"/>
              </a:spcBef>
              <a:buClr>
                <a:srgbClr val="66ccff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Goal: Describe Monitoring,  Basic Indicators – Evolution 2005-2008, A Vision for Future MAPs, Expected Achievements, Implementation and Associated Risks, Expected decision making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1384-36A1-4ED4-8816-6B9628538A1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tages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efining key data providers in March 2008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End of April Workshop for data collection and SEETIS 2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for users, National Coordinators and Key Users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ata Collection Start in May 2008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nternal 1st Draft: end of June 2008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en-US" sz="1600" spc="-1" strike="noStrike" baseline="30000">
                <a:solidFill>
                  <a:srgbClr val="ffffff"/>
                </a:solidFill>
                <a:latin typeface="Verdana"/>
              </a:rPr>
              <a:t>st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Draft by:  end of July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takeholder Comments by: early September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cond Draft: end of September (end of data collection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C Meeting – Adoption: October 2008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nal version for Printing: November 2008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0" lang="en-US" sz="1600" spc="-1" strike="noStrike" baseline="30000">
                <a:solidFill>
                  <a:srgbClr val="ffffff"/>
                </a:solidFill>
                <a:latin typeface="Verdana"/>
              </a:rPr>
              <a:t>th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Annual Meeting of Ministers: 4</a:t>
            </a:r>
            <a:r>
              <a:rPr b="0" lang="en-US" sz="1600" spc="-1" strike="noStrike" baseline="30000">
                <a:solidFill>
                  <a:srgbClr val="ffffff"/>
                </a:solidFill>
                <a:latin typeface="Verdana"/>
              </a:rPr>
              <a:t>th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December 2008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C08F-76F0-41D4-912D-304BBCF1B53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5400" spc="-1" strike="noStrike">
                <a:solidFill>
                  <a:srgbClr val="ffff00"/>
                </a:solidFill>
                <a:latin typeface="Verdana"/>
              </a:rPr>
              <a:t>Thank you for your attention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59B1-E258-4708-9F3D-CA78560B98A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3T08:12:10Z</dcterms:created>
  <dc:creator> </dc:creator>
  <dc:description/>
  <dc:language>en-US</dc:language>
  <cp:lastModifiedBy>SEETO</cp:lastModifiedBy>
  <dcterms:modified xsi:type="dcterms:W3CDTF">2008-04-13T18:42:02Z</dcterms:modified>
  <cp:revision>184</cp:revision>
  <dc:subject/>
  <dc:title>ISG Presentation for MAP 2008-12</dc:title>
</cp:coreProperties>
</file>