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D060-86AE-4F70-95F2-7E682F6D3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680" y="3841560"/>
            <a:ext cx="864864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EFFB-5362-4CD8-BC07-0BBC0F1D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6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62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4697-B70C-4FD4-B618-7213553DC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8960" y="137628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3240" y="137628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680" y="384156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8960" y="384156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3240" y="384156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1500-0830-4043-977D-4FE1C98A3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F61D-DE8A-4085-A3A4-4EC73A97F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B0D1-32DF-45D2-9502-AE24D61A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CC40-1F55-4B7D-9696-B9057ABB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6A2B-9218-4EDB-A525-FE63BAE4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8C70-84C5-413E-BB50-A1F56D2A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1080" y="68040"/>
            <a:ext cx="7551720" cy="38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4EAF-D5BF-44A2-B5BF-63E8BE87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6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BD48-5F42-4EF5-B79E-70C48BD3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D61E-06EC-4B63-A71F-A5BB2A41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62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1588-8A21-4D94-B9F8-DDF0E6E3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680" y="3841560"/>
            <a:ext cx="864864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C4F8-2D1D-4FDE-91D2-2A17424B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680" y="3841560"/>
            <a:ext cx="864864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36D1-E0FD-4C68-9783-E5A1C3AE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6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62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7151-E1CE-42EB-BEE8-F8A532F57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8960" y="137628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3240" y="137628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680" y="384156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8960" y="384156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3240" y="384156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EE89-689A-447E-80A9-D2C4AFFCA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147B-8A35-46D7-8C13-88D29D12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44E7-A747-4B43-9E55-16B26F75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7560-6197-4B8B-8C6C-E06D9619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1080" y="68040"/>
            <a:ext cx="7551720" cy="38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8DBF-86BD-4654-9757-627F0F81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6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9E1A-ED00-440C-9412-2469E2AA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62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A95E-5780-4A06-A25E-97910847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680" y="3841560"/>
            <a:ext cx="864864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7CE6-222E-415F-A55A-0F6BF6DB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B634-23B0-46D6-A243-CA12D05C67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50920" y="1720440"/>
            <a:ext cx="61102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65800"/>
            <a:ext cx="192240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57560" y="6265800"/>
            <a:ext cx="281448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21400" y="6265800"/>
            <a:ext cx="192240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2CCF-29F3-4E92-94E7-D6A4B67103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5257800" y="510552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rtin Humphrey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pril 14, 200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2209680"/>
            <a:ext cx="632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380880"/>
            <a:ext cx="611028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European Union - The World Ba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895480" y="2133360"/>
            <a:ext cx="608976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Developing a Sustainable Transport System for Kosovo</a:t>
            </a:r>
            <a:br>
              <a:rPr sz="37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 the railway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765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4343400" cy="3886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495680" y="1905120"/>
            <a:ext cx="4343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440" y="2742840"/>
            <a:ext cx="6713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What is the vision of the authoriti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sion for development of S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gration of the transport infrastructure of Kosovo into the international regional transport networks – priority construction of routes 6 and 7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ation of European standards in all transport secto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ear backlog and modernization existing infrastructu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the cost of transport to facilitate economic development; and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the number of accidents in traffic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2120" y="3259080"/>
            <a:ext cx="76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What are the financing nee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intaining the road net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rmal maintenance needs on primary/regional network  - € 20 million (2006 € 8.1 mill)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acklog additional €12 per yea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cal Roads normal €12 mill per year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acklog additional €11 million per year; an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otal Maintenance needs €53.9 mill pa, or approx. €270 million over the next five yea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veloping the road net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1219320"/>
            <a:ext cx="605808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685800" y="1523880"/>
          <a:ext cx="7772400" cy="4668840"/>
        </p:xfrm>
        <a:graphic>
          <a:graphicData uri="http://schemas.openxmlformats.org/drawingml/2006/table">
            <a:tbl>
              <a:tblPr/>
              <a:tblGrid>
                <a:gridCol w="1996920"/>
                <a:gridCol w="2251080"/>
                <a:gridCol w="1000440"/>
                <a:gridCol w="252396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Recommended Interven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Investment (€ mill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Remark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Pristina – border with Serbia (Route 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Motorway close to Pristina, new 2 lane road between Podujeve and Besi and upgrade of existing road to the border with Ser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13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Motorway project should be closely co-coordinated with the Pristina Ring Road proj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Pristina – Border with Albania (Route 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Motorway between Pristina and Shtime and upgrade of existing road for other parts of the rou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13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Motorway design should be optimized including a supplementary interchange at Lip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Pristina – Border with FYROM (Route 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New high standard 2-lane road between Pristina and Doganaj, and upgrade existing road to bor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9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Pristina – Border with Montenegro (Route 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New high standard 2-lane road from bypass at Fushe Kosove to Komorane. Restoring design standards and smaller upgrading works on other parts of the rou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5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Sections close to Pristina should be co-coordinated with the construction of the Fushe-kosove byp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416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ased implementation nee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the railway s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33480" indent="-4762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llowing projects are considered to be priority projects in the short term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ical assistance to strengthen the institutional framework, develop the new law on railways and other legislation and establish the railway regulatory body -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€ 1.5 millio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air of existing freight wagons -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€ 2.5 millio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air of existing locomotiv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€ 3.3 million; 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rchase of new diesel locomotives to replace life expired locomotives in the current flee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€ 10 mill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tal Needs over the next 5 yea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servative estimate is €1100 million over next 5 years -  € 220 per year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verage spend 2000-2006 €40 per annum (€90 mill in 2008);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uthorities predict €100 million from budget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stimated gap - €600 million in total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ree main message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urrent transport infrastructure is limited in scope and quality, and under increasing pressu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stitutional framework and sector organizations, despite improvements, remain wea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Routes 6 and 7 are priorities for the authorities – but needs are far broa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line of the Pres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in challenges facing the transport se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ision of the author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financing nee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7428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. The Main Challenges.</a:t>
            </a:r>
            <a:br>
              <a:rPr sz="3100"/>
            </a:b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institutional frame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 coherent strategy of policy to guide development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 updated inventory of all roa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unctional classification needs updating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 consistent design and construction standards; Reform of the legal and policy framework for railways yet to start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ir sector remains a reserved function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ew Law on Land Acquisition – remains to be tested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organizations in the s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rganization structure and responsibilities are in need of reform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adequate allocations for maintenance at all levels of the road network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o consistent use of asset management system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cent signs of strain in absorbing modest amounts of technical assistance and capacity build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ondition of the transport net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etwork is isolated from wider regional networ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rimary road network is (2005) in reasonable condition, but updated surveys are required;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e recent study found 94% of secondary and local roads are in poor or very poor condition;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ailway network has been neglected since end of conflict – and stock is old (although not life expired)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80880" y="1219320"/>
          <a:ext cx="8458200" cy="5029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219320"/>
                    <a:ext cx="84582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ad safety is a major and growing economic and social iss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mand continues to gr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eliable data on vehicle ownership is not available, but estimated rate 105 per 1000 head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Vehicle use is predicated to grow at 3-6% pa; an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 Routes 6 and 7 levels range from 1900 AADT at N/S to over 27000 AADT around Pristina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4T07:26:08Z</dcterms:created>
  <dc:creator>WB154283</dc:creator>
  <dc:description/>
  <dc:language>en-US</dc:language>
  <cp:lastModifiedBy>wb251351</cp:lastModifiedBy>
  <dcterms:modified xsi:type="dcterms:W3CDTF">2008-04-14T07:20:42Z</dcterms:modified>
  <cp:revision>248</cp:revision>
  <dc:subject/>
  <dc:title>Slide 1</dc:title>
</cp:coreProperties>
</file>