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3D9-AF75-4686-9738-6413F996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129-075F-465F-9CF3-F052136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4A3-FEC1-484A-8FD3-CA8C3812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09C-4B94-474A-867F-B0C2F3EF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EF0B-8802-4CE6-9C15-99850AD9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326F-BE98-49BE-9584-4A77B05A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A81B-6314-43AB-8A5F-233BF6C7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2C2-01FD-47C8-AD19-B6CB5CE6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E08B-C5F5-488B-9E2F-2BF1E7D3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C546-41DF-481C-8030-30CD4EB8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9C3A-BE24-433E-8F15-3DA8E83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55E-E2EF-42A1-A7B9-04B47C0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0E0-2C44-4B03-9886-D4E2F1A6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A427-F83C-48AE-9769-E983B3A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167-66DE-4CC7-8ED6-04EF535C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BE6C-529F-4743-9FD0-4AB7644F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3EEC-FB7D-4B8B-86A9-B2A7941D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A12-13F3-4E27-9B7E-C2CEBA6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07BA-94FA-47E0-8EDD-C6709E7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CFA-186E-4D3E-A359-477E8BA3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3B3-04D9-4503-ABF3-16E3FCF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0B35-AD92-4087-9474-205DE2E7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9BD-84C7-4A9E-A24D-9CFE6C76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6B9-C622-40F9-8400-5D37D84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D388-2DA4-4A35-9BB8-411F419AAB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F74A-AFA3-4B2C-99C9-0251262C39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8580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Policy Reforms in SEE</a:t>
            </a:r>
            <a:br>
              <a:rPr sz="4000"/>
            </a:b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IAG, Meeting on Social Secto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ussels, 22 January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a Arnho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Bank, ECSH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cy f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gration with 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ional disparities and cohe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41240" y="36036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need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y catch-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 curriculum (especially secondary and tertia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of public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ze school network (demography, urban – r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 more on non-sa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k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u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eforming university entrance ex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en accoun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private s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trengthen regulatory function of the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of PPP in tertiary education, but also voc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27972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yond service delivery, appropriate role of private sector in social sector financing e.g. student lo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800" indent="-343800">
              <a:lnSpc>
                <a:spcPct val="80000"/>
              </a:lnSpc>
              <a:spcBef>
                <a:spcPts val="7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reliab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, including for benchmarking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Integration/Lisbon 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lls/productivity – higher and vocation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Higher Education Area/Bolo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arities: regional, income and ethn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, especial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aps in servic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ing service deliver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minorities, disabled, special needs, orph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ivery of services to improve quality but without adversely affecting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both local and nationa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9:36:22Z</dcterms:created>
  <dc:creator>wb172538</dc:creator>
  <dc:description/>
  <dc:language>en-US</dc:language>
  <cp:lastModifiedBy>WB303893</cp:lastModifiedBy>
  <dcterms:modified xsi:type="dcterms:W3CDTF">2008-01-18T10:42:39Z</dcterms:modified>
  <cp:revision>24</cp:revision>
  <dc:subject/>
  <dc:title>TITLE </dc:title>
</cp:coreProperties>
</file>