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619-AE88-4D1C-A48D-EC2CDA94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DCD-690F-4B62-88DF-D52612E8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921-B47D-422D-85B3-E3740409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A3A-7934-4C2D-8405-74F6B3B6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BA9-BE6F-471D-9A51-21F49CA2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9B-3F7F-42CC-9763-0CE472A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B0F-45AC-4595-B593-578A1640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625-9AF7-451E-BF3B-4D9EC257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216-5207-4B8C-8CA3-7E5606C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24F-706E-4642-A00E-54349AE1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DE2-66C0-477C-A7E6-4C620896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31A-745B-44E9-810F-50A6E90E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D692-3741-4507-B039-4BE1A5B0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-36000"/>
          </a:blip>
          <a:srcRect l="0" t="0" r="4769" b="0"/>
          <a:stretch/>
        </p:blipFill>
        <p:spPr>
          <a:xfrm>
            <a:off x="7924680" y="6095880"/>
            <a:ext cx="4572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utheastern European Economies: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ook, Risks, and Policy Priorit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manuel van der Mensbrug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Representative of the IMF to the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94360" y="0"/>
            <a:ext cx="224964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670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llout of financial turbulence is a key downside ri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51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turbulence has raised borrowing costs for emerging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300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bulence could reduce demand for SEE exports from a less confiden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2486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nancial turbulence may cause foreign banks to tighten credit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1630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Making SEE more Resili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and deep financia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ing Europe remains an attractive region for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and prospective EU membership anchors policies and spurs institution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rge part of capital inflows is FD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ill, a happy ending is not guarant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balances may result in capital flow rever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in one country may spread to another through cross-border conta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and risks assessments by borrowers and lenders may prove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financing is becoming increasingly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accession is no panac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arding against the downside risks and secure continued successful converg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etary policy generally needs tightening to contain inflationary pres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tightening needed to cool overheating economies with large current account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upervisors need to stay on the ball and ensure strong financial frame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structural reforms to improve investment climate, flexibility of markets, and reap benefits from international economic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rpluses will dampen excess demand and provide buffers against sh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7421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Re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argeting and efficiency of s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state aid to EU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ize public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public sector wages to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 buffers and prepare contingency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tax system and improve tax administration/reduce tax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fiscal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guard long-term fiscal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77120" y="3581280"/>
            <a:ext cx="2666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ong banking sector is key to withstand turb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astern Europe has been growing rapidly, reflecting convergence with the W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ystems need to be further developed to contribute to resilie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9800" y="914400"/>
            <a:ext cx="86742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reforms are needed to continue the transition and support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9800" y="762120"/>
            <a:ext cx="8674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the business environment more compet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corruption will be beneficial for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74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trade integration has upward pot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7420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, though not all, SEE countries are also successfully containing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82760"/>
            <a:ext cx="800712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hallenge: continue to catch up rapid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ring more jobs to the formal economy so that benefits are wid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8706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account imbalances are a conc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0074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gh external debt creates vulner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7384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ar-term outlook for SEE remains favo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040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718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3581280"/>
            <a:ext cx="914400" cy="1600200"/>
          </a:xfrm>
          <a:prstGeom prst="rect">
            <a:avLst/>
          </a:prstGeom>
          <a:solidFill>
            <a:srgbClr val="ff00f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lowing seems likely further ahead as global and European growth softe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3:06:32Z</dcterms:created>
  <dc:creator>avamvakidis</dc:creator>
  <dc:description/>
  <dc:language>en-US</dc:language>
  <cp:lastModifiedBy>evandermensbrugghe</cp:lastModifiedBy>
  <dcterms:modified xsi:type="dcterms:W3CDTF">2008-01-22T15:18:42Z</dcterms:modified>
  <cp:revision>870</cp:revision>
  <dc:subject/>
  <dc:title>The Southeastern European Economies:  Vulnerabilities, Challenges and  Opportunities </dc:title>
</cp:coreProperties>
</file>