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3E8-91EE-4D65-BDBD-025A092D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BCB-F1CE-413E-B04D-5A6F53A3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D57-949B-4E1D-9E2C-C501F902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0DA-91C8-4A72-9A79-549BB899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B9E-DE95-4215-8269-DD3178E8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0BD-FB0D-42E7-BB65-2492F3A9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C06-3051-4E4A-8E67-7C814F3E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DA7-9508-4795-A5A8-ECC267DC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513-9E95-4A52-8AF8-7463A026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4B9-A2C9-4EA8-8388-782DC250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6555-E124-4782-AD8A-32E47688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510D-399C-43F7-B343-9F51BED9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AB58-B728-46D5-9B6F-E2925346A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-36000"/>
          </a:blip>
          <a:srcRect l="0" t="0" r="4769" b="0"/>
          <a:stretch/>
        </p:blipFill>
        <p:spPr>
          <a:xfrm>
            <a:off x="7924680" y="60958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theastern European Economies: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ook, Risks, and Policy Priorit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manuel van der Mensbrug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epresentative of the IMF to th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94360" y="0"/>
            <a:ext cx="2249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70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llout of financial turbulence is a key downsid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451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turbulence has raised borrowing costs for emerging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3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ulence could reduce demand for SEE exports from a less confiden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486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nancial turbulence may cause foreign banks to tighten credi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63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Making SEE more Resili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and deep financia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Europe remains an attractive region for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and prospective EU membership anchors policies and spurs institutional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part of capital inflows is F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, a happy ending is not guarant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balances may result in capital flow re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one country may spread to another through cross-border conta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and risks assessments by borrowers and lenders may prov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financing is becoming 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accession is no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arding against the downside risks and secure continued successful conver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 generally needs tightening to contain inflationary pres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tightening needed to cool overheating economies with large current account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upervisors need to stay on the ball and ensure strong financi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structural reforms to improve investment climate, flexibility of markets, and reap benefits from international economic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surpluses will dampen excess demand and provide buffers against sh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42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argeting and efficiency of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 state aid to EU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ize public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public sector wages to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 buffers and prepare contingency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tax system and improve tax administration/reduce tax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sc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guard long-term fisc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 banking sector is key to withstand turb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Europe has been growing rapidly, reflecting convergence with the 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ystems need to be further developed to contribute to resilie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9800" y="914400"/>
            <a:ext cx="86742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reforms are needed to continue the transition and support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9800" y="762120"/>
            <a:ext cx="8674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business environment more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corruption will be beneficial for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74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trade integration has upward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, though not all, SEE countries are also successfully containing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382760"/>
            <a:ext cx="80071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: continue to catch up rapid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ing more jobs to the formal economy so that benefits are wid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ccount imbalances are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gh external debt creates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738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ar-term outlook for SEE remains favo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04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718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owing seems likely further ahead as global and European growth softe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080" y="914400"/>
            <a:ext cx="86738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3:06:32Z</dcterms:created>
  <dc:creator>avamvakidis</dc:creator>
  <dc:description/>
  <dc:language>en-US</dc:language>
  <cp:lastModifiedBy>evandermensbrugghe</cp:lastModifiedBy>
  <dcterms:modified xsi:type="dcterms:W3CDTF">2008-01-22T15:18:42Z</dcterms:modified>
  <cp:revision>870</cp:revision>
  <dc:subject/>
  <dc:title>The Southeastern European Economies:  Vulnerabilities, Challenges and  Opportunities </dc:title>
</cp:coreProperties>
</file>