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A727-BC1F-4F8E-8BE1-36A490E1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8A6-3E26-4B24-9C7A-4821F0BA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437-D470-4E20-99D3-3F21863C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AAB0-CAC0-4F5E-99D7-1A86BED9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4E27-AF02-47B9-A4F0-DD988B4C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87C1-C5C9-40D1-8D98-0C089229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91A1-FF69-4CB6-B89A-88BC0D8A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9C25-E94B-440C-AEFC-48E6498E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4105-12B2-4429-AAF6-6F5AA7D6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FC58-9EA3-4BBE-B655-7E65F2FD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504A-A8AB-4FD2-B32D-FD6CDE7A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E39C-405A-4E7A-AF99-4FB2938F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07EC-AE3D-45B9-9C5D-E7A57DE0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541C-787B-433B-95C2-8955677A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A561-8C25-4807-9CF4-ED26B47F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DE44-6C79-438D-85A4-D086F67A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7D66-21FA-496D-828E-7356B72E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40B-40BF-478B-9781-8660DB81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8567-804D-4046-9331-53B3D04B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C02-0C33-4F3D-BD37-948E7C55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346B-1C5F-491A-B372-AA7D47B7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CADA-4078-48FA-9474-5CF70E3C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1C9F-81F3-4CAB-B69F-ACE51C9C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9C07-B5FD-4BC7-B25D-858E8B69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B366-9267-4C78-9460-EA7565F540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817A-3CE5-475C-8A13-BE72E1DB90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4858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 Policy Reforms in SEE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IAG, Meeting on Social Secto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ussels, 22 January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a Arnho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Bank, ECSH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f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tion with 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ional disparities and cohe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41240" y="3603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need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catch-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 curriculum (especially secondary and tertiar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cy of public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ize school network (demography, urban – r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nd more on non-sal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k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eforming university entrance ex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 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e of private s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trengthen regulatory function of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of PPP in tertiary education, but also voc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yond service delivery, appropriate role of private sector in social sector financing e.g. student loa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reliab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ection, including for benchmarking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 Integration/Lisbon 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/productivity – higher and vocation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Higher Education Area/Bolog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arities: regional, income and ethn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, especial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ps in servic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ing service deliver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grou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minorities, disabled, special needs, orph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ivery of services to improve quality but without adversely affecting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both local and nat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9:36:22Z</dcterms:created>
  <dc:creator>wb172538</dc:creator>
  <dc:description/>
  <dc:language>en-US</dc:language>
  <cp:lastModifiedBy>WB303893</cp:lastModifiedBy>
  <dcterms:modified xsi:type="dcterms:W3CDTF">2008-01-18T10:42:39Z</dcterms:modified>
  <cp:revision>24</cp:revision>
  <dc:subject/>
  <dc:title>TITLE </dc:title>
</cp:coreProperties>
</file>