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CD09-35AA-404D-8661-145E034D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FEA-3499-4B50-A736-EC73D16D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C40C-3CAD-45E9-8331-A85A360C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FE2-3B28-4DBC-B08E-BD82CB8C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A841-4C4E-45F9-B01F-2F4A7F72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108C-B271-4233-B82A-C2CB9D7E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A62B-A839-4826-A90D-902FD071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B9BAA-0411-4446-AB39-1C646484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F6B1-C82A-4016-B0FC-7DE4C094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DD00-6C46-4A51-A98B-313F21CD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4053-0E70-49A4-BFB3-98CDCD71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AD33-25CB-4BAC-A704-53E15E6C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E6C8-8963-443F-BE6C-5AC8DE5C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C2E1-55E5-4F84-BD3B-B59023A3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E46F-A5E5-4F29-B67E-B3E9898D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507E-6A4C-4185-AC32-2EAFA4D6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9AD0-2188-46C8-A1B5-E80F2E2E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383E-3ECB-49B9-B66E-9CB3A6A8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2CFA-1DC2-4E1A-B49F-E9FC1759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E1EE-2B8A-482A-9832-4C8D7BE0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8252-E8C8-4AAD-9645-C6F8F234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F9B9-A85B-4B02-BC44-CE31B56A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2D40-C574-4790-A6E8-4F885DE7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28F-DC03-4B0E-AA64-D05F5406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398B-8876-4E55-9243-43E330E8DC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9E1F-96BD-4E05-9CD2-6E135F78B5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4858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 Policy Reforms in SEE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IAG, Meeting on Social Secto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ussels, 22 January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a Arnho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Bank, ECSH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f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tion with 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ional disparities and cohe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41240" y="3603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need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catch-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m curriculum (especially secondary and tertiar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cy of public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ize school network (demography, urban – ru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nd more on non-sal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k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Reforming university entrance ex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 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e of private s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trengthen regulatory function of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of PPP in tertiary education, but also voc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yond service delivery, appropriate role of private sector in social sector financing e.g. student loa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reliab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ection, including for benchmarking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 Integration/Lisbon 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/productivity – higher and vocationa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Higher Education Area/Bolog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arities: regional, income and ethn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, especial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ps in servic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ing service deliver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 grou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minorities, disabled, special needs, orph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ivery of services to improve quality but without adversely affecting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both local and nat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9:36:22Z</dcterms:created>
  <dc:creator>wb172538</dc:creator>
  <dc:description/>
  <dc:language>en-US</dc:language>
  <cp:lastModifiedBy>WB303893</cp:lastModifiedBy>
  <dcterms:modified xsi:type="dcterms:W3CDTF">2008-01-18T10:42:39Z</dcterms:modified>
  <cp:revision>24</cp:revision>
  <dc:subject/>
  <dc:title>TITLE </dc:title>
</cp:coreProperties>
</file>