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FD8F-9B8E-437E-9657-FE02F64B8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bon goal was agreed to by EU members as part of the Lisbon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ates are employment/adult population. All rates are for 2006, except Monteneg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s are universally low throughout SEE, with some countries the lowest in all of Europ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M agenda is formidable in th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ssues are generally applicable to most if not all countries i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ist is based on the ESW we have done over the past 2 years or so. (All countries except Montenegro and Croa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of low female employment a prominent issue in Turkey and Albania though not in FY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E labor restructuring has involved funding ALMPs and severance for laid-off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P operations have generally involved building capacity of employment services and financing specific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tical work has included comprehensive national LM studies (Albania, FBiH, Macedonia, Serbia, and Turkey) and studies of specific issues (e.g., youth in Kosovo and Turkey, labor taxes in Turkey, Macedonia, and ECCU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has directly supported Governments in developing policies, drafting legislation, etc. (e.g., Macedonia labor law, Turkey – range of LM reform issu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3 CPSs all have emphasis on LM re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urkey CPS is in final stages of discussion with Government. For the Government, LMs are one of the highest priority issues for Bank suppo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ES is a conceptual framework to reinforce that employment is a multi-sectoral issue. MILES is an acronym where M is macroeconomic environment, I is investment climate, L is labor market policies and institutions, E is education and training and S is social protection for worker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B7D6D-2D79-4262-83BF-B4D13A443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2740C-400B-4064-A1FE-4EABA5D96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54D9E-D773-4574-8A80-2A3414DA1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211F5-B23D-482A-9AAE-7FF402B38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87FAFC-8817-41E1-BD64-6DA5C55A04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B7769-B3A8-4A82-BBD9-728DFCDA8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9B4A8-6775-4B94-8B70-CA84028F1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E9EDD-EDCF-46ED-B557-229556D2D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156FC-78F9-4B12-83DD-1C843BCB1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C8F85-D564-4BB9-805A-99901395C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2D3E2-7F5A-4081-B83E-8C3B56ED8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78831-E99E-4E06-A0F4-7A712B0D9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1323A-5CF2-4DC1-853C-1E897A9CC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EAC52-A2A2-46CE-9B28-2EB14E5EC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B6545-35F1-452A-B9B8-C2BBEF7AF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3D2F37-3075-4FBE-9831-D6777339BD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8AA5C7-916D-460A-AB20-D653B57531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28F90-1035-4FF9-A471-BCF1CD8F7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EAB2B-104F-4BDE-B43D-D0FBA727B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0DE06-908D-4C59-8713-C91F351D1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5A918-7D9E-4813-A682-AF8E85BA8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5F954-BD3A-477C-AE4B-473E41B7C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6C572-03A1-4DDA-BFD6-74D4A60EA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7C7C5-C3E2-4FCF-8E84-E917FB217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3B80C-9198-40AC-8920-72DD4A54F35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B5DA4-DABA-4778-9B85-20DDACA0005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Labor Markets in Southeastern Europe</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160"/>
            <a:ext cx="6553440" cy="20574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Bank presentation to International Financial Institutions Advisory Group meeting on Social Sector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ussel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 22, 2007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mployment rates in SEE (2006) are low compared to EU and Lisbon standard</a:t>
            </a:r>
            <a:endParaRPr b="0" lang="en-US" sz="3800" spc="-1" strike="noStrike">
              <a:solidFill>
                <a:srgbClr val="006633"/>
              </a:solidFill>
              <a:latin typeface="Garamond"/>
            </a:endParaRPr>
          </a:p>
        </p:txBody>
      </p:sp>
      <p:graphicFrame>
        <p:nvGraphicFramePr>
          <p:cNvPr id="96" name=""/>
          <p:cNvGraphicFramePr/>
          <p:nvPr/>
        </p:nvGraphicFramePr>
        <p:xfrm>
          <a:off x="-971640" y="1671480"/>
          <a:ext cx="9772920" cy="4556160"/>
        </p:xfrm>
        <a:graphic>
          <a:graphicData uri="http://schemas.openxmlformats.org/presentationml/2006/ole">
            <p:oleObj r:id="rId1" spid="">
              <p:embed/>
              <p:pic>
                <p:nvPicPr>
                  <p:cNvPr id="97" name="" descr=""/>
                  <p:cNvPicPr/>
                  <p:nvPr/>
                </p:nvPicPr>
                <p:blipFill>
                  <a:blip r:embed="rId2"/>
                  <a:stretch/>
                </p:blipFill>
                <p:spPr>
                  <a:xfrm>
                    <a:off x="-971640" y="1671480"/>
                    <a:ext cx="9772920" cy="4556160"/>
                  </a:xfrm>
                  <a:prstGeom prst="rect">
                    <a:avLst/>
                  </a:prstGeom>
                  <a:ln w="0">
                    <a:noFill/>
                  </a:ln>
                </p:spPr>
              </p:pic>
            </p:oleObj>
          </a:graphicData>
        </a:graphic>
      </p:graphicFrame>
      <p:sp>
        <p:nvSpPr>
          <p:cNvPr id="98" name=""/>
          <p:cNvSpPr/>
          <p:nvPr/>
        </p:nvSpPr>
        <p:spPr>
          <a:xfrm>
            <a:off x="1835640" y="2286000"/>
            <a:ext cx="278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bon goal for 2010 = 7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ther common labor market concerns in SEE countries – some important examples</a:t>
            </a:r>
            <a:endParaRPr b="0" lang="en-US" sz="3800" spc="-1" strike="noStrike">
              <a:solidFill>
                <a:srgbClr val="006633"/>
              </a:solidFill>
              <a:latin typeface="Garamond"/>
            </a:endParaRPr>
          </a:p>
        </p:txBody>
      </p:sp>
      <p:sp>
        <p:nvSpPr>
          <p:cNvPr id="100" name="PlaceHolder 2"/>
          <p:cNvSpPr>
            <a:spLocks noGrp="1"/>
          </p:cNvSpPr>
          <p:nvPr>
            <p:ph/>
          </p:nvPr>
        </p:nvSpPr>
        <p:spPr>
          <a:xfrm>
            <a:off x="457200" y="1752480"/>
            <a:ext cx="8229600" cy="453096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Thin” labor markets – job prospects very limited outside dynamic urban center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ed mass layoffs -- enterprise restructuring still incomplete</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ginal or excluded groups -- e.g., long-term unemployed, Rom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icult youth transition into the LM – especially for less educated</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pulation aging in FYRs -- will place premium on improving labor productivity</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kills deficit – workforce skills well below EU standar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s recent/current work program in labor markets</a:t>
            </a:r>
            <a:endParaRPr b="0" lang="en-US" sz="3800" spc="-1" strike="noStrike">
              <a:solidFill>
                <a:srgbClr val="006633"/>
              </a:solidFill>
              <a:latin typeface="Garamond"/>
            </a:endParaRPr>
          </a:p>
        </p:txBody>
      </p:sp>
      <p:graphicFrame>
        <p:nvGraphicFramePr>
          <p:cNvPr id="102" name=""/>
          <p:cNvGraphicFramePr/>
          <p:nvPr/>
        </p:nvGraphicFramePr>
        <p:xfrm>
          <a:off x="380880" y="1981080"/>
          <a:ext cx="8001000" cy="3657600"/>
        </p:xfrm>
        <a:graphic>
          <a:graphicData uri="http://schemas.openxmlformats.org/drawingml/2006/table">
            <a:tbl>
              <a:tblPr/>
              <a:tblGrid>
                <a:gridCol w="4038840"/>
                <a:gridCol w="3962160"/>
              </a:tblGrid>
              <a:tr h="776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suppor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9900">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tical work/policy suppor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9900">
                        <a:alpha val="50000"/>
                      </a:srgbClr>
                    </a:solidFill>
                  </a:tcPr>
                </a:tc>
              </a:tr>
              <a:tr h="288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 (ALMP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 (ALMPs,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ba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sov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edo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FYR+Albani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bor markets in new Country Strategies</a:t>
            </a:r>
            <a:endParaRPr b="0" lang="en-US" sz="3800" spc="-1" strike="noStrike">
              <a:solidFill>
                <a:srgbClr val="006633"/>
              </a:solidFill>
              <a:latin typeface="Garamond"/>
            </a:endParaRPr>
          </a:p>
        </p:txBody>
      </p:sp>
      <p:graphicFrame>
        <p:nvGraphicFramePr>
          <p:cNvPr id="104" name=""/>
          <p:cNvGraphicFramePr/>
          <p:nvPr/>
        </p:nvGraphicFramePr>
        <p:xfrm>
          <a:off x="380880" y="2133720"/>
          <a:ext cx="8229600" cy="3582720"/>
        </p:xfrm>
        <a:graphic>
          <a:graphicData uri="http://schemas.openxmlformats.org/drawingml/2006/table">
            <a:tbl>
              <a:tblPr/>
              <a:tblGrid>
                <a:gridCol w="3048120"/>
                <a:gridCol w="5181480"/>
              </a:tblGrid>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edon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mprehensive LM reforms to increase growth and job cre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b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employment promotion program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ke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improved employment and competitiveness through LM reform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S under discuss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 priorities for SEE labor markets</a:t>
            </a:r>
            <a:endParaRPr b="0" lang="en-US" sz="38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lti-sectoral approach to job creation (MILES framewor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ing and addressing large informal labor marke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orming labor tax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e youth school-to-work transition through more relevant education and train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roving cost-effectiveness of ALMP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6T22:23:23Z</dcterms:created>
  <dc:creator>ED4Admin</dc:creator>
  <dc:description/>
  <dc:language>en-US</dc:language>
  <cp:lastModifiedBy>ED4Admin</cp:lastModifiedBy>
  <dcterms:modified xsi:type="dcterms:W3CDTF">2008-01-18T21:14:36Z</dcterms:modified>
  <cp:revision>11</cp:revision>
  <dc:subject/>
  <dc:title>Labor Markets in Southeastern Europe</dc:title>
</cp:coreProperties>
</file>