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7.jpeg" ContentType="image/jpeg"/>
  <Override PartName="/ppt/media/image6.wmf" ContentType="image/x-wmf"/>
  <Override PartName="/ppt/media/image10.wmf" ContentType="image/x-wmf"/>
  <Override PartName="/ppt/media/image5.wmf" ContentType="image/x-wmf"/>
  <Override PartName="/ppt/media/image23.wmf" ContentType="image/x-wmf"/>
  <Override PartName="/ppt/media/image22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3.jpeg" ContentType="image/jpeg"/>
  <Override PartName="/ppt/media/image16.wmf" ContentType="image/x-wmf"/>
  <Override PartName="/ppt/media/image15.wmf" ContentType="image/x-wmf"/>
  <Override PartName="/ppt/media/image14.wmf" ContentType="image/x-wmf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7F60-6DC8-4792-9B03-CBEBCE833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DAAC-E9FB-4DEB-AF07-7C90C9027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2412-5EF2-434A-9D14-D06F4C28E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11E7-CD06-4BDB-B9D5-563AB337A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B2C0-87EC-41E6-9471-ECB592EA7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2A3F-809F-4BCE-90CE-8C0CDF679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35F4-6813-4034-9B17-4BA2D68DB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84CC-B56E-411A-B133-2C3A62F13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6F14-073C-41BE-8B2F-7D929E37D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A3CC-8169-4E14-B84B-B30886D32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CB8A-BA5C-455C-BF4B-75E514397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D4F7-405C-4155-B539-1FF9DF00E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F63BE-15EB-4369-BEC1-0E0AE3259B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>
            <a:lum bright="-36000"/>
          </a:blip>
          <a:srcRect l="0" t="0" r="4769" b="0"/>
          <a:stretch/>
        </p:blipFill>
        <p:spPr>
          <a:xfrm>
            <a:off x="7924680" y="6095880"/>
            <a:ext cx="457200" cy="454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920" y="1752480"/>
            <a:ext cx="8686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Southeastern European Economies:  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utlook, Risks, and Policy Prioritie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143000" y="3809520"/>
            <a:ext cx="69343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manuel van der Mensbrugg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al Representative of the IMF to the E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nuary 2008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894360" y="0"/>
            <a:ext cx="2249640" cy="16192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367000" cy="15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allout of financial turbulence is a key downside ris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143000" y="1219320"/>
            <a:ext cx="6545160" cy="48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ncial turbulence has raised borrowing costs for emerging mar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85800" y="990720"/>
            <a:ext cx="7623000" cy="54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rbulence could reduce demand for SEE exports from a less confident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838080" y="1066680"/>
            <a:ext cx="7248600" cy="51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financial turbulence may cause foreign banks to tighten credit supp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57200" y="914400"/>
            <a:ext cx="81630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ctors Making SEE more Resilien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pid and deep financial integ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erging Europe remains an attractive region for inves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ual and prospective EU membership anchors policies and spurs institutional re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large part of capital inflows is FD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ill, a happy ending is not guarante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balances may result in capital flow revers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s in one country may spread to another through cross-border contag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ctations and risks assessments by borrowers and lenders may prove wr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t financing is becoming increasingly comm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 accession is no panac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uarding against the downside risks and secure continued successful convergenc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etary policy generally needs tightening to contain inflationary press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scal tightening needed to cool overheating economies with large current account defic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ncial supervisors need to stay on the ball and ensure strong financial frame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oaden structural reforms to improve investment climate, flexibility of markets, and reap benefits from international economic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5345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scal surpluses will dampen excess demand and provide buffers against sho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533520" y="990720"/>
            <a:ext cx="774216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scal Re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1920" y="1294920"/>
            <a:ext cx="86108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 targeting and efficiency of spe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monize state aid to EU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nalize public inves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k public sector wages to produ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in buffers and prepare contingency pl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y the tax system and improve tax administration/reduce tax bu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 fiscal transpa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feguard long-term fiscal sustain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6477120" y="3581280"/>
            <a:ext cx="266688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trong banking sector is key to withstand turbul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1676520"/>
            <a:ext cx="914400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theastern Europe has been growing rapidly, reflecting convergence with the We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57200" y="1066680"/>
            <a:ext cx="787068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ncial systems need to be further developed to contribute to resilience and effici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69800" y="914400"/>
            <a:ext cx="8674200" cy="57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1760" y="151920"/>
            <a:ext cx="7924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al reforms are needed to continue the transition and support converg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69800" y="762120"/>
            <a:ext cx="86742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ing the business environment more competi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28600" y="762120"/>
            <a:ext cx="867420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ing corruption will be beneficial for inves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28600" y="838080"/>
            <a:ext cx="86742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ional trade integration has upward potent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28600" y="762120"/>
            <a:ext cx="8674200" cy="59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, though not all, SEE countries are also successfully containing inf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33520" y="1382760"/>
            <a:ext cx="8007120" cy="54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3818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challenge: continue to catch up rapid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80880" y="914400"/>
            <a:ext cx="8007480" cy="54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520" y="274320"/>
            <a:ext cx="85345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bring more jobs to the formal economy so that benefits are widely rece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787068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rnal account imbalances are a conce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8007480" cy="54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high external debt creates vulnera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04920" y="914400"/>
            <a:ext cx="8673840" cy="570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ar-term outlook for SEE remains favor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0402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971800" y="3581280"/>
            <a:ext cx="914400" cy="1600200"/>
          </a:xfrm>
          <a:prstGeom prst="rect">
            <a:avLst/>
          </a:prstGeom>
          <a:solidFill>
            <a:srgbClr val="ff00ff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3581280"/>
            <a:ext cx="914400" cy="1600200"/>
          </a:xfrm>
          <a:prstGeom prst="rect">
            <a:avLst/>
          </a:prstGeom>
          <a:solidFill>
            <a:srgbClr val="ff00ff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72200" y="3581280"/>
            <a:ext cx="914400" cy="1600200"/>
          </a:xfrm>
          <a:prstGeom prst="rect">
            <a:avLst/>
          </a:prstGeom>
          <a:solidFill>
            <a:srgbClr val="ff00ff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848720" y="3581280"/>
            <a:ext cx="914400" cy="1600200"/>
          </a:xfrm>
          <a:prstGeom prst="rect">
            <a:avLst/>
          </a:prstGeom>
          <a:solidFill>
            <a:srgbClr val="ff00ff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slowing seems likely further ahead as global and European growth softens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35080" y="914400"/>
            <a:ext cx="8673840" cy="54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0T13:06:32Z</dcterms:created>
  <dc:creator>avamvakidis</dc:creator>
  <dc:description/>
  <dc:language>en-US</dc:language>
  <cp:lastModifiedBy>evandermensbrugghe</cp:lastModifiedBy>
  <dcterms:modified xsi:type="dcterms:W3CDTF">2008-01-22T15:18:42Z</dcterms:modified>
  <cp:revision>870</cp:revision>
  <dc:subject/>
  <dc:title>The Southeastern European Economies:  Vulnerabilities, Challenges and  Opportunities </dc:title>
</cp:coreProperties>
</file>