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D482-52E2-41B2-983F-49E15D4E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1B4F-5897-4364-A50D-1B157175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C5E8-8998-4024-B8B6-46571B90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F1FA-B3E2-450B-BCFA-A5706D9B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28A1-ED09-4951-9E41-39465CB1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EE77-A003-4E03-9F65-FB3AAF88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E0BA-C5E9-4333-9E7D-68573AB3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BC1F-A81C-4A1B-B718-3E28F180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DA02-D1FA-424E-9AA0-4B1468B8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FDCA-1732-4CB3-BABC-31AFAC50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6EDD-0576-480C-B97A-DC937FF7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2B82-34F0-47EE-B8EB-123B0D85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EA63-99A4-46FF-8473-3426CB670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-36000"/>
          </a:blip>
          <a:srcRect l="0" t="0" r="4769" b="0"/>
          <a:stretch/>
        </p:blipFill>
        <p:spPr>
          <a:xfrm>
            <a:off x="7924680" y="6095880"/>
            <a:ext cx="457200" cy="45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7524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outheastern European Economies: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ook, Risks, and Policy Prioriti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380952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manuel van der Mensbrugg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Representative of the IMF to the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94360" y="0"/>
            <a:ext cx="2249640" cy="1619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6700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llout of financial turbulence is a key downside ri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54516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turbulence has raised borrowing costs for emerging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300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bulence could reduce demand for SEE exports from a less confident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24860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inancial turbulence may cause foreign banks to tighten credit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1630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Making SEE more Resili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and deep financia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ing Europe remains an attractive region for inv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and prospective EU membership anchors policies and spurs institutional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rge part of capital inflows is F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ill, a happy ending is not guarant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balances may result in capital flow re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in one country may spread to another through cross-border conta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s and risks assessments by borrowers and lenders may prove 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 financing is becoming increasingly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 accession is no panac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arding against the downside risks and secure continued successful converg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tary policy generally needs tightening to contain inflationary pres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tightening needed to cool overheating economies with large current account defic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upervisors need to stay on the ball and ensure strong financial fram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n structural reforms to improve investment climate, flexibility of markets, and reap benefits from international economic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surpluses will dampen excess demand and provide buffers against sh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7421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targeting and efficiency of s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ze state aid to EU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ize public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public sector wages to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in buffers and prepare contingency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 the tax system and improve tax administration/reduce tax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fiscal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guard long-term fiscal sustain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77120" y="3581280"/>
            <a:ext cx="2666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ong banking sector is key to withstand turbu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astern Europe has been growing rapidly, reflecting convergence with the W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8706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ystems need to be further developed to contribute to resilience and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9800" y="914400"/>
            <a:ext cx="86742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reforms are needed to continue the transition and support con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9800" y="762120"/>
            <a:ext cx="8674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the business environment more compet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74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corruption will be beneficial for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74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trade integration has upward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7420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, though not all, SEE countries are also successfully containing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1382760"/>
            <a:ext cx="800712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hallenge: continue to catch up rapid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007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ring more jobs to the formal economy so that benefits are widely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8706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account imbalances are a conc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7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igh external debt creates vulner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67384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ar-term outlook for SEE remains favo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040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718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lowing seems likely further ahead as global and European growth soften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5080" y="914400"/>
            <a:ext cx="867384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3:06:32Z</dcterms:created>
  <dc:creator>avamvakidis</dc:creator>
  <dc:description/>
  <dc:language>en-US</dc:language>
  <cp:lastModifiedBy>evandermensbrugghe</cp:lastModifiedBy>
  <dcterms:modified xsi:type="dcterms:W3CDTF">2008-01-22T15:18:42Z</dcterms:modified>
  <cp:revision>870</cp:revision>
  <dc:subject/>
  <dc:title>The Southeastern European Economies:  Vulnerabilities, Challenges and  Opportunities </dc:title>
</cp:coreProperties>
</file>