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9A2-CD5B-4879-AB5C-7000E182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C10-FB88-4A39-8E1A-5AB96E4A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C0B7-225C-4E71-8560-43CB8C01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712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5860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75564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0712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25860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FE83-B4F4-4BAD-B2E5-07872513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3C33-7642-4DC2-9E15-8FB7C133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AA5B-0CC1-4F93-A15E-4A4361C7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B223-CA02-4452-9B73-8F3CF1BC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5161-D0BD-4D49-9966-185775EB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3EF5-258F-4801-B2CE-CD72CCFA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F081-9337-42B1-8337-5D9A146D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D38C-765E-48B4-B791-439D7B19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7DE-4E12-48F9-939F-A4F774EE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AC75-63B6-447D-B7E0-9BC2D68A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CF8C-5E72-4803-B2A2-60C139C2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E142-C60D-48D2-AB63-24EB9C85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36F0-8F47-40CA-8DBE-D7E8B21B8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0712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58600" y="191628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75564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0712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258600" y="4065840"/>
            <a:ext cx="262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402A-95A2-4A4E-9814-F681EB8C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D06-E4A2-44F2-A139-EEBF20C6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9B6-5337-4593-933C-2DD008A1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F64-7903-4B11-A677-9ED93BF8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16000" y="3330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9B6E-E193-4BE9-B814-FBFF07FF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FA8-F8CF-4077-916F-F4A269AE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25520" y="406584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131-C211-4260-B7B9-E6A8ABF5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5520" y="1916280"/>
            <a:ext cx="3970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55640" y="4065840"/>
            <a:ext cx="813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8184-221A-4FA5-BC9B-2CA5CA72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7E1B-2A91-4C57-AE98-057D93CFA2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DA4E-1505-4B80-8B42-0D2222A04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7280" y="2276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The EU Water Initiative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Successful water polici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Four basics steps towards IWRM (2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tting up the management instruments required by the institutional framework to carry out the institutions’ task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aling with crosscutting issues, such as financing, capacity-building, awareness-raising, and stakeholder information and consul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ffff"/>
                </a:solidFill>
                <a:latin typeface="Times New Roman"/>
              </a:rPr>
              <a:t>National Policy Dialogue - Concept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jor instrument within the EUWI, including the EUWI-EECCA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olving on the basis of lessons lear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 National Key Partner + 1 Strategic Partner + Relevant Stakeho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Strategic Partner :EU Member State, non-EU Member State or international organisation (one for each NP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mand dri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The NPD process – Key Element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137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sequence of activities depen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n countries’ past achiev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urgency of tasks ah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vironmental Performance Reviews (OECD, UNECE), UNDP country papers, GWP analysis and the UNECE Assessment of the Status of Transboundary Waters are valuable sources of inspi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NPD process is a dialogue and not a technical project; it should however facilitate developing projects that address jointly identified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nefits from one to other countries. From a wide rage of IWRM issues, each country should address a specific sub-set of issues, preferably not to be repeated in other count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63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The EECCA NPDs </a:t>
            </a:r>
            <a:br>
              <a:rPr sz="4000"/>
            </a:b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Running – Planned - Announce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195640" y="2852280"/>
            <a:ext cx="4968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menia, Moldo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kraine, Kyrgy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kmenis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IWRM issues under the NPD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ver basin author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ating an enabling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stablishing basic institution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ole of NGOs in River Basin Counc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iver Basin Management Pl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lementation of EU WFD in at least one bas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face water and groundwater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inking IWRM plans and water safety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under arid/semi-arid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in large national bas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WRM in transboundary basins with high conflict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MED EUW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reece l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Joint Process WFD-EUW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ordination with other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H20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GE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Activit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olicy developm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ountry dialog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« Technical » working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FD Joi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ater Dir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Capacity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Joint Pro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s if the WFD were to be applie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hemat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Working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Testing and che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PRB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Ensuring/Enabling suc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olitical wi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National Policies; International Commi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egislative fra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mplemen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e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ina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Hu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ffff"/>
                </a:solidFill>
                <a:latin typeface="Times New Roman"/>
              </a:rPr>
              <a:t>Right cyc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1905120"/>
            <a:ext cx="4419720" cy="4419360"/>
          </a:xfrm>
          <a:custGeom>
            <a:avLst/>
            <a:gdLst>
              <a:gd name="textAreaLeft" fmla="*/ 0 w 4419720"/>
              <a:gd name="textAreaRight" fmla="*/ 4420080 w 4419720"/>
              <a:gd name="textAreaTop" fmla="*/ 0 h 4419360"/>
              <a:gd name="textAreaBottom" fmla="*/ 4419720 h 4419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7100323"/>
                <a:lnTo>
                  <a:pt x="13596" y="21232"/>
                </a:lnTo>
                <a:arcTo wR="10800" hR="10800" stAng="4499677" swAng="1710032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4267080"/>
            <a:ext cx="2210040" cy="1447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1676520"/>
            <a:ext cx="2209680" cy="1447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2209680"/>
            <a:ext cx="2210040" cy="1447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per devi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eas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4876920"/>
            <a:ext cx="2210040" cy="144756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dentif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f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EUWI – Water for lif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ebdings"/>
                <a:ea typeface="Webdings"/>
              </a:rPr>
              <a:t>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tive from EU Member States &amp; European Commi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ibute to the achievement of MDGs and WSSD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Supply and Sanitati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W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grated Water Resources Management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(IW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a balance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uman water need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ose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contribute to halting or reversing the loss of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al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Actions to meet the water and sanitation MD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Partnership approa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involve all parties concerned through multistakeholder process (EU, partner countries, international organisations, NGOs, private sector, IFIs and other donors et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4 Regional components (Africa, EECCA, Mediterranean, Latin Ameri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imes New Roman"/>
              </a:rPr>
              <a:t>Process – No direct financial sup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ffff"/>
                </a:solidFill>
                <a:latin typeface="Times New Roman"/>
              </a:rPr>
              <a:t>EUWI Obj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force political commitment to ac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romote better water governance arrange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mprove coordination and coop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ctor-wide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inforce partnerships for 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courage regional and sub-regional cooperation on water management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talyse additional fund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00ffff"/>
                </a:solidFill>
                <a:latin typeface="Times New Roman"/>
              </a:rPr>
              <a:t>Taking the Initiative forward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se the major gaps to achieve targ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entify immediate action and ensure finance by national/regional consul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sign long term action programmes - national and transbound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alyse financial mechanisms and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t new mechanisms in place for co-ordination and fin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85680" y="1976400"/>
            <a:ext cx="7248600" cy="26766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THE KEY ELEMENTS OF </a:t>
            </a: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IWRM UNDER THE WF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3124080"/>
            <a:ext cx="2209680" cy="366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55888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nv.  obj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58880"/>
            <a:ext cx="221004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ll wa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16872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cipl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16872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kehol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3701880"/>
            <a:ext cx="220968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asu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733920"/>
            <a:ext cx="2210040" cy="335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3333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ater dir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2160" y="5251320"/>
            <a:ext cx="4356000" cy="45828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iver Basin Management Pl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198108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1d58"/>
                </a:solidFill>
                <a:latin typeface="Times New Roman"/>
              </a:rPr>
              <a:t>River bas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77840" y="1320840"/>
            <a:ext cx="4095720" cy="1587600"/>
            <a:chOff x="177840" y="1320840"/>
            <a:chExt cx="4095720" cy="158760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177840" y="1320840"/>
              <a:ext cx="4095720" cy="15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12920" y="1509840"/>
              <a:ext cx="9522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quality, ecology, quanti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356080" y="1295280"/>
            <a:ext cx="3802320" cy="1646280"/>
            <a:chOff x="5356080" y="1295280"/>
            <a:chExt cx="3802320" cy="1646280"/>
          </a:xfrm>
        </p:grpSpPr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5356080" y="1295280"/>
              <a:ext cx="38023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118280" y="1484280"/>
              <a:ext cx="17654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Surface, groundwater, transitional, coast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5560" y="3211560"/>
            <a:ext cx="3395520" cy="2322360"/>
            <a:chOff x="25560" y="3211560"/>
            <a:chExt cx="3395520" cy="232236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25560" y="3211560"/>
              <a:ext cx="3395520" cy="23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60280" y="448164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ydrology, hydraulics, ecology economics…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43400" y="3768840"/>
            <a:ext cx="3990960" cy="1841400"/>
            <a:chOff x="5243400" y="3768840"/>
            <a:chExt cx="3990960" cy="1841400"/>
          </a:xfrm>
        </p:grpSpPr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5243400" y="3768840"/>
              <a:ext cx="399096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889680" y="455760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Nitrates, Urban Waste Water Treatment..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727600" y="3184560"/>
            <a:ext cx="3583080" cy="2425680"/>
            <a:chOff x="5727600" y="3184560"/>
            <a:chExt cx="3583080" cy="2425680"/>
          </a:xfrm>
        </p:grpSpPr>
        <p:pic>
          <p:nvPicPr>
            <p:cNvPr id="187" name="" descr=""/>
            <p:cNvPicPr/>
            <p:nvPr/>
          </p:nvPicPr>
          <p:blipFill>
            <a:blip r:embed="rId5"/>
            <a:stretch/>
          </p:blipFill>
          <p:spPr>
            <a:xfrm>
              <a:off x="5727600" y="3184560"/>
              <a:ext cx="3583080" cy="24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6966000" y="4557600"/>
              <a:ext cx="2070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Gov. agencies, water suppliers, env. NGOs, civil soci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560" y="3759120"/>
            <a:ext cx="4143240" cy="2319480"/>
            <a:chOff x="25560" y="3759120"/>
            <a:chExt cx="4143240" cy="2319480"/>
          </a:xfrm>
        </p:grpSpPr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25560" y="3759120"/>
              <a:ext cx="414324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60280" y="4751280"/>
              <a:ext cx="26798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Regulatory and control, economic instruments, voluntary agreements, supply and demand bas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4421160" y="3970440"/>
            <a:ext cx="566640" cy="1201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28600" y="6400800"/>
            <a:ext cx="8915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ffff"/>
                </a:solidFill>
                <a:latin typeface="Times New Roman"/>
              </a:rPr>
              <a:t>Four basics steps towards IWRM (1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ving toward an enabling environment of appropriate policies, strategies and legislation for sustainable water resources development and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tting in place the institutional framework conducive for the implementation of the policies, strategies and legisla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0:06:11Z</dcterms:created>
  <dc:creator>Rainer E. Enderlein</dc:creator>
  <dc:description/>
  <dc:language>en-US</dc:language>
  <cp:lastModifiedBy>Jose Rizo</cp:lastModifiedBy>
  <dcterms:modified xsi:type="dcterms:W3CDTF">2007-10-26T12:23:31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46924421</vt:r8>
  </property>
  <property fmtid="{D5CDD505-2E9C-101B-9397-08002B2CF9AE}" pid="3" name="_AuthorEmail">
    <vt:lpwstr>Pierre.Hecq@ec.europa.eu</vt:lpwstr>
  </property>
  <property fmtid="{D5CDD505-2E9C-101B-9397-08002B2CF9AE}" pid="4" name="_AuthorEmailDisplayName">
    <vt:lpwstr>HECQ Pierre (ENV)</vt:lpwstr>
  </property>
  <property fmtid="{D5CDD505-2E9C-101B-9397-08002B2CF9AE}" pid="5" name="_EmailSubject">
    <vt:lpwstr>Présentation EC-WB .pp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