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991C-2303-46D2-A58B-1D21C7A8D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SDR is a global movement, which engages a wide range of actors in an effort to build “a culture of prevention” in society. The ISDR is not an “institution” but rather a system made up of governments, inter-governmental and non-governmental organizations, international financial institutions and technical bodies and networks as well as civil society and the private sector, all of which have essential roles to play in disaster risk reduction at the global, regional, national and local level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t>
            </a:r>
            <a:r>
              <a:rPr b="0" i="1" lang="en-GB" sz="1200" spc="-1" strike="noStrike">
                <a:solidFill>
                  <a:srgbClr val="000000"/>
                </a:solidFill>
                <a:latin typeface="Times New Roman"/>
                <a:ea typeface="Times New Roman"/>
              </a:rPr>
              <a:t>Hyogo Framework for Action</a:t>
            </a:r>
            <a:r>
              <a:rPr b="0" lang="en-GB" sz="1200" spc="-1" strike="noStrike">
                <a:solidFill>
                  <a:srgbClr val="000000"/>
                </a:solidFill>
                <a:latin typeface="Times New Roman"/>
                <a:ea typeface="Times New Roman"/>
              </a:rPr>
              <a:t> </a:t>
            </a:r>
            <a:r>
              <a:rPr b="0" i="1" lang="en-GB" sz="1200" spc="-1" strike="noStrike">
                <a:solidFill>
                  <a:srgbClr val="000000"/>
                </a:solidFill>
                <a:latin typeface="Times New Roman"/>
                <a:ea typeface="Times New Roman"/>
              </a:rPr>
              <a:t>2005-2015: Building resilience of nations and communities to disasters</a:t>
            </a:r>
            <a:r>
              <a:rPr b="0" lang="en-GB" sz="1200" spc="-1" strike="noStrike">
                <a:solidFill>
                  <a:srgbClr val="000000"/>
                </a:solidFill>
                <a:latin typeface="Times New Roman"/>
                <a:ea typeface="Times New Roman"/>
              </a:rPr>
              <a:t> serves to guide the ISDR system as a whole on what needs to be done to reduce disaster risk. The Inter Agency Secretariat of the ISDR (UN/ISDR) services the ISDR system by facilitating co-ordination, knowledge management, advocacy and regional outreach and management of the ISDR trust fund. The United Nations Under-Secretary General for Humanitarian Affairs and the Director , UN/ISDR  provides oversight and ensures coherence of the System, with the support of the UN/ISDR.  The secretariat is based in Geneva and has regional outreach offices for Asia, Africa and Latin America and the Caribbean , Europe and the Middle East and North Africa .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lobal Facility for Disaster Reduction and Recovery (GFDRR):</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World Bank has established a Global Facility for Disaster Reduction and Recovery (GFDRR) to promote  integration of disaster risk reduction into poverty reduction strategies and Millennium Development Goals in response to the Hyogo Framework .  The Global Facility represents a major initiative designed to help meet the global demand for increased investment in disaster prevention and mitigation. It aims to boost national, regional and global capacities to reduce disaster risk, particularly in low and middle-income countries. It also seeks to improve the efficiency and effectiveness of post-disaster recovery. The GFDRR therefore represents an important new component of the architecture of the ISDR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In January 2005, 168 Governments adopted a 10-yea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plan to make the world saf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from natural hazards at th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World Conference on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Reduction, held in Kobe, Hyog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Japan. The Hyogo Framework i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 global blueprint for disaster ri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reduction efforts during the next</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decade. Its goal is to</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substantially reduce disaste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losses by 2015 - in lives, and in</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social, economic, 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environmental assets ofcommunities and countrie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The Framework offers</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guiding principles, priorities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action, and practical means f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231f20"/>
                </a:solidFill>
                <a:latin typeface="ArialNarrow"/>
                <a:ea typeface="Times New Roman"/>
              </a:rPr>
              <a:t>achieving disaster resilience for</a:t>
            </a:r>
            <a:r>
              <a:rPr b="0" lang="it-IT" sz="1200" spc="-1" strike="noStrike">
                <a:solidFill>
                  <a:srgbClr val="000000"/>
                </a:solidFill>
                <a:latin typeface="Arial"/>
                <a:ea typeface="Times New Roman"/>
              </a:rPr>
              <a:t> </a:t>
            </a:r>
            <a:r>
              <a:rPr b="0" lang="it-IT" sz="1200" spc="-1" strike="noStrike">
                <a:solidFill>
                  <a:srgbClr val="231f20"/>
                </a:solidFill>
                <a:latin typeface="ArialNarrow"/>
                <a:ea typeface="Times New Roman"/>
              </a:rPr>
              <a:t>vulnerable communities.</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6EBB5F-FB13-4972-95F1-4265DBD71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48F2DE-B345-4B1E-8F81-204AB1489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CA7480-CCA9-4574-B949-76987EDD6F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3DD0D0-DE93-491A-B7A8-81C45AB1E5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80B23-00F9-4CAD-B252-AA25E7608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A32B56-667B-42EC-A9AB-3EB13ADF1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A38CF-F08F-4FB1-8EBC-BAD5281E8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9B93C-3FF0-4A8D-A479-F91544510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C620C-89A3-4992-A334-D791E11C8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56D9A-7266-464B-96BF-D5281BE5F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21909-1305-4883-9E99-0C3D9D04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7FF578-8C18-43ED-A061-4E83E7F18B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82F06-33CB-41B3-8F76-CCFC3E838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5D2EC-AFE5-4099-83E8-6DCBE666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8B4FF-D791-4481-9783-85976B189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E5F71-B564-4AC8-8DBB-4EDCFD522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5258C-78D6-4118-8AB8-1D749D714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162670-B4D6-465A-A72E-57C887307B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14B02F-D845-41D7-9F86-896593702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3725B8-B4A1-44AB-B81A-887F26455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62B78-19D9-4ED2-A8B0-25C58B79AC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0636F3-9C80-4667-B62F-92D4C0976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99F8E7-6ACC-4F46-B0B5-F42541AF1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7200F-93A6-4DB1-AED7-62A77AF35D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DF98-9DF2-42DB-A0D3-82BBA0E1EB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9437-F088-4A0D-A2F2-8DC7611E9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133360"/>
            <a:ext cx="598176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UTH EASTERN EUROPE DISASTER RISK MITIGATION INITIATIVE (SEEDRMI)</a:t>
            </a:r>
            <a:r>
              <a:rPr b="0" lang="en-US" sz="4600" spc="-1" strike="noStrike">
                <a:solidFill>
                  <a:srgbClr val="ffffff"/>
                </a:solidFill>
                <a:latin typeface="Arial"/>
              </a:rPr>
              <a:t> </a:t>
            </a:r>
            <a:endParaRPr b="0" lang="en-US" sz="46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ctober 26, 2007</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ship</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ives is to build and amplify many on-going initiatives that already exist in the reg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k is working closely with the UN/ISDR, the EC, the Council of Europe, WMO, and Stability P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aster Risk Reduction and Adaptation Framework</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8000"/>
          </a:bodyPr>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extend financing to countries in the region, through the World Bank and other donors, to implement activities to promote disaster risk reduction and adaptation</a:t>
            </a:r>
            <a:endParaRPr b="0" lang="en-US" sz="2600" spc="-1" strike="noStrike">
              <a:solidFill>
                <a:srgbClr val="000000"/>
              </a:solidFill>
              <a:latin typeface="Arial"/>
            </a:endParaRPr>
          </a:p>
          <a:p>
            <a:pPr marL="30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kind of projects:</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projects that need to be implemented at the regional level; i.e. metrological and flood early warning system and regional insurance pool</a:t>
            </a:r>
            <a:endParaRPr b="0" lang="en-US" sz="2600" spc="-1" strike="noStrike">
              <a:solidFill>
                <a:srgbClr val="000000"/>
              </a:solidFill>
              <a:latin typeface="Arial"/>
            </a:endParaRPr>
          </a:p>
          <a:p>
            <a:pPr marL="301680" indent="-3016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ntry Specific investments, such as emergency management, flood control, strengthening enforcement of land use plans and development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Component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owing broad components/activities are eligible for financing under the program:</a:t>
            </a:r>
            <a:endParaRPr b="0" lang="en-US" sz="32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Preparedness </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Insurance</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ster Risk Reduction and Adaptation</a:t>
            </a:r>
            <a:endParaRPr b="0" lang="en-US" sz="2800" spc="-1" strike="noStrike">
              <a:solidFill>
                <a:srgbClr val="000000"/>
              </a:solidFill>
              <a:latin typeface="Arial"/>
            </a:endParaRPr>
          </a:p>
          <a:p>
            <a:pPr lvl="1" marL="727920" indent="-2800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gency funding</a:t>
            </a:r>
            <a:endParaRPr b="0" lang="en-US" sz="28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ctivities will be tailored to country-specific need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 Disaster Preparednes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endParaRPr b="0" lang="en-US" sz="32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management equipment such as fire trucks, ambulances, search and rescue equipment, ..etc</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munications equipment</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mmand Center</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est fire fighting equipment, including planes </a:t>
            </a:r>
            <a:endParaRPr b="0" lang="en-US" sz="2800" spc="-1" strike="noStrike">
              <a:solidFill>
                <a:srgbClr val="000000"/>
              </a:solidFill>
              <a:latin typeface="Arial"/>
            </a:endParaRPr>
          </a:p>
          <a:p>
            <a:pPr lvl="1" marL="705600" indent="-2714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forecasting and flood early warning system, etc.</a:t>
            </a: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 Disaster Risk Insurance</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disaster insurance schemes that cover:</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budget</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a:t>
            </a:r>
            <a:endParaRPr b="0" lang="en-US" sz="2800" spc="-1" strike="noStrike">
              <a:solidFill>
                <a:srgbClr val="000000"/>
              </a:solidFill>
              <a:latin typeface="Arial"/>
            </a:endParaRPr>
          </a:p>
          <a:p>
            <a:pPr lvl="2" marL="1028520" indent="-20556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households</a:t>
            </a:r>
            <a:endParaRPr b="0" lang="en-US" sz="2800" spc="-1" strike="noStrike">
              <a:solidFill>
                <a:srgbClr val="000000"/>
              </a:solidFill>
              <a:latin typeface="Arial"/>
            </a:endParaRPr>
          </a:p>
          <a:p>
            <a:pPr lvl="1" marL="668520" indent="-2570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Assistance to build government capacity in catastrophe risk analysis and risk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II: Disaster Risk Reduction and Adapt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zards mapping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 control</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m safety</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rofitting of schools and hospital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fitting of major infrastructure </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sions of building codes and land use plans</a:t>
            </a:r>
            <a:endParaRPr b="0" lang="en-US" sz="2800" spc="-1" strike="noStrike">
              <a:solidFill>
                <a:srgbClr val="000000"/>
              </a:solidFill>
              <a:latin typeface="Arial"/>
            </a:endParaRPr>
          </a:p>
          <a:p>
            <a:pPr lvl="1" marL="720720" indent="-27720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IV: Contingency Funding</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igible activiti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Funds for the use of government in the aftermath of a national disast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e I:</a:t>
            </a:r>
            <a:r>
              <a:rPr b="0" lang="en-US" sz="2800" spc="-1" strike="noStrike">
                <a:solidFill>
                  <a:srgbClr val="000000"/>
                </a:solidFill>
                <a:latin typeface="Arial"/>
              </a:rPr>
              <a:t> Will include relatively cheap, but high impact, non-structural components/activities</a:t>
            </a:r>
            <a:endParaRPr b="0" lang="en-US" sz="28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Preparedness</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rance</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structural activities under Disaster Risk Reduction and Adaptation – such as revisions in building codes and land use plans and hazards mapping</a:t>
            </a:r>
            <a:endParaRPr b="0" lang="en-US" sz="2400" spc="-1" strike="noStrike">
              <a:solidFill>
                <a:srgbClr val="000000"/>
              </a:solidFill>
              <a:latin typeface="Arial"/>
            </a:endParaRPr>
          </a:p>
          <a:p>
            <a:pPr lvl="1" marL="735480" indent="-28296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f comprehensive national strategies for disaster risk mitigation and adaptation</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 II:</a:t>
            </a:r>
            <a:r>
              <a:rPr b="0" lang="en-US" sz="3200" spc="-1" strike="noStrike">
                <a:solidFill>
                  <a:srgbClr val="000000"/>
                </a:solidFill>
                <a:latin typeface="Arial"/>
              </a:rPr>
              <a:t> Structural investm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Risk Reduction and Adaptation – such as flood control, dam safety, retrofitting of buildings, retrofitting of key infrastructure, ..etc.</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ries may choose to </a:t>
            </a:r>
            <a:r>
              <a:rPr b="1" lang="en-US" sz="3200" spc="-1" strike="noStrike">
                <a:solidFill>
                  <a:srgbClr val="000000"/>
                </a:solidFill>
                <a:latin typeface="Arial"/>
              </a:rPr>
              <a:t>combine</a:t>
            </a:r>
            <a:r>
              <a:rPr b="0" lang="en-US" sz="3200" spc="-1" strike="noStrike">
                <a:solidFill>
                  <a:srgbClr val="000000"/>
                </a:solidFill>
                <a:latin typeface="Arial"/>
              </a:rPr>
              <a:t> phase I and phase II under on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ing (cont.)</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both phases governments could have access to contingency funding (called DDO) in the aftermath of disas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 will provide financing to meet the immediate cash needs of government following a disast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Eastern Europe Disaster Risk Reduction and Adaptation Framework</a:t>
            </a:r>
            <a:endParaRPr b="0" lang="en-US" sz="3200" spc="-1" strike="noStrike">
              <a:solidFill>
                <a:srgbClr val="000000"/>
              </a:solidFill>
              <a:latin typeface="Arial"/>
            </a:endParaRPr>
          </a:p>
        </p:txBody>
      </p:sp>
      <p:sp>
        <p:nvSpPr>
          <p:cNvPr id="116" name="PlaceHolder 2"/>
          <p:cNvSpPr>
            <a:spLocks noGrp="1"/>
          </p:cNvSpPr>
          <p:nvPr>
            <p:ph/>
          </p:nvPr>
        </p:nvSpPr>
        <p:spPr>
          <a:xfrm>
            <a:off x="457200" y="1523520"/>
            <a:ext cx="8229600" cy="47595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Objective:</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To reduce vulnerability of SEE countries to natural disasters by building the capacity and promoting a coordinated approach in disaster risk mitigation,  risk transfer, preparedness and respon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Phas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enable speedy preparation and start implementation of critical activities under phase I</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give governments time to come up with a comprehensive strategy for disaster risk reduction and adaptation to define priorities according to economic, financial, environmental and social criteria</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r>
              <a:rPr b="0" lang="en-US" sz="4400" spc="-1" strike="noStrike">
                <a:solidFill>
                  <a:srgbClr val="000000"/>
                </a:solidFill>
                <a:latin typeface="Arial"/>
              </a:rPr>
              <a:t>	</a:t>
            </a:r>
            <a:r>
              <a:rPr b="0" lang="en-US" sz="4400" spc="-1" strike="noStrike">
                <a:solidFill>
                  <a:srgbClr val="000000"/>
                </a:solidFill>
                <a:latin typeface="Arial"/>
              </a:rPr>
              <a:t> and Timing</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communicated to all governments on the proposed program</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ed governments will decide on the list of components/activities to be included in their project</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 team will work with governments to finalize project documents</a:t>
            </a:r>
            <a:endParaRPr b="0" lang="en-US" sz="2800" spc="-1" strike="noStrike">
              <a:solidFill>
                <a:srgbClr val="000000"/>
              </a:solidFill>
              <a:latin typeface="Arial"/>
            </a:endParaRPr>
          </a:p>
          <a:p>
            <a:pPr marL="329040" indent="-329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ng arrangements will be agreed with governments and other partners. </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nerability of SEE Region</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E is prone to variety of disasters caused by the natural and man-made hazards:</a:t>
            </a:r>
            <a:endParaRPr b="0" lang="en-US" sz="32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quakes (Skopje 1963; Bucharest 1977)</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ods (seasonal water surges in Balkan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lides (localized, affecting communitie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ought</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 Fir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cal accident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e for the </a:t>
            </a:r>
            <a:r>
              <a:rPr b="1" lang="en-US" sz="4400" spc="-1" strike="noStrike" u="sng">
                <a:solidFill>
                  <a:srgbClr val="000000"/>
                </a:solidFill>
                <a:uFillTx/>
                <a:latin typeface="Arial"/>
              </a:rPr>
              <a:t>Regional Cooperation</a:t>
            </a:r>
            <a:endParaRPr b="0" lang="en-US" sz="4400" spc="-1" strike="noStrike">
              <a:solidFill>
                <a:srgbClr val="000000"/>
              </a:solidFill>
              <a:latin typeface="Arial"/>
            </a:endParaRPr>
          </a:p>
        </p:txBody>
      </p:sp>
      <p:sp>
        <p:nvSpPr>
          <p:cNvPr id="120" name="PlaceHolder 2"/>
          <p:cNvSpPr>
            <a:spLocks noGrp="1"/>
          </p:cNvSpPr>
          <p:nvPr>
            <p:ph/>
          </p:nvPr>
        </p:nvSpPr>
        <p:spPr>
          <a:xfrm>
            <a:off x="380880" y="144756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hazards are common to a number of neighboring countri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sharing will allow for greater reduction of hazard risk at the national and regional level</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ountries may not be able to cope with a major disaster on their own</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by, fully equipped emergency response units and relief materials are expensiv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ries are small in size and hazards risk insurance may not be optimal at the country lev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uth Eastern Europe Disaster Risk Mitigation Initiative (SEEDRMI)</a:t>
            </a:r>
            <a:endParaRPr b="0" lang="en-US" sz="36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Key Areas of the Initiative</a:t>
            </a:r>
            <a:r>
              <a:rPr b="0" lang="en-US" sz="3200" spc="-1" strike="noStrike">
                <a:solidFill>
                  <a:srgbClr val="000000"/>
                </a:solidFill>
                <a:latin typeface="Arial"/>
              </a:rPr>
              <a:t>:</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logical and meteorological forecasting and flood early warning;</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regional capacities in disaster risk reduction and response</a:t>
            </a:r>
            <a:endParaRPr b="0" lang="en-US" sz="3200" spc="-1" strike="noStrike">
              <a:solidFill>
                <a:srgbClr val="000000"/>
              </a:solidFill>
              <a:latin typeface="Arial"/>
            </a:endParaRPr>
          </a:p>
          <a:p>
            <a:pPr marL="548280" indent="-548280">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 of disaster losses and creation of regional and national risk transfer mechanisms.</a:t>
            </a:r>
            <a:endParaRPr b="0" lang="en-US" sz="3200" spc="-1" strike="noStrike">
              <a:solidFill>
                <a:srgbClr val="000000"/>
              </a:solidFill>
              <a:latin typeface="Arial"/>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Hydrological and Meteorological Forecasting, Data Sharing and Early Warning System</a:t>
            </a:r>
            <a:endParaRPr b="0" lang="en-US" sz="31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tive has been agreed during the ICEED meeting in Dubrovnik in May 2006</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ong partnership with WMO  </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 of this initiative is to promote a coordinated approach and data sharing in Hydromet services in South Eastern Europe</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 assessment has been completed and was discussed in a regional meeting on October 24-25, 2007 in Zagreb</a:t>
            </a:r>
            <a:endParaRPr b="0" lang="en-US" sz="2600" spc="-1" strike="noStrike">
              <a:solidFill>
                <a:srgbClr val="000000"/>
              </a:solidFill>
              <a:latin typeface="Arial"/>
            </a:endParaRPr>
          </a:p>
          <a:p>
            <a:pPr marL="294840" indent="-294840">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verage: Moldova, Romania, Bulgaria, Serbia, Montenegro, Croatia, Albania, Macedonia, Bosnia &amp; Herzegovi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ood Forecasting and Early Warning System on Sava River</a:t>
            </a:r>
            <a:endParaRPr b="0" lang="en-US" sz="40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was agreed during Podgorica meeting of the Directors of Hydromet services in Sava river countries in April 2007.</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 is to build capacity and to re-establish data sharing and collaboration on flood forecasting and early warning system on the Sava river.</a:t>
            </a:r>
            <a:endParaRPr b="0" lang="en-US" sz="2800" spc="-1" strike="noStrike">
              <a:solidFill>
                <a:srgbClr val="000000"/>
              </a:solidFill>
              <a:latin typeface="Arial"/>
            </a:endParaRPr>
          </a:p>
          <a:p>
            <a:pPr marL="329040" indent="-3290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sibility Assessment has been completed and discussed in a regional meeting in Zagreb on October 24-25, 200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ster Risk Reduction and Response</a:t>
            </a:r>
            <a:endParaRPr b="0" lang="en-US" sz="40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0000"/>
          </a:bodyPr>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ives is to promote and implement investment priorities for strengthening the capacity and promote a coordinated approach to disaster preparedness and response</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ll be built on existing agreements: Civil-Military Emergency Planning Council and the Disaster Preparedness Initiative of the Stability Pact</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ty Assessment is completed</a:t>
            </a:r>
            <a:endParaRPr b="0" lang="en-US" sz="2600" spc="-1" strike="noStrike">
              <a:solidFill>
                <a:srgbClr val="000000"/>
              </a:solidFill>
              <a:latin typeface="Arial"/>
            </a:endParaRPr>
          </a:p>
          <a:p>
            <a:pPr marL="308520" indent="-30852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detailed assessment of disaster response is needed. </a:t>
            </a:r>
            <a:endParaRPr b="0" lang="en-US" sz="2600" spc="-1" strike="noStrike">
              <a:solidFill>
                <a:srgbClr val="000000"/>
              </a:solidFill>
              <a:latin typeface="Arial"/>
            </a:endParaRPr>
          </a:p>
          <a:p>
            <a:pPr marL="308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astrophe Risk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ion of a regional catastrophe insurance pool that would offer affordably-priced catastrophe insurance coverage to governments of SEE countries. </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national catastrophe insurance programs for homeowners and SME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ment of standardized tradable weather risk hedging instruments to protect businesses against loss of revenue due to adverse weather conditions.</a:t>
            </a:r>
            <a:endParaRPr b="0" lang="en-US" sz="26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ing and issuance of a catastrophe risk bond for countries of the reg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5:27:25Z</dcterms:created>
  <dc:creator>wb165850</dc:creator>
  <dc:description/>
  <dc:language>en-US</dc:language>
  <cp:lastModifiedBy>wb88374</cp:lastModifiedBy>
  <dcterms:modified xsi:type="dcterms:W3CDTF">2007-10-25T18:38:44Z</dcterms:modified>
  <cp:revision>113</cp:revision>
  <dc:subject/>
  <dc:title>REGIONAL SOUTH EASTERN EUROPE DISASTER PREPAREDNESS INITIATIVE</dc:title>
</cp:coreProperties>
</file>