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62DB-8CB9-463C-8D4B-B81A8D1F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B55B-7A97-42AE-8EAA-95212C12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7869-0BA5-4825-83B7-8FBFCA78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712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5860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5564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0712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5860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2641-024F-40C2-BCC4-29B07CFB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15DA-3C6D-468D-9DD4-2C81E1DC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0CBC-F024-4AC2-BADB-3FF4459E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DFF7-EA3C-4F0D-A454-C0DC4A6E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949B-9078-4F74-A14D-7235EE2D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42BB-1814-463E-A95C-9143398B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B778-DDD6-4B8B-8196-DBF65A88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B0B1-DD08-44BD-8973-3A455A5E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6E11-BC95-4F09-A22F-DF2B39E1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4E6B-CAC0-4165-BA20-4CDDBA97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19E1-ADED-48BE-843C-6CFB5AC3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82ED-C146-4705-95E1-F973EE39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B348-DE81-48F2-AE1D-3C5A4E22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712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5860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75564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0712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25860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D76B-E188-4B35-B904-EDDD7198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4C2-3412-496A-AFB3-A80E0430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B425-35D7-4866-AAF9-BB216CC9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08F-175E-4C65-8CCC-A1299ECA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CF63-E6FE-41E5-8373-CB25B582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893C-9820-4855-8C83-914B4F62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724-C259-488D-BF02-0D711289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962-A145-4DAB-922E-E49FCAB3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24A9-BB47-4756-8A82-760E69E82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F3B4-625E-4AED-AB67-F67B48D5E5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276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The EU Water Initiative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Successful water polici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Four basics steps towards IWRM (2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tting up the management instruments required by the institutional framework to carry out the institutions’ task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aling with crosscutting issues, such as financing, capacity-building, awareness-raising, and stakeholder information and consul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National Policy Dialogue - Concept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jor instrument within the EUWI, including the EUWI-EECCA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olving on the basis of lessons lear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 National Key Partner + 1 Strategic Partner + Relevant Stakeho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trategic Partner :EU Member State, non-EU Member State or international organisation (one for each NP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mand dri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The NPD process – Key Element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137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sequence of activities depen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 countries’ past achiev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urgency of tasks a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vironmental Performance Reviews (OECD, UNECE), UNDP country papers, GWP analysis and the UNECE Assessment of the Status of Transboundary Waters are valuable sources of inspi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NPD process is a dialogue and not a technical project; it should however facilitate developing projects that address jointly identified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nefits from one to other countries. From a wide rage of IWRM issues, each country should address a specific sub-set of issues, preferably not to be repeated in other count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63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The EECCA NPDs </a:t>
            </a:r>
            <a:br>
              <a:rPr sz="4000"/>
            </a:b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Running – Planned - Announce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195640" y="2852280"/>
            <a:ext cx="4968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menia, Mold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kraine, Kyrgy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kmen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IWRM issues under the NPD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ver basin author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ating an enabling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tablishing basic institution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ole of NGOs in River Basin Counc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ver Basin Management Pl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lementation of EU WFD in at least one bas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face water and groundwater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inking IWRM plans and water safety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under arid/semi-arid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in large national bas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in transboundary basins with high conflict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MED EUW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reece l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Joint Process WFD-EUW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ordination with other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H20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Activit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olicy developm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untry dialog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« Technical » working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FD Joi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ater Dir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apacity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Joint Pro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s if the WFD were to be applie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hemat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orking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esting and che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Ensuring/Enabling suc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litical wi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ational Policies; International Commi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gislative fra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mplemen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e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ina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Right cyc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1905120"/>
            <a:ext cx="4419720" cy="4419360"/>
          </a:xfrm>
          <a:custGeom>
            <a:avLst/>
            <a:gdLst>
              <a:gd name="textAreaLeft" fmla="*/ 0 w 4419720"/>
              <a:gd name="textAreaRight" fmla="*/ 4420080 w 4419720"/>
              <a:gd name="textAreaTop" fmla="*/ 0 h 4419360"/>
              <a:gd name="textAreaBottom" fmla="*/ 4419720 h 4419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7100323"/>
                <a:lnTo>
                  <a:pt x="13596" y="21232"/>
                </a:lnTo>
                <a:arcTo wR="10800" hR="10800" stAng="4499677" swAng="1710032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267080"/>
            <a:ext cx="2210040" cy="1447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1676520"/>
            <a:ext cx="2209680" cy="1447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2209680"/>
            <a:ext cx="2210040" cy="1447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er devi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eas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4876920"/>
            <a:ext cx="2210040" cy="1447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dentif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f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EUWI – Water for lif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ebdings"/>
                <a:ea typeface="Webdings"/>
              </a:rPr>
              <a:t>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tive from EU Member States &amp; European Com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ibute to the achievement of MDGs and WSSD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Supply and Sanitati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W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grated Water Resources Management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IW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a balance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uman water need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ose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ontribute to halting or reversing the loss of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al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Actions to meet the water and sanitation MD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Partnership approa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involve all parties concerned through multistakeholder process (EU, partner countries, international organisations, NGOs, private sector, IFIs and other donors et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4 Regional components (Africa, EECCA, Mediterranean, Latin Ameri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Process – No direct financial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UWI Obj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force political commitment to ac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mote better water governance arrange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mprove coordination and coop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ctor-wide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force partnerships for 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courage regional and sub-regional cooperation on water management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talyse additional fund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Taking the Initiative forward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se the major gaps to achieve targ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entify immediate action and ensure finance by national/regional consul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ign long term action programmes - national and transbound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se financial mechanisms and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t new mechanisms in place for co-ordination and fin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85680" y="1976400"/>
            <a:ext cx="7248600" cy="26766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THE KEY ELEMENTS OF </a:t>
            </a: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IWRM UNDER THE WF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3124080"/>
            <a:ext cx="2209680" cy="366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55888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nv.  obj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58880"/>
            <a:ext cx="221004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ll wa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16872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cipl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16872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kehol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370188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asu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733920"/>
            <a:ext cx="221004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ter dir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2160" y="5251320"/>
            <a:ext cx="4356000" cy="45828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iver Basin Management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198108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1d58"/>
                </a:solidFill>
                <a:latin typeface="Times New Roman"/>
              </a:rPr>
              <a:t>River bas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77840" y="1320840"/>
            <a:ext cx="4095720" cy="1587600"/>
            <a:chOff x="177840" y="1320840"/>
            <a:chExt cx="4095720" cy="158760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177840" y="1320840"/>
              <a:ext cx="4095720" cy="15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12920" y="1509840"/>
              <a:ext cx="9522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quality, ecology, quanti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356080" y="1295280"/>
            <a:ext cx="3802320" cy="1646280"/>
            <a:chOff x="5356080" y="1295280"/>
            <a:chExt cx="3802320" cy="1646280"/>
          </a:xfrm>
        </p:grpSpPr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356080" y="1295280"/>
              <a:ext cx="38023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118280" y="1484280"/>
              <a:ext cx="1765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urface, groundwater, transitional, coast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5560" y="3211560"/>
            <a:ext cx="3395520" cy="2322360"/>
            <a:chOff x="25560" y="3211560"/>
            <a:chExt cx="3395520" cy="232236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25560" y="3211560"/>
              <a:ext cx="339552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60280" y="448164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ydrology, hydraulics, ecology economics…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43400" y="3768840"/>
            <a:ext cx="3990960" cy="1841400"/>
            <a:chOff x="5243400" y="3768840"/>
            <a:chExt cx="3990960" cy="1841400"/>
          </a:xfrm>
        </p:grpSpPr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5243400" y="3768840"/>
              <a:ext cx="399096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889680" y="455760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Nitrates, Urban Waste Water Treatment..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727600" y="3184560"/>
            <a:ext cx="3583080" cy="2425680"/>
            <a:chOff x="5727600" y="3184560"/>
            <a:chExt cx="3583080" cy="2425680"/>
          </a:xfrm>
        </p:grpSpPr>
        <p:pic>
          <p:nvPicPr>
            <p:cNvPr id="187" name="" descr=""/>
            <p:cNvPicPr/>
            <p:nvPr/>
          </p:nvPicPr>
          <p:blipFill>
            <a:blip r:embed="rId5"/>
            <a:stretch/>
          </p:blipFill>
          <p:spPr>
            <a:xfrm>
              <a:off x="5727600" y="3184560"/>
              <a:ext cx="358308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966000" y="455760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Gov. agencies, water suppliers, env. NGOs, civil soci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560" y="3759120"/>
            <a:ext cx="4143240" cy="2319480"/>
            <a:chOff x="25560" y="3759120"/>
            <a:chExt cx="4143240" cy="2319480"/>
          </a:xfrm>
        </p:grpSpPr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25560" y="3759120"/>
              <a:ext cx="414324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60280" y="4751280"/>
              <a:ext cx="26798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Regulatory and control, economic instruments, voluntary agreements, supply and demand bas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4421160" y="3970440"/>
            <a:ext cx="566640" cy="1201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8600" y="6400800"/>
            <a:ext cx="8915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Four basics steps towards IWRM (1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ving toward an enabling environment of appropriate policies, strategies and legislation for sustainable water resources development and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tting in place the institutional framework conducive for the implementation of the policies, strategies and legisla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0:06:11Z</dcterms:created>
  <dc:creator>Rainer E. Enderlein</dc:creator>
  <dc:description/>
  <dc:language>en-US</dc:language>
  <cp:lastModifiedBy>Jose Rizo</cp:lastModifiedBy>
  <dcterms:modified xsi:type="dcterms:W3CDTF">2007-10-26T12:23:31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46924421</vt:r8>
  </property>
  <property fmtid="{D5CDD505-2E9C-101B-9397-08002B2CF9AE}" pid="3" name="_AuthorEmail">
    <vt:lpwstr>Pierre.Hecq@ec.europa.eu</vt:lpwstr>
  </property>
  <property fmtid="{D5CDD505-2E9C-101B-9397-08002B2CF9AE}" pid="4" name="_AuthorEmailDisplayName">
    <vt:lpwstr>HECQ Pierre (ENV)</vt:lpwstr>
  </property>
  <property fmtid="{D5CDD505-2E9C-101B-9397-08002B2CF9AE}" pid="5" name="_EmailSubject">
    <vt:lpwstr>Présentation EC-WB 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