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A992-428F-4B9A-B418-57B04858B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147D-0E8C-45CF-9601-3EDA8A8F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BD26-3EF9-4A04-8453-8FFC575C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CC3E-A491-4560-A16A-32B26A0DB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9ECE-4050-48E8-B620-ED4114397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F8BC-9E35-4753-AB76-E47D12F4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CC85-A3D0-45F8-90C7-F4685568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E96F-705B-4F95-A04C-4F4F5CD0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A6E1-0D3B-4E84-913D-780589D0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B0F7-943D-4AC9-BF11-4E580343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DBFB-4976-4AE9-8DD9-DB0540BA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EEC2-004F-488E-98F1-C73328B0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0579-3620-4A30-B9AD-467EF0C7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E2BF-567C-4DFB-A1D8-431CFC4E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9067-1BE9-4D10-8347-867E220A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CA5A-F418-4F1A-BEBF-A00AB028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9A0D-A639-4383-ACE7-DB21BC41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435C-F8D6-4F3E-B19D-19DF7ED2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F6CA-A7B6-45B2-97A0-3809719C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E9C5-0BEB-4E37-A622-C21287ED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1B8E-5203-47EE-A132-6B39E0CA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E169-2616-42D4-B9F8-49C91AB0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A9AB-18A7-41BA-A434-13761EC3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C75C-9C95-4165-8F71-3B356805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3A52-C6FA-4B9B-B871-9885291C52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EC1D-B6A7-4B2A-865B-167F467800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330066"/>
                </a:solidFill>
                <a:latin typeface="Arial"/>
              </a:rPr>
              <a:t>World Bank ECA Region Approach to Climate Change Adaptation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n Ho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17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Y08-10 Pilot Program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543800" cy="4267080"/>
          </a:xfrm>
          <a:prstGeom prst="rect">
            <a:avLst/>
          </a:prstGeom>
          <a:solidFill>
            <a:srgbClr val="ccffff">
              <a:alpha val="6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Programmatic ESW in ECS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 Review – January 3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it approval for funding in FY09 &amp;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utput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n keeping with programmatic ESW, varies from workshop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chnical review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licy 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s parallel Trust Fund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 by ECSSD with ECA-wide 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advisory group and external exp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to ECA Disaster Risk Management and EU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s to Bank-wide ESW and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rtunistic partnerships: EC, WMO, IPCC and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6043-1A53-49DA-A430-601D85734F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irst-Tier Pilot Sub-region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90920" y="2362320"/>
            <a:ext cx="5333760" cy="2095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847080" y="27874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ti-sec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47720" y="1523880"/>
            <a:ext cx="29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uth Cauca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ater; livelihoods; energ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00520" y="4572000"/>
            <a:ext cx="251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ld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rought &amp; ru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lihoods; agricult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91440" y="4494240"/>
            <a:ext cx="315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entral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elting glaciers; hydro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&amp; agriculture; pover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3429000"/>
            <a:ext cx="15242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657600" y="3504960"/>
            <a:ext cx="2286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6400440" y="3809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952520" y="2133720"/>
            <a:ext cx="22860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3160" y="5165640"/>
            <a:ext cx="22183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Resources (thru FY1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$1.M + BB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$1.3 M + Trust Fun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$TBD co-fund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7A3B-8301-4145-8A29-92545481E0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Example Sub-regional Pilots: 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E Europe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267080" y="990720"/>
            <a:ext cx="3035520" cy="33526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61520" y="1600200"/>
            <a:ext cx="3472560" cy="42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me Client &amp; ECA Inter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ROATIA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: ports; biodiversity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coastal water &amp; wastewater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Roads; energy efficiency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ALBANIA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: dam safety an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hydropower; coastal zo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management; natural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resources managemen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disaster risk reduc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BOSNIA &amp; HERZEGOVINA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Agriculture; forest and land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transboundary water manage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29240" y="4451400"/>
            <a:ext cx="314136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Impacts by mid-century?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ummer mean temp +2.2° 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an annual rainfall -9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an annual runoff – 25%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eat waves longer; rainf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nsity high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46280" y="624852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: World Bank (W. Westphal) review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rom multiple models under IPCC A1B scenar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FD32-D698-49C2-B783-A33A9D16DF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Pilot Program Activiti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315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natural climate variability and recent tre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forecasts of climate and impacts (20-30 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ng climate and sector people together to assess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value-added downscaled models and sectoral impact assess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ssessments to frame adaptation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linkages to livelihoods and poverty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monetary value on op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 institutional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ly engage decision-makers and stakeholders (client and World Ban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5029200"/>
            <a:ext cx="7696440" cy="914400"/>
          </a:xfrm>
          <a:prstGeom prst="rightArrow">
            <a:avLst>
              <a:gd name="adj1" fmla="val 50000"/>
              <a:gd name="adj2" fmla="val 21042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..workshops, analytical reports, policy notes, lending project ID….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76EA-5E8C-445A-802C-07844C72AC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XT News Releases in FY10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1600200"/>
            <a:ext cx="4267080" cy="1905120"/>
          </a:xfrm>
          <a:prstGeom prst="verticalScroll">
            <a:avLst>
              <a:gd name="adj" fmla="val 1250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905120"/>
            <a:ext cx="411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PS includes climate resi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griculture and inve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hydropower and flood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 2010-2030 projection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66880" y="3276720"/>
            <a:ext cx="3733920" cy="190476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4880" y="3581280"/>
            <a:ext cx="3181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ld Bank health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mental in stem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preceden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read of malari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5029200"/>
            <a:ext cx="3657600" cy="152388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56320" y="5241960"/>
            <a:ext cx="225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w OP 9.20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mate-proofing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ld standar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FCF8-10A5-45A3-BFD6-86173C59C9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asic Principl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84440"/>
            <a:ext cx="7696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“business as usual”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mission of greenhouse g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continue to cause global temperatures to rise from that of nearly 1 degree C at present to 1.8 to 4+ degrees C by yr. 2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pa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people and ecosystems have already occur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s will b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itive in pla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.g. in northern E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Fewer cold-related death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Longer growing seas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New tourism opportunit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overall impacts expected to b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verwhelmingly neg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global temperature rise is over 2 degrees some impacts may be irreversible and especially sev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ub-regions and sectors are particularl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ulner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07C8-4DE8-4CAC-97B3-1F806BAE89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asic Principl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tig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fforts reduce emissions or enhance the capture of emissions, thereby reducing impacts, e.g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user efficiency and con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generation efficiency improvements and decrease in c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 capture and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 energy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igation facilitated through carbon finance incentives, international agreements, economic instruments, regulatio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the most ambitious global mitigation will not be sufficient, however,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dap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grams are needed so that populations and critical ecosystems cope with residual imp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orestation (including prevention of deforestation) as well as investment in clean energy can provid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tigation and adap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4BA3-890E-494B-87F6-6DCF81ABE2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Current ECA Program on Mitigation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33520" y="1600200"/>
          <a:ext cx="7772400" cy="4932360"/>
        </p:xfrm>
        <a:graphic>
          <a:graphicData uri="http://schemas.openxmlformats.org/drawingml/2006/table">
            <a:tbl>
              <a:tblPr/>
              <a:tblGrid>
                <a:gridCol w="1539720"/>
                <a:gridCol w="2933640"/>
                <a:gridCol w="3299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ategic Are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er Implement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er Prepar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ergy Effici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edonia Sustainable Energy (GE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bia Energy Efficiency (LEN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erbaijan Power Transmiss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 Alchevsk Steel Mill Modernization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newable Energy (including hydropow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Fund 1 Project (TA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and Walbrzych Fuel Switch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 Hydropower Rehab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rgia Small Hydro Rehab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erbaijan Azerenerji Hydropower Optimization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and Wind Power Plant Puck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 Renewable Energy Umbrella Facility (GE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key Hydroelectric Efficiency Improve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ission Reductions from Thermal Power Pl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 Thermal Power Plant Rehabilitation (ESMAP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sovo Lignite Power (TA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S Sche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tvia GIS Implementation (Fee-Svc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kraine GIS implementation support (PHRD TA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ania; Design Options for GIS Scheme for Emissions Reduction (TA; LEN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: Design options for GIS (PHRD; 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obal Gas Flaring Reduction Progr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 Danilovsk Gas Flaring Reduction and Rosneft Associated Gas Recovery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bekistan Uzbekneftegaz Associated Gas Recovery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1924-69D5-40C2-A4BA-55C9E52994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0066"/>
                </a:solidFill>
                <a:latin typeface="Arial"/>
              </a:rPr>
              <a:t>ECA Will Be Impacted</a:t>
            </a:r>
            <a:endParaRPr b="1" lang="en-US" sz="3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ydropower in Southeastern Euro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lacier-fed water supplies in Central As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griculture in drought-stricken Moldo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lood-prone areas in Central Euro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lting permafrost in Northern Russ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astal development along Baltic as sea level ri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astal development along the Caspian as it goes up (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or down or up or dow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ealth of elderly across Southern E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87A0-88A1-49D2-A046-E7F9AA6F7F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daptation: Simple? Complex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0773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and planting of drought-tolerant cro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roduce more efficient irrigation technolog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large storage reservoirs at hydropower pla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fer hydropower development in upland watershe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rengthen flood control dykes; shift to non-structura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hift transport networks from projected future flood-prone are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hift population and industry from areas expected to be impacted by rising sea level and reduced water suppl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and programs for biodiversity protection in landscapes rather than park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and surveillance and response to health impacts from heat and vector-borne diseas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E2CD-4178-4A9E-A1C1-B7A546B808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ECA’s Two-Pronged Approach for Analytical Work on Adaptation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981080"/>
            <a:ext cx="7711920" cy="1099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Umbrella Repor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summarize in a non-technical manner what is known about climate change and its likely impacts across E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TL- Marianne F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1440" y="3444840"/>
            <a:ext cx="7459200" cy="1739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ilot Progra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assist selected client countr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the range and likely impacts from clima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 on vulnerable sub-sectors in sensitive sub-reg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to develop candidate adaptation approa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TL – Ron Hoff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C89D-DC32-43BF-AD4E-C8063CA0E5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nalytical Work in the EU Contex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1752480"/>
            <a:ext cx="2743200" cy="762120"/>
          </a:xfrm>
          <a:prstGeom prst="rightArrow">
            <a:avLst>
              <a:gd name="adj1" fmla="val 50000"/>
              <a:gd name="adj2" fmla="val 89986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CA Umbrella Re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2895480"/>
            <a:ext cx="5790960" cy="914400"/>
          </a:xfrm>
          <a:custGeom>
            <a:avLst/>
            <a:gdLst>
              <a:gd name="textAreaLeft" fmla="*/ 904680 w 5790960"/>
              <a:gd name="textAreaRight" fmla="*/ 5067360 w 579096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4419720"/>
            <a:ext cx="1981440" cy="304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52680" y="4419720"/>
            <a:ext cx="2362320" cy="304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4419720"/>
            <a:ext cx="2514600" cy="304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08960" y="3137040"/>
            <a:ext cx="3448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CA “Drill-down” Pilot Progr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68040" y="1928880"/>
            <a:ext cx="381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inform Bank staff and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48920" y="3757680"/>
            <a:ext cx="36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facilitate country partner dialo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20178600">
            <a:off x="3170160" y="2437920"/>
            <a:ext cx="595440" cy="614520"/>
          </a:xfrm>
          <a:custGeom>
            <a:avLst/>
            <a:gdLst>
              <a:gd name="textAreaLeft" fmla="*/ 79560 w 595440"/>
              <a:gd name="textAreaRight" fmla="*/ 515880 w 595440"/>
              <a:gd name="textAreaTop" fmla="*/ 107280 h 614520"/>
              <a:gd name="textAreaBottom" fmla="*/ 445680 h 61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8000">
              <a:alpha val="58000"/>
            </a:srgbClr>
          </a:solidFill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5486400"/>
            <a:ext cx="6705360" cy="304920"/>
          </a:xfrm>
          <a:prstGeom prst="rect">
            <a:avLst/>
          </a:prstGeom>
          <a:solidFill>
            <a:srgbClr val="0066f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 White Paper on Adaptation (legal options and fina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5105520"/>
            <a:ext cx="2133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C Draft “White” pap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5105520"/>
            <a:ext cx="1701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U Council a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733920" y="4800240"/>
            <a:ext cx="68580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5257440" y="4800240"/>
            <a:ext cx="22860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7880" y="5105520"/>
            <a:ext cx="1701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C “Green paper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8853200">
            <a:off x="764280" y="5335920"/>
            <a:ext cx="228600" cy="681120"/>
          </a:xfrm>
          <a:custGeom>
            <a:avLst/>
            <a:gdLst>
              <a:gd name="textAreaLeft" fmla="*/ 30600 w 228600"/>
              <a:gd name="textAreaRight" fmla="*/ 198000 w 228600"/>
              <a:gd name="textAreaTop" fmla="*/ 119160 h 681120"/>
              <a:gd name="textAreaBottom" fmla="*/ 493920 h 68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9080" y="5105520"/>
            <a:ext cx="1645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U Programm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391520" y="4800240"/>
            <a:ext cx="759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080" y="6019920"/>
            <a:ext cx="160704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 14 - Pozn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06680" y="6019920"/>
            <a:ext cx="204912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 15 - Copenha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648320" y="48002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086600" y="48002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BA7F-8824-4FF8-88A1-5A84285EC2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66"/>
                </a:solidFill>
                <a:latin typeface="Arial"/>
              </a:rPr>
              <a:t>Umbrella Report - </a:t>
            </a:r>
            <a:r>
              <a:rPr b="0" i="1" lang="en-US" sz="2700" spc="-1" strike="noStrike">
                <a:solidFill>
                  <a:srgbClr val="330066"/>
                </a:solidFill>
                <a:latin typeface="Arial"/>
              </a:rPr>
              <a:t>“Managing Uncertainty: Adapting to Climate Change in ECA”</a:t>
            </a:r>
            <a:endParaRPr b="1" lang="en-US" sz="2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hat and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chnical summary of what is known about climate change and its likely impacts in EC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ze that despite expanding research, inherent uncertainty will need to be understood and manag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conclusions on associated needs and options for adaptation in our client countr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 dialogue on the development of practical adaptation strategies for priority activities/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ow and w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main report (70-80 pages)…possible Flag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oral background papers in process (built-environment, water, urban, health, agriculture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 and sector reports in Jun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ks to extensive ECSSD staff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49A2-A770-4334-9CE2-5B84A6E149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6:37:06Z</dcterms:created>
  <dc:creator>wb75914</dc:creator>
  <dc:description/>
  <dc:language>en-US</dc:language>
  <cp:lastModifiedBy>wb75914</cp:lastModifiedBy>
  <dcterms:modified xsi:type="dcterms:W3CDTF">2008-04-16T07:28:11Z</dcterms:modified>
  <cp:revision>44</cp:revision>
  <dc:subject/>
  <dc:title>Adaptation to Climate Change</dc:title>
</cp:coreProperties>
</file>