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D487-C6E1-4EC4-9139-8D2B3E3C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6505-BBA6-46FE-AAC3-7392FB67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1AB-3BE8-4FC1-8822-5F1C8CB9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B5AE-73BF-45B8-8B8D-67550653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17B0-2029-47E1-893D-736B65B4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BC0E-5332-48CC-843E-8F6165DF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4700-08C7-4F22-8BFB-DE8350E2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2F5E-5B1F-4BFB-8E28-5FEEAB85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E3D3-84A5-4E00-A380-2B4C2A32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F357-EF5A-4EA5-BA2A-94E4E27F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FD35-31C0-4C34-B8BC-385C1C75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733-B6F0-4DFB-A5EA-EEABC56C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D38B-EDDF-4562-94FB-AF28359B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58EA-716F-4E1B-BAF8-DA4E2850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7F1F-80FC-438E-95B8-A1736556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EF01-2257-45C5-8B20-FB25AAC7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E59E-EC0C-44DD-8CD1-27163839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0D66-2A6A-4A88-8315-0B16943E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2CE-1BAD-4122-96DF-C91E82B6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CE5C-F46F-4A48-BBE1-CD789A28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5EC1-8B07-4997-8F19-4E3AA16E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076-C40D-41EF-B2FF-A486BCEA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DE3-0529-48AE-923B-9C4BF16C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A701-3C1D-484B-9CE8-A801A7F1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119B-359B-4EED-8CC2-B8474E40C1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BEAA-BA57-4905-85D5-B1DAAD50C6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World Bank ECA Region Approach to Climate Change Adaptation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n H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17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Y08-10 Pilot Program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43800" cy="426708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Programmatic ESW in ECS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 Review – January 3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it approval for funding in FY09 &amp;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utpu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keeping with programmatic ESW, varies from workshop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cal review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licy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s parallel Trust Fund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 by ECSSD with ECA-wide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advisory group and external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o ECA Disaster Risk Management and EU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to Bank-wide ESW and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stic partnerships: EC, WMO, IPCC and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681E-F276-4B5A-ACB5-80F0D4F27A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irst-Tier Pilot Sub-reg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5333760" cy="2095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47080" y="27874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ti-se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7720" y="1523880"/>
            <a:ext cx="29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th Cauca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ater; livelihoods; ener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00520" y="4572000"/>
            <a:ext cx="251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ld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rought &amp; r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lihoods; agricul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91440" y="4494240"/>
            <a:ext cx="31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entral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lting glaciers; hydro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&amp; agriculture; pover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429000"/>
            <a:ext cx="1524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657600" y="3504960"/>
            <a:ext cx="2286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400440" y="3809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952520" y="2133720"/>
            <a:ext cx="22860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160" y="5165640"/>
            <a:ext cx="2218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Resources (thru FY1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.M + BB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.3 M + Trust Fun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TBD co-fun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48D-848A-4818-A6EC-97706E8CA8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xample Sub-regional Pilots: 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E Europe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267080" y="990720"/>
            <a:ext cx="3035520" cy="3352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1520" y="1600200"/>
            <a:ext cx="347256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me Client &amp; ECA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ROATI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 ports; biodiversity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oastal water &amp; wastewater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oads; energy efficiency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ALBANI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 dam safety a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ydropower; coastal 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management; natura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esources managemen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isaster risk redu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BOSNIA &amp; HERZEGOVIN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griculture; forest and lan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ransboundary water manag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29240" y="4451400"/>
            <a:ext cx="31413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Impacts by mid-century?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mmer mean temp +2.2° 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an annual rainfall -9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an annual runoff – 25%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eat waves longer; rainf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nsity hig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6280" y="624852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: World Bank (W. Westphal) review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rom multiple models under IPCC A1B scen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56B7-9370-4070-B810-8F531D154D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ilot Program Activiti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natural climate variability and recent tr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forecasts of climate and impacts (20-30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climate and sector people together to assess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value-added downscaled models and sectoral impac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ssessments to frame adaptation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linkages to livelihoods and poverty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monetary value on o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institutional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ly engage decision-makers and stakeholders (client and World Ba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029200"/>
            <a:ext cx="7696440" cy="914400"/>
          </a:xfrm>
          <a:prstGeom prst="rightArrow">
            <a:avLst>
              <a:gd name="adj1" fmla="val 50000"/>
              <a:gd name="adj2" fmla="val 21042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..workshops, analytical reports, policy notes, lending project ID….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E88-8DA6-4D99-8E0F-1A290CF5FB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T News Releases in FY10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1600200"/>
            <a:ext cx="4267080" cy="1905120"/>
          </a:xfrm>
          <a:prstGeom prst="verticalScroll">
            <a:avLst>
              <a:gd name="adj" fmla="val 125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90512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PS includes climate resi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griculture and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hydropower and floo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2010-2030 projec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3276720"/>
            <a:ext cx="3733920" cy="190476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4880" y="3581280"/>
            <a:ext cx="318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Bank health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mental in stem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preced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read of malari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5029200"/>
            <a:ext cx="3657600" cy="152388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56320" y="5241960"/>
            <a:ext cx="225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 OP 9.20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mate-proofing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standar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45E3-8372-4CD4-B252-E45E608EDE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Principl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84440"/>
            <a:ext cx="769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“business as usual”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ission of greenhouse g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continue to cause global temperatures to rise from that of nearly 1 degree C at present to 1.8 to 4+ degrees C by yr. 2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a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people and ecosystems have already occur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s will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in pla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.g. in northern E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ewer cold-related death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Longer growing seas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New tourism opportun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overall impacts expected to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verwhelmingly neg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lobal temperature rise is over 2 degrees some impacts may be irreversible and especially sev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-regions and sectors are particular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ulner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0C3-EB25-4922-B336-5CCE256F55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Principl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i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fforts reduce emissions or enhance the capture of emissions, thereby reducing impacts, 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user efficiency and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generation efficiency improvements and decrease in c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capture and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energy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igation facilitated through carbon finance incentives, international agreements, economic instruments, regulati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the most ambitious global mitigation will not be sufficient, however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grams are needed so that populations and critical ecosystems cope with residual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estation (including prevention of deforestation) as well as investment in clean energy can provi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igation and 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E815-1D31-481E-BC45-98F3BC74C1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Current ECA Program on Mitigatio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520" y="1600200"/>
          <a:ext cx="7772400" cy="4932360"/>
        </p:xfrm>
        <a:graphic>
          <a:graphicData uri="http://schemas.openxmlformats.org/drawingml/2006/table">
            <a:tbl>
              <a:tblPr/>
              <a:tblGrid>
                <a:gridCol w="1539720"/>
                <a:gridCol w="2933640"/>
                <a:gridCol w="3299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tegic Are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Implemen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Prepar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 Effici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edonia Sustainable Energy (GE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bia Energy Efficiency (LE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Power Transmi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Alchevsk Steel Mill Modernization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ewable Energy (including hydropow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Fund 1 Project (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 Walbrzych Fuel Switch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Hydropower Rehab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rgia Small Hydro Rehab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Azerenerji Hydropower Optimization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 Wind Power Plant Puck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 Renewable Energy Umbrella Facility (GE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 Hydroelectric Efficiency Improve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ission Reductions from Thermal Power Pl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Thermal Power Plant Rehabilitation (ESMAP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ovo Lignite Power (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S Sche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via GIS Implementation (Fee-Svc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raine GIS implementation support (PHRD 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ia; Design Options for GIS Scheme for Emissions Reduction (TA; LE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: Design options for GIS (PHRD; 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bal Gas Flaring Reduction 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 Danilovsk Gas Flaring Reduction and Rosneft Associated Gas Recovery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bekistan Uzbekneftegaz Associated Gas Recovery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5C8-B244-4D03-8115-CB35068325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0066"/>
                </a:solidFill>
                <a:latin typeface="Arial"/>
              </a:rPr>
              <a:t>ECA Will Be Impacted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ydropower in Southeastern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acier-fed water supplies in Central As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griculture in drought-stricken Moldo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lood-prone areas in Central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lting permafrost in Northern Russ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stal development along Baltic as sea level ri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stal development along the Caspian as it goes up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or down or up or dow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ealth of elderly across Southern E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A030-E072-4768-8ACF-DBD1E32DA4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daptation: Simple? Complex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77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planting of drought-tolerant cro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roduce more efficient irrigation technolog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large storage reservoirs at hydropower pla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fer hydropower development in upland watershe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rengthen flood control dykes; shift to non-structur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transport networks from projected future flood-prone ar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population and industry from areas expected to be impacted by rising sea level and reduced water suppl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programs for biodiversity protection in landscapes rather than par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surveillance and response to health impacts from heat and vector-borne diseas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A5C7-7A47-4ABC-ACD1-AD54D7698C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ECA’s Two-Pronged Approach for Analytical Work on Adaptatio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981080"/>
            <a:ext cx="7711920" cy="1099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Umbrella Repo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summarize in a non-technical manner what is known about climate change and its likely impacts across E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TL- Marianne F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1440" y="3444840"/>
            <a:ext cx="7459200" cy="1739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ilot Progra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assist selected client countr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range and likely impacts from clim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on vulnerable sub-sectors in sensitive sub-reg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to develop candidate adaptation approa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TL – Ron Hof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EE8-DECA-408E-9C7C-D909B57F59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nalytical Work in the EU Contex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752480"/>
            <a:ext cx="2743200" cy="762120"/>
          </a:xfrm>
          <a:prstGeom prst="rightArrow">
            <a:avLst>
              <a:gd name="adj1" fmla="val 50000"/>
              <a:gd name="adj2" fmla="val 8998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A Umbrella Re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2895480"/>
            <a:ext cx="5790960" cy="914400"/>
          </a:xfrm>
          <a:custGeom>
            <a:avLst/>
            <a:gdLst>
              <a:gd name="textAreaLeft" fmla="*/ 904680 w 5790960"/>
              <a:gd name="textAreaRight" fmla="*/ 5067360 w 57909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4419720"/>
            <a:ext cx="198144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4419720"/>
            <a:ext cx="236232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4419720"/>
            <a:ext cx="251460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08960" y="3137040"/>
            <a:ext cx="3448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A “Drill-down” Pilot Progr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040" y="1928880"/>
            <a:ext cx="38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inform Bank staff and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48920" y="3757680"/>
            <a:ext cx="36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facilitate country partner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0178600">
            <a:off x="3170160" y="2437920"/>
            <a:ext cx="595440" cy="614520"/>
          </a:xfrm>
          <a:custGeom>
            <a:avLst/>
            <a:gdLst>
              <a:gd name="textAreaLeft" fmla="*/ 79560 w 595440"/>
              <a:gd name="textAreaRight" fmla="*/ 515880 w 595440"/>
              <a:gd name="textAreaTop" fmla="*/ 107280 h 614520"/>
              <a:gd name="textAreaBottom" fmla="*/ 445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8000">
              <a:alpha val="58000"/>
            </a:srgbClr>
          </a:solidFill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5486400"/>
            <a:ext cx="6705360" cy="304920"/>
          </a:xfrm>
          <a:prstGeom prst="rect">
            <a:avLst/>
          </a:prstGeom>
          <a:solidFill>
            <a:srgbClr val="0066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 White Paper on Adaptation (legal options and fin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5105520"/>
            <a:ext cx="2133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C Draft “White” pap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5105520"/>
            <a:ext cx="170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U Council a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733920" y="4800240"/>
            <a:ext cx="6858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257440" y="480024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7880" y="5105520"/>
            <a:ext cx="170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C “Green paper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8853200">
            <a:off x="764280" y="5335920"/>
            <a:ext cx="228600" cy="68112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160 h 681120"/>
              <a:gd name="textAreaBottom" fmla="*/ 493920 h 68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9080" y="5105520"/>
            <a:ext cx="164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U Programm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91520" y="4800240"/>
            <a:ext cx="759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080" y="6019920"/>
            <a:ext cx="160704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14 - Pozn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06680" y="6019920"/>
            <a:ext cx="204912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15 - Copenh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648320" y="4800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086600" y="4800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D68-9D6A-4293-9F0D-F3A1FEF843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66"/>
                </a:solidFill>
                <a:latin typeface="Arial"/>
              </a:rPr>
              <a:t>Umbrella Report - </a:t>
            </a:r>
            <a:r>
              <a:rPr b="0" i="1" lang="en-US" sz="2700" spc="-1" strike="noStrike">
                <a:solidFill>
                  <a:srgbClr val="330066"/>
                </a:solidFill>
                <a:latin typeface="Arial"/>
              </a:rPr>
              <a:t>“Managing Uncertainty: Adapting to Climate Change in ECA”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at and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chnical summary of what is known about climate change and its likely impacts in E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 that despite expanding research, inherent uncertainty will need to be understood and manag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conclusions on associated needs and options for adaptation in our client countr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 dialogue on the development of practical adaptation strategies for priority activities/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and w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main report (70-80 pages)…possible Flag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al background papers in process (built-environment, water, urban, health, agriculture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 and sector reports in Jun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 to extensive ECSSD staff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D9C1-1C56-4C21-9C67-132CE231E3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6:37:06Z</dcterms:created>
  <dc:creator>wb75914</dc:creator>
  <dc:description/>
  <dc:language>en-US</dc:language>
  <cp:lastModifiedBy>wb75914</cp:lastModifiedBy>
  <dcterms:modified xsi:type="dcterms:W3CDTF">2008-04-16T07:28:11Z</dcterms:modified>
  <cp:revision>44</cp:revision>
  <dc:subject/>
  <dc:title>Adaptation to Climate Change</dc:title>
</cp:coreProperties>
</file>