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69F-CA89-4AEA-84F0-4606DBD5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B35-7692-49EA-90E8-245B37CC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E90-B34E-4899-83CB-80274C52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1E4-845D-43F9-8924-4AB49B43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C3B7-A515-4A9B-8738-69AADBBB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1BB6-DF4C-4BCC-B266-548A836F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20D1-A785-45E2-A57C-1FF78186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21A9-BEE2-4F28-B4B9-1F5CB07D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AD2B-C745-4B33-B1BD-BBE492B2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3750-B5B5-4092-BB15-6B4590D9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12CB-0887-4E21-97DD-2AE931AF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54E-7562-4DFA-922E-E3BF0C0C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06CD-E555-49DE-B159-94802AD1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C855-5D1B-4F91-B774-D5365581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B621-BB05-47BE-A96F-87D520F4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3443-4A40-4C8A-A05D-63E6E1B2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B103-234E-4103-BEE0-18864CE6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371-9637-49E4-9D5D-B15BF790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A1F-134D-4766-9FFD-F2ADF14E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19C-0C52-45A6-A93A-F0F5FC82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A29-A2FD-4F65-8A2D-E43B7079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324-36C6-4344-BDED-49B5A16A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7F6-004C-4037-A29C-FC6C6A6C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AFC-1447-4FE6-85EA-A6BEC2BF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A071-2E1A-4997-85ED-210B503FD6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992D-4FF1-40C5-9ABD-2E30FECB92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World Bank ECA Region Approach to Climate Change Adapt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H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17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Y08-10 Pilot Program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43800" cy="426708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Programmatic ESW in EC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Review – January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it approval for funding in FY09 &amp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pu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keeping with programmatic ESW, varies from workshop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cal review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licy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s parallel Trust Fund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by ECSSD with ECA-wide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advisory group and external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ECA Disaster Risk Management and EU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to Bank-wide ESW and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stic partnerships: EC, WMO, IPCC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114-B78A-4FC2-AD7C-F66EA875A7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irst-Tier Pilot Sub-reg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5333760" cy="2095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47080" y="27874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ti-s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7720" y="152388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th Cauca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ter; livelihoods; ener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00520" y="4572000"/>
            <a:ext cx="251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rought &amp; r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hoods; agricul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91440" y="4494240"/>
            <a:ext cx="31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ntral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lting glaciers; hydro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&amp; agriculture; pover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4290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657600" y="3504960"/>
            <a:ext cx="2286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400440" y="3809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52520" y="2133720"/>
            <a:ext cx="22860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160" y="5165640"/>
            <a:ext cx="2218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Resources (thru FY1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M + BB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3 M + Trust Fun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TBD co-fu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2B8-7F10-42EE-A6F6-61BB21C323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xample Sub-regional Pilots: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E Europ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3035520" cy="3352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1520" y="1600200"/>
            <a:ext cx="347256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e Client &amp; ECA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ROAT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ports; biodiversity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astal water &amp; wastewater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oads; energy efficiency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LBAN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dam safety 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ydropower; coastal 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anagement; natur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esources managemen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isaster risk redu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BOSNIA &amp; HERZEGOVIN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griculture; forest and lan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ransboundary water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29240" y="4451400"/>
            <a:ext cx="3141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Impacts by mid-century?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mmer mean temp +2.2° 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ainfall -9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unoff – 25%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eat waves longer; rainf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nsity hig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280" y="62485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: World Bank (W. Westphal) review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rom multiple models under IPCC A1B scen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D70-9273-4126-9E9D-4E6AB8708E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ilot Program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natural climate variability and recent tr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forecasts of climate and impacts (20-30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climate and sector people together to asses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value-added downscaled models and sectoral impac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ssessments to frame adaptatio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linkages to livelihoods and poverty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monetary value on o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institutional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ly engage decision-makers and stakeholders (client and World Ba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029200"/>
            <a:ext cx="7696440" cy="914400"/>
          </a:xfrm>
          <a:prstGeom prst="rightArrow">
            <a:avLst>
              <a:gd name="adj1" fmla="val 50000"/>
              <a:gd name="adj2" fmla="val 2104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..workshops, analytical reports, policy notes, lending project ID….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D5D4-9D8B-48FB-8872-6CF18CC7E5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 News Releases in FY10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600200"/>
            <a:ext cx="4267080" cy="1905120"/>
          </a:xfrm>
          <a:prstGeom prst="verticalScroll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90512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PS includes climate resi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griculture and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hydropower and floo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2010-2030 projec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3276720"/>
            <a:ext cx="3733920" cy="190476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4880" y="3581280"/>
            <a:ext cx="318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Bank healt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mental in stem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preced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ead of malar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029200"/>
            <a:ext cx="3657600" cy="152388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6320" y="5241960"/>
            <a:ext cx="225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OP 9.20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mate-proofing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580-B782-4304-9A7E-0CA6A18C07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“business as usual”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ission of greenhouse g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continue to cause global temperatures to rise from that of nearly 1 degree C at present to 1.8 to 4+ degrees C by yr. 2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a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people and ecosystems have already occur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will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in pl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.g. in northern E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ewer cold-related death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Longer growing seas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New tourism opportun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verall impacts expect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verwhelmingly neg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lobal temperature rise is over 2 degrees some impacts may be irreversible and especially se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-regions and sectors are particular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ulner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8DE-BBFE-4139-808E-2BB3281C0A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orts reduce emissions or enhance the capture of emissions, thereby reducing impacts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user efficiency and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generation efficiency improvements and decrease in 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apture and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energy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 facilitated through carbon finance incentives, international agreements, economic instruments, regula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e most ambitious global mitigation will not be sufficient, however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grams are needed so that populations and critical ecosystems cope with residual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estation (including prevention of deforestation) as well as investment in clean energy can provi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 and 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D003-B965-4B6B-A978-BFDB0E46BF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Current ECA Program on Mitig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1600200"/>
          <a:ext cx="7772400" cy="4932360"/>
        </p:xfrm>
        <a:graphic>
          <a:graphicData uri="http://schemas.openxmlformats.org/drawingml/2006/table">
            <a:tbl>
              <a:tblPr/>
              <a:tblGrid>
                <a:gridCol w="1539720"/>
                <a:gridCol w="2933640"/>
                <a:gridCol w="3299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c Ar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Implemen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Prepa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edonia Sustainable Energ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bia Energy Efficiency (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Power Transmi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Alchevsk Steel Mill Modernization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ewable Energy (including hydropow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Fund 1 Project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albrzych Fuel Switch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Hydropower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rgia Small Hydro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Azerenerji Hydropower Optimization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ind Power Plant Puck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Renewable Energy Umbrella Facilit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 Hydroelectric Efficiency Improv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 Reductions from Thermal Power Pl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Thermal Power Plant Rehabilitation (ESMAP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ovo Lignite Power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S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via GIS Implementation (Fee-Svc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raine GIS implementation support (PHRD 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ia; Design Options for GIS Scheme for Emissions Reduction (TA; 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: Design options for GIS (PHRD; 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Gas Flaring Reduction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Danilovsk Gas Flaring Reduction and Rosneft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bekistan Uzbekneftegaz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3B9-413E-452C-B640-E0CE9C73FC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ECA Will Be Impacted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dropower in Southeastern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acier-fed water supplies in Central A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griculture in drought-stricken Moldo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lood-prone areas in Central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lting permafrost in Northern Rus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Baltic as sea level ri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the Caspian as it goes up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or down or up or dow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alth of elderly across Southern E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C81-30A7-40BF-B54B-B5C2919638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aptation: Simple? Complex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lanting of drought-tolerant cr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roduce more efficient irrigation techn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large storage reservoirs at hydropower pla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er hydropower development in upland watersh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engthen flood control dykes; shift to non-structur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transport networks from projected future flood-prone a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population and industry from areas expected to be impacted by rising sea level and reduced water suppl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rograms for biodiversity protection in landscapes rather than par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surveillance and response to health impacts from heat and vector-borne dise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C8F-36DD-4C29-A1AD-86B75D3DBB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CA’s Two-Pronged Approach for Analytical Work on Adapt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81080"/>
            <a:ext cx="7711920" cy="1099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Umbrella Re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summarize in a non-technical manner what is known about climate change and its likely impacts across E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TL- Marianne F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1440" y="3444840"/>
            <a:ext cx="7459200" cy="1739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ilot Progr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assist selected client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ange and likely impacts from clim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on vulnerable sub-sectors in sensitive sub-reg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o develop candidate adaptation approa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TL – Ron Ho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30A1-750E-4C78-A83B-F78F2A9386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nalytical Work in the EU Contex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752480"/>
            <a:ext cx="2743200" cy="762120"/>
          </a:xfrm>
          <a:prstGeom prst="rightArrow">
            <a:avLst>
              <a:gd name="adj1" fmla="val 50000"/>
              <a:gd name="adj2" fmla="val 8998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Umbrella Re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895480"/>
            <a:ext cx="5790960" cy="914400"/>
          </a:xfrm>
          <a:custGeom>
            <a:avLst/>
            <a:gdLst>
              <a:gd name="textAreaLeft" fmla="*/ 904680 w 5790960"/>
              <a:gd name="textAreaRight" fmla="*/ 5067360 w 57909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419720"/>
            <a:ext cx="198144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419720"/>
            <a:ext cx="236232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4419720"/>
            <a:ext cx="251460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08960" y="3137040"/>
            <a:ext cx="3448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“Drill-down” Pilot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040" y="1928880"/>
            <a:ext cx="38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inform Bank staff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48920" y="3757680"/>
            <a:ext cx="36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facilitate country partner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178600">
            <a:off x="3170160" y="2437920"/>
            <a:ext cx="595440" cy="614520"/>
          </a:xfrm>
          <a:custGeom>
            <a:avLst/>
            <a:gdLst>
              <a:gd name="textAreaLeft" fmla="*/ 79560 w 595440"/>
              <a:gd name="textAreaRight" fmla="*/ 515880 w 595440"/>
              <a:gd name="textAreaTop" fmla="*/ 107280 h 614520"/>
              <a:gd name="textAreaBottom" fmla="*/ 445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>
              <a:alpha val="58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5486400"/>
            <a:ext cx="6705360" cy="304920"/>
          </a:xfrm>
          <a:prstGeom prst="rect">
            <a:avLst/>
          </a:prstGeom>
          <a:solidFill>
            <a:srgbClr val="0066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White Paper on Adaptation (legal options and fin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5105520"/>
            <a:ext cx="213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Draft “White” pap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Council 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733920" y="4800240"/>
            <a:ext cx="6858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57440" y="480024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78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“Green paper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8853200">
            <a:off x="764280" y="5335920"/>
            <a:ext cx="228600" cy="681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160 h 681120"/>
              <a:gd name="textAreaBottom" fmla="*/ 49392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9080" y="5105520"/>
            <a:ext cx="164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Programm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91520" y="4800240"/>
            <a:ext cx="759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080" y="6019920"/>
            <a:ext cx="160704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4 - Poz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06680" y="6019920"/>
            <a:ext cx="204912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5 - Copenh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64832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373-6561-4A32-AF38-08A0610519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66"/>
                </a:solidFill>
                <a:latin typeface="Arial"/>
              </a:rPr>
              <a:t>Umbrella Report - </a:t>
            </a:r>
            <a:r>
              <a:rPr b="0" i="1" lang="en-US" sz="2700" spc="-1" strike="noStrike">
                <a:solidFill>
                  <a:srgbClr val="330066"/>
                </a:solidFill>
                <a:latin typeface="Arial"/>
              </a:rPr>
              <a:t>“Managing Uncertainty: Adapting to Climate Change in ECA”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and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chnical summary of what is known about climate change and its likely impacts in E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 that despite expanding research, inherent uncertainty will need to be understood and manag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conclusions on associated needs and options for adaptation in our client countr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dialogue on the development of practical adaptation strategies for priority activities/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and 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ain report (70-80 pages)…possible Flag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al background papers in process (built-environment, water, urban, health, agriculture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and sector reports in Jun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to extensive ECSSD staff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053-FDE5-4770-9B36-FCD1734C17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6:37:06Z</dcterms:created>
  <dc:creator>wb75914</dc:creator>
  <dc:description/>
  <dc:language>en-US</dc:language>
  <cp:lastModifiedBy>wb75914</cp:lastModifiedBy>
  <dcterms:modified xsi:type="dcterms:W3CDTF">2008-04-16T07:28:11Z</dcterms:modified>
  <cp:revision>44</cp:revision>
  <dc:subject/>
  <dc:title>Adaptation to Climate Change</dc:title>
</cp:coreProperties>
</file>