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F8F8-E1C8-4E0A-8FAA-39DA0120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9FB-5326-48F6-87CE-D06418F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15B-5938-4114-A394-03A20DF9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CDA-255C-43B6-8590-FDE94547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F9B9-DAFB-4DFA-9E3F-C3C72AAE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540E-5A45-4751-BE4C-7BC4A17F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544-CF93-48BF-8392-B58EE4A0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1035-CE37-4E03-AD5B-C7AC116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1A1-5197-4A7D-97EE-EE7819BD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2EDE-D8AB-4A66-B81A-E43D1982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749-4775-4608-A271-059B7E5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8D5-B507-41D0-9F80-CF0A9E16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3207-A61C-4723-87E1-992252A4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BABA-363C-4B8A-AEB7-CF2104A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1B7A-6EDD-442E-B250-FDA3C25F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15D-7CB4-437D-AF11-8132A3D2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F513-472B-47F3-85CF-E6F626C5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E74-EB91-4387-9805-1549615D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B17-82D3-4E24-BD04-DE29987D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830-B591-4258-8569-D7D0FAE1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4AD-063A-46FA-A477-94397E4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4DD-5CBD-4C60-A8E0-8A2D632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3F7-BE68-470B-A8F2-58FFBBD1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E70-E7C3-4FA2-8EAC-D02B45D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1A4-0EF7-4998-95EF-781AF041CF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A71-6CA0-4811-BBD7-88C16A8452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World Bank ECA Region Approach to Climate Change Adapt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H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7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Y08-10 Pilot Program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43800" cy="426708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Programmatic ESW in ECS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 Review – January 3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it approval for funding in FY09 &amp;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 keeping with programmatic ESW, varies from workshop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cal review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cy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s parallel Trust Fund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by ECSSD with ECA-wide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advisory group and external exp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to ECA Disaster Risk Management and EU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to Bank-wide ESW and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partnerships: EC, WMO, IPCC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3A0-01B2-4B48-843C-7FB2A35D65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st-Tier Pilot Sub-reg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5333760" cy="2095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47080" y="2787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ti-s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7720" y="152388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th Cauc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ater; livelihoods; ener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0520" y="4572000"/>
            <a:ext cx="251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rought &amp; r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hoods; agri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1440" y="4494240"/>
            <a:ext cx="31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ntral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lting glaciers; hydro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&amp; agriculture; pov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657600" y="350496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00440" y="3809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52520" y="2133720"/>
            <a:ext cx="22860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160" y="5165640"/>
            <a:ext cx="2218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Resources (thru FY1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M + BB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1.3 M + Trust Fun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TBD co-fund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811-5924-4CBE-828C-5724DEA46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xample Sub-regional Pilots: 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SE Europ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035520" cy="3352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1520" y="1600200"/>
            <a:ext cx="347256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Client &amp; ECA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ports; biodiversity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astal water &amp; wastewate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oads; energy efficiency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 dam safety a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hydropower; coastal 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anagement; natura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resources managemen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isaster risk red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BOSNIA &amp; HERZEGOVINA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Agriculture; forest and lan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nsboundary wat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29240" y="4451400"/>
            <a:ext cx="3141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Impacts by mid-century?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mmer mean temp +2.2° 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ainfall -9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an annual runoff – 25%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eat waves longer; rainf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nsity hig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280" y="624852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: World Bank (W. Westphal)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rom multiple models under IPCC A1B scen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16E-EA4C-44EB-B7C5-3D5353DF63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Pilot Program Activiti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natural climate variability and recent tre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forecasts of climate and impacts (20-30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climate and sector people together to assess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value-added downscaled models and sectoral impact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ssessments to frame adapta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linkages to livelihoods and poverty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onetary value on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institutional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ly engage decision-makers and stakeholders (client and World Ba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029200"/>
            <a:ext cx="7696440" cy="914400"/>
          </a:xfrm>
          <a:prstGeom prst="rightArrow">
            <a:avLst>
              <a:gd name="adj1" fmla="val 50000"/>
              <a:gd name="adj2" fmla="val 21042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..workshops, analytical reports, policy notes, lending project ID….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8CD-FDA6-4B03-BE66-07CEFA306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EXT News Releases in FY10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600200"/>
            <a:ext cx="4267080" cy="1905120"/>
          </a:xfrm>
          <a:prstGeom prst="vertic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9051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PS includes climate resi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 and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hydropower and floo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2010-2030 proje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276720"/>
            <a:ext cx="3733920" cy="190476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4880" y="3581280"/>
            <a:ext cx="318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Bank healt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rumental in ste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preced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ead of malar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029200"/>
            <a:ext cx="3657600" cy="1523880"/>
          </a:xfrm>
          <a:prstGeom prst="vertic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6320" y="5241960"/>
            <a:ext cx="22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 OP 9.20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mate-proofing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ld standar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097-2A86-4A4D-92E4-E3AFD90ED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“business as usual”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ission of 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tinue to cause global temperatures to rise from that of nearly 1 degree C at present to 1.8 to 4+ degrees C by yr. 2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people and ecosystems have already occur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s will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in pl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.g. in northern E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ewer cold-related death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Longer growing seas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New tourism opportun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verall impacts expect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whelmingly neg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lobal temperature rise is over 2 degrees some impacts may be irreversible and especially sev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-regions and sectors are particular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ulne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F46-9C81-4D1B-9384-80A61C63C4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asic Principle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orts reduce emissions or enhance the capture of emissions, thereby reducing impacts, 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efficiency and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generation efficiency improvements and decrease in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capture and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energ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 facilitated through carbon finance incentives, international agreements, economic instruments, regul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e most ambitious global mitigation will not be sufficient, however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grams are needed so that populations and critical ecosystems cope with residual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estation (including prevention of deforestation) as well as investment in clean energy can provi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igation and adap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18B-62CC-4388-84E8-092CDC154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Current ECA Program on Mitig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520" y="1600200"/>
          <a:ext cx="7772400" cy="4932360"/>
        </p:xfrm>
        <a:graphic>
          <a:graphicData uri="http://schemas.openxmlformats.org/drawingml/2006/table">
            <a:tbl>
              <a:tblPr/>
              <a:tblGrid>
                <a:gridCol w="1539720"/>
                <a:gridCol w="2933640"/>
                <a:gridCol w="3299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tegic Are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Implemen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 Prepa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edonia Sustainable Energ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bia Energy Efficiency (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Power Transmis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Alchevsk Steel Mill Modernization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ewable Energy (including hydropow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Fund 1 Project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albrzych Fuel Switch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Hydropower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rgia Small Hydro Rehab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erbaijan Azerenerji Hydropower Optimization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nd Wind Power Plant Puck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Renewable Energy Umbrella Facility (GE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 Hydroelectric Efficiency Improv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ission Reductions from Thermal Power Pl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 Thermal Power Plant Rehabilitation (ESMAP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ovo Lignite Power (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S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via GIS Implementation (Fee-Svc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raine GIS implementation support (PHRD T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; Design Options for GIS Scheme for Emissions Reduction (TA; LE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: Design options for GIS (PHRD; 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Gas Flaring Reduction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 Danilovsk Gas Flaring Reduction and Rosneft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bekistan Uzbekneftegaz Associated Gas Recovery (C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261-405F-4AC3-B67F-AAB2C1261F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ECA Will Be Impacted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ydropower in Southeastern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acier-fed water supplies in Central A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riculture in drought-stricken Moldo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lood-prone areas in Central Europ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lting permafrost in Northern Russ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Baltic as sea level r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astal development along the Caspian as it goes up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or down or up or dow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lth of elderly across Southern E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01F-406E-47BC-B7A0-578A9E239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daptation: Simple? Complex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lanting of drought-tolerant cr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oduce more efficient irrigation technolog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large storage reservoirs at hydropower pl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er hydropower development in upland watersh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ngthen flood control dykes; shift to non-structu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transport networks from projected future flood-prone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ift population and industry from areas expected to be impacted by rising sea level and reduced water suppl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programs for biodiversity protection in landscapes rather than par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 surveillance and response to health impacts from heat and vector-borne diseas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D3E-B442-4E92-9501-A92170E951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ECA’s Two-Pronged Approach for Analytical Work on Adaptatio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981080"/>
            <a:ext cx="7711920" cy="1099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mbrella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summarize in a non-technical manner what is known about climate change and its likely impacts across E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TL- Marianne F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1440" y="3444840"/>
            <a:ext cx="7459200" cy="173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ilot Prog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assist selected client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ange and likely impacts from clim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n vulnerable sub-sectors in sensitive sub-reg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o develop candidate adaptation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TL – Ron H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4A3-E957-428D-AE33-50B85ADD6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nalytical Work in the EU Contex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752480"/>
            <a:ext cx="2743200" cy="762120"/>
          </a:xfrm>
          <a:prstGeom prst="rightArrow">
            <a:avLst>
              <a:gd name="adj1" fmla="val 50000"/>
              <a:gd name="adj2" fmla="val 8998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Umbrella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2895480"/>
            <a:ext cx="5790960" cy="914400"/>
          </a:xfrm>
          <a:custGeom>
            <a:avLst/>
            <a:gdLst>
              <a:gd name="textAreaLeft" fmla="*/ 904680 w 5790960"/>
              <a:gd name="textAreaRight" fmla="*/ 5067360 w 57909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419720"/>
            <a:ext cx="198144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36232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419720"/>
            <a:ext cx="2514600" cy="304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8960" y="3137040"/>
            <a:ext cx="3448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CA “Drill-down” Pilot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040" y="1928880"/>
            <a:ext cx="38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inform Bank staff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8920" y="3757680"/>
            <a:ext cx="36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o facilitate country partne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178600">
            <a:off x="3170160" y="2437920"/>
            <a:ext cx="595440" cy="614520"/>
          </a:xfrm>
          <a:custGeom>
            <a:avLst/>
            <a:gdLst>
              <a:gd name="textAreaLeft" fmla="*/ 79560 w 595440"/>
              <a:gd name="textAreaRight" fmla="*/ 515880 w 595440"/>
              <a:gd name="textAreaTop" fmla="*/ 107280 h 614520"/>
              <a:gd name="textAreaBottom" fmla="*/ 445680 h 6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>
              <a:alpha val="58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5486400"/>
            <a:ext cx="6705360" cy="304920"/>
          </a:xfrm>
          <a:prstGeom prst="rect">
            <a:avLst/>
          </a:prstGeom>
          <a:solidFill>
            <a:srgbClr val="0066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 White Paper on Adaptation (legal options and fin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105520"/>
            <a:ext cx="213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Draft “White” pap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Council 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33920" y="4800240"/>
            <a:ext cx="6858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57440" y="480024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880" y="5105520"/>
            <a:ext cx="1701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C “Green paper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853200">
            <a:off x="764280" y="5335920"/>
            <a:ext cx="228600" cy="68112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160 h 681120"/>
              <a:gd name="textAreaBottom" fmla="*/ 49392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9080" y="5105520"/>
            <a:ext cx="164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U Programm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4800240"/>
            <a:ext cx="759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080" y="6019920"/>
            <a:ext cx="160704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4 - Poz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06680" y="6019920"/>
            <a:ext cx="2049120" cy="30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15 - Copenh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64832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48002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9EA-A6A2-422C-BFBB-3A5B6F4FBB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66"/>
                </a:solidFill>
                <a:latin typeface="Arial"/>
              </a:rPr>
              <a:t>Umbrella Report - </a:t>
            </a:r>
            <a:r>
              <a:rPr b="0" i="1" lang="en-US" sz="2700" spc="-1" strike="noStrike">
                <a:solidFill>
                  <a:srgbClr val="330066"/>
                </a:solidFill>
                <a:latin typeface="Arial"/>
              </a:rPr>
              <a:t>“Managing Uncertainty: Adapting to Climate Change in ECA”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chnical summary of what is known about climate change and its likely impacts in EC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 that despite expanding research, inherent uncertainty will need to be understood and manag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conclusions on associated needs and options for adaptation in our client countr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 dialogue on the development of practical adaptation strategies for priority activities/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and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in report (70-80 pages)…possible Flag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oral background papers in process (built-environment, water, urban, health, agriculture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and sector reports in 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extensive ECSSD staff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E5D-4165-4976-B224-3374040D8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37:06Z</dcterms:created>
  <dc:creator>wb75914</dc:creator>
  <dc:description/>
  <dc:language>en-US</dc:language>
  <cp:lastModifiedBy>wb75914</cp:lastModifiedBy>
  <dcterms:modified xsi:type="dcterms:W3CDTF">2008-04-16T07:28:11Z</dcterms:modified>
  <cp:revision>44</cp:revision>
  <dc:subject/>
  <dc:title>Adaptation to Climate Change</dc:title>
</cp:coreProperties>
</file>