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189E-47CB-4ABC-9D69-C14C8F61E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apital cost is determined by the size of the power plant and this number is taken from PAD according to which it responds to the 600MW power plan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emission factor for Kosovo A and Kosovo B are 1.85 t/MWh and 1.47 t/MWh, respectively. These numbers are taken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velopment of Power Generation in South East Europe - Implications for Investments in Environmental Protec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(World Bank and SEEC). Amount of total CO2 emissions is calculated based on these facto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sovo C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missions are based on the assumptions that it is employing supercritical technology with 0.84 t/MWh CO2 emission fac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is still no standardized definition in regards to the proper meaning of ‘CCS Ready’, but this is considered to be the one that is understood in most ca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82DE-05BA-47C6-8C94-6B8FA725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C26-D4DD-42DF-8A18-DB6BE529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32C7-A13D-427B-BF34-8D1C3589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D8C6-D46D-4DAE-9880-517E62E5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D6D3-7D2E-41F4-B1CF-2A37E772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15C1-481D-4BD8-9605-F52900CC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ECDF-37E5-4668-ACE7-6BA728DB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2870-62E4-4469-AA8C-1EEDDD18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FD4C-3394-4786-A933-D861F94B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78D5-CBF0-4022-99EC-CECBE719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86D9-C6D3-4291-8548-1562EAFC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E56-066E-4F71-8854-FBE304EC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8271-7A54-4E0E-A81E-3D0FC8F6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7E14-0E61-4397-83C7-E0B41759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5463-7817-4422-9F1E-A9F2D7B5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40CA-7390-4AC3-BFE9-7BB2CBAE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914D-73E3-4AC6-84C8-49AC170A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A80E-1CF0-4B70-B7ED-635CE5CA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79B9-64CE-4DCE-B0E6-A249C95D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B4A-3610-4C4C-891C-A40310F8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D197-328B-46DC-864A-60C61DC3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3D3C-5B84-45F6-844F-C4ED6ECE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5999-BE37-45F8-AB3A-4304BC57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B228-D141-4A4E-8FEF-EC8ABB7A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FE32-0385-46A3-94F6-F1591E98D4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D02F-36A6-46B9-8E4A-CF3AF2E7A4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2936" t="3292" r="2898" b="3452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1371600" y="3886200"/>
            <a:ext cx="6400800" cy="24786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itigating Coal/Lignite Environmental Impacts: Kosovo C Case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les Feinstein, 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igation measures (2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s efforts to minimize GHG emissions, World Bank is exploring offering the following guidance to Transaction Advisor for incorporation into RF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technology type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minimum thermal efficiency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carbon shadow value or “tax” that would be applied in the bid level of emissions and factored into the evaluation of the bi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view of Kosovo’s energy sect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is rich with low-cost lignite resources with proven reserves estimated at around 12 billion ton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it has two power plants Kosovo A and Kosovo B built in 1960s and 1980s, resp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otal 1513 MW installed generating capacity, Kosovo has only around 600 MW available capacity due to age, poor prior maintenance, and damage caused during the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great amount of unmet demand for electricity both in Kosovo and SEE region-w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do we need Kosovo C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and mining sectors in Kosovo are regarded as future pillars of economic growth and poverty re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tly, Kosovo Provisional Institutions of Self-Government (PISG) has expressed interest in building new power plant that will increase electricity generation and lignite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SG has invited several donors like European Commission, World Bank, USAID and KfW to support its development agenda by facilitating private investments in energy and mining 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are key facts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C power plant is expected to have an initial generating capacity of around 1000 MW.  The on-going SESA study will give more clarification in this reg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vernight capital cost of Kosovo C power plant is estimated 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billion and it will be the first foreign direct investment of this scope in the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quires 5 to 6 years for development and construction, with first unit(s) of Kosovo C power plant expected to come on-line around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C represents an opportunity to adopt climate-friendly technology ahead of business-as-usual practice in the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is World Bank involved in Kosovo C projec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2100240"/>
            <a:ext cx="868680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IDA grant of $10.5 million, World Bank is offe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Kosovo C project, formally known as Lignite Power Technical Assistance Project (LPTA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Bank support in Kosovo C is organized around three main components: support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/social assess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is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ly, World Bank is working hard to ensure that the bidding process will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, transpa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ven technologies for lignite-fired power s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8600" y="1523880"/>
          <a:ext cx="8686800" cy="505296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828800"/>
                <a:gridCol w="1600200"/>
                <a:gridCol w="175248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F sub-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F 500MW super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FB 300MW sub-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0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0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ital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500 -2,0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176 -1,764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200 -1,8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700 -2,2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gnite heat value (kJ/kg) (LH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 efficiency (LH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-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.2 – 4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- 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-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t rate (kJ/kW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74 - 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27 - 8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00 - 8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74 - 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mission factor (tonnes/MWh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-0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ocal/Regional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vironmental Impa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0010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s Level for Kosovo A, Kosovo B, and forthcoming Kosovo C (in mg/N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38080" y="2743200"/>
          <a:ext cx="6629400" cy="3200400"/>
        </p:xfrm>
        <a:graphic>
          <a:graphicData uri="http://schemas.openxmlformats.org/drawingml/2006/table">
            <a:tbl>
              <a:tblPr/>
              <a:tblGrid>
                <a:gridCol w="2306880"/>
                <a:gridCol w="1463400"/>
                <a:gridCol w="1428840"/>
                <a:gridCol w="14302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2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lobal Environmental Impa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09480" y="1905120"/>
          <a:ext cx="6858000" cy="45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6858000" cy="45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04920" y="1143000"/>
            <a:ext cx="7619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issions generated from Kosovo A, Kosovo B, and Kosovo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39000" y="61214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610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1480" y="61214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678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612144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1000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igation measures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 is currently exploring options for channeling this project through CDM mechanisms, possibly combining it with closure of Kosovo 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Capture and Sequestration (CCS) technology is being considered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the power plant may not employ CCS technology in its early phase operation, it is expected that the plant will be CCS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19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CS ready” =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nce CCS technology becomes commercially available, and necessary regulatory and economic drivers are in place, it should be capable for rapid retrofit*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2:59:37Z</dcterms:created>
  <dc:creator>Teuta Kacaniku</dc:creator>
  <dc:description/>
  <dc:language>en-US</dc:language>
  <cp:lastModifiedBy>Charles Feinsein</cp:lastModifiedBy>
  <dcterms:modified xsi:type="dcterms:W3CDTF">2007-09-24T14:40:08Z</dcterms:modified>
  <cp:revision>20</cp:revision>
  <dc:subject/>
  <dc:title>PowerPoint Presentation</dc:title>
</cp:coreProperties>
</file>