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C2D7-F586-4A76-9447-301D89D2E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apital cost is determined by the size of the power plant and this number is taken from PAD according to which it responds to the 600MW power plan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emission factor for Kosovo A and Kosovo B are 1.85 t/MWh and 1.47 t/MWh, respectively. These numbers are taken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velopment of Power Generation in South East Europe - Implications for Investments in Environmental Protec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(World Bank and SEEC). Amount of total CO2 emissions is calculated based on these facto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sovo C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missions are based on the assumptions that it is employing supercritical technology with 0.84 t/MWh CO2 emission fac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is still no standardized definition in regards to the proper meaning of ‘CCS Ready’, but this is considered to be the one that is understood in most ca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509-9EDF-4929-96C0-2BF842E3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C86F-1109-413C-BFA0-34473723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DC23-BCC7-49EC-B523-E5FC922A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E1AD-786E-4002-9D6D-210DA7AE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79B1-D36D-4275-9C96-7A8BAB3F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8E21-366F-4016-A135-20463923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BF7B-02EA-4698-B1BE-68F2A7EF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A350-858F-44DB-8816-FF5B115E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1CA4-5021-437E-ACC6-14672E6C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EF8F-4DD2-4189-AD85-68569A81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6561-D2AC-47B1-864A-BC4DA4B0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003D-DA6F-449C-8EFB-38CC6347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2B14-9E70-4E65-A69A-DE327C69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86CD-2335-4A9B-9D94-C862A1D5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E60E-476B-4817-A480-07721234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510A-17A1-4624-8AC1-293B2AC7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A534-43C8-4510-B9CC-BDD64C3D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DF64-C56A-4C13-8F30-5DCE5AB2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2BE7-AB75-4FB0-AB6A-33637C0E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6372-F5EF-418E-8DCB-AB0C4E3A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94B-59D0-420F-ABE2-A8110209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D64-D7B6-408D-86C1-89E26184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290-33C8-4BCD-A851-6E2CFE69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6BE9-80AE-43A0-BCC9-38CED131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81AC-25CA-4734-8949-62363A9E12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0D35-2BE9-4BA1-9BC3-BE83761CB3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2936" t="3292" r="2898" b="3452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1371600" y="3886200"/>
            <a:ext cx="6400800" cy="24786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itigating Coal/Lignite Environmental Impacts: Kosovo C Case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les Feinstein,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igation measures (2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s efforts to minimize GHG emissions, World Bank is exploring offering the following guidance to Transaction Advisor for incorporation into RF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technology type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minimum thermal efficiency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carbon shadow value or “tax” that would be applied in the bid level of emissions and factored into the evaluation of the bi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view of Kosovo’s energy sect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is rich with low-cost lignite resources with proven reserves estimated at around 12 billion ton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it has two power plants Kosovo A and Kosovo B built in 1960s and 1980s,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otal 1513 MW installed generating capacity, Kosovo has only around 600 MW available capacity due to age, poor prior maintenance, and damage caused during th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great amount of unmet demand for electricity both in Kosovo and SEE region-w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do we need Kosovo C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and mining sectors in Kosovo are regarded as future pillars of economic growth and poverty re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tly, Kosovo Provisional Institutions of Self-Government (PISG) has expressed interest in building new power plant that will increase electricity generation and lignite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SG has invited several donors like European Commission, World Bank, USAID and KfW to support its development agenda by facilitating private investments in energy and mining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key facts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C power plant is expected to have an initial generating capacity of around 1000 MW.  The on-going SESA study will give more clarification in this reg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vernight capital cost of Kosovo C power plant is estimated 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billion and it will be the first foreign direct investment of this scope in the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quires 5 to 6 years for development and construction, with first unit(s) of Kosovo C power plant expected to come on-line around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C represents an opportunity to adopt climate-friendly technology ahead of business-as-usual practice in the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is World Bank involved in Kosovo C projec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100240"/>
            <a:ext cx="868680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IDA grant of $10.5 million, World Bank is offe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Kosovo C project, formally known as Lignite Power Technical Assistance Project (LPTA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Bank support in Kosovo C is organized around three main components: support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/social assess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is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ly, World Bank is working hard to ensure that the bidding process will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, transpa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ven technologies for lignite-fired power s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8600" y="1523880"/>
          <a:ext cx="8686800" cy="505296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828800"/>
                <a:gridCol w="1600200"/>
                <a:gridCol w="175248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F sub-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F 500MW super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FB 300MW sub-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0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0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ital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500 -2,0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176 -1,764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200 -1,8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700 -2,2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gnite heat value (kJ/kg) (LH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 efficiency (LH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-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.2 – 4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- 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-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t rate (kJ/kW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4 - 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27 - 8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00 - 8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4 - 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mission factor (tonnes/MWh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-0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cal/Regional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vironmental Impa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001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s Level for Kosovo A, Kosovo B, and forthcoming Kosovo C (in mg/N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38080" y="2743200"/>
          <a:ext cx="6629400" cy="3200400"/>
        </p:xfrm>
        <a:graphic>
          <a:graphicData uri="http://schemas.openxmlformats.org/drawingml/2006/table">
            <a:tbl>
              <a:tblPr/>
              <a:tblGrid>
                <a:gridCol w="2306880"/>
                <a:gridCol w="1463400"/>
                <a:gridCol w="1428840"/>
                <a:gridCol w="14302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2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lobal Environmental Impa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09480" y="1905120"/>
          <a:ext cx="6858000" cy="45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6858000" cy="45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04920" y="1143000"/>
            <a:ext cx="7619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issions generated from Kosovo A, Kosovo B, and Kosovo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9000" y="612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610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1480" y="612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678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612144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1000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igation measures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 is currently exploring options for channeling this project through CDM mechanisms, possibly combining it with closure of Kosovo 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Capture and Sequestration (CCS) technology is being considered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 power plant may not employ CCS technology in its early phase operation, it is expected that the plant will be CCS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19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CS ready” =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nce CCS technology becomes commercially available, and necessary regulatory and economic drivers are in place, it should be capable for rapid retrofit*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2:59:37Z</dcterms:created>
  <dc:creator>Teuta Kacaniku</dc:creator>
  <dc:description/>
  <dc:language>en-US</dc:language>
  <cp:lastModifiedBy>Charles Feinsein</cp:lastModifiedBy>
  <dcterms:modified xsi:type="dcterms:W3CDTF">2007-09-24T14:40:08Z</dcterms:modified>
  <cp:revision>20</cp:revision>
  <dc:subject/>
  <dc:title>PowerPoint Presentation</dc:title>
</cp:coreProperties>
</file>