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261A-7B97-497D-9902-5CA88C567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tal capital cost is determined by the size of the power plant and this number is taken from PAD according to which it responds to the 600MW power plant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2 emission factor for Kosovo A and Kosovo B are 1.85 t/MWh and 1.47 t/MWh, respectively. These numbers are taken from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velopment of Power Generation in South East Europe - Implications for Investments in Environmental Protec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(World Bank and SEEC). Amount of total CO2 emissions is calculated based on these factor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sovo C CO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missions are based on the assumptions that it is employing supercritical technology with 0.84 t/MWh CO2 emission fact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There is still no standardized definition in regards to the proper meaning of ‘CCS Ready’, but this is considered to be the one that is understood in most cas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6CCC-7115-4897-9944-2D9367A0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BA6-9332-43E1-9E03-B70244F8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BD65-5380-4351-8337-4F0DD55F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EC7E-9D19-4D3D-BBEA-8F0BF5371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F3F6-99A5-4E9F-99DB-E0A141E2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9A681-B935-4163-A415-63249D57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EE81-9E8E-492A-93E9-C50E1D2E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B8A5E-2F71-4841-9C23-3B2439F0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E9D3-9B30-4164-B6E8-9CF9C287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63AC1-79A8-4588-94E2-AF5D0768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BE9E-96AA-4B46-8563-763EEEDB3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FC8-0E61-48CB-BCCD-2C9E510F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C99F-6A6C-44C5-B687-A8ED418B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4CED-C4C2-4B1A-A774-802D9391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A34D-8032-4913-B0CF-1EED85F0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2E207-20D2-4F4F-9ED2-C1548A892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93F6-3CBD-47CC-8BE1-4E349E02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8943-076A-422D-A45A-CA2CD6ACC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D582-78B2-4203-B205-D82EC3834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3FC-4D18-4011-B223-FD4F109D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055F-8D14-4068-84AB-4FB9EF25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D700-8BA0-451D-97A2-08A98C9D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82D5-9481-4F2E-836F-F8D72F76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08BB-9ECF-41BE-8952-5483F5FD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8A72-FE63-4001-9D1B-E3031EE24A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B85E-7FE9-4DDB-834B-FE2EBCAF45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rcRect l="2936" t="3292" r="2898" b="3452"/>
          <a:stretch/>
        </p:blipFill>
        <p:spPr>
          <a:xfrm>
            <a:off x="0" y="33480"/>
            <a:ext cx="9144000" cy="6824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156" name=""/>
          <p:cNvSpPr/>
          <p:nvPr/>
        </p:nvSpPr>
        <p:spPr>
          <a:xfrm>
            <a:off x="1371600" y="3886200"/>
            <a:ext cx="6400800" cy="24786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Mitigating Coal/Lignite Environmental Impacts: Kosovo C Case Stud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harles Feinstein, World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2)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ts efforts to minimize GHG emissions, World Bank is exploring offering the following guidance to Transaction Advisor for incorporation into RF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technology type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minimum thermal efficiency;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10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carbon shadow value or “tax” that would be applied in the bid level of emissions and factored into the evaluation of the bi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 view of Kosovo’s energy secto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807732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is rich with low-cost lignite resources with proven reserves estimated at around 12 billion ton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it has two power plants Kosovo A and Kosovo B built in 1960s and 1980s, respec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otal 1513 MW installed generating capacity, Kosovo has only around 600 MW available capacity due to age, poor prior maintenance, and damage caused during the w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5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great amount of unmet demand for electricity both in Kosovo and SEE region-w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y do we need Kosovo C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and mining sectors in Kosovo are regarded as future pillars of economic growth and poverty re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tly, Kosovo Provisional Institutions of Self-Government (PISG) has expressed interest in building new power plant that will increase electricity generation and lignite prod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SG has invited several donors like European Commission, World Bank, USAID and KfW to support its development agenda by facilitating private investments in energy and mining sec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What are key facts?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power plant is expected to have an initial generating capacity of around 1000 MW.  The on-going SESA study will give more clarification in this reg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night capital cost of Kosovo C power plant is estimated 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billion and it will be the first foreign direct investment of this scope in the reg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quires 5 to 6 years for development and construction, with first unit(s) of Kosovo C power plant expected to come on-line around 20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sovo C represents an opportunity to adopt climate-friendly technology ahead of business-as-usual practice in the reg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How is World Bank involved in Kosovo C project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100240"/>
            <a:ext cx="8686800" cy="39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IDA grant of $10.5 million, World Bank is offer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as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Kosovo C project, formally known as Lignite Power Technical Assistance Project (LPTA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Bank support in Kosovo C is organized around three main components: support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g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/social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is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7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World Bank is working hard to ensure that the bidding process will b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, transpa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i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ven technologies for lignite-fired power st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28600" y="1523880"/>
          <a:ext cx="8686800" cy="505296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828800"/>
                <a:gridCol w="1600200"/>
                <a:gridCol w="1752480"/>
              </a:tblGrid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F 500MW super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FB 300MW sub-critical un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0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500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pital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500 -2,0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176 -1,764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200 -1,8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S$ 1,700 -2,200/k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gnite heat value (kJ/kg)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t efficiency (LH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.2 – 40.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 - 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 - 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at rate (kJ/kW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27 - 89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00 - 85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74 - 9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5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r>
                        <a:rPr b="0" lang="en-US" sz="18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emission factor (tonnes/MWh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89-0.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93-0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ocal/Regional </a:t>
            </a:r>
            <a:br>
              <a:rPr sz="3900"/>
            </a:b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719000"/>
            <a:ext cx="800100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issions Level for Kosovo A, Kosovo B, and forthcoming Kosovo C (in mg/N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838080" y="2743200"/>
          <a:ext cx="6629400" cy="3200400"/>
        </p:xfrm>
        <a:graphic>
          <a:graphicData uri="http://schemas.openxmlformats.org/drawingml/2006/table">
            <a:tbl>
              <a:tblPr/>
              <a:tblGrid>
                <a:gridCol w="2306880"/>
                <a:gridCol w="1463400"/>
                <a:gridCol w="1428840"/>
                <a:gridCol w="1430280"/>
              </a:tblGrid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</a:t>
                      </a:r>
                      <a:r>
                        <a:rPr b="0" lang="en-US" sz="2200" spc="-1" strike="noStrike" baseline="-25000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t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 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lobal Environmental Impac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09480" y="1905120"/>
          <a:ext cx="6858000" cy="452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05120"/>
                    <a:ext cx="6858000" cy="45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4920" y="1143000"/>
            <a:ext cx="7619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of C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issions generated from Kosovo A, Kosovo B, and Kosovo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43900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1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91480" y="612144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678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6121440"/>
            <a:ext cx="113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@ 1000 M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itigation measures (1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World Bank is currently exploring options for channeling this project through CDM mechanisms, possibly combining it with closure of Kosovo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Capture and Sequestration (CCS) technology is being considered as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21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the power plant may not employ CCS technology in its early phase operation, it is expected that the plant will be CCS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1400" indent="-337320">
              <a:lnSpc>
                <a:spcPct val="90000"/>
              </a:lnSpc>
              <a:spcBef>
                <a:spcPts val="192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CS ready” =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Once CCS technology becomes commercially available, and necessary regulatory and economic drivers are in place, it should be capable for rapid retrofit*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22:59:37Z</dcterms:created>
  <dc:creator>Teuta Kacaniku</dc:creator>
  <dc:description/>
  <dc:language>en-US</dc:language>
  <cp:lastModifiedBy>Charles Feinsein</cp:lastModifiedBy>
  <dcterms:modified xsi:type="dcterms:W3CDTF">2007-09-24T14:40:08Z</dcterms:modified>
  <cp:revision>20</cp:revision>
  <dc:subject/>
  <dc:title>PowerPoint Presentation</dc:title>
</cp:coreProperties>
</file>