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1AE62-A20D-4872-AC24-D4D633302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capital cost is determined by the size of the power plant and this number is taken from PAD according to which it responds to the 600MW power plant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2 emission factor for Kosovo A and Kosovo B are 1.85 t/MWh and 1.47 t/MWh, respectively. These numbers are taken from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Development of Power Generation in South East Europe - Implications for Investments in Environmental Protect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(World Bank and SEEC). Amount of total CO2 emissions is calculated based on these factor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sovo C 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missions are based on the assumptions that it is employing supercritical technology with 0.84 t/MWh CO2 emission fact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e is still no standardized definition in regards to the proper meaning of ‘CCS Ready’, but this is considered to be the one that is understood in most case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4DA8-D0FA-4FD1-9473-6651C2098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320E-DF4C-4AC3-AD15-660A6AC73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CB98-D9A0-4D54-99DE-409765426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273B-6676-4C8E-ABDD-A5DB0BD9F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49E8E-F6F8-40BE-B494-7CBD62B1B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302E6-4271-47AF-AA71-83809BDDD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298E0-DF7F-423A-94D3-9D1C9A0D6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7D126-CF60-4118-B722-A5E0DE33B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99898-4DC1-4799-8605-3B0068E27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99E53-CFAB-414D-8EFE-E61A05D9E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FE491-077C-4065-A3EA-63C181457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A2C6-5762-4C22-89F9-B8F75A8E1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05108-7CCF-49F5-98DD-BB866CE5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83F8D-FAD5-4848-8CE2-D9985BB3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E7350-3701-49F5-B6A4-9F1CA69D2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32CE8-3F7C-4FF4-A407-7F1441CD3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86C5B-AE66-420A-9B39-7887AEC48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F191-80BB-4E6A-8ABB-0B07E1D63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FF9E-9FF9-45D1-97FC-E29A8640D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6B0D-FBF9-4495-AB37-C21526910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0413-4ACF-4F99-9E58-C76BEF541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4325-03FB-48B8-8E9D-9F2490A4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719B-316A-457B-85C1-46EFA7F1F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8EB0-5228-4EF5-97FA-812A07575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674DB-9401-4301-8C15-A577041D31F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3FD70-C30A-45E5-BBE3-3F9E28C4D02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rcRect l="2936" t="3292" r="2898" b="3452"/>
          <a:stretch/>
        </p:blipFill>
        <p:spPr>
          <a:xfrm>
            <a:off x="0" y="33480"/>
            <a:ext cx="9144000" cy="68245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56" name=""/>
          <p:cNvSpPr/>
          <p:nvPr/>
        </p:nvSpPr>
        <p:spPr>
          <a:xfrm>
            <a:off x="1371600" y="3886200"/>
            <a:ext cx="6400800" cy="24786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Mitigating Coal/Lignite Environmental Impacts: Kosovo C Case Stu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Charles Feinstein, World 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itigation measures (2)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its efforts to minimize GHG emissions, World Bank is exploring offering the following guidance to Transaction Advisor for incorporation into RF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21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ation of technology type;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21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ation of minimum thermal efficiency;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21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ation of carbon shadow value or “tax” that would be applied in the bid level of emissions and factored into the evaluation of the bi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 view of Kosovo’s energy secto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07732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5000"/>
              </a:lnSpc>
              <a:spcBef>
                <a:spcPts val="21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sovo is rich with low-cost lignite resources with proven reserves estimated at around 12 billion ton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5000"/>
              </a:lnSpc>
              <a:spcBef>
                <a:spcPts val="21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ly it has two power plants Kosovo A and Kosovo B built in 1960s and 1980s, respective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5000"/>
              </a:lnSpc>
              <a:spcBef>
                <a:spcPts val="21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otal 1513 MW installed generating capacity, Kosovo has only around 600 MW available capacity due to age, poor prior maintenance, and damage caused during the w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5000"/>
              </a:lnSpc>
              <a:spcBef>
                <a:spcPts val="21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great amount of unmet demand for electricity both in Kosovo and SEE region-w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y do we need Kosovo C?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7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 and mining sectors in Kosovo are regarded as future pillars of economic growth and poverty redu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quently, Kosovo Provisional Institutions of Self-Government (PISG) has expressed interest in building new power plant that will increase electricity generation and lignite produ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SG has invited several donors like European Commission, World Bank, USAID and KfW to support its development agenda by facilitating private investments in energy and mining se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at are key facts?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27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sovo C power plant is expected to have an initial generating capacity of around 1000 MW.  The on-going SESA study will give more clarification in this regar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27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vernight capital cost of Kosovo C power plant is estimated a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2 billion and it will be the first foreign direct investment of this scope in the reg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27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requires 5 to 6 years for development and construction, with first unit(s) of Kosovo C power plant expected to come on-line around 201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27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sovo C represents an opportunity to adopt climate-friendly technology ahead of business-as-usual practice in the reg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w is World Bank involved in Kosovo C project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2100240"/>
            <a:ext cx="8686800" cy="39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7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ugh IDA grant of $10.5 million, World Bank is offer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ical assist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Kosovo C project, formally known as Lignite Power Technical Assistance Project (LPTAP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ld Bank support in Kosovo C is organized around three main components: support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a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g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vironment/social assess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dvis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ally, World Bank is working hard to ensure that the bidding process will b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, transpar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eti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oven technologies for lignite-fired power st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228600" y="1523880"/>
          <a:ext cx="8686800" cy="5052960"/>
        </p:xfrm>
        <a:graphic>
          <a:graphicData uri="http://schemas.openxmlformats.org/drawingml/2006/table">
            <a:tbl>
              <a:tblPr/>
              <a:tblGrid>
                <a:gridCol w="1752480"/>
                <a:gridCol w="1752840"/>
                <a:gridCol w="1828800"/>
                <a:gridCol w="1600200"/>
                <a:gridCol w="1752480"/>
              </a:tblGrid>
              <a:tr h="3682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F sub-critical un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F 500MW supercritical un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FB 300MW sub-critical un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00 M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00M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pital 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$ 1,500 -2,000/k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$ 1,176 -1,764/k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$ 1,200 -1,800/k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$ 1,700 -2,200/k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gnite heat value (kJ/kg) (LHV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t efficiency (LHV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 - 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.2 – 40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 - 4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 - 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at rate (kJ/kWh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474 - 9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427 - 89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00 - 85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474 - 9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5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emission factor (tonnes/MWh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93-0.8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93-0.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9-0.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93-0.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ocal/Regional 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nvironmental Impac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0010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issions Level for Kosovo A, Kosovo B, and forthcoming Kosovo C (in mg/N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838080" y="2743200"/>
          <a:ext cx="6629400" cy="3200400"/>
        </p:xfrm>
        <a:graphic>
          <a:graphicData uri="http://schemas.openxmlformats.org/drawingml/2006/table">
            <a:tbl>
              <a:tblPr/>
              <a:tblGrid>
                <a:gridCol w="2306880"/>
                <a:gridCol w="1463400"/>
                <a:gridCol w="1428840"/>
                <a:gridCol w="143028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</a:t>
                      </a:r>
                      <a:r>
                        <a:rPr b="0" lang="en-US" sz="22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t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71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sovo 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sovo 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sovo 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5438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lobal Environmental Impac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609480" y="1905120"/>
          <a:ext cx="6858000" cy="452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905120"/>
                    <a:ext cx="6858000" cy="45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304920" y="1143000"/>
            <a:ext cx="76197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of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missions generated from Kosovo A, Kosovo B, and Kosovo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439000" y="612144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@ 610 M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191480" y="612144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@ 678 M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867280" y="6121440"/>
            <a:ext cx="113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@ 1000 M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itigation measures (1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21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orld Bank is currently exploring options for channeling this project through CDM mechanisms, possibly combining it with closure of Kosovo 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21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bon Capture and Sequestration (CCS) technology is being considered as w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21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the power plant may not employ CCS technology in its early phase operation, it is expected that the plant will be CCS re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lnSpc>
                <a:spcPct val="90000"/>
              </a:lnSpc>
              <a:spcBef>
                <a:spcPts val="19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CS ready” =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Once CCS technology becomes commercially available, and necessary regulatory and economic drivers are in place, it should be capable for rapid retrofit*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9T22:59:37Z</dcterms:created>
  <dc:creator>Teuta Kacaniku</dc:creator>
  <dc:description/>
  <dc:language>en-US</dc:language>
  <cp:lastModifiedBy>Charles Feinsein</cp:lastModifiedBy>
  <dcterms:modified xsi:type="dcterms:W3CDTF">2007-09-24T14:40:08Z</dcterms:modified>
  <cp:revision>20</cp:revision>
  <dc:subject/>
  <dc:title>PowerPoint Presentation</dc:title>
</cp:coreProperties>
</file>