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6C2F-6844-44D6-809B-61B59ED80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31B6E-7B08-4E2C-9132-BAC68B5A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13307-D3D0-4D19-83FF-AC1A0724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77417-9C1D-445B-96FA-AD7EEA01B9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FF772-A3EB-4E1D-958E-29806CE332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E5B2C-2C55-439F-8ACA-5F1AE6D7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DA3FE-A018-4D5F-83F3-E0DD811A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772F9-11D1-4237-99C9-1059A9F4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B3F45-DB90-4907-AD3B-4182F08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716F3-26E8-48F6-8863-135E32D0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6DA20-248A-4BDB-9FA2-9F5128A6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1811C-2717-4656-B139-DF62E92B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DE740-3807-4B3E-835E-7DBD9A10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D27AF-E090-449E-AACE-8BD0DD7C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5FFAE-456F-43E4-B55D-8ED27B8C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CEC0A-48B9-42EC-A6B7-A37D7A08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0721E-E0AA-4E09-AD09-6EC240A9D2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4DBD-BBF3-48E7-B7EC-D03610EE76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6FAC-7C15-44EA-8E29-730F0DF1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1E72-2B18-48BE-99CF-37354FCF6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493D-5061-4234-B35A-4777C5E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16F6-2F41-4918-92BD-6AC23066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6D0D2-485B-411E-8412-DF1A7BF1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CB5F-F14B-4A2B-B31D-98D4DB93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5F0A-B326-40C2-B3B3-A045AC7A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86777-C756-41AF-8AEA-CB671096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EAF7-771F-4DAD-B6B3-B54F268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512B-5D30-4D4A-8997-46082685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2A52-60FD-4231-8A16-61C3033C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8783-E9C0-4104-9EE9-0C6DA9C129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2B176-8773-40DF-9483-B3D963A88A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B670E-5E64-4BCC-8387-3DCE2564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49579E-CBBC-4680-8B41-C4B65CB6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E3A81-457E-4C14-9B24-BCF30703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50C74-960E-4697-94AF-B124AD03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144FD-9F12-4700-B5EC-24E3AEE4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BEBA1-E3F9-4A8A-9121-DFAAA9B9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89352-99AD-45A2-A038-DB61DD02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AFEFA6-66BB-4F0A-821F-15453397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40D76-3B49-4C29-912E-04813617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E2F58-FF94-44A8-A035-DA05D636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829D1-CCB6-493D-9946-52B1125A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A8072-0E46-4D48-A950-89442A319A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84B2-DF00-4037-9620-450F2E1D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170B2-3ACD-48A0-87E9-E2B97E88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8125F-5DCF-4D62-A499-409290B5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121A-C4D6-4914-A993-ABAB2D3D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DC40E-1B77-4EF2-BA1C-B7B71E07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F695-9C44-4AFC-91B2-B0552C17140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086B-17A7-43AB-8BCE-FDF3A5D39795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496-7B40-49CE-ACFE-277FB69EAE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ED8-86AF-4A2D-A86B-B9D6DF27B9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16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May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2017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F449-F87D-467C-95F8-0392BEDDE1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e and Contracts Uni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3480" indent="-3034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A611-7859-4650-8A89-7632AC8F92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6760" y="3645000"/>
            <a:ext cx="231300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ssista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terpretation vs. tran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lection procedure for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dvertisement in public media, on the website of the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EU-Delegation and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967F-49AB-4B4B-9073-E62E4183EB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1632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hoice of the RT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an involve the EU-Delegation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BC – no need to be in the panel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4000-B91A-45DA-B84C-2B0C9C66A5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tribution of tasks between assistant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 - no competition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ttendance at missions outside of the capital 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FD19-AE33-4016-A6AC-C1FA669499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68360" y="2565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- 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highl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- Invit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ssential for technical presentations and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concrete to pres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0F8-15E2-4022-AB9F-1AAA58026A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launching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0CCE-AF11-47A9-9D06-B0A614D6BDA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The country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History, cultur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Gouvernemen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olitical parties – Parliamen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usti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anguag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Media etc.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316D-8664-47CD-9F8F-2389AC97C6B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076720" y="393372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26352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8E75-3E6A-4B28-A225-E2C82AFB80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s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A32C-DBBF-4633-B7F5-7A7B20DEC6B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4BF4-FAC5-409D-94F3-1C399356C5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 office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ocal authorit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with other institution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65D0-9C9A-4D77-8AA3-B664844075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68360" y="234792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Working 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0673F-21EA-45E8-A5BA-002B3A86CB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ituation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DF3-1FEA-46CA-BAB7-57FF56C6533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81000" y="2351160"/>
            <a:ext cx="8812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probably changed since the twinning-fiche was drafted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,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,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.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1A86-B391-4ED5-B649-8EAE37D6F2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As specified in the Twinning contract!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6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(can be part of the first Quarterly report)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Quarterly Reports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600"/>
            </a:b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6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6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1608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, RTA counterpar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Unit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 (CFCU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ject Administration Office (PAO)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, discussing the progress - activity pl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owever, try to solve the problems before the meeting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600B-1851-4DAD-B3A2-3A6159B2E9E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6681960" y="1844640"/>
            <a:ext cx="18666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88FC-0C74-4B0E-84F9-DB1893A405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essential and of course beneficial for you as RTA and for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7542-0B7A-4243-BB77-C07073F9B0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for each compon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574E-3438-47B5-80C1-DDA1B772FB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e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 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059F-92FD-42A7-BA93-DE902DDCDF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or 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 – transparency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8E29-6AE1-463F-B031-CC60371781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9DD-C915-4E0B-BD21-74DF5CAC67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hort Time Experts (STEs)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2349360"/>
            <a:ext cx="8353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catalytic agent between the STEs and the national experts/working group members etc. (be proactive!)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, briefings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bsorption capacity of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the experts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makes sense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86560" indent="-2865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2C5-2CDF-4F8A-9CC8-ABF85B1CE3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1"/>
          <a:stretch/>
        </p:blipFill>
        <p:spPr>
          <a:xfrm>
            <a:off x="5651640" y="3500280"/>
            <a:ext cx="2357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oordination of the STE-missio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9640" y="2276640"/>
            <a:ext cx="54864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terms of reference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, objectives and agenda of the missions in due time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'expert days'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</a:t>
            </a: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evaluate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e experts – feedback is added value!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f5494"/>
                </a:solidFill>
                <a:latin typeface="Arial"/>
              </a:rPr>
              <a:t>mission reports </a:t>
            </a: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f the experts have to be done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302-AA60-469A-9AE3-1EC4C60057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3" descr=""/>
          <p:cNvPicPr/>
          <p:nvPr/>
        </p:nvPicPr>
        <p:blipFill>
          <a:blip r:embed="rId1"/>
          <a:stretch/>
        </p:blipFill>
        <p:spPr>
          <a:xfrm>
            <a:off x="5925960" y="2276640"/>
            <a:ext cx="29829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eveloped with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cluded on the website of the beneficiary 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C9B8-E3EF-47D2-8060-D5B2AF67E5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CDAF-A6E5-466A-B80F-AF589920B1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DE440-355D-4943-BCF8-6AE67FBC8DF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4FF-06A8-413B-AF31-CA403BE1B3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1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52CA-386F-470C-9320-7E2A113030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3822840" y="3386160"/>
            <a:ext cx="2441520" cy="265428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95" name="Picture 2" descr=""/>
          <p:cNvPicPr/>
          <p:nvPr/>
        </p:nvPicPr>
        <p:blipFill>
          <a:blip r:embed="rId2"/>
          <a:stretch/>
        </p:blipFill>
        <p:spPr>
          <a:xfrm>
            <a:off x="6659640" y="2276640"/>
            <a:ext cx="1977840" cy="3763800"/>
          </a:xfrm>
          <a:prstGeom prst="rect">
            <a:avLst/>
          </a:prstGeom>
          <a:ln w="0">
            <a:noFill/>
          </a:ln>
        </p:spPr>
      </p:pic>
      <p:sp>
        <p:nvSpPr>
          <p:cNvPr id="296" name="TextBox 6"/>
          <p:cNvSpPr/>
          <p:nvPr/>
        </p:nvSpPr>
        <p:spPr>
          <a:xfrm>
            <a:off x="365040" y="2565360"/>
            <a:ext cx="345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eful gifts: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cope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 - Output orien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alternatives for the emergency cases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1B8B-B307-4732-972A-C03073A8FF4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5686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 - 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 – prioritis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: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ce, enthusiasm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intercultural skills,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7680" indent="-3376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4A75-24EF-4DCD-90F3-0DCBADE3E01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llow up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518EF-01BB-443E-A42F-687146438E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4788000" y="270828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8095-906B-4B5D-A301-0270E4B0EB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ime tabl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6539040" y="61578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B768-43FA-4863-BFC6-15A85F46501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0" name="Straight Connector 5"/>
          <p:cNvSpPr/>
          <p:nvPr/>
        </p:nvSpPr>
        <p:spPr>
          <a:xfrm>
            <a:off x="1042920" y="4076640"/>
            <a:ext cx="5400720" cy="73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1" name="Straight Connector 7"/>
          <p:cNvSpPr/>
          <p:nvPr/>
        </p:nvSpPr>
        <p:spPr>
          <a:xfrm flipV="1">
            <a:off x="1476360" y="4149360"/>
            <a:ext cx="4896000" cy="142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2" name="Straight Connector 9"/>
          <p:cNvSpPr/>
          <p:nvPr/>
        </p:nvSpPr>
        <p:spPr>
          <a:xfrm>
            <a:off x="1079640" y="4365720"/>
            <a:ext cx="6516720" cy="0"/>
          </a:xfrm>
          <a:prstGeom prst="line">
            <a:avLst/>
          </a:prstGeom>
          <a:ln w="698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3" name="Down Arrow 10"/>
          <p:cNvSpPr/>
          <p:nvPr/>
        </p:nvSpPr>
        <p:spPr>
          <a:xfrm>
            <a:off x="1079640" y="2968560"/>
            <a:ext cx="215640" cy="1324080"/>
          </a:xfrm>
          <a:prstGeom prst="downArrow">
            <a:avLst>
              <a:gd name="adj1" fmla="val 50000"/>
              <a:gd name="adj2" fmla="val 50060"/>
            </a:avLst>
          </a:prstGeom>
          <a:solidFill>
            <a:srgbClr val="afc551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4" name="Down Arrow 12"/>
          <p:cNvSpPr/>
          <p:nvPr/>
        </p:nvSpPr>
        <p:spPr>
          <a:xfrm rot="10800000">
            <a:off x="1199880" y="4365720"/>
            <a:ext cx="215640" cy="165240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00b0f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5" name="Down Arrow 13"/>
          <p:cNvSpPr/>
          <p:nvPr/>
        </p:nvSpPr>
        <p:spPr>
          <a:xfrm>
            <a:off x="8317080" y="3641760"/>
            <a:ext cx="215640" cy="64764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92d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6012000" y="3530520"/>
            <a:ext cx="215640" cy="777960"/>
          </a:xfrm>
          <a:prstGeom prst="downArrow">
            <a:avLst>
              <a:gd name="adj1" fmla="val 50000"/>
              <a:gd name="adj2" fmla="val 5007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4643280" y="3625920"/>
            <a:ext cx="216000" cy="69696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8" name="Down Arrow 18"/>
          <p:cNvSpPr/>
          <p:nvPr/>
        </p:nvSpPr>
        <p:spPr>
          <a:xfrm>
            <a:off x="1631880" y="367344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19" name="Down Arrow 19"/>
          <p:cNvSpPr/>
          <p:nvPr/>
        </p:nvSpPr>
        <p:spPr>
          <a:xfrm>
            <a:off x="3276720" y="3530520"/>
            <a:ext cx="215640" cy="800280"/>
          </a:xfrm>
          <a:prstGeom prst="downArrow">
            <a:avLst>
              <a:gd name="adj1" fmla="val 50000"/>
              <a:gd name="adj2" fmla="val 50067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0" name="Down Arrow 20"/>
          <p:cNvSpPr/>
          <p:nvPr/>
        </p:nvSpPr>
        <p:spPr>
          <a:xfrm>
            <a:off x="1938240" y="3530520"/>
            <a:ext cx="141480" cy="777960"/>
          </a:xfrm>
          <a:prstGeom prst="downArrow">
            <a:avLst>
              <a:gd name="adj1" fmla="val 79981"/>
              <a:gd name="adj2" fmla="val 49947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1" name="Down Arrow 23"/>
          <p:cNvSpPr/>
          <p:nvPr/>
        </p:nvSpPr>
        <p:spPr>
          <a:xfrm>
            <a:off x="7885080" y="365112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2" name="Down Arrow 24"/>
          <p:cNvSpPr/>
          <p:nvPr/>
        </p:nvSpPr>
        <p:spPr>
          <a:xfrm>
            <a:off x="7467480" y="3530520"/>
            <a:ext cx="216000" cy="75744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3" name="Down Arrow 25"/>
          <p:cNvSpPr/>
          <p:nvPr/>
        </p:nvSpPr>
        <p:spPr>
          <a:xfrm>
            <a:off x="7020000" y="3637080"/>
            <a:ext cx="216000" cy="64908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38d4d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4" name="TextBox 26"/>
          <p:cNvSpPr/>
          <p:nvPr/>
        </p:nvSpPr>
        <p:spPr>
          <a:xfrm>
            <a:off x="142920" y="2538360"/>
            <a:ext cx="2665440" cy="42912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Arrival RTA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5" name="TextBox 28"/>
          <p:cNvSpPr/>
          <p:nvPr/>
        </p:nvSpPr>
        <p:spPr>
          <a:xfrm>
            <a:off x="36360" y="6018120"/>
            <a:ext cx="2086200" cy="764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Assistant Interpreter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6" name="Down Arrow 30"/>
          <p:cNvSpPr/>
          <p:nvPr/>
        </p:nvSpPr>
        <p:spPr>
          <a:xfrm rot="10800000">
            <a:off x="1471680" y="4365720"/>
            <a:ext cx="216000" cy="882720"/>
          </a:xfrm>
          <a:prstGeom prst="downArrow">
            <a:avLst>
              <a:gd name="adj1" fmla="val 50000"/>
              <a:gd name="adj2" fmla="val 49986"/>
            </a:avLst>
          </a:prstGeom>
          <a:solidFill>
            <a:srgbClr val="ffd624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7" name="Down Arrow 31"/>
          <p:cNvSpPr/>
          <p:nvPr/>
        </p:nvSpPr>
        <p:spPr>
          <a:xfrm rot="10800000">
            <a:off x="1752480" y="4408200"/>
            <a:ext cx="216000" cy="64764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8" name="TextBox 33"/>
          <p:cNvSpPr/>
          <p:nvPr/>
        </p:nvSpPr>
        <p:spPr>
          <a:xfrm>
            <a:off x="5378400" y="5157720"/>
            <a:ext cx="1203480" cy="764280"/>
          </a:xfrm>
          <a:prstGeom prst="rect">
            <a:avLst/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Verdana"/>
              </a:rPr>
              <a:t>Study visit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29" name="TextBox 34"/>
          <p:cNvSpPr/>
          <p:nvPr/>
        </p:nvSpPr>
        <p:spPr>
          <a:xfrm>
            <a:off x="1515960" y="5126040"/>
            <a:ext cx="1560600" cy="916920"/>
          </a:xfrm>
          <a:prstGeom prst="rect">
            <a:avLst/>
          </a:prstGeom>
          <a:solidFill>
            <a:srgbClr val="ffd6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f5494"/>
                </a:solidFill>
                <a:latin typeface="Verdana"/>
              </a:rPr>
              <a:t>Update </a:t>
            </a: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Current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f5494"/>
                </a:solidFill>
                <a:latin typeface="Verdana"/>
              </a:rPr>
              <a:t>Situation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0" name="TextBox 35"/>
          <p:cNvSpPr/>
          <p:nvPr/>
        </p:nvSpPr>
        <p:spPr>
          <a:xfrm>
            <a:off x="1515960" y="3100320"/>
            <a:ext cx="1560600" cy="429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Kick-off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1" name="TextBox 36"/>
          <p:cNvSpPr/>
          <p:nvPr/>
        </p:nvSpPr>
        <p:spPr>
          <a:xfrm>
            <a:off x="3635280" y="5248440"/>
            <a:ext cx="1594080" cy="764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STE-Mission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2" name="TextBox 38"/>
          <p:cNvSpPr/>
          <p:nvPr/>
        </p:nvSpPr>
        <p:spPr>
          <a:xfrm>
            <a:off x="3311640" y="2517840"/>
            <a:ext cx="2203200" cy="1099440"/>
          </a:xfrm>
          <a:prstGeom prst="rect">
            <a:avLst/>
          </a:prstGeom>
          <a:solidFill>
            <a:srgbClr val="38d4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SC-Meeting</a:t>
            </a:r>
            <a:br>
              <a:rPr sz="2200"/>
            </a:b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+ Quarterly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Reports!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3" name="Down Arrow 40"/>
          <p:cNvSpPr/>
          <p:nvPr/>
        </p:nvSpPr>
        <p:spPr>
          <a:xfrm rot="10800000">
            <a:off x="3886200" y="4431960"/>
            <a:ext cx="216000" cy="81612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4" name="Down Arrow 41"/>
          <p:cNvSpPr/>
          <p:nvPr/>
        </p:nvSpPr>
        <p:spPr>
          <a:xfrm rot="10800000">
            <a:off x="6156360" y="438912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5" name="Down Arrow 43"/>
          <p:cNvSpPr/>
          <p:nvPr/>
        </p:nvSpPr>
        <p:spPr>
          <a:xfrm rot="10800000">
            <a:off x="6379920" y="4414680"/>
            <a:ext cx="215640" cy="648000"/>
          </a:xfrm>
          <a:prstGeom prst="downArrow">
            <a:avLst>
              <a:gd name="adj1" fmla="val 50000"/>
              <a:gd name="adj2" fmla="val 50083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6" name="Down Arrow 45"/>
          <p:cNvSpPr/>
          <p:nvPr/>
        </p:nvSpPr>
        <p:spPr>
          <a:xfrm rot="10800000">
            <a:off x="4413240" y="4408200"/>
            <a:ext cx="216000" cy="765000"/>
          </a:xfrm>
          <a:prstGeom prst="downArrow">
            <a:avLst>
              <a:gd name="adj1" fmla="val 50000"/>
              <a:gd name="adj2" fmla="val 49960"/>
            </a:avLst>
          </a:prstGeom>
          <a:solidFill>
            <a:srgbClr val="9c9cdf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Down Arrow 46"/>
          <p:cNvSpPr/>
          <p:nvPr/>
        </p:nvSpPr>
        <p:spPr>
          <a:xfrm rot="10800000">
            <a:off x="55641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Down Arrow 47"/>
          <p:cNvSpPr/>
          <p:nvPr/>
        </p:nvSpPr>
        <p:spPr>
          <a:xfrm rot="10800000">
            <a:off x="4983120" y="4421160"/>
            <a:ext cx="216000" cy="827280"/>
          </a:xfrm>
          <a:prstGeom prst="downArrow">
            <a:avLst>
              <a:gd name="adj1" fmla="val 50000"/>
              <a:gd name="adj2" fmla="val 49985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9" name="TextBox 49"/>
          <p:cNvSpPr/>
          <p:nvPr/>
        </p:nvSpPr>
        <p:spPr>
          <a:xfrm>
            <a:off x="7020000" y="2762280"/>
            <a:ext cx="151272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Verdana"/>
              </a:rPr>
              <a:t>Final meeting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0" name="TextBox 50"/>
          <p:cNvSpPr/>
          <p:nvPr/>
        </p:nvSpPr>
        <p:spPr>
          <a:xfrm>
            <a:off x="7683480" y="4365720"/>
            <a:ext cx="12096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Final report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1" name="TextBox 51"/>
          <p:cNvSpPr/>
          <p:nvPr/>
        </p:nvSpPr>
        <p:spPr>
          <a:xfrm>
            <a:off x="6707160" y="5419800"/>
            <a:ext cx="2448000" cy="7642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f5494"/>
                </a:solidFill>
                <a:latin typeface="Verdana"/>
              </a:rPr>
              <a:t>Late feedback from the BC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2" name="Down Arrow 60"/>
          <p:cNvSpPr/>
          <p:nvPr/>
        </p:nvSpPr>
        <p:spPr>
          <a:xfrm rot="10800000">
            <a:off x="270036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3" name="Down Arrow 62"/>
          <p:cNvSpPr/>
          <p:nvPr/>
        </p:nvSpPr>
        <p:spPr>
          <a:xfrm rot="10800000">
            <a:off x="2435040" y="4414320"/>
            <a:ext cx="215640" cy="606600"/>
          </a:xfrm>
          <a:prstGeom prst="downArrow">
            <a:avLst>
              <a:gd name="adj1" fmla="val 50000"/>
              <a:gd name="adj2" fmla="val 50074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4" name="Down Arrow 64"/>
          <p:cNvSpPr/>
          <p:nvPr/>
        </p:nvSpPr>
        <p:spPr>
          <a:xfrm rot="10800000">
            <a:off x="5780160" y="439884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5" name="Down Arrow 65"/>
          <p:cNvSpPr/>
          <p:nvPr/>
        </p:nvSpPr>
        <p:spPr>
          <a:xfrm rot="10800000">
            <a:off x="668340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46" name="Down Arrow 48"/>
          <p:cNvSpPr/>
          <p:nvPr/>
        </p:nvSpPr>
        <p:spPr>
          <a:xfrm rot="10800000">
            <a:off x="3635280" y="4406760"/>
            <a:ext cx="216000" cy="648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ollow up </a:t>
            </a:r>
            <a:br>
              <a:rPr sz="3000"/>
            </a:b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360" y="21492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Networking – 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as possibl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939-D60D-4E68-BD9B-F0D137300B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5508720" y="454968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eaningful activity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professional and life experience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and diplomatic skill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 experience,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 familiar with the EU Institution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9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</a:t>
            </a:r>
            <a:r>
              <a:rPr b="1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hard work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!!!   </a:t>
            </a:r>
            <a:r>
              <a:rPr b="0" lang="en-GB" sz="3600" spc="-1" strike="noStrike">
                <a:solidFill>
                  <a:srgbClr val="0f5494"/>
                </a:solidFill>
                <a:latin typeface="Wingdings"/>
                <a:ea typeface="Wingdings"/>
              </a:rPr>
              <a:t></a:t>
            </a: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lnSpc>
                <a:spcPct val="100000"/>
              </a:lnSpc>
              <a:spcBef>
                <a:spcPts val="901"/>
              </a:spcBef>
              <a:buClr>
                <a:srgbClr val="0f5494"/>
              </a:buClr>
              <a:buSzPct val="12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4601-F9EC-4F95-A3A1-D3424621686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53964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87A4-5B4D-469D-83E7-69AC8D8524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4583160" cy="2303640"/>
          </a:xfrm>
          <a:prstGeom prst="rect">
            <a:avLst/>
          </a:prstGeom>
          <a:ln w="0">
            <a:noFill/>
          </a:ln>
        </p:spPr>
      </p:pic>
      <p:sp>
        <p:nvSpPr>
          <p:cNvPr id="357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CCDF-DBC4-4A52-AFB4-D6FE40E597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ecretaries of State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associations, NGOs, industry etc.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0E2D-CEAA-433F-8AA4-84E93FF400F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355-4617-440F-A567-CF0F3AA2695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2E4-7692-49B0-92F3-C8EC9D092E9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21016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FECF-0276-48BA-B6CD-1573739D11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PAN Rudolf (SANCO)</cp:lastModifiedBy>
  <cp:lastPrinted>2012-07-17T17:07:43Z</cp:lastPrinted>
  <dcterms:modified xsi:type="dcterms:W3CDTF">2017-05-12T15:37:52Z</dcterms:modified>
  <cp:revision>311</cp:revision>
  <dc:subject/>
  <dc:title>PowerPoint Presentation</dc:title>
</cp:coreProperties>
</file>