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863280" y="76176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040" y="4723920"/>
            <a:ext cx="4876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3921-AE01-4547-AF9A-5508CE977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1879-A4DD-416B-90B6-928EB26EC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2362-1F1E-4578-A614-B7E313549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35A5-D4B4-46B2-BA4E-2DA0038F0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8DC8-7B8E-48D6-BABB-FFB368DB9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WORK CONTAR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ONE OFF CONTRACTS IF NECESS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B95F2-6D7B-498C-AF0F-A2A83349C8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7ACA2-D778-4618-AB47-AE23586817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9EAA1-44E3-4151-8C23-B82AF41447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EBD2F-E8D3-47D5-86A9-6CE0DD4217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65D28-D1B4-49F3-912D-DC98365248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FEE79-05C9-43C2-8BC6-14437C1EFD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4EE05-813E-46F4-BD54-AD147E3298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9E40A-6D6C-4928-ABF8-386FD50AD4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3533B-75A1-4290-8644-BF6540A857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7A44E-8D22-42EB-B516-64D4CA919F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D674C-B5F7-432F-9684-2EEF025B5A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B5DC1-A3B1-4A7E-B8E2-4DF1CCBA1C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9619D-C1CD-470D-BA48-1B46BEEF85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D774A-29E4-4533-A1B4-D7C79EAAFD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36869-15BA-4C47-9D31-1AA4DAF1B6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69379-BB4D-4CA7-AC7C-8BC06BBE21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466D5-ABB7-4443-BB18-64FCE1D3A4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AF4C8-1EC3-412D-A12E-10E11D0AE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12B35-C083-478B-8E30-F106582692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70059-3462-438A-81B0-84CD1C983B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013ED-E2EF-4786-B611-311596301F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96B73-9FE9-4F3C-AE6A-78A2CB055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DAF81-D034-4898-A32A-2E7A901141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8FD75-B8AA-4643-8C64-794FB2B925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74328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DBA4-A3DB-436D-98C3-DF5C9E65FBA4}" type="slidenum">
              <a:rPr b="0" lang="en-US" sz="1400" spc="-1" strike="noStrike">
                <a:solidFill>
                  <a:srgbClr val="ffff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6477120" y="304920"/>
          <a:ext cx="1981080" cy="80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304920"/>
                    <a:ext cx="198108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74328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C02B-1C47-470C-8DAB-BDCA7010850E}" type="slidenum">
              <a:rPr b="0" lang="en-US" sz="1400" spc="-1" strike="noStrike">
                <a:solidFill>
                  <a:srgbClr val="ffff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572000"/>
            <a:ext cx="8610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6095880"/>
            <a:ext cx="3886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080" y="152280"/>
            <a:ext cx="7620120" cy="97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838080" y="1143000"/>
          <a:ext cx="7620120" cy="31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143000"/>
                    <a:ext cx="7620120" cy="31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50920" y="4581000"/>
            <a:ext cx="8642160" cy="15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 on JASPERS To IFI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ssels – March 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76360" y="54936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involvement in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34136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9640" y="1916280"/>
          <a:ext cx="7473600" cy="3254040"/>
        </p:xfrm>
        <a:graphic>
          <a:graphicData uri="http://schemas.openxmlformats.org/drawingml/2006/table">
            <a:tbl>
              <a:tblPr/>
              <a:tblGrid>
                <a:gridCol w="2495880"/>
                <a:gridCol w="1259280"/>
                <a:gridCol w="2201760"/>
                <a:gridCol w="15166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Type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Type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Water/Waste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a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olid was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o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il and 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rban Tran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ner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rownfield Reh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he total no. of projects is 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36485-C12E-4F28-9530-5A0C23AC50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619280" y="476280"/>
            <a:ext cx="48387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xample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523880"/>
            <a:ext cx="8447040" cy="45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OLAND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Warsaw Ring Road, Public Transport in Krakow and Lublin, Flood Protection, Broad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OMAN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Rolling Stock, River Navigation, Multi-modal terminals, Regional Airports, Regionalisation of Water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ULGAR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PP Motorway, River Nav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UNGARY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rovincial Urban Transport, 8 Water sche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LOVAK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Motorways, Water Supply and Trea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ALT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ort upgrade, restoration of ancient buil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YPRUS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– Urban Transport in Nico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823B5-27F5-4C0E-AAAB-D439FCE89E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5943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Times New Roman"/>
              </a:rPr>
              <a:t>What is JASP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 Joint Assistance to Support Projects in European Reg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tnership between Commission (DG REGIO), EIB and EB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primary Beneficiaries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he 12 new Member State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vailable EU funds for new MS for period 2007-13: EUR 308b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ASPERS  has experience and knowledge to provid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echnical Assistance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o help that beneficiaries submit complete, structured and well prepared applications/stud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95679-FFC8-4C41-AE90-CE9C24DFE8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5943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hy was JASPERS create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52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Incomplete absorption of EU funds during previous funding periods for various reasons ,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Incomplete applications submitted by Member States (MS), causing delays in approval and implementation of projec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Delays during implementation also caused by issues not properly identified during the application ph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JASPERS can help the beneficiary countries to increase their absorption of EU funding and use it effici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core Technical Assistance teams comprise experienced economists and engineers who will assist MS to ensure submission of high quality applications, (including EIAs, FS, necessary ToRs,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DE13D-2EE8-4974-85B1-B12121F98C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55640" y="5084640"/>
            <a:ext cx="7416720" cy="1557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B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H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3429000"/>
            <a:ext cx="7416720" cy="1584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C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4140360" y="6307920"/>
            <a:ext cx="7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1052640"/>
            <a:ext cx="649440" cy="15127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00000" y="1052640"/>
            <a:ext cx="576360" cy="14396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6360" y="2565360"/>
            <a:ext cx="280836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59280" y="2565360"/>
            <a:ext cx="273528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nvironment  &amp;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65360"/>
            <a:ext cx="147636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Re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076640"/>
            <a:ext cx="755640" cy="360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No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516640"/>
            <a:ext cx="755640" cy="360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94200" y="549360"/>
            <a:ext cx="36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76360" y="3141720"/>
            <a:ext cx="2806560" cy="37162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Air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Urban Tr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3141720"/>
            <a:ext cx="2737080" cy="37162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aste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olid wa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hab on 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storation of buil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newable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2565360"/>
            <a:ext cx="432000" cy="429264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162864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E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19660-7778-4F74-A8B5-F9CD19239F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743200" y="2438280"/>
            <a:ext cx="3581280" cy="152424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91920" y="2743200"/>
            <a:ext cx="2430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JAS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66 professional STA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1219320"/>
            <a:ext cx="1143000" cy="16002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1143000"/>
            <a:ext cx="0" cy="12952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562360" y="1143000"/>
            <a:ext cx="1143000" cy="14479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6360" y="183024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2 expe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+ 10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1447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6 profess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09360" y="179064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5 to 8 profess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19640" y="4508640"/>
            <a:ext cx="2133360" cy="6094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UXEMBO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3962520"/>
            <a:ext cx="0" cy="5331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5661000"/>
            <a:ext cx="2376360" cy="6778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ARS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Nov 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19640" y="5661000"/>
            <a:ext cx="2214360" cy="6555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Mar 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2000" y="5661000"/>
            <a:ext cx="2520720" cy="72072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UCHA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Mar 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268360" y="5084280"/>
            <a:ext cx="1224000" cy="505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5084640"/>
            <a:ext cx="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08720" y="5084640"/>
            <a:ext cx="79200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620120" cy="97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53337-DEC3-4F70-813D-4DF4309BE2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58920" y="549360"/>
            <a:ext cx="5184720" cy="7189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 project portfo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1268280"/>
            <a:ext cx="8351640" cy="4969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2360" indent="-65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only accepts projects financed by EU Fu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gives priority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jor projects (project cost over €25 M for environment projects and over €50 M for transport and other projec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jects covered by the MS Operational Program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orizontal Tasks relating to issues covering more than one project, country or s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CC5BD-69ED-41AD-B897-1F75A2452C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26920" y="549360"/>
            <a:ext cx="5542200" cy="9903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asis of As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125360"/>
            <a:ext cx="9144000" cy="4896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1" marL="653760" indent="-2512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assistance is provided free of charge; there is no obligation to use JASP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dditional funding may or may not be obtained from EIB/EBRD; projects still qualify for JASPERS assistan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mber States are the owners of the project, not JASP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is only an input to the preparation of applications for EU fund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paration of a project by JASPERS does not guarantee approval of the project by the Com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C08B1-895F-4E68-8EA1-6A1F998E00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71640" y="549360"/>
            <a:ext cx="5473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anaging the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25360"/>
            <a:ext cx="889308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naging Authority co-ordinates between JASPERS country officers and the line minist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jects identified by annual Actions Pl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Annual Action Plans “formalises” the Projects and Horizontal Tasks where the Managing Authority requires JASPERS assi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C9FCE-AEA4-4BE5-BF9A-A59FAC2FA2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1916280"/>
          <a:ext cx="7488360" cy="4092480"/>
        </p:xfrm>
        <a:graphic>
          <a:graphicData uri="http://schemas.openxmlformats.org/drawingml/2006/table">
            <a:tbl>
              <a:tblPr/>
              <a:tblGrid>
                <a:gridCol w="1871640"/>
                <a:gridCol w="1873440"/>
                <a:gridCol w="1871640"/>
                <a:gridCol w="1871640"/>
              </a:tblGrid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om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lovak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love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zech Republ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ypr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Hung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at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ulga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sto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al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ithu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he total no. of projects is 9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476360" y="54936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involvement in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B8F9D-27AA-42A0-8704-3360081B6F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13:15:24Z</dcterms:created>
  <dc:creator>DELAGUAR</dc:creator>
  <dc:description/>
  <dc:language>en-US</dc:language>
  <cp:lastModifiedBy>MURPHYJA</cp:lastModifiedBy>
  <dcterms:modified xsi:type="dcterms:W3CDTF">2007-03-13T14:52:58Z</dcterms:modified>
  <cp:revision>5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24236374</vt:r8>
  </property>
  <property fmtid="{D5CDD505-2E9C-101B-9397-08002B2CF9AE}" pid="3" name="_AuthorEmail">
    <vt:lpwstr>Anna.VEZYROGLOU@ec.europa.eu</vt:lpwstr>
  </property>
  <property fmtid="{D5CDD505-2E9C-101B-9397-08002B2CF9AE}" pid="4" name="_AuthorEmailDisplayName">
    <vt:lpwstr>VEZYROGLOU Anna (ELARG)</vt:lpwstr>
  </property>
  <property fmtid="{D5CDD505-2E9C-101B-9397-08002B2CF9AE}" pid="5" name="_EmailSubject">
    <vt:lpwstr>Slides I</vt:lpwstr>
  </property>
  <property fmtid="{D5CDD505-2E9C-101B-9397-08002B2CF9AE}" pid="6" name="_NewReviewCycle">
    <vt:lpwstr/>
  </property>
</Properties>
</file>