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CF18-4378-4B65-ADE1-44D04ECC6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29ED-4B5D-4CA0-95D3-B83A00C51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F39C-7C4B-4374-873F-464330646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A197-5D35-46EC-BE63-6BA287E0E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C417D-1E76-4A3B-A7B5-515FAE5F2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F8EF4-2CC8-47C7-9027-A2F9C93CB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8CB01-FAEB-4347-B332-60C3C7BF8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06F56-54E3-48CA-AA19-E30C95753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FE06A-775A-4823-A262-6099C1EA3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6F38C-9713-4864-ADAA-9A7914393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0BC92-CA40-4A99-8F20-946031861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D60E-42B1-4C15-9321-A2FE2A826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C66A8-8E66-4D3B-A24C-B5390E534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B2CC6-206D-4672-8731-60367A3C3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22789-6CF4-4660-9594-F9C72E38A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ECCAA-FA00-4D7F-A288-509602467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9FBB0-8140-4CEC-BD53-7F7878196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3ADA-C7F2-4379-9D5D-22A9B2934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EF80-930F-422E-8BF4-DAFB23EC8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F18D-B6A0-409E-8452-E6B556E0E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C7F1-71FD-4449-A182-87B4ED02D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30EC-4E84-4438-B8F2-F26CE47B9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3532-138E-4B31-A9B4-190EC19E4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8092-E07E-4B3B-811B-E9BC7830D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B0485-27C7-45CC-B793-5FE30027CF71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3944C-EC92-4ECB-B71F-F5A75E9D878F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ec.europa.eu/avservices/download/events_download_en.cfm?idphoto=5699&amp;nump=p-012531-00-01&amp;src=1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c.europa.eu/avservices/download/events_download_en.cfm?idphoto=5699&amp;nump=p-012531-00-01&amp;src=1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ec.europa.eu/avservices/download/events_download_en.cfm?idphoto=5699&amp;nump=p-012531-00-01&amp;src=1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ec.europa.eu/avservices/download/events_download_en.cfm?idphoto=5699&amp;nump=p-012531-00-01&amp;src=1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ec.europa.eu/avservices/download/events_download_en.cfm?idphoto=5699&amp;nump=p-012531-00-01&amp;src=1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ec.europa.eu/avservices/download/events_download_en.cfm?idphoto=5699&amp;nump=p-012531-00-01&amp;src=1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ec.europa.eu/avservices/download/events_download_en.cfm?idphoto=5699&amp;nump=p-012531-00-01&amp;src=1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ec.europa.eu/avservices/download/events_download_en.cfm?idphoto=5699&amp;nump=p-012531-00-01&amp;src=1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1996560"/>
            <a:ext cx="775332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400" spc="-1" strike="noStrike">
                <a:solidFill>
                  <a:srgbClr val="eaeaea"/>
                </a:solidFill>
                <a:latin typeface="Tahoma"/>
              </a:rPr>
              <a:t>The SME Finance Facility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116000" y="3500280"/>
            <a:ext cx="64008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A successful co-operation with the IFIs since 1999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" descr="click to downloa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80360" y="260280"/>
            <a:ext cx="1523880" cy="5716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1297080" cy="8809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258920" y="6093000"/>
            <a:ext cx="254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DG Enlarg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187280" y="5300640"/>
            <a:ext cx="70581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IFI</a:t>
            </a: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 advisory group – 15 March 200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IFI loans: €2 bill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Leverage ratio: 1 to 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Financial intermediaries:</a:t>
            </a:r>
            <a:br>
              <a:rPr sz="3200"/>
            </a:b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155 in ten countr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Number of SMEs reached: 84,000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Average size: €21,000 to €133,00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" descr="click to download"/>
          <p:cNvPicPr/>
          <p:nvPr/>
        </p:nvPicPr>
        <p:blipFill>
          <a:blip r:embed="rId1"/>
          <a:stretch/>
        </p:blipFill>
        <p:spPr>
          <a:xfrm>
            <a:off x="7380360" y="260280"/>
            <a:ext cx="1523880" cy="5716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1297080" cy="8809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1166760" y="6180120"/>
            <a:ext cx="25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DG Enlarg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title"/>
          </p:nvPr>
        </p:nvSpPr>
        <p:spPr>
          <a:xfrm>
            <a:off x="1066320" y="1196640"/>
            <a:ext cx="754380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eaeaea"/>
                </a:solidFill>
                <a:latin typeface="Tahoma"/>
              </a:rPr>
              <a:t>Results 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Instrument originally developed in 1999 for Central and Eastern countries (Phare countrie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Based on the Copenhagen economic criteria set at the Council of June 2003 and aiming at  developing market economy through Phare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Instrument oriented to EU access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" descr="click to downloa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80360" y="260280"/>
            <a:ext cx="1523880" cy="5716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1297080" cy="8809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166760" y="6180120"/>
            <a:ext cx="25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DG Enlarg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1066320" y="1196640"/>
            <a:ext cx="754380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eaeaea"/>
                </a:solidFill>
                <a:latin typeface="Tahoma"/>
              </a:rPr>
              <a:t>background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In the late 90s, level of financial intermediation was low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Corporate loans profitable and still dominant in lending busine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At bank level: lack of long term fund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obstacles to access to finance for smaller segment of SMEs (micro, start-up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Need to promote market economy and private businesses (employment issu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" descr="click to downloa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80360" y="260280"/>
            <a:ext cx="1523880" cy="5716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1297080" cy="8809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166760" y="6180120"/>
            <a:ext cx="25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DG Enlarg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1066320" y="1196640"/>
            <a:ext cx="754380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eaeaea"/>
                </a:solidFill>
                <a:latin typeface="Tahoma"/>
              </a:rPr>
              <a:t>Economic environment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042920" y="1989000"/>
            <a:ext cx="7850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Strengthening the financial institutions (capacity building) and developing a competitive banking sect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Inducing financial intermediaries to expand and maintain in the long term their lending to SMEs, with a balanced country covera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Promoting access to finance for SM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" descr="click to downloa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80360" y="260280"/>
            <a:ext cx="1523880" cy="5716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1297080" cy="8809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166760" y="6180120"/>
            <a:ext cx="254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DG</a:t>
            </a: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Enlarg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1066320" y="1196640"/>
            <a:ext cx="754380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eaeaea"/>
                </a:solidFill>
                <a:latin typeface="Tahoma"/>
              </a:rPr>
              <a:t>Objectives of the Facility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Supply side instru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Instrument in favour of financial intermediaries (banks and leasing companies) incorporated in the beneficiary countr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Financial package (project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Tahoma"/>
              </a:rPr>
              <a:t>EU incentives (non repayabl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Tahoma"/>
              </a:rPr>
              <a:t>IFI credit line (long term funding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Tahoma"/>
              </a:rPr>
              <a:t>Leverage effect between EU and IFI Resourc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" descr="click to downloa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80360" y="260280"/>
            <a:ext cx="1523880" cy="5716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1297080" cy="880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166760" y="6180120"/>
            <a:ext cx="25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DG Enlarg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1066320" y="1196640"/>
            <a:ext cx="754380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eaeaea"/>
                </a:solidFill>
                <a:latin typeface="Tahoma"/>
              </a:rPr>
              <a:t>Features of the Facility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Different types of EU incentiv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Technical assistance (cash-flow analysi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Performance fee calculated on the outstanding loan portfol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Transaction fee calculated on the number of loa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Special Incentives for micro-loa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Loan guarante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" descr="click to downloa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80360" y="260280"/>
            <a:ext cx="1523880" cy="5716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1297080" cy="8809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166760" y="6180120"/>
            <a:ext cx="25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DG Enlarg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1066320" y="1196640"/>
            <a:ext cx="754380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eaeaea"/>
                </a:solidFill>
                <a:latin typeface="Tahoma"/>
              </a:rPr>
              <a:t>Features of the Facility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Use of the IFI credit li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Funding of SMEs: loans, leasing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Maximum loan amount: €250,000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Special focus on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Tahoma"/>
              </a:rPr>
              <a:t>SMEs located outside the capital ci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Tahoma"/>
              </a:rPr>
              <a:t>Farmers and rural business (Rural sub-window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Tahoma"/>
              </a:rPr>
              <a:t>Attempt to develop equity finance (Equity Window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" descr="click to downloa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80360" y="260280"/>
            <a:ext cx="1523880" cy="5716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1297080" cy="880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1166760" y="6180120"/>
            <a:ext cx="25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DG Enlarg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1066320" y="1196640"/>
            <a:ext cx="754380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eaeaea"/>
                </a:solidFill>
                <a:latin typeface="Tahoma"/>
              </a:rPr>
              <a:t>Features of the Facility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IFI responsible for the selection of financial intermediaries and building project (average size €15 millio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Commission responsible for approving projects on a case-by-case basi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Credit line extended by IFI (repayabl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EU incentives paid by IFI from an interest bearing account held with IF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" descr="click to downloa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80360" y="260280"/>
            <a:ext cx="1523880" cy="5716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1297080" cy="8809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1166760" y="6180120"/>
            <a:ext cx="25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DG Enlarg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1066320" y="1196640"/>
            <a:ext cx="754380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eaeaea"/>
                </a:solidFill>
                <a:latin typeface="Tahoma"/>
              </a:rPr>
              <a:t>Implementation 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EU contribution (1999 – 2006):</a:t>
            </a:r>
            <a:br>
              <a:rPr sz="3200"/>
            </a:b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€383 mill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Amount of EU incentives earmarked for projects: €288 mill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Performance Fee: €194 mill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Technical Assistance: €47 mill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Amount of incentives paid to FIs:</a:t>
            </a:r>
            <a:br>
              <a:rPr sz="3200"/>
            </a:b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€143 mill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1" name="" descr="click to download"/>
          <p:cNvPicPr/>
          <p:nvPr/>
        </p:nvPicPr>
        <p:blipFill>
          <a:blip r:embed="rId1"/>
          <a:stretch/>
        </p:blipFill>
        <p:spPr>
          <a:xfrm>
            <a:off x="7380360" y="260280"/>
            <a:ext cx="1523880" cy="5716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1297080" cy="8809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166760" y="6180120"/>
            <a:ext cx="25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DG Enlarg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1066320" y="1196640"/>
            <a:ext cx="754380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eaeaea"/>
                </a:solidFill>
                <a:latin typeface="Tahoma"/>
              </a:rPr>
              <a:t>Results 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9T18:12:59Z</dcterms:created>
  <dc:creator>boutina</dc:creator>
  <dc:description/>
  <dc:language>en-US</dc:language>
  <cp:lastModifiedBy>boutina</cp:lastModifiedBy>
  <dcterms:modified xsi:type="dcterms:W3CDTF">2007-03-15T11:44:17Z</dcterms:modified>
  <cp:revision>6</cp:revision>
  <dc:subject/>
  <dc:title>The SME Finance Facilit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615049110</vt:r8>
  </property>
  <property fmtid="{D5CDD505-2E9C-101B-9397-08002B2CF9AE}" pid="3" name="_AuthorEmail">
    <vt:lpwstr>Anna.VEZYROGLOU@ec.europa.eu</vt:lpwstr>
  </property>
  <property fmtid="{D5CDD505-2E9C-101B-9397-08002B2CF9AE}" pid="4" name="_AuthorEmailDisplayName">
    <vt:lpwstr>VEZYROGLOU Anna (ELARG)</vt:lpwstr>
  </property>
  <property fmtid="{D5CDD505-2E9C-101B-9397-08002B2CF9AE}" pid="5" name="_EmailSubject">
    <vt:lpwstr>Slides I</vt:lpwstr>
  </property>
  <property fmtid="{D5CDD505-2E9C-101B-9397-08002B2CF9AE}" pid="6" name="_NewReviewCycle">
    <vt:lpwstr/>
  </property>
</Properties>
</file>