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3"/>
          </p:nvPr>
        </p:nvSpPr>
        <p:spPr>
          <a:xfrm>
            <a:off x="3809880" y="0"/>
            <a:ext cx="2895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863280" y="76176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040" y="4723920"/>
            <a:ext cx="48769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4"/>
          </p:nvPr>
        </p:nvSpPr>
        <p:spPr>
          <a:xfrm>
            <a:off x="-36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5"/>
          </p:nvPr>
        </p:nvSpPr>
        <p:spPr>
          <a:xfrm>
            <a:off x="3809880" y="9448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1B367-8990-4CDF-AA36-0735357E36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809880" y="9448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673A4-B587-43CD-B8B8-A80178FFB3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-36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-36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809880" y="0"/>
            <a:ext cx="2895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809880" y="9448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FB427-27FA-4171-A627-D24157DEFA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-36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-36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809880" y="0"/>
            <a:ext cx="2895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3809880" y="9448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6A800-851E-4A5E-83E1-949753B766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-36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-36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809880" y="0"/>
            <a:ext cx="2895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3809880" y="9448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67C4A-3347-433A-817F-BF9293ACC6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-36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-36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809880" y="0"/>
            <a:ext cx="2895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WORK CONTAR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ONE OFF CONTRACTS IF NECESS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5ECA7-593E-495B-8F3E-C16D1F8C4F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6AB37-A30D-49D7-A7F1-6A865567D5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FABC6-DCB3-4EB0-8CB2-E4DD49080E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8EB70-1228-4725-BE9C-6B22DE1A18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7F4FD-5F57-4F79-BEE0-668E6FA455A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3CF95-6376-4F13-BE15-676BA2EBC76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2C6F9-5E1E-4951-A121-18F6D816CDC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49807-4E00-40A9-A3FF-9AECD32892F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59E95-E7D0-4429-A8FE-B38ABDCBB24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3C1C8-D06E-43AD-83C7-CA534FC19C2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18EC2-11ED-4940-9925-216B51A9E0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D343F-5812-4393-BC87-62844208A7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478D3-EF46-4FCA-84B7-698329FFC89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432A7-F3A9-4033-93A1-A44C73A999D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0D095-C755-4360-B166-DED369D8EC5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5439B-C728-489A-BEB8-CAFA6A71DCF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7702E-9258-4244-94CF-12E530F54B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A21F0-ECF2-438A-A292-11F510AC9C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44F7F-DA10-4960-B3FB-596197731A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A36B6-8BE5-4907-AEA3-2BA045F6ED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8215A-59FD-4C67-80B7-011634784D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C0F09-0FFB-457B-900B-8D6577BEAD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986A2-1106-4B26-83A9-8363DEB92C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7BFC1-9336-4B03-B336-BB2E271DE4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74328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87B49-D48B-4894-8F3F-2218FBA97800}" type="slidenum">
              <a:rPr b="0" lang="en-US" sz="1400" spc="-1" strike="noStrike">
                <a:solidFill>
                  <a:srgbClr val="ffff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6477120" y="304920"/>
          <a:ext cx="1981080" cy="807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77120" y="304920"/>
                    <a:ext cx="1981080" cy="80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74328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8D410-41B8-47F3-98C0-674106D5CB5C}" type="slidenum">
              <a:rPr b="0" lang="en-US" sz="1400" spc="-1" strike="noStrike">
                <a:solidFill>
                  <a:srgbClr val="ffff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4572000"/>
            <a:ext cx="86104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6095880"/>
            <a:ext cx="38862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838080" y="152280"/>
            <a:ext cx="7620120" cy="978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" name=""/>
          <p:cNvGraphicFramePr/>
          <p:nvPr/>
        </p:nvGraphicFramePr>
        <p:xfrm>
          <a:off x="838080" y="1143000"/>
          <a:ext cx="7620120" cy="310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1143000"/>
                    <a:ext cx="7620120" cy="31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250920" y="4581000"/>
            <a:ext cx="8642160" cy="15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ation on JASPERS To IFI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ussels – March 1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476360" y="549360"/>
            <a:ext cx="446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JASPERS involvement in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1341360"/>
            <a:ext cx="914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539640" y="1916280"/>
          <a:ext cx="7473600" cy="3254040"/>
        </p:xfrm>
        <a:graphic>
          <a:graphicData uri="http://schemas.openxmlformats.org/drawingml/2006/table">
            <a:tbl>
              <a:tblPr/>
              <a:tblGrid>
                <a:gridCol w="2495880"/>
                <a:gridCol w="1259280"/>
                <a:gridCol w="2201760"/>
                <a:gridCol w="151668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Type of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proj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No. of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proj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Type of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proj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No. of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proj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Water/Wastewa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Ra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olid was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Ro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Oil and g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Urban Trans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nerg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Por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Brownfield Reha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The total no. of projects is 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D66BD-678F-40EC-BC75-74521E07B9D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619280" y="476280"/>
            <a:ext cx="48387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Example 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8360" y="1523880"/>
            <a:ext cx="8447040" cy="45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POLAND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– Warsaw Ring Road, Public Transport in Krakow and Lublin, Flood Protection, Broadb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ROMANIA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– Rolling Stock, River Navigation, Multi-modal terminals, Regional Airports, Regionalisation of Water Compan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BULGARIA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– PPP Motorway, River Navig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HUNGARY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– Provincial Urban Transport, 8 Water schem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LOVAKIA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– Motorways, Water Supply and Trea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MALTA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– Port upgrade, restoration of ancient build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YPRUS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– Urban Transport in Nicos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1021F-63E7-4BEC-BDBD-CC41FF460DE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920" y="549000"/>
            <a:ext cx="5943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3300"/>
                </a:solidFill>
                <a:latin typeface="Times New Roman"/>
              </a:rPr>
              <a:t>What is JASPER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42472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ASPERS  Joint Assistance to Support Projects in European Reg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artnership between Commission (DG REGIO), EIB and EB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ASPERS primary Beneficiaries: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the 12 new Member States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Available EU funds for new MS for period 2007-13: EUR 308b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JASPERS  has experience and knowledge to provid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Technical Assistance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o help that beneficiaries submit complete, structured and well prepared applications/studi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419A3-1903-4B3E-B5FB-5D04176F95B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42920" y="549000"/>
            <a:ext cx="5943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Why was JASPERS created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7152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Incomplete absorption of EU funds during previous funding periods for various reasons , e.g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Incomplete applications submitted by Member States (MS), causing delays in approval and implementation of project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Delays during implementation also caused by issues not properly identified during the application pha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JASPERS can help the beneficiary countries to increase their absorption of EU funding and use it efficient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he core Technical Assistance teams comprise experienced economists and engineers who will assist MS to ensure submission of high quality applications, (including EIAs, FS, necessary ToRs,…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CB485-3D13-4E00-8467-C36577425B2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755640" y="5084640"/>
            <a:ext cx="7416720" cy="15573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B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H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M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55640" y="3429000"/>
            <a:ext cx="7416720" cy="15843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C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L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4140360" y="6307920"/>
            <a:ext cx="7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59280" y="1052640"/>
            <a:ext cx="649440" cy="151272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700000" y="1052640"/>
            <a:ext cx="576360" cy="143964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76360" y="2565360"/>
            <a:ext cx="2808360" cy="5763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Trans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59280" y="2565360"/>
            <a:ext cx="2735280" cy="5763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Environment  &amp; Ener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2565360"/>
            <a:ext cx="1476360" cy="5763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Reg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076640"/>
            <a:ext cx="755640" cy="3603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Nor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5516640"/>
            <a:ext cx="755640" cy="3603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Sou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94200" y="549360"/>
            <a:ext cx="365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JASPERS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476360" y="3141720"/>
            <a:ext cx="2806560" cy="371628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R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Air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Urban Tra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59280" y="3141720"/>
            <a:ext cx="2737080" cy="371628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Wa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Waste wa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Solid was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Rehab on l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Restoration of build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Renewable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2565360"/>
            <a:ext cx="432000" cy="4292640"/>
          </a:xfrm>
          <a:prstGeom prst="rect">
            <a:avLst/>
          </a:prstGeom>
          <a:solidFill>
            <a:srgbClr val="ccccff">
              <a:alpha val="50000"/>
            </a:srgbClr>
          </a:solidFill>
          <a:ln w="3240">
            <a:solidFill>
              <a:srgbClr val="ff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1628640"/>
            <a:ext cx="17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SECT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78D90-D50E-45C7-9B62-96C6A75EF5F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50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000"/>
                            </p:stCondLst>
                            <p:childTnLst>
                              <p:par>
                                <p:cTn id="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500"/>
                            </p:stCondLst>
                            <p:childTnLst>
                              <p:par>
                                <p:cTn id="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400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4500"/>
                            </p:stCondLst>
                            <p:childTnLst>
                              <p:par>
                                <p:cTn id="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0"/>
                            </p:stCondLst>
                            <p:childTnLst>
                              <p:par>
                                <p:cTn id="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743200" y="2438280"/>
            <a:ext cx="3581280" cy="1524240"/>
          </a:xfrm>
          <a:prstGeom prst="ellipse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391920" y="2743200"/>
            <a:ext cx="243000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JAS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66 professional STA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828800" y="1219320"/>
            <a:ext cx="1143000" cy="160020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343400" y="1143000"/>
            <a:ext cx="0" cy="129528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5562360" y="1143000"/>
            <a:ext cx="1143000" cy="144792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6360" y="1830240"/>
            <a:ext cx="147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32 expe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+ 10 sup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14479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16 profession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09360" y="1790640"/>
            <a:ext cx="20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5 to 8 profession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19640" y="4508640"/>
            <a:ext cx="2133360" cy="60948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LUXEMBOU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5680" y="3962520"/>
            <a:ext cx="0" cy="53316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640" y="5661000"/>
            <a:ext cx="2376360" cy="67788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ARSA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Opened Nov 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19640" y="5661000"/>
            <a:ext cx="2214360" cy="6555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VIEN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Opened Mar 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12000" y="5661000"/>
            <a:ext cx="2520720" cy="72072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BUCHA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Opened Mar 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2268360" y="5084280"/>
            <a:ext cx="1224000" cy="5050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0" y="5084640"/>
            <a:ext cx="0" cy="576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508720" y="5084640"/>
            <a:ext cx="792000" cy="576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838080" y="152280"/>
            <a:ext cx="7620120" cy="978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E59BD-6AE2-43BC-B251-3DAD4958DDB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500"/>
                            </p:stCondLst>
                            <p:childTnLst>
                              <p:par>
                                <p:cTn id="1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258920" y="549360"/>
            <a:ext cx="5184720" cy="71892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JASPERS  project portfol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24000" y="1268280"/>
            <a:ext cx="8351640" cy="49690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2360" indent="-651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ASPERS only accepts projects financed by EU Fu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22360" indent="-651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ASPERS gives priority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22360" indent="-65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22320" indent="-7920"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jor projects (project cost over €25 M for environment projects and over €50 M for transport and other project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22360" indent="-65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22320" indent="-7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jects covered by the MS Operational Program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22320" indent="-79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22360" indent="-6516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Horizontal Tasks relating to issues covering more than one project, country or sec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2FFE5-DE16-4312-A3B7-CCB2A670DC7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8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1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4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7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0" dur="500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826920" y="549360"/>
            <a:ext cx="5542200" cy="99036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Basis of Assis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1125360"/>
            <a:ext cx="9144000" cy="48960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lvl="1" marL="653760" indent="-25128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ASPERS assistance is provided free of charge; there is no obligation to use JASPER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11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11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dditional funding may or may not be obtained from EIB/EBRD; projects still qualify for JASPERS assistanc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11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ember States are the owners of the project, not JASPER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ASPERS is only an input to the preparation of applications for EU fund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eparation of a project by JASPERS does not guarantee approval of the project by the Commi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888B4-1C30-40E7-A619-3FA210346D5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4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7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0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3" dur="500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971640" y="549360"/>
            <a:ext cx="547344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Managing the 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1125360"/>
            <a:ext cx="8893080" cy="49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e Managing Authority co-ordinates between JASPERS country officers and the line ministr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jects identified by annual Actions Pla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e Annual Action Plans “formalises” the Projects and Horizontal Tasks where the Managing Authority requires JASPERS assist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2AE70-09B0-428C-81B2-D992D7796D5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1905120"/>
            <a:ext cx="914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539640" y="1916280"/>
          <a:ext cx="7488360" cy="4092480"/>
        </p:xfrm>
        <a:graphic>
          <a:graphicData uri="http://schemas.openxmlformats.org/drawingml/2006/table">
            <a:tbl>
              <a:tblPr/>
              <a:tblGrid>
                <a:gridCol w="1871640"/>
                <a:gridCol w="1873440"/>
                <a:gridCol w="1871640"/>
                <a:gridCol w="1871640"/>
              </a:tblGrid>
              <a:tr h="78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Count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No. of proj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Count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No. of proj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Roman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lovak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Pol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loven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zech Republ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ypr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Hung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Latv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Bulgar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ston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Mal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Lithuan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The total no. of projects is 9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1476360" y="549360"/>
            <a:ext cx="446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JASPERS involvement in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2782A-EBA6-4B7D-A776-7E0DD583677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9T13:15:24Z</dcterms:created>
  <dc:creator>DELAGUAR</dc:creator>
  <dc:description/>
  <dc:language>en-US</dc:language>
  <cp:lastModifiedBy>MURPHYJA</cp:lastModifiedBy>
  <dcterms:modified xsi:type="dcterms:W3CDTF">2007-03-13T14:52:58Z</dcterms:modified>
  <cp:revision>56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24236374</vt:r8>
  </property>
  <property fmtid="{D5CDD505-2E9C-101B-9397-08002B2CF9AE}" pid="3" name="_AuthorEmail">
    <vt:lpwstr>Anna.VEZYROGLOU@ec.europa.eu</vt:lpwstr>
  </property>
  <property fmtid="{D5CDD505-2E9C-101B-9397-08002B2CF9AE}" pid="4" name="_AuthorEmailDisplayName">
    <vt:lpwstr>VEZYROGLOU Anna (ELARG)</vt:lpwstr>
  </property>
  <property fmtid="{D5CDD505-2E9C-101B-9397-08002B2CF9AE}" pid="5" name="_EmailSubject">
    <vt:lpwstr>Slides I</vt:lpwstr>
  </property>
  <property fmtid="{D5CDD505-2E9C-101B-9397-08002B2CF9AE}" pid="6" name="_NewReviewCycle">
    <vt:lpwstr/>
  </property>
</Properties>
</file>