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F4A-F1A8-4F14-81B5-CDF9525C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831-3B9D-4B21-8690-8CDA728C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0CC-9A95-49AA-B44E-EE5748F8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8C8E-0DCF-4AC2-BE5C-0B26B1BF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C470-C4F2-451A-B744-8CCDDBA0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C176-DF98-4D95-B6EB-63A8BCE9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1271-E473-447A-845B-14F4721D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088F-D31C-448D-8BF5-C2EB706C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1693-BD82-471A-B0DD-849B2EA5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6583-51E8-416E-8359-1771CCC2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0674-D363-478A-8010-859E9658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BD4F-48A5-4259-B473-9D18728C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421B-84DB-4A60-993E-42664AC1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7BD2-BDAF-4FEE-89A8-9B3AF4D8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6B73-F268-4F1D-AC8D-A3CCC95F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67A1-34EA-4444-AE62-49FCBB08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D0AE-191C-4D89-84E8-FC4452CD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5791-EFFE-4CD9-9D59-D7E2A254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E33E-0843-47AE-9635-0E417AD9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600-D73E-46B1-A89D-CD66F307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F3C-E504-412A-ADE2-8A6E540B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DF6D-49C1-4D46-A1A9-83D58AEB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C4F-B34D-4440-B830-5060E34D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4AC8-A28A-486E-B4F5-0048F7D0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70E6-A3A5-4FFE-84FC-0050508564C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4AC7-11ED-46DC-ABE3-6E48D5C2645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77533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aeaea"/>
                </a:solidFill>
                <a:latin typeface="Tahoma"/>
              </a:rPr>
              <a:t>The SME Finance Facil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3500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 successful co-operation with the IFIs since 1999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6093000"/>
            <a:ext cx="25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5300640"/>
            <a:ext cx="7058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</a:t>
            </a: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 advisory group – 15 March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loans: €2 b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Leverage ratio: 1 to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Financial intermediarie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155 in te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Number of SMEs reached: 84,0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verage size: €21,000 to €133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ginally developed in 1999 for Central and Eastern countries (Phare countri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Based on the Copenhagen economic criteria set at the Council of June 2003 and aiming at  developing market economy through Phare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ented to EU acc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 the late 90s, level of financial intermediation was low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Corporate loans profitable and still dominant in lending 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At bank level: lack of long term 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obstacles to access to finance for smaller segment of SMEs (micro, start-u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Need to promote market economy and private businesses (employment issu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Economic environ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trengthening the financial institutions (capacity building) and developing a competitive banking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ducing financial intermediaries to expand and maintain in the long term their lending to SMEs, with a balanced country cover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romoting access to finance for S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66760" y="6180120"/>
            <a:ext cx="25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Objectiv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upply side instru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strument in favour of financial intermediaries (banks and leasing companies) incorporated in the beneficiary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inancial package (projec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EU incentives (non repay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IFI credit line (long term fund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Leverage effect between EU and IFI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Different types of EU incen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 (cash-flow analy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 calculated on the outstanding loan portfo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ransaction fee calculated on the number of 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Incentives for micro-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Loan guaran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Use of the IFI credi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unding of SMEs: loans, leas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Maximum loan amount: €250,00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focus 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SMEs located outside the capital 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Farmers and rural business (Rural sub-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Attempt to develop equity finance (Equity 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responsible for the selection of financial intermediaries and building project (average size €15 mill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ommission responsible for approving projects on a case-by-case ba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redit line extended by IFI (repayab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incentives paid by IFI from an interest bearing account held with IF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Implementation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contribution (1999 – 2006)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38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EU incentives earmarked for projects: €288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: €194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: €47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incentives paid to FI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14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8:12:59Z</dcterms:created>
  <dc:creator>boutina</dc:creator>
  <dc:description/>
  <dc:language>en-US</dc:language>
  <cp:lastModifiedBy>boutina</cp:lastModifiedBy>
  <dcterms:modified xsi:type="dcterms:W3CDTF">2007-03-15T11:44:17Z</dcterms:modified>
  <cp:revision>6</cp:revision>
  <dc:subject/>
  <dc:title>The SME Finance Fac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15049110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