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3"/>
          </p:nvPr>
        </p:nvSpPr>
        <p:spPr>
          <a:xfrm>
            <a:off x="3809880" y="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863280" y="76176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040" y="4723920"/>
            <a:ext cx="48769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4"/>
          </p:nvPr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5"/>
          </p:nvPr>
        </p:nvSpPr>
        <p:spPr>
          <a:xfrm>
            <a:off x="3809880" y="9448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278AC-C81D-4AD5-8181-53C6EAD7B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809880" y="9448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5CBCA-2F8F-4197-A3E4-9A73A3A08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809880" y="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809880" y="9448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77A11-AA56-4DA1-B1B8-BE03F04AC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09880" y="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809880" y="9448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F479D-DEA9-4AEF-B728-C22DBC2A45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809880" y="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809880" y="9448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0C8F8-AFB6-4BF8-8935-A3C20359F1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809880" y="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WORK CONTAR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ONE OFF CONTRACTS IF NECESS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BA5A5-73B4-4A96-B776-C1A4B5C706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61373-1DAD-4A3E-8C45-C55F1BC21D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A4B8F-F17E-411C-A722-B5C8EC66FB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2486E-67D2-42E9-B6F7-AB58963FA2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EA9E8-0B30-4E62-AB35-C3B39AD64D2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B15FB-0515-4A55-B38C-D07D1111B43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113C0-1211-4C82-BD3B-1E41788D669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12346-4432-4765-AD41-75174DE3C81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684A8-2934-4C57-A49B-198DB24F577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FB083-84CE-4130-A8D4-24BC4774ABC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00540-02A4-438C-91A9-9F7293C1B9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4B9F9-F7AD-4CD5-BC15-1A263345EC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B6C05-4229-4CAF-A746-4F8C9D3E897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47002-FFC5-4936-8C4E-E14946B114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56A2F-6CDF-4D56-84F0-C54BAF57574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C5E94-2FE0-4D19-8B5E-946737DAF4A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8A488-F440-4AFD-9AF2-BB6C6127AB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9B919-CDE2-4B27-A211-55BD5B0225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5B80F-E851-45A5-AC8C-946758680B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99A33-2A86-4EC8-8D41-1DFC6A0664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29A34-9E81-445A-AE6C-734CC9D1DB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ABF4C-89FB-442C-AC96-2D4C590D9C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48EA7-8164-4BDF-BF3A-61124320A2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B53EB-A9B7-4A62-B1F0-D4FCCBF0BB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74328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FA970-EA24-4CF1-8A48-DD5165A904B8}" type="slidenum">
              <a:rPr b="0" lang="en-US" sz="1400" spc="-1" strike="noStrike">
                <a:solidFill>
                  <a:srgbClr val="ffff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6477120" y="304920"/>
          <a:ext cx="1981080" cy="807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77120" y="304920"/>
                    <a:ext cx="1981080" cy="80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74328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6D241-6C34-449C-B3BE-F7F8F75D56C3}" type="slidenum">
              <a:rPr b="0" lang="en-US" sz="1400" spc="-1" strike="noStrike">
                <a:solidFill>
                  <a:srgbClr val="ffff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4572000"/>
            <a:ext cx="86104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6095880"/>
            <a:ext cx="38862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38080" y="152280"/>
            <a:ext cx="7620120" cy="978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" name=""/>
          <p:cNvGraphicFramePr/>
          <p:nvPr/>
        </p:nvGraphicFramePr>
        <p:xfrm>
          <a:off x="838080" y="1143000"/>
          <a:ext cx="7620120" cy="310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143000"/>
                    <a:ext cx="7620120" cy="31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250920" y="4581000"/>
            <a:ext cx="8642160" cy="15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ation on JASPERS To IFI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ussels – March 1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476360" y="549360"/>
            <a:ext cx="446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JASPERS involvement in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34136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539640" y="1916280"/>
          <a:ext cx="7473600" cy="3254040"/>
        </p:xfrm>
        <a:graphic>
          <a:graphicData uri="http://schemas.openxmlformats.org/drawingml/2006/table">
            <a:tbl>
              <a:tblPr/>
              <a:tblGrid>
                <a:gridCol w="2495880"/>
                <a:gridCol w="1259280"/>
                <a:gridCol w="2201760"/>
                <a:gridCol w="151668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Type of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pro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No. of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pro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Type of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pro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No. of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pro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Water/Wastewa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a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olid was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o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Oil and g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Urban Tran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nerg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or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Brownfield Reha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he total no. of projects is 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33D66-BF63-4BB4-822B-71CC53E2C51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619280" y="476280"/>
            <a:ext cx="48387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Example 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1523880"/>
            <a:ext cx="8447040" cy="45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OLAND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– Warsaw Ring Road, Public Transport in Krakow and Lublin, Flood Protection, Broadb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ROMANIA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– Rolling Stock, River Navigation, Multi-modal terminals, Regional Airports, Regionalisation of Water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BULGARIA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– PPP Motorway, River Navi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HUNGARY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– Provincial Urban Transport, 8 Water schem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LOVAKIA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– Motorways, Water Supply and Trea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ALTA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– Port upgrade, restoration of ancient build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YPRUS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– Urban Transport in Nico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E55FB-7E59-4D9F-B30C-5E68DAF1553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5943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3300"/>
                </a:solidFill>
                <a:latin typeface="Times New Roman"/>
              </a:rPr>
              <a:t>What is JASPE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4247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S  Joint Assistance to Support Projects in European Reg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artnership between Commission (DG REGIO), EIB and EB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S primary Beneficiaries: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he 12 new Member States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Available EU funds for new MS for period 2007-13: EUR 308b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JASPERS  has experience and knowledge to provid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echnical Assistance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o help that beneficiaries submit complete, structured and well prepared applications/studi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BAE70-38E0-48C2-8DBF-E137F78364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5943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hy was JASPERS created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7152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Incomplete absorption of EU funds during previous funding periods for various reasons , e.g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Incomplete applications submitted by Member States (MS), causing delays in approval and implementation of project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Delays during implementation also caused by issues not properly identified during the application ph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JASPERS can help the beneficiary countries to increase their absorption of EU funding and use it efficient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core Technical Assistance teams comprise experienced economists and engineers who will assist MS to ensure submission of high quality applications, (including EIAs, FS, necessary ToRs,…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7BD6C-3D93-48E9-93D7-756E787731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55640" y="5084640"/>
            <a:ext cx="7416720" cy="1557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B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H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3429000"/>
            <a:ext cx="7416720" cy="1584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C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L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4140360" y="6307920"/>
            <a:ext cx="7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59280" y="1052640"/>
            <a:ext cx="649440" cy="151272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700000" y="1052640"/>
            <a:ext cx="576360" cy="14396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76360" y="2565360"/>
            <a:ext cx="2808360" cy="576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rans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59280" y="2565360"/>
            <a:ext cx="2735280" cy="576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Environment  &amp;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565360"/>
            <a:ext cx="1476360" cy="576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Reg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076640"/>
            <a:ext cx="755640" cy="360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No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516640"/>
            <a:ext cx="755640" cy="360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Sou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94200" y="549360"/>
            <a:ext cx="36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JASPERS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76360" y="3141720"/>
            <a:ext cx="2806560" cy="371628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R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Air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Urban Tr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59280" y="3141720"/>
            <a:ext cx="2737080" cy="371628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Waste 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Solid wa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Rehab on l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Restoration of build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Renewable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2565360"/>
            <a:ext cx="432000" cy="4292640"/>
          </a:xfrm>
          <a:prstGeom prst="rect">
            <a:avLst/>
          </a:prstGeom>
          <a:solidFill>
            <a:srgbClr val="ccccff">
              <a:alpha val="50000"/>
            </a:srgbClr>
          </a:solidFill>
          <a:ln w="324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162864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SEC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9E9F9-90A9-49A0-BF52-33022A77CB1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5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50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00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450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0"/>
                            </p:stCondLst>
                            <p:childTnLst>
                              <p:par>
                                <p:cTn id="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743200" y="2438280"/>
            <a:ext cx="3581280" cy="1524240"/>
          </a:xfrm>
          <a:prstGeom prst="ellipse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91920" y="2743200"/>
            <a:ext cx="24300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JAS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66 professional STA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28800" y="1219320"/>
            <a:ext cx="1143000" cy="16002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43400" y="1143000"/>
            <a:ext cx="0" cy="12952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562360" y="1143000"/>
            <a:ext cx="1143000" cy="144792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6360" y="1830240"/>
            <a:ext cx="147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32 expe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+ 10 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14479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16 professio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09360" y="1790640"/>
            <a:ext cx="20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5 to 8 professio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19640" y="4508640"/>
            <a:ext cx="2133360" cy="60948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LUXEMBOU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5680" y="3962520"/>
            <a:ext cx="0" cy="53316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640" y="5661000"/>
            <a:ext cx="2376360" cy="67788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ARS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Opened Nov 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19640" y="5661000"/>
            <a:ext cx="2214360" cy="6555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VIEN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Opened Mar 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12000" y="5661000"/>
            <a:ext cx="2520720" cy="72072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BUCHA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Opened Mar 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268360" y="5084280"/>
            <a:ext cx="1224000" cy="505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5084640"/>
            <a:ext cx="0" cy="576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508720" y="5084640"/>
            <a:ext cx="792000" cy="576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38080" y="152280"/>
            <a:ext cx="7620120" cy="978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6C81B-B4BA-4754-A090-F2FB3A4631D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500"/>
                            </p:stCondLst>
                            <p:childTnLst>
                              <p:par>
                                <p:cTn id="1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258920" y="549360"/>
            <a:ext cx="5184720" cy="7189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JASPERS  project portfol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4000" y="1268280"/>
            <a:ext cx="8351640" cy="49690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2360" indent="-651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S only accepts projects financed by EU Fu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2360" indent="-651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S gives priority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2360" indent="-65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22320" indent="-7920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jor projects (project cost over €25 M for environment projects and over €50 M for transport and other project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2360" indent="-65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22320" indent="-7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jects covered by the MS Operational Program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22320" indent="-79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2360" indent="-6516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orizontal Tasks relating to issues covering more than one project, country or se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7C73D-7D7C-40B5-BEE8-E942B23D71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8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1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4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7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26920" y="549360"/>
            <a:ext cx="5542200" cy="99036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asis of Assi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125360"/>
            <a:ext cx="9144000" cy="48960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lvl="1" marL="653760" indent="-2512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S assistance is provided free of charge; there is no obligation to use JASPER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11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11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dditional funding may or may not be obtained from EIB/EBRD; projects still qualify for JASPERS assistanc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11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ember States are the owners of the project, not JASPER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S is only an input to the preparation of applications for EU fund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eparation of a project by JASPERS does not guarantee approval of the project by the Commi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BF486-C890-4EE9-A7F9-CD120786597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4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7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0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3" dur="5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971640" y="549360"/>
            <a:ext cx="54734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Managing the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125360"/>
            <a:ext cx="8893080" cy="49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Managing Authority co-ordinates between JASPERS country officers and the line minist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jects identified by annual Actions Pla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Annual Action Plans “formalises” the Projects and Horizontal Tasks where the Managing Authority requires JASPERS assist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B1CE9-89F7-49DC-A201-B9A39F71742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190512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539640" y="1916280"/>
          <a:ext cx="7488360" cy="4092480"/>
        </p:xfrm>
        <a:graphic>
          <a:graphicData uri="http://schemas.openxmlformats.org/drawingml/2006/table">
            <a:tbl>
              <a:tblPr/>
              <a:tblGrid>
                <a:gridCol w="1871640"/>
                <a:gridCol w="1873440"/>
                <a:gridCol w="1871640"/>
                <a:gridCol w="1871640"/>
              </a:tblGrid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Coun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No. of pro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Coun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No. of pro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oma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lovak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ol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love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zech Republ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ypr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Hung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Latv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Bulgar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sto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Mal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Lithua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he total no. of projects is 9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1476360" y="549360"/>
            <a:ext cx="446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JASPERS involvement in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1E361-EFDF-4A5F-BEEF-83FB81B91A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13:15:24Z</dcterms:created>
  <dc:creator>DELAGUAR</dc:creator>
  <dc:description/>
  <dc:language>en-US</dc:language>
  <cp:lastModifiedBy>MURPHYJA</cp:lastModifiedBy>
  <dcterms:modified xsi:type="dcterms:W3CDTF">2007-03-13T14:52:58Z</dcterms:modified>
  <cp:revision>5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24236374</vt:r8>
  </property>
  <property fmtid="{D5CDD505-2E9C-101B-9397-08002B2CF9AE}" pid="3" name="_AuthorEmail">
    <vt:lpwstr>Anna.VEZYROGLOU@ec.europa.eu</vt:lpwstr>
  </property>
  <property fmtid="{D5CDD505-2E9C-101B-9397-08002B2CF9AE}" pid="4" name="_AuthorEmailDisplayName">
    <vt:lpwstr>VEZYROGLOU Anna (ELARG)</vt:lpwstr>
  </property>
  <property fmtid="{D5CDD505-2E9C-101B-9397-08002B2CF9AE}" pid="5" name="_EmailSubject">
    <vt:lpwstr>Slides I</vt:lpwstr>
  </property>
  <property fmtid="{D5CDD505-2E9C-101B-9397-08002B2CF9AE}" pid="6" name="_NewReviewCycle">
    <vt:lpwstr/>
  </property>
</Properties>
</file>