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895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3"/>
          </p:nvPr>
        </p:nvSpPr>
        <p:spPr>
          <a:xfrm>
            <a:off x="3809880" y="0"/>
            <a:ext cx="289584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863280" y="76176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914040" y="4723920"/>
            <a:ext cx="48769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4"/>
          </p:nvPr>
        </p:nvSpPr>
        <p:spPr>
          <a:xfrm>
            <a:off x="-360" y="9448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5"/>
          </p:nvPr>
        </p:nvSpPr>
        <p:spPr>
          <a:xfrm>
            <a:off x="3809880" y="94489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0367C-EFA9-4449-8288-772D8105C2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3809880" y="94489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CD5FE-7777-4A2A-A20F-80470CD4DB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-360" y="9448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-360" y="0"/>
            <a:ext cx="2895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809880" y="0"/>
            <a:ext cx="289584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3809880" y="94489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C817A-7050-4F5D-AC88-F5077F75CC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-360" y="9448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-360" y="0"/>
            <a:ext cx="2895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809880" y="0"/>
            <a:ext cx="289584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3809880" y="94489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2BB31-6147-4355-BFB4-921921FEF3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-360" y="9448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-360" y="0"/>
            <a:ext cx="2895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809880" y="0"/>
            <a:ext cx="289584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3809880" y="94489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5CDBC-164D-48B4-819D-B46809C1AF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-360" y="9448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-360" y="0"/>
            <a:ext cx="2895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809880" y="0"/>
            <a:ext cx="289584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WORK CONTAR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ONE OFF CONTRACTS IF NECESS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4279CB-F81A-4FDE-9476-802790EA69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7A9600-7EAF-4EFB-BCE4-4BCD9A1E34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276C29-FF10-45D0-8B88-04DF1762CF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15FC41-F8B1-4F07-8D9D-E8FD480900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95C93E-297E-4813-8F05-65F15925220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A18397-E5B8-4357-8A36-3EB1A2F2DA4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55F774-3851-43AB-9E81-106BFBE43EE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E945A0-30B0-4266-BF90-FF0E2C70315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86825F-930A-481E-94C6-1A80E05C3A8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D4B8E8-3BD4-4099-BF5A-622E84921B4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FD9FC6-750F-42A3-8603-825102F2011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E201E7-F87F-4CEF-82FC-4F6D26B92A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37B640-6940-421E-B026-177B0125A6F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4D9CD6-C6F1-4B23-909D-8D5E53C816E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F9C574-90D6-4483-9F85-185F7FBBE4C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A7552E-DAC7-488C-BD58-2825E99C46D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4CD975-1F1E-42A8-8F7C-4534F2A9415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1CA972-7012-4859-BFAF-00CAE77868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31D8FD-33E2-4C40-B874-677515EC03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546E67-FBCC-4969-B46E-B1B5029438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8461B1-5D03-4A68-A486-73AC5F752E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3693B7-DED4-40A1-9765-250EFC009A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17787D-DD72-4A58-8AE7-2C37A1550F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93FD9C-D789-4161-B1BC-BDEB464DDE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743280" y="309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sldNum" idx="1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22BB9-2506-4F4A-90F5-DD43742C9ED1}" type="slidenum">
              <a:rPr b="0" lang="en-US" sz="1400" spc="-1" strike="noStrike">
                <a:solidFill>
                  <a:srgbClr val="ffff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" name=""/>
          <p:cNvGraphicFramePr/>
          <p:nvPr/>
        </p:nvGraphicFramePr>
        <p:xfrm>
          <a:off x="6477120" y="304920"/>
          <a:ext cx="1981080" cy="807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477120" y="304920"/>
                    <a:ext cx="1981080" cy="80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743280" y="309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3A2DA-A66C-4CA1-A116-D4AEFE82F804}" type="slidenum">
              <a:rPr b="0" lang="en-US" sz="1400" spc="-1" strike="noStrike">
                <a:solidFill>
                  <a:srgbClr val="ffff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4572000"/>
            <a:ext cx="86104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666880" y="6095880"/>
            <a:ext cx="38862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838080" y="152280"/>
            <a:ext cx="7620120" cy="978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7" name=""/>
          <p:cNvGraphicFramePr/>
          <p:nvPr/>
        </p:nvGraphicFramePr>
        <p:xfrm>
          <a:off x="838080" y="1143000"/>
          <a:ext cx="7620120" cy="3108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8080" y="1143000"/>
                    <a:ext cx="7620120" cy="310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250920" y="4581000"/>
            <a:ext cx="8642160" cy="15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ation on JASPERS To IFI Mee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ussels – March 15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200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476360" y="549360"/>
            <a:ext cx="4464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JASPERS involvement in 200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1341360"/>
            <a:ext cx="9144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539640" y="1916280"/>
          <a:ext cx="7473600" cy="3254040"/>
        </p:xfrm>
        <a:graphic>
          <a:graphicData uri="http://schemas.openxmlformats.org/drawingml/2006/table">
            <a:tbl>
              <a:tblPr/>
              <a:tblGrid>
                <a:gridCol w="2495880"/>
                <a:gridCol w="1259280"/>
                <a:gridCol w="2201760"/>
                <a:gridCol w="1516680"/>
              </a:tblGrid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Type of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proje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No. of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proje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Type of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proje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No. of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projec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Water/Wastewa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Rai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Solid was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Roa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Oil and g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Urban Transpor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Energ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Por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Brownfield Reha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Oth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The total no. of projects is 9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E7F92E-DF8D-40DF-8E31-4B2199AACC8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0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500"/>
                            </p:stCondLst>
                            <p:childTnLst>
                              <p:par>
                                <p:cTn id="231" nodeType="after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1619280" y="476280"/>
            <a:ext cx="483876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Example A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68360" y="1523880"/>
            <a:ext cx="8447040" cy="456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POLAND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– Warsaw Ring Road, Public Transport in Krakow and Lublin, Flood Protection, Broadb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ROMANIA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– Rolling Stock, River Navigation, Multi-modal terminals, Regional Airports, Regionalisation of Water Compan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BULGARIA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– PPP Motorway, River Navig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HUNGARY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– Provincial Urban Transport, 8 Water schem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SLOVAKIA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– Motorways, Water Supply and Treat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MALTA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– Port upgrade, restoration of ancient build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CYPRUS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– Urban Transport in Nicos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73A05B-0674-46FA-98CA-DEE172E22BF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42920" y="549000"/>
            <a:ext cx="5943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ff3300"/>
                </a:solidFill>
                <a:latin typeface="Times New Roman"/>
              </a:rPr>
              <a:t>What is JASPER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95280" y="1267920"/>
            <a:ext cx="842472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JASPERS  Joint Assistance to Support Projects in European Reg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artnership between Commission (DG REGIO), EIB and EB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JASPERS primary Beneficiaries: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the 12 new Member States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Available EU funds for new MS for period 2007-13: EUR 308b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JASPERS  has experience and knowledge to provide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Technical Assistance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to help that beneficiaries submit complete, structured and well prepared applications/studi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B52D8F-A4EB-4086-8FF0-E6354A41B42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42920" y="549000"/>
            <a:ext cx="5943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Why was JASPERS created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50560" y="1267920"/>
            <a:ext cx="871524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-282960"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Incomplete absorption of EU funds during previous funding periods for various reasons , e.g.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Incomplete applications submitted by Member States (MS), causing delays in approval and implementation of project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Delays during implementation also caused by issues not properly identified during the application phas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JASPERS can help the beneficiary countries to increase their absorption of EU funding and use it efficient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The core Technical Assistance teams comprise experienced economists and engineers who will assist MS to ensure submission of high quality applications, (including EIAs, FS, necessary ToRs,…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FA933F-4177-4694-AC57-DDFD4C8B1C8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8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1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" dur="5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755640" y="5084640"/>
            <a:ext cx="7416720" cy="1557360"/>
          </a:xfrm>
          <a:prstGeom prst="rect">
            <a:avLst/>
          </a:prstGeom>
          <a:solidFill>
            <a:srgbClr val="cc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B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C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H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M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S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55640" y="3429000"/>
            <a:ext cx="7416720" cy="1584360"/>
          </a:xfrm>
          <a:prstGeom prst="rect">
            <a:avLst/>
          </a:prstGeom>
          <a:solidFill>
            <a:srgbClr val="cc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E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C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L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P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S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 flipV="1">
            <a:off x="4140360" y="6307920"/>
            <a:ext cx="7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859280" y="1052640"/>
            <a:ext cx="649440" cy="151272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2700000" y="1052640"/>
            <a:ext cx="576360" cy="143964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476360" y="2565360"/>
            <a:ext cx="2808360" cy="576360"/>
          </a:xfrm>
          <a:prstGeom prst="rect">
            <a:avLst/>
          </a:prstGeom>
          <a:solidFill>
            <a:srgbClr val="cc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Trans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859280" y="2565360"/>
            <a:ext cx="2735280" cy="576360"/>
          </a:xfrm>
          <a:prstGeom prst="rect">
            <a:avLst/>
          </a:prstGeom>
          <a:solidFill>
            <a:srgbClr val="cc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Environment  &amp; Energ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2565360"/>
            <a:ext cx="1476360" cy="576360"/>
          </a:xfrm>
          <a:prstGeom prst="rect">
            <a:avLst/>
          </a:prstGeom>
          <a:solidFill>
            <a:srgbClr val="cc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Reg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4076640"/>
            <a:ext cx="755640" cy="360360"/>
          </a:xfrm>
          <a:prstGeom prst="rect">
            <a:avLst/>
          </a:prstGeom>
          <a:solidFill>
            <a:srgbClr val="cc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Nor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5516640"/>
            <a:ext cx="755640" cy="360360"/>
          </a:xfrm>
          <a:prstGeom prst="rect">
            <a:avLst/>
          </a:prstGeom>
          <a:solidFill>
            <a:srgbClr val="cc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Sou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194200" y="549360"/>
            <a:ext cx="365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JASPERS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476360" y="3141720"/>
            <a:ext cx="2806560" cy="3716280"/>
          </a:xfrm>
          <a:prstGeom prst="rect">
            <a:avLst/>
          </a:prstGeom>
          <a:solidFill>
            <a:srgbClr val="cc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R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Air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Urban Tra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859280" y="3141720"/>
            <a:ext cx="2737080" cy="3716280"/>
          </a:xfrm>
          <a:prstGeom prst="rect">
            <a:avLst/>
          </a:prstGeom>
          <a:solidFill>
            <a:srgbClr val="cc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Wa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Waste wa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Solid was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Rehab on l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Restoration of build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Renewable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356000" y="2565360"/>
            <a:ext cx="432000" cy="4292640"/>
          </a:xfrm>
          <a:prstGeom prst="rect">
            <a:avLst/>
          </a:prstGeom>
          <a:solidFill>
            <a:srgbClr val="ccccff">
              <a:alpha val="50000"/>
            </a:srgbClr>
          </a:solidFill>
          <a:ln w="3240">
            <a:solidFill>
              <a:srgbClr val="ffff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Verdana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Verdana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Verdana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Verdana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Verdana"/>
              </a:rPr>
              <a:t>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Verdana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Verdana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Verdana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Verdana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Verdana"/>
              </a:rPr>
              <a:t>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Verdana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Verdana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Verdana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Verdana"/>
              </a:rPr>
              <a:t>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Verdana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1628640"/>
            <a:ext cx="172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Verdana"/>
              </a:rPr>
              <a:t>SECTO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200C17-6142-4AB5-86AA-C93482B29C6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000"/>
                            </p:stCondLst>
                            <p:childTnLst>
                              <p:par>
                                <p:cTn id="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500"/>
                            </p:stCondLst>
                            <p:childTnLst>
                              <p:par>
                                <p:cTn id="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2000"/>
                            </p:stCondLst>
                            <p:childTnLst>
                              <p:par>
                                <p:cTn id="5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2500"/>
                            </p:stCondLst>
                            <p:childTnLst>
                              <p:par>
                                <p:cTn id="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3000"/>
                            </p:stCondLst>
                            <p:childTnLst>
                              <p:par>
                                <p:cTn id="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3500"/>
                            </p:stCondLst>
                            <p:childTnLst>
                              <p:par>
                                <p:cTn id="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4000"/>
                            </p:stCondLst>
                            <p:childTnLst>
                              <p:par>
                                <p:cTn id="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4500"/>
                            </p:stCondLst>
                            <p:childTnLst>
                              <p:par>
                                <p:cTn id="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5000"/>
                            </p:stCondLst>
                            <p:childTnLst>
                              <p:par>
                                <p:cTn id="8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2743200" y="2438280"/>
            <a:ext cx="3581280" cy="1524240"/>
          </a:xfrm>
          <a:prstGeom prst="ellipse">
            <a:avLst/>
          </a:prstGeom>
          <a:solidFill>
            <a:srgbClr val="cc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391920" y="2743200"/>
            <a:ext cx="243000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JASP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Times New Roman"/>
              </a:rPr>
              <a:t>66 professional STAF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828800" y="1219320"/>
            <a:ext cx="1143000" cy="160020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343400" y="1143000"/>
            <a:ext cx="0" cy="129528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5562360" y="1143000"/>
            <a:ext cx="1143000" cy="144792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6360" y="1830240"/>
            <a:ext cx="147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32 exper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+ 10 sup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144792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16 profession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09360" y="1790640"/>
            <a:ext cx="20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5 to 8 profession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419640" y="4508640"/>
            <a:ext cx="2133360" cy="609480"/>
          </a:xfrm>
          <a:prstGeom prst="rect">
            <a:avLst/>
          </a:prstGeom>
          <a:solidFill>
            <a:srgbClr val="cc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LUXEMBOU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5680" y="3962520"/>
            <a:ext cx="0" cy="53316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640" y="5661000"/>
            <a:ext cx="2376360" cy="677880"/>
          </a:xfrm>
          <a:prstGeom prst="rect">
            <a:avLst/>
          </a:prstGeom>
          <a:solidFill>
            <a:srgbClr val="cc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WARSA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Opened Nov 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419640" y="5661000"/>
            <a:ext cx="2214360" cy="655560"/>
          </a:xfrm>
          <a:prstGeom prst="rect">
            <a:avLst/>
          </a:prstGeom>
          <a:solidFill>
            <a:srgbClr val="cc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VIEN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Opened Mar 0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012000" y="5661000"/>
            <a:ext cx="2520720" cy="720720"/>
          </a:xfrm>
          <a:prstGeom prst="rect">
            <a:avLst/>
          </a:prstGeom>
          <a:solidFill>
            <a:srgbClr val="cc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BUCHAR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Opened Mar 0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2268360" y="5084280"/>
            <a:ext cx="1224000" cy="5050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572000" y="5084640"/>
            <a:ext cx="0" cy="57636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508720" y="5084640"/>
            <a:ext cx="792000" cy="57636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838080" y="152280"/>
            <a:ext cx="7620120" cy="978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9C3807-556E-49E7-9EA8-B14354115BA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500"/>
                            </p:stCondLst>
                            <p:childTnLst>
                              <p:par>
                                <p:cTn id="1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3000"/>
                            </p:stCondLst>
                            <p:childTnLst>
                              <p:par>
                                <p:cTn id="1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3500"/>
                            </p:stCondLst>
                            <p:childTnLst>
                              <p:par>
                                <p:cTn id="1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258920" y="549360"/>
            <a:ext cx="5184720" cy="71892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JASPERS  project portfol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24000" y="1268280"/>
            <a:ext cx="8351640" cy="496908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2360" indent="-6516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JASPERS only accepts projects financed by EU Fu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22360" indent="-6516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JASPERS gives priority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22360" indent="-651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22320" indent="-7920">
              <a:spcBef>
                <a:spcPts val="6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major projects (project cost over €25 M for environment projects and over €50 M for transport and other project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22360" indent="-651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22320" indent="-79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rojects covered by the MS Operational Program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22320" indent="-792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22360" indent="-65160"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Horizontal Tasks relating to issues covering more than one project, country or sect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3B8AB9-1C75-427B-8268-08386E5096B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4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1000"/>
                            </p:stCondLst>
                            <p:childTnLst>
                              <p:par>
                                <p:cTn id="14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8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1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4" dur="5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7" dur="500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0" dur="500"/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826920" y="549360"/>
            <a:ext cx="5542200" cy="99036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Basis of Assist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1125360"/>
            <a:ext cx="9144000" cy="489600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lvl="1" marL="653760" indent="-25128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JASPERS assistance is provided free of charge; there is no obligation to use JASPER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119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119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dditional funding may or may not be obtained from EIB/EBRD; projects still qualify for JASPERS assistanc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119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Member States are the owners of the project, not JASPER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JASPERS is only an input to the preparation of applications for EU funding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reparation of a project by JASPERS does not guarantee approval of the project by the Commis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97C575-E877-4305-B2A6-F2FA165DCE2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500"/>
                            </p:stCondLst>
                            <p:childTnLst>
                              <p:par>
                                <p:cTn id="16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1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4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7" dur="5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0" dur="500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3" dur="500"/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971640" y="549360"/>
            <a:ext cx="547344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Managing the relationshi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1125360"/>
            <a:ext cx="8893080" cy="49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he Managing Authority co-ordinates between JASPERS country officers and the line ministr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rojects identified by annual Actions Pla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he Annual Action Plans “formalises” the Projects and Horizontal Tasks where the Managing Authority requires JASPERS assista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63DC31-FF8D-4126-B1DF-A368FC89D89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0" y="1905120"/>
            <a:ext cx="9144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539640" y="1916280"/>
          <a:ext cx="7488360" cy="4092480"/>
        </p:xfrm>
        <a:graphic>
          <a:graphicData uri="http://schemas.openxmlformats.org/drawingml/2006/table">
            <a:tbl>
              <a:tblPr/>
              <a:tblGrid>
                <a:gridCol w="1871640"/>
                <a:gridCol w="1873440"/>
                <a:gridCol w="1871640"/>
                <a:gridCol w="1871640"/>
              </a:tblGrid>
              <a:tr h="78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Count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No. of projec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Count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No. of projec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Roman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2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Slovak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Pola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Sloven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Czech Republi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Cypru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Hunga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Latv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Bulgar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Eston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Mal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Lithuan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2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The total no. of projects is 9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39" name=""/>
          <p:cNvSpPr/>
          <p:nvPr/>
        </p:nvSpPr>
        <p:spPr>
          <a:xfrm>
            <a:off x="1476360" y="549360"/>
            <a:ext cx="4464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JASPERS involvement in 200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FC74A2-9F7A-4924-8758-D10D0EED7CF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500"/>
                            </p:stCondLst>
                            <p:childTnLst>
                              <p:par>
                                <p:cTn id="2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9T13:15:24Z</dcterms:created>
  <dc:creator>DELAGUAR</dc:creator>
  <dc:description/>
  <dc:language>en-US</dc:language>
  <cp:lastModifiedBy>MURPHYJA</cp:lastModifiedBy>
  <dcterms:modified xsi:type="dcterms:W3CDTF">2007-03-13T14:52:58Z</dcterms:modified>
  <cp:revision>56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224236374</vt:r8>
  </property>
  <property fmtid="{D5CDD505-2E9C-101B-9397-08002B2CF9AE}" pid="3" name="_AuthorEmail">
    <vt:lpwstr>Anna.VEZYROGLOU@ec.europa.eu</vt:lpwstr>
  </property>
  <property fmtid="{D5CDD505-2E9C-101B-9397-08002B2CF9AE}" pid="4" name="_AuthorEmailDisplayName">
    <vt:lpwstr>VEZYROGLOU Anna (ELARG)</vt:lpwstr>
  </property>
  <property fmtid="{D5CDD505-2E9C-101B-9397-08002B2CF9AE}" pid="5" name="_EmailSubject">
    <vt:lpwstr>Slides I</vt:lpwstr>
  </property>
  <property fmtid="{D5CDD505-2E9C-101B-9397-08002B2CF9AE}" pid="6" name="_NewReviewCycle">
    <vt:lpwstr/>
  </property>
</Properties>
</file>