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0CFD-4E10-4509-AA0F-A5E52049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2ED-72A4-4C67-AE0E-778FC6FF5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F52-1227-461A-82D9-D641FEB5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CF6F-C9A2-4F7F-8F82-48C4F274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A6D3-305F-40C6-B4C7-1E4F6A4E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9368-8C48-41DF-8EFE-8C610B7D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2B5A-0591-45D2-8014-D9CC091F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57297-EF46-4FD4-9BB9-3D659637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F294-F674-4E07-AB6A-8FA6C4C5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473-AB9B-475A-9C97-03945249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A08C-405F-4B56-B9BC-3E0166AD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FCF-38F9-42B5-BDEF-BB207471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AE2-0315-4AA3-96EA-F82B45A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FBB7-9DB5-4914-A5C0-EFC96E49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C12-3AC8-49EB-9C3F-17865603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8106-723F-4538-9105-17A330678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F9A0-FA5A-44AB-9CFB-E772CAB2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3C61-00A4-4FF5-9158-2E6E5439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926-48A6-44C1-82B1-53C7EED0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9A7-7A24-4DAB-81C7-05E5DF45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C25-4668-4E22-9136-C207733B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511-CDD3-41C7-BB38-0A01F1EB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67C-4C70-4F01-BEC5-8A128D08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C39-5B07-4888-9A39-3EBB445C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13CF5-C026-4F3B-861A-38324A69FEB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7A9C-2F93-43B3-BC6D-BCE02A8D16F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ec.europa.eu/avservices/download/events_download_en.cfm?idphoto=5699&amp;nump=p-012531-00-01&amp;src=1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560"/>
            <a:ext cx="77533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400" spc="-1" strike="noStrike">
                <a:solidFill>
                  <a:srgbClr val="eaeaea"/>
                </a:solidFill>
                <a:latin typeface="Tahoma"/>
              </a:rPr>
              <a:t>The SME Finance Facil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6000" y="3500280"/>
            <a:ext cx="640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 successful co-operation with the IFIs since 1999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258920" y="6093000"/>
            <a:ext cx="254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5300640"/>
            <a:ext cx="7058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</a:t>
            </a: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 advisory group – 15 March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loans: €2 b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Leverage ratio: 1 to 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Financial intermediarie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155 in ten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umber of SMEs reached: 84,0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verage size: €21,000 to €133,00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ginally developed in 1999 for Central and Eastern countries (Phare countrie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ased on the Copenhagen economic criteria set at the Council of June 2003 and aiming at  developing market economy through Phare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nstrument oriented to EU acc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background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 the late 90s, level of financial intermediation was low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Corporate loans profitable and still dominant in lending busi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At bank level: lack of long term fu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obstacles to access to finance for smaller segment of SMEs (micro, start-u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Need to promote market economy and private businesses (employment issu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Economic environmen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42920" y="1989000"/>
            <a:ext cx="78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trengthening the financial institutions (capacity building) and developing a competitive banking s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ducing financial intermediaries to expand and maintain in the long term their lending to SMEs, with a balanced country cover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romoting access to finance for S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66760" y="618012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</a:t>
            </a: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Objectiv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upply side instr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Instrument in favour of financial intermediaries (banks and leasing companies) incorporated in the beneficiary count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inancial package (projec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EU incentives (non repayabl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IFI credit line (long term fund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Leverage effect between EU and IFI Resour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Different types of EU incen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 (cash-flow ana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 calculated on the outstanding loan portfol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ransaction fee calculated on the number of 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Incentives for micro-lo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Loan guarant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Use of the IFI credi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Funding of SMEs: loans, lea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Maximum loan amount: €250,00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Special focus o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SMEs located outside the capital c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Farmers and rural business (Rural sub-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Tahoma"/>
              </a:rPr>
              <a:t>Attempt to develop equity finance (Equity Window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Features of the Facility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IFI responsible for the selection of financial intermediaries and building project (average size €15 mill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ommission responsible for approving projects on a case-by-case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Credit line extended by IFI (repayab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incentives paid by IFI from an interest bearing account held with IF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click to 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Implementation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EU contribution (1999 – 2006)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38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EU incentives earmarked for projects: €288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Performance Fee: €194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800" spc="-1" strike="noStrike">
                <a:solidFill>
                  <a:srgbClr val="ffffff"/>
                </a:solidFill>
                <a:latin typeface="Tahoma"/>
              </a:rPr>
              <a:t>Technical Assistance: €47 mill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Amount of incentives paid to FIs:</a:t>
            </a:r>
            <a:br>
              <a:rPr sz="3200"/>
            </a:b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€143 mill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click to download"/>
          <p:cNvPicPr/>
          <p:nvPr/>
        </p:nvPicPr>
        <p:blipFill>
          <a:blip r:embed="rId1"/>
          <a:stretch/>
        </p:blipFill>
        <p:spPr>
          <a:xfrm>
            <a:off x="7380360" y="260280"/>
            <a:ext cx="1523880" cy="571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1297080" cy="880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166760" y="6180120"/>
            <a:ext cx="25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G Enlarg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1196640"/>
            <a:ext cx="75438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Tahoma"/>
              </a:rPr>
              <a:t>Results 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8:12:59Z</dcterms:created>
  <dc:creator>boutina</dc:creator>
  <dc:description/>
  <dc:language>en-US</dc:language>
  <cp:lastModifiedBy>boutina</cp:lastModifiedBy>
  <dcterms:modified xsi:type="dcterms:W3CDTF">2007-03-15T11:44:17Z</dcterms:modified>
  <cp:revision>6</cp:revision>
  <dc:subject/>
  <dc:title>The SME Finance Facilit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15049110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