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4CBC-B8DE-4429-A31A-F7788883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B46E-1E6C-45B0-8321-13148C46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8CB6-6F47-4261-A74E-370E7634E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6A16-A86B-4732-B67B-88EDDA96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2F90-F415-4CBE-93E2-B56F3A54D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32AE-1DA8-48B9-9619-44E3B4F5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4F18-B13D-4801-B073-C18DB6F2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156B-CE01-4D4B-BAC4-9CE818E0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8053-0BF1-47AF-8045-6F0D8A8E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D5E8-F8A8-4C77-9CE4-B6C08AC3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584D-1561-495D-BE7E-9BB24460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681D-D043-4137-9220-20E55DC2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18F0-6571-4D42-A074-465C14E9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23E8-A753-4E2D-BA4C-E75EFB3B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B45D-B14F-416A-904C-2F14209F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1542-CC68-4A83-8004-1CB17F16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04D0-174D-408A-84E3-1D4A243C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31B8-72E9-4F5C-B626-06DEAB27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8BE0-C523-4DDD-89B8-269529D8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69D1-6CDE-40CA-96DE-BAB7E254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AE90-AE17-4FCC-B497-7FA8DE06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AEA2-714E-44BD-A3AB-E800E8BF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2B8C-657E-453B-B94D-21A31151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14EF-803D-4908-96CF-8B4C4F49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68EF-C036-4BC8-A041-D2755AC1841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4A50-D010-42C0-B9E1-5CD531BAE62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560"/>
            <a:ext cx="77533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aeaea"/>
                </a:solidFill>
                <a:latin typeface="Tahoma"/>
              </a:rPr>
              <a:t>The SME Finance Facil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16000" y="350028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 successful co-operation with the IFIs since 1999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58920" y="6093000"/>
            <a:ext cx="25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5300640"/>
            <a:ext cx="7058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</a:t>
            </a: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 advisory group – 15 March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loans: €2 b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Leverage ratio: 1 to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Financial intermediarie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155 in ten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Number of SMEs reached: 84,0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verage size: €21,000 to €133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ginally developed in 1999 for Central and Eastern countries (Phare countri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Based on the Copenhagen economic criteria set at the Council of June 2003 and aiming at  developing market economy through Phare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ented to EU acc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 the late 90s, level of financial intermediation was low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Corporate loans profitable and still dominant in lending 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At bank level: lack of long term fu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obstacles to access to finance for smaller segment of SMEs (micro, start-up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Need to promote market economy and private businesses (employment issu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Economic environmen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trengthening the financial institutions (capacity building) and developing a competitive banking s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ducing financial intermediaries to expand and maintain in the long term their lending to SMEs, with a balanced country cover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romoting access to finance for S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66760" y="6180120"/>
            <a:ext cx="25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Objectiv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upply side instru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strument in favour of financial intermediaries (banks and leasing companies) incorporated in the beneficiary count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inancial package (projec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EU incentives (non repayab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IFI credit line (long term fund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Leverage effect between EU and IFI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Different types of EU incen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 (cash-flow analy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 calculated on the outstanding loan portfol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ransaction fee calculated on the number of 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Incentives for micro-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Loan guarant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Use of the IFI credit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unding of SMEs: loans, leas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Maximum loan amount: €250,00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focus 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SMEs located outside the capital 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Farmers and rural business (Rural sub-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Attempt to develop equity finance (Equity 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responsible for the selection of financial intermediaries and building project (average size €15 mill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ommission responsible for approving projects on a case-by-case ba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redit line extended by IFI (repayab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incentives paid by IFI from an interest bearing account held with IF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Implementation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contribution (1999 – 2006)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38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EU incentives earmarked for projects: €288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: €194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: €47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incentives paid to FI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14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8:12:59Z</dcterms:created>
  <dc:creator>boutina</dc:creator>
  <dc:description/>
  <dc:language>en-US</dc:language>
  <cp:lastModifiedBy>boutina</cp:lastModifiedBy>
  <dcterms:modified xsi:type="dcterms:W3CDTF">2007-03-15T11:44:17Z</dcterms:modified>
  <cp:revision>6</cp:revision>
  <dc:subject/>
  <dc:title>The SME Finance Faci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15049110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