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627D-53AB-4671-A795-074DFF1AE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A3BD-184C-45BF-9166-696D7934F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3587-C1FE-4A3D-B42D-F73D86428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3324-CA6C-4CCA-A058-96F40B85B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4E0E-B02B-4A21-B3AB-6B9A7A207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WORK CONTAR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ONE OFF CONTRACTS IF NECE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5E7E-48AC-4CB0-9B33-59B9DC4697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4843-E029-4861-A647-DAB0A3E0F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A8392-0C40-43FD-B212-B810876E42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B4B87-8979-471D-8ABC-65335A13B6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F212-AA51-45B3-BCD6-1207C171D8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1E1D-7232-4555-900D-EB8D24CD0C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4308F-193A-40BF-AA19-443FEB481E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0398B-B2D6-4520-BB98-63F0639FBF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E614-F1D2-4D9B-B331-F0E0A2D8AA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7D939-B5E5-4249-823F-69E64402FD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60D3-1F41-4AC1-A306-510ADFFD4F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5452-EE29-4AAC-9BE9-D3335E87D8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1676C-D905-4621-948A-A7E28B2F0B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024A5-AAC5-469A-9F62-9D590AC170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22B55-196E-46A7-8AC6-2208B986E4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0F943-0849-40E4-B120-B41FA3899E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B2E6-4C7E-49C1-B0DB-8B53C885C3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F6EF-5B6D-4D97-8CD0-F162FA82B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0B79D-2925-4BFD-9FB6-2D24A6E4C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2F22-C856-41C7-8771-FE209B53B6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513E-E55A-44B8-93CC-97BC6805EA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A111-8BC2-47B9-A70D-15287267DD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8505-7B54-4B62-8240-072BA9864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5C1A-4863-47EF-9796-1FCBE31325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6B0F-EA5E-4173-ABCF-E8E4DC284408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" name=""/>
          <p:cNvGraphicFramePr/>
          <p:nvPr/>
        </p:nvGraphicFramePr>
        <p:xfrm>
          <a:off x="6477120" y="304920"/>
          <a:ext cx="1981080" cy="80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304920"/>
                    <a:ext cx="198108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74328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8634-81B7-4B72-B08E-F9B73633E4CE}" type="slidenum">
              <a:rPr b="0" lang="en-US" sz="1400" spc="-1" strike="noStrike">
                <a:solidFill>
                  <a:srgbClr val="ffff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572000"/>
            <a:ext cx="86104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6095880"/>
            <a:ext cx="3886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838080" y="1143000"/>
          <a:ext cx="7620120" cy="31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143000"/>
                    <a:ext cx="7620120" cy="31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50920" y="4581000"/>
            <a:ext cx="8642160" cy="15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tion on JASPERS To IFI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ussels – March 1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134136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1916280"/>
          <a:ext cx="7473600" cy="3254040"/>
        </p:xfrm>
        <a:graphic>
          <a:graphicData uri="http://schemas.openxmlformats.org/drawingml/2006/table">
            <a:tbl>
              <a:tblPr/>
              <a:tblGrid>
                <a:gridCol w="2495880"/>
                <a:gridCol w="1259280"/>
                <a:gridCol w="2201760"/>
                <a:gridCol w="151668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Type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Water/Waste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a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olid was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il and 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Urban Tran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er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rownfield Reha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2168F-742E-4D58-82FD-6A317C5F26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19280" y="476280"/>
            <a:ext cx="48387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ample 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1523880"/>
            <a:ext cx="844704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POLAND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Warsaw Ring Road, Public Transport in Krakow and Lublin, Flood Protection, Broad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ROMAN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Rolling Stock, River Navigation, Multi-modal terminals, Regional Airports, Regionalisation of Water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LGAR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PP Motorway, River Navi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HUNGARY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rovincial Urban Transport, 8 Water sche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SLOVAKI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Motorways, Water Supply and Trea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ALTA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– Port upgrade, restoration of ancient buil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CYPRU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– Urban Transport in Nico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A24A9-FF93-4E2A-A939-6E68B6C2BA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Times New Roman"/>
              </a:rPr>
              <a:t>What is JASP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424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 Joint Assistance to Support Projects in European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artnership between Commission (DG REGIO), EIB and EB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primary Beneficiaries: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e 12 new Member States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Available EU funds for new MS for period 2007-13: EUR 308b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JASPERS  has experience and knowledge to provide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echnical Assistance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to help that beneficiaries submit complete, structured and well prepared applications/stud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5B2B-753A-4DF3-BC15-34445106BB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5943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y was JASPERS created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7152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Incomplete absorption of EU funds during previous funding periods for various reasons , e.g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Incomplete applications submitted by Member States (MS), causing delays in approval and implementation of proj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Times New Roman"/>
              </a:rPr>
              <a:t>Delays during implementation also caused by issues not properly identified during the applic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JASPERS can help the beneficiary countries to increase their absorption of EU funding and use it effici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The core Technical Assistance teams comprise experienced economists and engineers who will assist MS to ensure submission of high quality applications, (including EIAs, FS, necessary ToRs,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01E7E-FEDB-4C88-B82C-297E70253B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55640" y="5084640"/>
            <a:ext cx="7416720" cy="1557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H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M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3429000"/>
            <a:ext cx="7416720" cy="1584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C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L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P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140360" y="630792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1052640"/>
            <a:ext cx="649440" cy="1512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00000" y="1052640"/>
            <a:ext cx="576360" cy="14396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565360"/>
            <a:ext cx="2808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59280" y="2565360"/>
            <a:ext cx="273528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nvironment  &amp;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565360"/>
            <a:ext cx="1476360" cy="576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Reg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407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Nor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516640"/>
            <a:ext cx="755640" cy="3603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Sou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94200" y="549360"/>
            <a:ext cx="36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6360" y="3141720"/>
            <a:ext cx="280656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Air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Urban Tr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59280" y="3141720"/>
            <a:ext cx="2737080" cy="37162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Waste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Solid wa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hab on l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storation of buil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Renewable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2565360"/>
            <a:ext cx="432000" cy="4292640"/>
          </a:xfrm>
          <a:prstGeom prst="rect">
            <a:avLst/>
          </a:prstGeom>
          <a:solidFill>
            <a:srgbClr val="ccccff">
              <a:alpha val="50000"/>
            </a:srgbClr>
          </a:solidFill>
          <a:ln w="324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162864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Verdana"/>
              </a:rPr>
              <a:t>S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346FD-FF9A-4DB6-97BC-8598408441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500"/>
                            </p:stCondLst>
                            <p:childTnLst>
                              <p:par>
                                <p:cTn id="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743200" y="2438280"/>
            <a:ext cx="3581280" cy="1524240"/>
          </a:xfrm>
          <a:prstGeom prst="ellipse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391920" y="2743200"/>
            <a:ext cx="24300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JASP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66 professional STA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219320"/>
            <a:ext cx="1143000" cy="16002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1143000"/>
            <a:ext cx="0" cy="129528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5562360" y="1143000"/>
            <a:ext cx="1143000" cy="14479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6360" y="183024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32 exp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+ 10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1447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16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09360" y="1790640"/>
            <a:ext cx="20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5 to 8 professio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508640"/>
            <a:ext cx="2133360" cy="6094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LUXEMBO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3962520"/>
            <a:ext cx="0" cy="53316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5661000"/>
            <a:ext cx="2376360" cy="67788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WARSA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Nov 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19640" y="5661000"/>
            <a:ext cx="2214360" cy="65556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VIEN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2000" y="5661000"/>
            <a:ext cx="2520720" cy="720720"/>
          </a:xfrm>
          <a:prstGeom prst="rect">
            <a:avLst/>
          </a:prstGeom>
          <a:solidFill>
            <a:srgbClr val="cc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BUCHAR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Opened Mar 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268360" y="5084280"/>
            <a:ext cx="1224000" cy="505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5084640"/>
            <a:ext cx="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08720" y="5084640"/>
            <a:ext cx="792000" cy="576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38080" y="152280"/>
            <a:ext cx="7620120" cy="9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27E82-9DDE-4372-BC4A-CC2C14F68B9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58920" y="549360"/>
            <a:ext cx="5184720" cy="7189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 project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1268280"/>
            <a:ext cx="8351640" cy="49690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only accepts projects financed by EU Fu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gives priority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ajor projects (project cost over €25 M for environment projects and over €50 M for transport and other project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covered by the MS Operational Program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22320" indent="-79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2360" indent="-6516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Horizontal Tasks relating to issues covering more than one project, country 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5F7CC-FB65-48A6-A2E3-3A19FBF4B35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7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0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26920" y="549360"/>
            <a:ext cx="5542200" cy="9903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asis of Assis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48960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assistance is provided free of charge; there is no obligation to use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dditional funding may or may not be obtained from EIB/EBRD; projects still qualify for JASPERS assistan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11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ember States are the owners of the project, not JASPER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JASPERS is only an input to the preparation of applications for EU fun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eparation of a project by JASPERS does not guarantee approval of the project by the Commi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4AB6-FC25-4B46-A11E-2026C0AD4A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7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3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71640" y="549360"/>
            <a:ext cx="5473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Managing the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125360"/>
            <a:ext cx="889308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Managing Authority co-ordinates between JASPERS country officers and the line minist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ojects identified by annual Actions Pl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Annual Action Plans “formalises” the Projects and Horizontal Tasks where the Managing Authority requires JASPERS as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89E1-2150-439B-A54C-9D0B9C9343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916280"/>
          <a:ext cx="7488360" cy="4092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1871640"/>
                <a:gridCol w="1871640"/>
              </a:tblGrid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No. of proj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Rom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ak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Po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zech Republ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Cyp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Hung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at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Bulg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st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ithu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he total no. of projects is 9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476360" y="549360"/>
            <a:ext cx="446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JASPERS involvement in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624FF-E3D9-4606-9545-9AFE078390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3:15:24Z</dcterms:created>
  <dc:creator>DELAGUAR</dc:creator>
  <dc:description/>
  <dc:language>en-US</dc:language>
  <cp:lastModifiedBy>MURPHYJA</cp:lastModifiedBy>
  <dcterms:modified xsi:type="dcterms:W3CDTF">2007-03-13T14:52:58Z</dcterms:modified>
  <cp:revision>5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24236374</vt:r8>
  </property>
  <property fmtid="{D5CDD505-2E9C-101B-9397-08002B2CF9AE}" pid="3" name="_AuthorEmail">
    <vt:lpwstr>Anna.VEZYROGLOU@ec.europa.eu</vt:lpwstr>
  </property>
  <property fmtid="{D5CDD505-2E9C-101B-9397-08002B2CF9AE}" pid="4" name="_AuthorEmailDisplayName">
    <vt:lpwstr>VEZYROGLOU Anna (ELARG)</vt:lpwstr>
  </property>
  <property fmtid="{D5CDD505-2E9C-101B-9397-08002B2CF9AE}" pid="5" name="_EmailSubject">
    <vt:lpwstr>Slides I</vt:lpwstr>
  </property>
  <property fmtid="{D5CDD505-2E9C-101B-9397-08002B2CF9AE}" pid="6" name="_NewReviewCycle">
    <vt:lpwstr/>
  </property>
</Properties>
</file>