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0EE-8B84-4043-970E-4573ED8C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550-E73C-4CDE-8E3C-99D79D62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288-D92C-4893-AD3F-ED80B9C9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5E1-29D0-46D3-A67E-071B7726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0229-2AF4-449C-98D1-85E283FC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E5F0-9207-4AB5-84A4-AB4CBA53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F261-2862-4D91-A146-01FFE648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B6FC-BF87-4B58-9924-96578B6D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4D05-FF42-41C1-974F-81CABA6D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1311-4A10-4528-B015-0C3C2EE8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ABAA-5D6E-421A-807A-1F43E59D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DF9-6979-4EBF-A716-41B8CC88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BCC5-3B4E-4C15-A6BE-BDABF6DD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2461-8937-48A2-9851-17DE90B4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AB9E-A5FE-4E5B-89D8-3B8CAD8E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2BF5-E790-4E44-ACCB-A398FCD4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767A-1625-47FB-83CC-F476A606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C29B-7260-4455-A049-4EE5588C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A37-CB0F-456C-96B8-343CC74A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150-59F1-49D1-AEB9-63219435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EFF-91DC-4634-A730-CC98E7C4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5C89-DF2F-46A3-A75D-1EA6AFF8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E00-F700-42CF-8CB6-D9461E36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F24-5DBD-425F-ACAB-2A2FC796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7EAF-C95D-4853-A2D3-7203747D6B5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27B4-027A-4EFD-AF1B-3D50C075C82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7533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The SME Finance Faci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 successful co-operation with the IFIs since 199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5300640"/>
            <a:ext cx="7058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</a:t>
            </a: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 advisory group – 15 March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loans: €2 b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Leverage ratio: 1 to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Financial intermediarie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155 in te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umber of SMEs reached: 84,0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verage size: €21,000 to €133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ginally developed in 1999 for Central and Eastern countries (Phare countr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ased on the Copenhagen economic criteria set at the Council of June 2003 and aiming at  developing market economy through Phare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ented to EU acc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 the late 90s, level of financial intermediation was low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Corporate loans profitable and still dominant in lending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At bank level: lack of long term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obstacles to access to finance for smaller segment of SMEs (micro, start-u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Need to promote market economy and private businesses (employment iss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Economic environ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trengthening the financial institutions (capacity building) and developing a competitive banking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ducing financial intermediaries to expand and maintain in the long term their lending to SMEs, with a balanced country cover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romoting access to finance for S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66760" y="6180120"/>
            <a:ext cx="25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Objectiv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upply side instr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strument in favour of financial intermediaries (banks and leasing companies) incorporated in the beneficiary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inancial package (projec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EU incentives (non repay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IFI credit line (long term fund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Leverage effect between EU and IFI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Different types of EU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 (cash-flow ana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 calculated on the outstanding loan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ransaction fee calculated on the number of 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Incentives for micro-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Loan guaran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Use of the IFI credi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unding of SMEs: loans, leas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Maximum loan amount: €250,0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focus 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SMEs located outside the capital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Farmers and rural business (Rural sub-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Attempt to develop equity finance (Equity 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responsible for the selection of financial intermediaries and building project (average size €15 mi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ommission responsible for approving projects on a case-by-case b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redit line extended by IFI (repay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incentives paid by IFI from an interest bearing account held with IF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Implementat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contribution (1999 – 2006)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38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EU incentives earmarked for projects: €288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: €194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: €47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incentives paid to FI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14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12:59Z</dcterms:created>
  <dc:creator>boutina</dc:creator>
  <dc:description/>
  <dc:language>en-US</dc:language>
  <cp:lastModifiedBy>boutina</cp:lastModifiedBy>
  <dcterms:modified xsi:type="dcterms:W3CDTF">2007-03-15T11:44:17Z</dcterms:modified>
  <cp:revision>6</cp:revision>
  <dc:subject/>
  <dc:title>The SME Finance Fac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5049110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