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2EB-EF9B-422E-B571-BAF71A76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720A-5FFA-4D6C-B08C-100C4A10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241-04B4-43CA-9C5D-A5453C78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9459-E8AE-4926-8148-873C20AF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8BC7-43B3-40F9-8F6E-04364560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BCAD-DF9B-4419-8AC9-3595478B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F268-D3E7-4F97-B580-191E10E4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D783-D511-4F07-A2FD-C81C24C8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8875-7788-4551-9EEE-B3A3C8E0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B98C-DFEE-45A8-AAA8-EC758227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9250-A99F-4CE4-99AC-4BDAED78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30CE-D954-4AB0-9621-6DE16FF9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D71F-9C69-4B60-9F82-FE56FC72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8F07-D04D-4226-9FA8-32AA8938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4ED0-ABFC-4844-BE17-0F5897FA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A6A7-4BB4-48FC-84C6-BC83A50F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0E49-97C0-46B9-B1C7-089B55E1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C198-14EB-4908-86E4-09BC78F6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A05E-30D3-41FF-8E12-C764808D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09C-691C-451F-9A48-01E2DECF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763-C850-4790-A5D9-817DAB96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14D-A5B7-4A01-ADBE-017FE971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4F3-1F4F-4CD9-B453-5480C34E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C67-89CA-4383-9086-4B21F600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A4B8-C022-45BA-9924-A051017C11B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6F8C-AB21-4F44-9902-E1099D3ADF9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7533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aeaea"/>
                </a:solidFill>
                <a:latin typeface="Tahoma"/>
              </a:rPr>
              <a:t>The SME Finance Facil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3500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 successful co-operation with the IFIs since 1999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6093000"/>
            <a:ext cx="25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5300640"/>
            <a:ext cx="7058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</a:t>
            </a: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 advisory group – 15 March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loans: €2 b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Leverage ratio: 1 to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Financial intermediarie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155 in te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umber of SMEs reached: 84,0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verage size: €21,000 to €133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ginally developed in 1999 for Central and Eastern countries (Phare countri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ased on the Copenhagen economic criteria set at the Council of June 2003 and aiming at  developing market economy through Phare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ented to EU acc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 the late 90s, level of financial intermediation was low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Corporate loans profitable and still dominant in lending 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At bank level: lack of long term 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obstacles to access to finance for smaller segment of SMEs (micro, start-u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Need to promote market economy and private businesses (employment issu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Economic environ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trengthening the financial institutions (capacity building) and developing a competitive banking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ducing financial intermediaries to expand and maintain in the long term their lending to SMEs, with a balanced country cover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romoting access to finance for S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66760" y="6180120"/>
            <a:ext cx="25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Objectiv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upply side instr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strument in favour of financial intermediaries (banks and leasing companies) incorporated in the beneficiary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inancial package (projec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EU incentives (non repay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IFI credit line (long term fund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Leverage effect between EU and IFI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Different types of EU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 (cash-flow ana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 calculated on the outstanding loan portfo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ransaction fee calculated on the number of 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Incentives for micro-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Loan guaran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Use of the IFI credi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unding of SMEs: loans, leas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Maximum loan amount: €250,0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focus 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SMEs located outside the capital 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Farmers and rural business (Rural sub-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Attempt to develop equity finance (Equity 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responsible for the selection of financial intermediaries and building project (average size €15 mil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ommission responsible for approving projects on a case-by-case ba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redit line extended by IFI (repayab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incentives paid by IFI from an interest bearing account held with IF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Implementat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contribution (1999 – 2006)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38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EU incentives earmarked for projects: €288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: €194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: €47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incentives paid to FI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14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12:59Z</dcterms:created>
  <dc:creator>boutina</dc:creator>
  <dc:description/>
  <dc:language>en-US</dc:language>
  <cp:lastModifiedBy>boutina</cp:lastModifiedBy>
  <dcterms:modified xsi:type="dcterms:W3CDTF">2007-03-15T11:44:17Z</dcterms:modified>
  <cp:revision>6</cp:revision>
  <dc:subject/>
  <dc:title>The SME Finance Fac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15049110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