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3"/>
          </p:nvPr>
        </p:nvSpPr>
        <p:spPr>
          <a:xfrm>
            <a:off x="3809880" y="0"/>
            <a:ext cx="2895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863280" y="76176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040" y="4723920"/>
            <a:ext cx="48769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4"/>
          </p:nvPr>
        </p:nvSpPr>
        <p:spPr>
          <a:xfrm>
            <a:off x="-36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5"/>
          </p:nvPr>
        </p:nvSpPr>
        <p:spPr>
          <a:xfrm>
            <a:off x="3809880" y="9448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9B5C1-6495-4603-A37D-73D2C80C69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809880" y="9448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354EA-A911-4186-9C47-4A070E8DD5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-36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-36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809880" y="0"/>
            <a:ext cx="2895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809880" y="9448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95279-6BB8-41C8-8EF9-BAD03540C0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-36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-36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809880" y="0"/>
            <a:ext cx="2895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809880" y="9448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9EBD5-65BC-47F1-BD95-B5563B1F1F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-36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-36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809880" y="0"/>
            <a:ext cx="2895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3809880" y="9448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71A94-24A8-4F8F-967A-A969544505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-36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-36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809880" y="0"/>
            <a:ext cx="2895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WORK CONTAR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ONE OFF CONTRACTS IF NECESS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86EDA-8E7E-419D-8CE5-E892FEF7FD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08985-9C2B-4E9B-92A2-9D48DDE9F6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AA519-43EF-460E-A0D0-FEA013AE76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5403A-5609-4F48-89A6-0D3543EBA9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2FBD9-8DEB-474B-B01C-569CCC497BC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F5A42-EE31-4FB3-B35A-29A5CF7D1A6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2D04B-D0BB-4965-B74C-EDFA1FDD57B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8B021-0B8D-4650-9C3C-0A58B34972C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ECB3C-2272-46D7-B2C0-9DC8A77AD1B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B4D0F-F7D6-49FD-97CB-6AFAF30657B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4A330-92D0-44FE-A5FA-A1C4BE29E1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061C7-C352-4230-AB59-CDE1EE9520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4BB49-B431-4499-A516-7207F8A8F16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2F3A1-DA52-440C-9539-E147656B3A0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6FD24-686D-4F94-8066-2562A98B56D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ABDFA-D54D-4C0B-B3F2-AFD3392668E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8DC27-A340-45EF-BE76-DDA13561FA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1F7E0-F39A-4C95-9346-3AB2ADE244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400C0-369D-4C06-A43F-D437F2760B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CF43B-8EA8-4CF7-BFCC-FF220F62E0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06F25-47D2-43D6-81F9-3256A18451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AB372-3D9E-47EE-B4C1-B34A723839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6A771-0951-4093-A5C0-80C06EF0C2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0B586-6F4C-40AF-88FB-4DF6B96F4C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74328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C9D34-5645-4E59-9517-B8F0996770C9}" type="slidenum">
              <a:rPr b="0" lang="en-US" sz="1400" spc="-1" strike="noStrike">
                <a:solidFill>
                  <a:srgbClr val="ffff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6477120" y="304920"/>
          <a:ext cx="1981080" cy="807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77120" y="304920"/>
                    <a:ext cx="1981080" cy="80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74328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046BE-3646-4402-863A-A488961C013A}" type="slidenum">
              <a:rPr b="0" lang="en-US" sz="1400" spc="-1" strike="noStrike">
                <a:solidFill>
                  <a:srgbClr val="ffff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4572000"/>
            <a:ext cx="86104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6095880"/>
            <a:ext cx="38862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38080" y="152280"/>
            <a:ext cx="7620120" cy="978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" name=""/>
          <p:cNvGraphicFramePr/>
          <p:nvPr/>
        </p:nvGraphicFramePr>
        <p:xfrm>
          <a:off x="838080" y="1143000"/>
          <a:ext cx="7620120" cy="310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143000"/>
                    <a:ext cx="7620120" cy="31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250920" y="4581000"/>
            <a:ext cx="8642160" cy="15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ation on JASPERS To IFI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ussels – March 1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476360" y="549360"/>
            <a:ext cx="446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JASPERS involvement in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1341360"/>
            <a:ext cx="91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539640" y="1916280"/>
          <a:ext cx="7473600" cy="3254040"/>
        </p:xfrm>
        <a:graphic>
          <a:graphicData uri="http://schemas.openxmlformats.org/drawingml/2006/table">
            <a:tbl>
              <a:tblPr/>
              <a:tblGrid>
                <a:gridCol w="2495880"/>
                <a:gridCol w="1259280"/>
                <a:gridCol w="2201760"/>
                <a:gridCol w="151668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Type of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proj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No. of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proj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Type of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proj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No. of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proj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Water/Wastewa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a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olid was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o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Oil and g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Urban Tran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nerg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or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Brownfield Reha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The total no. of projects is 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E9326-EDAB-40C1-BAC8-8CA4751177C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619280" y="476280"/>
            <a:ext cx="48387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Example 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1523880"/>
            <a:ext cx="8447040" cy="45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POLAND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– Warsaw Ring Road, Public Transport in Krakow and Lublin, Flood Protection, Broadb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ROMANIA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– Rolling Stock, River Navigation, Multi-modal terminals, Regional Airports, Regionalisation of Water Compan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BULGARIA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– PPP Motorway, River Navig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HUNGARY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– Provincial Urban Transport, 8 Water schem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LOVAKIA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– Motorways, Water Supply and Trea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MALTA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– Port upgrade, restoration of ancient build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YPRUS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– Urban Transport in Nico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F9741-4351-4439-9B3A-51D6583F1A3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920" y="549000"/>
            <a:ext cx="5943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3300"/>
                </a:solidFill>
                <a:latin typeface="Times New Roman"/>
              </a:rPr>
              <a:t>What is JASPE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42472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S  Joint Assistance to Support Projects in European Reg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artnership between Commission (DG REGIO), EIB and EB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S primary Beneficiaries: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he 12 new Member States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Available EU funds for new MS for period 2007-13: EUR 308b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JASPERS  has experience and knowledge to provid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echnical Assistance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o help that beneficiaries submit complete, structured and well prepared applications/studi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99D41-84BC-46D4-8F3C-52952DB5E78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42920" y="549000"/>
            <a:ext cx="5943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hy was JASPERS created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7152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Incomplete absorption of EU funds during previous funding periods for various reasons , e.g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Incomplete applications submitted by Member States (MS), causing delays in approval and implementation of project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Delays during implementation also caused by issues not properly identified during the application pha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JASPERS can help the beneficiary countries to increase their absorption of EU funding and use it efficient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core Technical Assistance teams comprise experienced economists and engineers who will assist MS to ensure submission of high quality applications, (including EIAs, FS, necessary ToRs,…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15A85-3C3C-4C60-B672-FE11AB0E74F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55640" y="5084640"/>
            <a:ext cx="7416720" cy="15573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B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H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M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5640" y="3429000"/>
            <a:ext cx="7416720" cy="15843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C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L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4140360" y="6307920"/>
            <a:ext cx="7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59280" y="1052640"/>
            <a:ext cx="649440" cy="151272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700000" y="1052640"/>
            <a:ext cx="576360" cy="143964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76360" y="2565360"/>
            <a:ext cx="2808360" cy="5763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rans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59280" y="2565360"/>
            <a:ext cx="2735280" cy="5763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Environment  &amp; Ener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565360"/>
            <a:ext cx="1476360" cy="5763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Reg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076640"/>
            <a:ext cx="755640" cy="3603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Nor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5516640"/>
            <a:ext cx="755640" cy="3603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Sou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94200" y="549360"/>
            <a:ext cx="36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JASPERS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476360" y="3141720"/>
            <a:ext cx="2806560" cy="371628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R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Air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Urban Tr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59280" y="3141720"/>
            <a:ext cx="2737080" cy="371628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W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Waste w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Solid wa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Rehab on l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Restoration of build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Renewable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2565360"/>
            <a:ext cx="432000" cy="4292640"/>
          </a:xfrm>
          <a:prstGeom prst="rect">
            <a:avLst/>
          </a:prstGeom>
          <a:solidFill>
            <a:srgbClr val="ccccff">
              <a:alpha val="50000"/>
            </a:srgbClr>
          </a:solidFill>
          <a:ln w="324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1628640"/>
            <a:ext cx="17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SECT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D6E99-2A2B-4409-9912-AE9FBA0E625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5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50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400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450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0"/>
                            </p:stCondLst>
                            <p:childTnLst>
                              <p:par>
                                <p:cTn id="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743200" y="2438280"/>
            <a:ext cx="3581280" cy="1524240"/>
          </a:xfrm>
          <a:prstGeom prst="ellipse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91920" y="2743200"/>
            <a:ext cx="243000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JAS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66 professional STA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828800" y="1219320"/>
            <a:ext cx="1143000" cy="160020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343400" y="1143000"/>
            <a:ext cx="0" cy="129528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5562360" y="1143000"/>
            <a:ext cx="1143000" cy="144792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6360" y="1830240"/>
            <a:ext cx="147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32 expe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+ 10 sup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14479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16 profession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09360" y="1790640"/>
            <a:ext cx="20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5 to 8 profession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19640" y="4508640"/>
            <a:ext cx="2133360" cy="60948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LUXEMBOU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5680" y="3962520"/>
            <a:ext cx="0" cy="53316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640" y="5661000"/>
            <a:ext cx="2376360" cy="67788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ARSA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Opened Nov 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19640" y="5661000"/>
            <a:ext cx="2214360" cy="6555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VIEN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Opened Mar 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12000" y="5661000"/>
            <a:ext cx="2520720" cy="72072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BUCHA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Opened Mar 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268360" y="5084280"/>
            <a:ext cx="1224000" cy="5050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5084640"/>
            <a:ext cx="0" cy="576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508720" y="5084640"/>
            <a:ext cx="792000" cy="576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838080" y="152280"/>
            <a:ext cx="7620120" cy="978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166D3-E2DE-4D1C-A9B6-51BE568F3AD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500"/>
                            </p:stCondLst>
                            <p:childTnLst>
                              <p:par>
                                <p:cTn id="1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258920" y="549360"/>
            <a:ext cx="5184720" cy="71892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JASPERS  project portfol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4000" y="1268280"/>
            <a:ext cx="8351640" cy="49690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2360" indent="-651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S only accepts projects financed by EU Fu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2360" indent="-651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S gives priority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2360" indent="-65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22320" indent="-7920"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jor projects (project cost over €25 M for environment projects and over €50 M for transport and other project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2360" indent="-65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22320" indent="-7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jects covered by the MS Operational Program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22320" indent="-79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2360" indent="-6516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orizontal Tasks relating to issues covering more than one project, country or sec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BC6F1-91E4-412C-A1C9-23358C1B18E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8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1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4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7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826920" y="549360"/>
            <a:ext cx="5542200" cy="99036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Basis of Assi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1125360"/>
            <a:ext cx="9144000" cy="48960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lvl="1" marL="653760" indent="-25128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S assistance is provided free of charge; there is no obligation to use JASPER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11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11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dditional funding may or may not be obtained from EIB/EBRD; projects still qualify for JASPERS assistanc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11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ember States are the owners of the project, not JASPER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S is only an input to the preparation of applications for EU fund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eparation of a project by JASPERS does not guarantee approval of the project by the Commi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E037C-1F62-4E3E-B678-14222821E30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4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7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0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3" dur="5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971640" y="549360"/>
            <a:ext cx="54734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Managing the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125360"/>
            <a:ext cx="8893080" cy="49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Managing Authority co-ordinates between JASPERS country officers and the line ministr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jects identified by annual Actions Pla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Annual Action Plans “formalises” the Projects and Horizontal Tasks where the Managing Authority requires JASPERS assist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D4066-1BB4-4E1C-9B1C-4A897E6F166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1905120"/>
            <a:ext cx="91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539640" y="1916280"/>
          <a:ext cx="7488360" cy="4092480"/>
        </p:xfrm>
        <a:graphic>
          <a:graphicData uri="http://schemas.openxmlformats.org/drawingml/2006/table">
            <a:tbl>
              <a:tblPr/>
              <a:tblGrid>
                <a:gridCol w="1871640"/>
                <a:gridCol w="1873440"/>
                <a:gridCol w="1871640"/>
                <a:gridCol w="1871640"/>
              </a:tblGrid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Count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No. of proj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Count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No. of proj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oma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lovak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ol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love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zech Republ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ypr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Hung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Latv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Bulgar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sto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Mal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Lithua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The total no. of projects is 9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1476360" y="549360"/>
            <a:ext cx="446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JASPERS involvement in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7179F-EF25-47D7-8F48-C7F84EB2E57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9T13:15:24Z</dcterms:created>
  <dc:creator>DELAGUAR</dc:creator>
  <dc:description/>
  <dc:language>en-US</dc:language>
  <cp:lastModifiedBy>MURPHYJA</cp:lastModifiedBy>
  <dcterms:modified xsi:type="dcterms:W3CDTF">2007-03-13T14:52:58Z</dcterms:modified>
  <cp:revision>56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24236374</vt:r8>
  </property>
  <property fmtid="{D5CDD505-2E9C-101B-9397-08002B2CF9AE}" pid="3" name="_AuthorEmail">
    <vt:lpwstr>Anna.VEZYROGLOU@ec.europa.eu</vt:lpwstr>
  </property>
  <property fmtid="{D5CDD505-2E9C-101B-9397-08002B2CF9AE}" pid="4" name="_AuthorEmailDisplayName">
    <vt:lpwstr>VEZYROGLOU Anna (ELARG)</vt:lpwstr>
  </property>
  <property fmtid="{D5CDD505-2E9C-101B-9397-08002B2CF9AE}" pid="5" name="_EmailSubject">
    <vt:lpwstr>Slides I</vt:lpwstr>
  </property>
  <property fmtid="{D5CDD505-2E9C-101B-9397-08002B2CF9AE}" pid="6" name="_NewReviewCycle">
    <vt:lpwstr/>
  </property>
</Properties>
</file>