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15AF-79FA-4192-9D8F-015EE25DF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266B-E1F7-417E-B3BB-EE3DA0A2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B6EA-4386-4B47-AA51-F4788073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AFDC-DB7B-4994-900F-7BD91BE57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3DBFC-5451-47F4-83E9-1327B26FB0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518A8-6208-47D7-BE9A-CCC57B24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5EE57-82F0-4C1B-B78C-908F461A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28363-2767-424B-9278-39F442C2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A31D7-EAF7-4506-B7AF-9DB1F347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44BBC-4410-4CE8-897E-5296660F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5C73A-79F9-4107-9257-18AFA0A7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5D9BE-0DB0-45A0-9A8E-59E81D1E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A55E0-0803-476B-B8B0-BD7A8B38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49957-6A0A-4E12-A40B-1C9032CD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DDBA3-3820-4174-A6B0-4C590E0F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131B7-1A6E-442C-A522-936A5703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CB1AD-7103-467E-8F2D-7CE0CA6080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4D1F-5B9F-4B05-AEDF-4E191FB0B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83BE-3FB5-4DE1-9137-ABA9EAF9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6119-7678-4316-AC49-466F0326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A6BE-A48E-4A07-901A-62DF1F50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676A-D9E4-43C8-A7FC-F93B9FB1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B45D-C666-4326-946C-541A1F15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9F98-3696-4CCD-9580-457BA26B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EE2C-0E48-4B8B-989B-7F391F10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B345-6ECB-4B45-8B66-D3AB8046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A9CD-CD1A-4337-8596-E6FCDD04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02EA-9A83-4986-82BD-0938582F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B73A-84B8-48AF-9DFF-1FBD5FE7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B0F9-423D-4AE1-AA3F-479926E4CA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30A34-99DE-4013-986A-CE964D0E64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8D61E-42E5-4071-932F-BBAA6791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547BB-1392-499C-99DB-3B3F0329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5897-B31A-4E85-90DB-3790D850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C014D-F8E5-4177-9E1B-3844F477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37D8F-7D26-4A15-8D99-D1E792B2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1205D-D96F-4A86-A17B-873E6DEC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6F2FD-B799-4B45-8CA0-E90FC31E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31384-5B8C-434D-AF96-4ABC2C6C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A2959-D1B0-45D3-A6AE-E0F12A0E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8BC35-B1D1-4A32-9DEE-72918F7E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94697-7C39-4352-9975-64DE8D01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958B0-FE37-4FAA-B146-B2B18D3DF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2C37-D299-472E-8EBD-10C676C2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2B27-0353-4C0E-93C4-3831A5E1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16FD-BBBC-486C-8FB8-0C4A74A6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AEEB-7AC5-473A-B929-1E6FE067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CE3C-54F6-42FC-BE41-363E6544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5998-E5E6-4EA3-A2F1-2123C3CCB0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40EB-7A1B-4BA9-B254-2E39FFB1DC8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C0DC-AAAB-4B8B-B032-8F5FD8D15F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9FEE-AD2D-4811-98EA-6855D726F1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56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03  March 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B177-E78F-4311-BAFE-EAFF926EF1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pretation / Transl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Financial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FE15-55A4-4715-9B8D-51C847181A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74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ranslation vs. interpreta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hare of work between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32BD-9A51-42C8-AF6C-842536DFB3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2163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ver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F731-A4CF-4370-9B09-98BA483542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to present, what can attract the press and the ques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star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D29C-4BD9-4CB2-82D4-6B51FA3E2B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The country - history, culture,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Language, Behaviour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Political parties - Parlia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Gouvern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Just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Medi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Socialsecur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D476-7005-4571-869B-A69925C6F0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716360" y="430056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040440" y="1898640"/>
            <a:ext cx="29606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E19B-D89C-40A8-A516-063F159C9C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A614-C10D-4351-8A32-2C87423357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, local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and competition with other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D04E-9A60-4B23-AA98-1A328D1E9A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ob security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ork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8D5-E8DC-40C9-A625-A09497581A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6E98-CFC5-4B20-B8FE-5994B23993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tatus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E9FA-39F1-455F-B933-E9BB3757B2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81000" y="2351160"/>
            <a:ext cx="7586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changed since the fiche was drafted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.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6EAD-71A7-4C29-BA55-ABCB9B2FEE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As specified in the Twinning contract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onthly Report / Technical Progress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400"/>
            </a:b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departme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ased on an activity pla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67DA-762E-43B5-ACC5-93A4B8CC78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691320" y="2637000"/>
            <a:ext cx="186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B878-3AD5-49DF-8437-40EAF22114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beneficial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86C0-9AF0-415B-8DFF-4AA188C385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up of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751A-E5AD-491C-B3B7-D0A7FE4FE7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til whe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-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98B6-7318-4212-94D5-826AD3EF52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5220-77D7-4EE1-852D-C11B6E6ED2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93680" y="2857320"/>
            <a:ext cx="51847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 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catalytic agent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 – absorption capacity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1E95-78AA-4454-8701-F054909849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6184800" y="2997360"/>
            <a:ext cx="2357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6520" y="220500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objectives, terms of reference and agenda of the       missions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expert 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evaluate the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ssion reports of the experts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35EE-41DC-461B-B34A-ACEBC3D998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5899320" y="2421000"/>
            <a:ext cx="298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4CC7-F069-4FF2-8857-7C6C0AC0AB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FA39-01B1-491D-B401-C3DD3EE6A7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E878-A89D-40AE-92E6-281D338707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– communic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 as well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3524-4C82-4F24-BB54-FFBADC4B22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17D1-788E-47A7-B4F8-5A5357280B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D251-83F5-479F-9732-5CD974C452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2786040" cy="302904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6012000" y="2174760"/>
            <a:ext cx="2447640" cy="4657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365040" y="2565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old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utput ori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evelop plan B’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7A5A-4681-4D55-9D64-180A7A35CD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behaviour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t, intercultural skills, enthusiasm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5B78-AA26-4F47-97BE-646C25D458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929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/achievemen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D60-D40C-4F5F-BA8B-E02549EAF4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457960" y="234936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Networking and follow up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possi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1E23-5746-4E4E-B6F5-542E34AE60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932360" y="458136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meaningful activ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huge professional and life experi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iplomatic and intercultural 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national Manage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hard work 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26FE-076C-4284-9FFD-03CF909612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05BC-36AC-42AA-BF7B-8C72FEDFEB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23E8-D60B-493F-9D84-4E19E12B55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559A-DA97-4329-84C3-955ECE187F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very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tate Secretary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industry, associations, NGOs. 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798C-2746-46C1-8F85-BFC0684C4E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928F-9E60-4FB0-B675-990287F6F7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4148-D5EC-48DC-BC21-134666EC89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176720" cy="254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98600" y="364500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019-0734-486E-999F-8D449EBA32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ANTUCCIONE Lucia (DEVCO)</cp:lastModifiedBy>
  <cp:lastPrinted>2012-07-17T17:07:43Z</cp:lastPrinted>
  <dcterms:modified xsi:type="dcterms:W3CDTF">2016-02-29T12:32:31Z</dcterms:modified>
  <cp:revision>260</cp:revision>
  <dc:subject/>
  <dc:title>PowerPoint Presentation</dc:title>
</cp:coreProperties>
</file>