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FEB5-3C7C-4A21-93A3-09407A7345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C578-2984-425D-BFCA-BC878811726F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291C-3D28-4E88-BC7E-632A238DDF3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13F5-D9A0-4FC7-A23A-53851C8189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F2BA-FC11-4D55-8B3E-2AD4ED9FA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E366-0183-4032-88A3-8864642E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2624-DD92-433E-A816-D56BE20CB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F7F0-79F6-4E00-A78C-CCD238772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FDD37-1EDD-4840-9526-583EB43FF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9D21-E57D-47A4-B0C0-14E707F3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8478-58C6-498C-900E-B25E3494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92EBD-3F64-4204-8461-D5745700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D19CD-139B-4D6B-8D1B-E3EEE904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1170-53EF-4B73-A5C2-12ED7B5F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0396-D804-4FFE-A95B-224CAAA6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C6EE-662F-4719-8BA3-AABB85E8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E18F-EF53-4957-A2B1-D25DC6DE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FB81-AE4D-4510-93E2-FF0F4168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F0FC-9C87-45A7-A500-44784763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0D000-78EC-4FD8-883A-50F0F7CF6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7AFF-36CA-4EB7-954C-C9EF3CA29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E019-B960-414D-9F1A-DDB22C44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03AD-A8C3-4C1B-9AEB-F618D6A3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D3E6-AAF5-4904-AAE5-9C83BB28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289A-0EDF-424E-9611-F441E354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D36D-A194-45D7-8382-01270B05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DD08-1997-481D-B8CF-76201D07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FF08-0FF4-4523-9BBF-62B122F0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B886-3DF9-465C-BBDB-0825D7B0462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67DE-A6DD-4352-B32F-B0B76542AA34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7640" y="1989000"/>
            <a:ext cx="893124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60</a:t>
            </a:r>
            <a:r>
              <a:rPr b="1" lang="en-GB" sz="2800" spc="-1" strike="noStrike" baseline="30000">
                <a:solidFill>
                  <a:srgbClr val="ff6600"/>
                </a:solidFill>
                <a:latin typeface="Verdana"/>
              </a:rPr>
              <a:t>TH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 RESIDENT TWINNING ADVISERS (RTA) TRAINING AND 7</a:t>
            </a:r>
            <a:r>
              <a:rPr b="1" lang="en-GB" sz="2800" spc="-1" strike="noStrike" baseline="30000">
                <a:solidFill>
                  <a:srgbClr val="ff6600"/>
                </a:solidFill>
                <a:latin typeface="Verdana"/>
              </a:rPr>
              <a:t>TH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 JOINT TRAINING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826920" y="4662360"/>
            <a:ext cx="1441440" cy="1430640"/>
          </a:xfrm>
          <a:prstGeom prst="rect">
            <a:avLst/>
          </a:prstGeom>
          <a:ln w="0">
            <a:noFill/>
          </a:ln>
        </p:spPr>
      </p:pic>
      <p:sp>
        <p:nvSpPr>
          <p:cNvPr id="97" name="TextBox 1"/>
          <p:cNvSpPr/>
          <p:nvPr/>
        </p:nvSpPr>
        <p:spPr>
          <a:xfrm>
            <a:off x="3635280" y="5016600"/>
            <a:ext cx="5326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Claus LECH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Team Leader Twinn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Unit C3 – Institution Building, TAIEX, Twinning</a:t>
            </a:r>
            <a:br>
              <a:rPr sz="1600"/>
            </a:b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DG Neighbourhood and Enlargement Negotiation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8" name="Picture 6" descr="C:\Users\banesan\Desktop\Footer Box NEAR.jpg"/>
          <p:cNvPicPr/>
          <p:nvPr/>
        </p:nvPicPr>
        <p:blipFill>
          <a:blip r:embed="rId2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9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D325-D7E5-4C79-B60C-DBF266CC01CD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2627280" y="3573360"/>
            <a:ext cx="45370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  <a:ea typeface="Arial"/>
              </a:rPr>
              <a:t>Brussels, 30/11/2017 – 01/12/2017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2060"/>
                </a:solidFill>
                <a:latin typeface="Verdana"/>
                <a:ea typeface="Arial"/>
              </a:rPr>
              <a:t>Centre Albert Borschette (CCAB), Rue Froissart, 36 –Brussels, Room 0.B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0" descr=""/>
          <p:cNvPicPr/>
          <p:nvPr/>
        </p:nvPicPr>
        <p:blipFill>
          <a:blip r:embed="rId1"/>
          <a:stretch/>
        </p:blipFill>
        <p:spPr>
          <a:xfrm>
            <a:off x="487440" y="1609560"/>
            <a:ext cx="8169120" cy="51152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27280" y="1484280"/>
            <a:ext cx="338472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OVERVIEW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295280" y="3500280"/>
            <a:ext cx="655344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. Welcome Not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295280" y="4241880"/>
            <a:ext cx="6553440" cy="533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lvl="1" marL="59436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I. What's new in IPA, ENI East and ENI South regions – recent decision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305000" y="4941720"/>
            <a:ext cx="655308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        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   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II. Overview of the programm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3486240" y="2193840"/>
            <a:ext cx="1512720" cy="1158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C:\Users\banesan\Desktop\Footer Box NEAR.jpg"/>
          <p:cNvPicPr/>
          <p:nvPr/>
        </p:nvPicPr>
        <p:blipFill>
          <a:blip r:embed="rId3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10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208B-AE36-4E2A-B286-E323DF628620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285920" y="5616720"/>
            <a:ext cx="6553080" cy="533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V. Some key messages before we star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1268280"/>
            <a:ext cx="8496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Arial Black"/>
                <a:ea typeface="MS PGothic"/>
              </a:rPr>
              <a:t>THE TWINNING TEAM: WHO DOES WHAT</a:t>
            </a:r>
            <a:br>
              <a:rPr sz="1800"/>
            </a:b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00000" y="1866960"/>
          <a:ext cx="5113440" cy="1735200"/>
        </p:xfrm>
        <a:graphic>
          <a:graphicData uri="http://schemas.openxmlformats.org/drawingml/2006/table">
            <a:tbl>
              <a:tblPr/>
              <a:tblGrid>
                <a:gridCol w="1729080"/>
                <a:gridCol w="1728720"/>
                <a:gridCol w="165564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ristophe (1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nja (0,5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ucia (0,5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ba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me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er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385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elarus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e former Yugoslav Republic of Macedo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zerbaija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snia &amp; Herzegovina 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rael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ypt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ldov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lestine**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ebano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orgia 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kraine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rda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osovo*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rb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occo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rkey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ntenegro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nis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</a:tbl>
          </a:graphicData>
        </a:graphic>
      </p:graphicFrame>
      <p:sp>
        <p:nvSpPr>
          <p:cNvPr id="112" name="TextBox 8"/>
          <p:cNvSpPr/>
          <p:nvPr/>
        </p:nvSpPr>
        <p:spPr>
          <a:xfrm>
            <a:off x="971640" y="3716280"/>
            <a:ext cx="7416720" cy="28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  <a:ea typeface="Arial"/>
              </a:rPr>
              <a:t>Horizontal areas of responsibility assigned to each Task Manager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Mandated Bodies: Christophe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Pipeline Coordination and bi-annual info to NCPs: Christophe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Harmonisation all internal tools and new Twinning Database: Lucia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IBD coordination: Sanja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RTA Training coordination: Sanja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Twinning Functional Mailbox: Birgit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Maintenance and Updates of NCP-lists for webpage etc.: Birgit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Ex-IPA HQ coordination SC procedure Old Manual: Birgit/Claus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Focus Group Coordin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Horizontal Twinning Evaluation coordin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Problem cases requiring litig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Coordination CFA/Legal Units and/or EUD/MS/PC triangle dialogues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Communication/Visibility issues and Twinning Newsletter: Stefania (assigned to C3 management)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3" name="Picture 9" descr=""/>
          <p:cNvPicPr/>
          <p:nvPr/>
        </p:nvPicPr>
        <p:blipFill>
          <a:blip r:embed="rId1"/>
          <a:stretch/>
        </p:blipFill>
        <p:spPr>
          <a:xfrm>
            <a:off x="6254640" y="170028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"/>
          <p:cNvSpPr/>
          <p:nvPr/>
        </p:nvSpPr>
        <p:spPr>
          <a:xfrm>
            <a:off x="81000" y="6383160"/>
            <a:ext cx="864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f5494"/>
                </a:solidFill>
                <a:latin typeface="Verdana"/>
                <a:ea typeface="Arial"/>
              </a:rPr>
              <a:t>* This designation is without prejudice to positions on status and is in line with UNSCR 1244/1999 and the ICJ Opinion on the Kosovo Declaration of Independence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f5494"/>
                </a:solidFill>
                <a:latin typeface="Verdana"/>
                <a:ea typeface="Arial"/>
              </a:rPr>
              <a:t>** This designation shall not be construed as recognition of a State of Palestine and is without prejudice to the individual positions of the Member States on this issue.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C:\Users\banesan\Desktop\Footer Box NEAR.jpg"/>
          <p:cNvPicPr/>
          <p:nvPr/>
        </p:nvPicPr>
        <p:blipFill>
          <a:blip r:embed="rId1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11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3AEA-0903-4866-833F-76B0B68650C2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7" name="Picture 1" descr=""/>
          <p:cNvPicPr/>
          <p:nvPr/>
        </p:nvPicPr>
        <p:blipFill>
          <a:blip r:embed="rId2"/>
          <a:stretch/>
        </p:blipFill>
        <p:spPr>
          <a:xfrm>
            <a:off x="2489040" y="3429000"/>
            <a:ext cx="4146840" cy="259236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"/>
          <p:cNvSpPr/>
          <p:nvPr/>
        </p:nvSpPr>
        <p:spPr>
          <a:xfrm>
            <a:off x="1106640" y="1731960"/>
            <a:ext cx="69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6600"/>
                </a:solidFill>
                <a:latin typeface="Verdana"/>
                <a:ea typeface="Arial"/>
              </a:rPr>
              <a:t>HAVE A GOOD START!</a:t>
            </a:r>
            <a:endParaRPr b="0" lang="en-US" sz="4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MILINOVIC Sanja (ELARG)</cp:lastModifiedBy>
  <cp:lastPrinted>2017-11-29T08:38:47Z</cp:lastPrinted>
  <dcterms:modified xsi:type="dcterms:W3CDTF">2017-12-12T12:21:27Z</dcterms:modified>
  <cp:revision>322</cp:revision>
  <dc:subject/>
  <dc:title>Slide 1</dc:title>
</cp:coreProperties>
</file>