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541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196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541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BCE78-7845-4B76-B717-5DE0EAC614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1C937-71BD-4E8C-80BD-2A2287A1E7ED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E4601-B457-438B-A77F-3314C39E5681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05DF7-48DC-4C2E-A1AC-16A2DC9262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F96E-477A-4B89-802E-4627E3380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9580-581D-4722-9B52-19AC7904C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4558-9D91-4C0F-90F1-777D5145E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C5E1-7AB8-4F33-A1BC-57E970BFE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2FB68-5AB8-42A6-9C2A-6986FDC6B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7AED4-6EC0-4703-902A-41A98056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52A35-0A32-403B-B7E2-D58DC72F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CE9B4-4F74-46A9-8F1A-E868583EF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0294B-1174-47AD-8F75-86C4BF870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A3A80-88FE-4175-970C-4A29DEEE2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9E32E-0B7E-4517-A8FC-8924B811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2542-9DEE-49E0-A04A-E5B0094D7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B3A4B-4321-447E-AAAB-423AA67F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179A9-3F8B-4DBB-9FCE-E48D1378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1D9C1-C03B-4FF7-BC1B-6E451C4C6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C13EE-94A0-489A-8CF2-5D36633B8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9C845-664B-4449-8C73-7CE55A8E2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8950-D6A2-44C8-BFBD-86D248CCD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9893-728D-4BAE-B835-26C0EAB1B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501A-E524-4AE9-98BC-B260F639C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E9B1-2479-4CF6-ABFA-7678926DB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0BE3-B9A2-488B-B9D5-E06F861B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A6F4-5A71-4527-9F15-1C3EB958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721A-0B79-458A-B207-CA58D7F5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F8C5D-1531-4444-9268-E40981FF45F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3BB34-E6E8-421D-B5F2-5B390DEAF4F8}" type="slidenum">
              <a:rPr b="0" lang="en-GB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7640" y="1989000"/>
            <a:ext cx="893124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60</a:t>
            </a:r>
            <a:r>
              <a:rPr b="1" lang="en-GB" sz="2800" spc="-1" strike="noStrike" baseline="30000">
                <a:solidFill>
                  <a:srgbClr val="ff6600"/>
                </a:solidFill>
                <a:latin typeface="Verdana"/>
              </a:rPr>
              <a:t>TH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 RESIDENT TWINNING ADVISERS (RTA) TRAINING AND 7</a:t>
            </a:r>
            <a:r>
              <a:rPr b="1" lang="en-GB" sz="2800" spc="-1" strike="noStrike" baseline="30000">
                <a:solidFill>
                  <a:srgbClr val="ff6600"/>
                </a:solidFill>
                <a:latin typeface="Verdana"/>
              </a:rPr>
              <a:t>TH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 JOINT TRAINING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826920" y="4662360"/>
            <a:ext cx="1441440" cy="1430640"/>
          </a:xfrm>
          <a:prstGeom prst="rect">
            <a:avLst/>
          </a:prstGeom>
          <a:ln w="0">
            <a:noFill/>
          </a:ln>
        </p:spPr>
      </p:pic>
      <p:sp>
        <p:nvSpPr>
          <p:cNvPr id="97" name="TextBox 1"/>
          <p:cNvSpPr/>
          <p:nvPr/>
        </p:nvSpPr>
        <p:spPr>
          <a:xfrm>
            <a:off x="3635280" y="5016600"/>
            <a:ext cx="5326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  <a:ea typeface="Arial"/>
              </a:rPr>
              <a:t>Claus LECH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Verdana"/>
                <a:ea typeface="Arial"/>
              </a:rPr>
              <a:t>Team Leader Twinn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Verdana"/>
                <a:ea typeface="Arial"/>
              </a:rPr>
              <a:t>Unit C3 – Institution Building, TAIEX, Twinning</a:t>
            </a:r>
            <a:br>
              <a:rPr sz="1600"/>
            </a:br>
            <a:r>
              <a:rPr b="0" lang="en-GB" sz="1600" spc="-1" strike="noStrike">
                <a:solidFill>
                  <a:srgbClr val="002060"/>
                </a:solidFill>
                <a:latin typeface="Verdana"/>
                <a:ea typeface="Arial"/>
              </a:rPr>
              <a:t>DG Neighbourhood and Enlargement Negotiation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8" name="Picture 6" descr="C:\Users\banesan\Desktop\Footer Box NEAR.jpg"/>
          <p:cNvPicPr/>
          <p:nvPr/>
        </p:nvPicPr>
        <p:blipFill>
          <a:blip r:embed="rId2"/>
          <a:stretch/>
        </p:blipFill>
        <p:spPr>
          <a:xfrm>
            <a:off x="4211640" y="6416640"/>
            <a:ext cx="701640" cy="468360"/>
          </a:xfrm>
          <a:prstGeom prst="rect">
            <a:avLst/>
          </a:prstGeom>
          <a:ln w="0">
            <a:noFill/>
          </a:ln>
        </p:spPr>
      </p:pic>
      <p:sp>
        <p:nvSpPr>
          <p:cNvPr id="9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A4397-1F15-4C42-888B-19734524959A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TextBox 1"/>
          <p:cNvSpPr/>
          <p:nvPr/>
        </p:nvSpPr>
        <p:spPr>
          <a:xfrm>
            <a:off x="2627280" y="3573360"/>
            <a:ext cx="45370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Verdana"/>
                <a:ea typeface="Arial"/>
              </a:rPr>
              <a:t>Brussels, 30/11/2017 – 01/12/2017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2060"/>
                </a:solidFill>
                <a:latin typeface="Verdana"/>
                <a:ea typeface="Arial"/>
              </a:rPr>
              <a:t>Centre Albert Borschette (CCAB), Rue Froissart, 36 –Brussels, Room 0.B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0" descr=""/>
          <p:cNvPicPr/>
          <p:nvPr/>
        </p:nvPicPr>
        <p:blipFill>
          <a:blip r:embed="rId1"/>
          <a:stretch/>
        </p:blipFill>
        <p:spPr>
          <a:xfrm>
            <a:off x="487440" y="1609560"/>
            <a:ext cx="8169120" cy="51152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27280" y="1484280"/>
            <a:ext cx="338472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OVERVIEW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295280" y="3500280"/>
            <a:ext cx="655344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I. Welcome Not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1295280" y="4241880"/>
            <a:ext cx="6553440" cy="533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lvl="1" marL="59436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II. What's new in IPA, ENI East and ENI South regions – recent decision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305000" y="4941720"/>
            <a:ext cx="655308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         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    </a:t>
            </a: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III. Overview of the programm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2"/>
          <a:stretch/>
        </p:blipFill>
        <p:spPr>
          <a:xfrm>
            <a:off x="3486240" y="2193840"/>
            <a:ext cx="1512720" cy="1158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C:\Users\banesan\Desktop\Footer Box NEAR.jpg"/>
          <p:cNvPicPr/>
          <p:nvPr/>
        </p:nvPicPr>
        <p:blipFill>
          <a:blip r:embed="rId3"/>
          <a:stretch/>
        </p:blipFill>
        <p:spPr>
          <a:xfrm>
            <a:off x="4211640" y="6416640"/>
            <a:ext cx="701640" cy="468360"/>
          </a:xfrm>
          <a:prstGeom prst="rect">
            <a:avLst/>
          </a:prstGeom>
          <a:ln w="0">
            <a:noFill/>
          </a:ln>
        </p:spPr>
      </p:pic>
      <p:sp>
        <p:nvSpPr>
          <p:cNvPr id="10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CF6BF-9FD0-448F-92CC-B2F7C6FFAC63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285920" y="5616720"/>
            <a:ext cx="6553080" cy="533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IV. Some key messages before we star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1268280"/>
            <a:ext cx="8496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ff6600"/>
                </a:solidFill>
                <a:latin typeface="Arial Black"/>
                <a:ea typeface="MS PGothic"/>
              </a:rPr>
              <a:t>THE TWINNING TEAM: WHO DOES WHAT</a:t>
            </a:r>
            <a:br>
              <a:rPr sz="1800"/>
            </a:b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900000" y="1866960"/>
          <a:ext cx="5113440" cy="1735200"/>
        </p:xfrm>
        <a:graphic>
          <a:graphicData uri="http://schemas.openxmlformats.org/drawingml/2006/table">
            <a:tbl>
              <a:tblPr/>
              <a:tblGrid>
                <a:gridCol w="1729080"/>
                <a:gridCol w="1728720"/>
                <a:gridCol w="165564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ristophe (1 FTE)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nja (0,5 FTE)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ucia (0,5 FTE)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9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ban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men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ger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</a:tr>
              <a:tr h="385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elarus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he former Yugoslav Republic of Macedon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zerbaijan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snia &amp; Herzegovina 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srael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gypt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</a:tr>
              <a:tr h="19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ldov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lestine**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ebanon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orgia 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kraine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rdan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</a:tr>
              <a:tr h="19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osovo*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rb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rocco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urkey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ntenegro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unis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</a:tr>
            </a:tbl>
          </a:graphicData>
        </a:graphic>
      </p:graphicFrame>
      <p:sp>
        <p:nvSpPr>
          <p:cNvPr id="112" name="TextBox 8"/>
          <p:cNvSpPr/>
          <p:nvPr/>
        </p:nvSpPr>
        <p:spPr>
          <a:xfrm>
            <a:off x="971640" y="3716280"/>
            <a:ext cx="7416720" cy="28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f5494"/>
                </a:solidFill>
                <a:latin typeface="Verdana"/>
                <a:ea typeface="Arial"/>
              </a:rPr>
              <a:t>Horizontal areas of responsibility assigned to each Task Manager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Mandated Bodies: Christophe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Pipeline Coordination and bi-annual info to NCPs: Christophe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Harmonisation all internal tools and new Twinning Database: Lucia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IBD coordination: Sanja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RTA Training coordination: Sanja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Twinning Functional Mailbox: Birgit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Maintenance and Updates of NCP-lists for webpage etc.: Birgit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Ex-IPA HQ coordination SC procedure Old Manual: Birgit/Claus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Focus Group Coordination: Claus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Horizontal Twinning Evaluation coordination: Claus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Problem cases requiring litigation: Claus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Coordination CFA/Legal Units and/or EUD/MS/PC triangle dialogues: Claus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Communication/Visibility issues and Twinning Newsletter: Stefania (assigned to C3 management)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3" name="Picture 9" descr=""/>
          <p:cNvPicPr/>
          <p:nvPr/>
        </p:nvPicPr>
        <p:blipFill>
          <a:blip r:embed="rId1"/>
          <a:stretch/>
        </p:blipFill>
        <p:spPr>
          <a:xfrm>
            <a:off x="6254640" y="170028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114" name="TextBox 1"/>
          <p:cNvSpPr/>
          <p:nvPr/>
        </p:nvSpPr>
        <p:spPr>
          <a:xfrm>
            <a:off x="81000" y="6383160"/>
            <a:ext cx="864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f5494"/>
                </a:solidFill>
                <a:latin typeface="Verdana"/>
                <a:ea typeface="Arial"/>
              </a:rPr>
              <a:t>* This designation is without prejudice to positions on status and is in line with UNSCR 1244/1999 and the ICJ Opinion on the Kosovo Declaration of Independence</a:t>
            </a: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f5494"/>
                </a:solidFill>
                <a:latin typeface="Verdana"/>
                <a:ea typeface="Arial"/>
              </a:rPr>
              <a:t>** This designation shall not be construed as recognition of a State of Palestine and is without prejudice to the individual positions of the Member States on this issue.</a:t>
            </a: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C:\Users\banesan\Desktop\Footer Box NEAR.jpg"/>
          <p:cNvPicPr/>
          <p:nvPr/>
        </p:nvPicPr>
        <p:blipFill>
          <a:blip r:embed="rId1"/>
          <a:stretch/>
        </p:blipFill>
        <p:spPr>
          <a:xfrm>
            <a:off x="4211640" y="6416640"/>
            <a:ext cx="701640" cy="468360"/>
          </a:xfrm>
          <a:prstGeom prst="rect">
            <a:avLst/>
          </a:prstGeom>
          <a:ln w="0">
            <a:noFill/>
          </a:ln>
        </p:spPr>
      </p:pic>
      <p:sp>
        <p:nvSpPr>
          <p:cNvPr id="11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A8481-1521-42D8-B6CA-E483AF9FCCA0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7" name="Picture 1" descr=""/>
          <p:cNvPicPr/>
          <p:nvPr/>
        </p:nvPicPr>
        <p:blipFill>
          <a:blip r:embed="rId2"/>
          <a:stretch/>
        </p:blipFill>
        <p:spPr>
          <a:xfrm>
            <a:off x="2489040" y="3429000"/>
            <a:ext cx="4146840" cy="2592360"/>
          </a:xfrm>
          <a:prstGeom prst="rect">
            <a:avLst/>
          </a:prstGeom>
          <a:ln w="0">
            <a:noFill/>
          </a:ln>
        </p:spPr>
      </p:pic>
      <p:sp>
        <p:nvSpPr>
          <p:cNvPr id="118" name="TextBox 3"/>
          <p:cNvSpPr/>
          <p:nvPr/>
        </p:nvSpPr>
        <p:spPr>
          <a:xfrm>
            <a:off x="1106640" y="1731960"/>
            <a:ext cx="69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6600"/>
                </a:solidFill>
                <a:latin typeface="Verdana"/>
                <a:ea typeface="Arial"/>
              </a:rPr>
              <a:t>HAVE A GOOD START!</a:t>
            </a:r>
            <a:endParaRPr b="0" lang="en-US" sz="4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MILINOVIC Sanja (ELARG)</cp:lastModifiedBy>
  <cp:lastPrinted>2017-11-29T08:38:47Z</cp:lastPrinted>
  <dcterms:modified xsi:type="dcterms:W3CDTF">2017-12-12T12:21:27Z</dcterms:modified>
  <cp:revision>322</cp:revision>
  <dc:subject/>
  <dc:title>Slide 1</dc:title>
</cp:coreProperties>
</file>