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DC097-13E7-4ADC-A2BA-7A3351B8C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41000" y="326520"/>
            <a:ext cx="7226280" cy="11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7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f218b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03840"/>
            <a:ext cx="8229600" cy="17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f218b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6E17A-8333-4966-BDF8-CED7766C3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41000" y="326520"/>
            <a:ext cx="7226280" cy="11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7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f218b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7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f218b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03840"/>
            <a:ext cx="4015800" cy="17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f218b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03840"/>
            <a:ext cx="4015800" cy="17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f218b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901DD-218C-45A0-8655-B87114FCA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41000" y="326520"/>
            <a:ext cx="7226280" cy="11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7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f218b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7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f218b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7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f218b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03840"/>
            <a:ext cx="2649600" cy="17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f218b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03840"/>
            <a:ext cx="2649600" cy="17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f218b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03840"/>
            <a:ext cx="2649600" cy="17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f218b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78FFD-3984-49D5-9B35-B8D3DCD3B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AD8AB-4B8E-49DD-AF6B-9DE4951C8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1000" y="326520"/>
            <a:ext cx="7226280" cy="11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36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091B2-4B24-456E-8BA3-CF8E90D77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1000" y="326520"/>
            <a:ext cx="7226280" cy="11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368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f218b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EBDFF-0141-4A32-9B9C-D6BAF99E4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1000" y="326520"/>
            <a:ext cx="7226280" cy="11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368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f218b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368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f218b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8C7BA-E78A-41DC-8593-EA519B854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1000" y="326520"/>
            <a:ext cx="7226280" cy="11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B9710-EA3B-4193-96C5-410CFC275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1000" y="326520"/>
            <a:ext cx="7226280" cy="52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63CE7-F4AF-4AF4-A131-659F7E26E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1000" y="326520"/>
            <a:ext cx="7226280" cy="11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7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f218b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368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f218b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03840"/>
            <a:ext cx="4015800" cy="17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f218b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A09C6-2189-4CF4-86C2-6AEFCB7A9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41000" y="326520"/>
            <a:ext cx="7226280" cy="11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36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EDC43-19C3-4216-9F81-7FA6B125E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1000" y="326520"/>
            <a:ext cx="7226280" cy="11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368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f218b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7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f218b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03840"/>
            <a:ext cx="4015800" cy="17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f218b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8A0C5-380B-4D63-BA57-3372A0A8B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1000" y="326520"/>
            <a:ext cx="7226280" cy="11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7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f218b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7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f218b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03840"/>
            <a:ext cx="8229600" cy="17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f218b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34FF7-C8D7-48CA-B37C-2A3FDFA45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1000" y="326520"/>
            <a:ext cx="7226280" cy="11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7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f218b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03840"/>
            <a:ext cx="8229600" cy="17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f218b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FF04A-9B5D-4567-9170-9ABB52554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1000" y="326520"/>
            <a:ext cx="7226280" cy="11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7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f218b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7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f218b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03840"/>
            <a:ext cx="4015800" cy="17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f218b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03840"/>
            <a:ext cx="4015800" cy="17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f218b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23A06-8237-47A4-8874-74809F2CD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1000" y="326520"/>
            <a:ext cx="7226280" cy="11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7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f218b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7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f218b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7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f218b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03840"/>
            <a:ext cx="2649600" cy="17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f218b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03840"/>
            <a:ext cx="2649600" cy="17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f218b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03840"/>
            <a:ext cx="2649600" cy="17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f218b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E764B-D3BF-442C-ACC2-C477FBCCE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41000" y="326520"/>
            <a:ext cx="7226280" cy="11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368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f218b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FF7BB-61E4-49DE-88DD-954A49DFC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41000" y="326520"/>
            <a:ext cx="7226280" cy="11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368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f218b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368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f218b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1DA65-7BCC-4D51-9BAD-701A002CB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41000" y="326520"/>
            <a:ext cx="7226280" cy="11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68BC1-0DCA-468A-8185-DDAD7037D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41000" y="326520"/>
            <a:ext cx="7226280" cy="52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50F04-187A-4BAD-B9AF-00CE476ED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41000" y="326520"/>
            <a:ext cx="7226280" cy="11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7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f218b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368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f218b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03840"/>
            <a:ext cx="4015800" cy="17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f218b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B0C0D-FE24-47C7-93B9-CD235E0DA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41000" y="326520"/>
            <a:ext cx="7226280" cy="11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368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f218b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7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f218b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03840"/>
            <a:ext cx="4015800" cy="17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f218b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ADDB5-51D3-4297-8FEC-CDD671D11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41000" y="326520"/>
            <a:ext cx="7226280" cy="11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7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f218b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7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f218b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03840"/>
            <a:ext cx="8229600" cy="17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f218b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8F261-649F-4ED1-826E-58DE69B4A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41000" y="326520"/>
            <a:ext cx="7226280" cy="1132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c1c6d9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368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99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f218b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f218b"/>
              </a:solidFill>
              <a:latin typeface="Tahoma"/>
            </a:endParaRPr>
          </a:p>
          <a:p>
            <a:pPr lvl="1" marL="660960" indent="-254160">
              <a:spcBef>
                <a:spcPts val="799"/>
              </a:spcBef>
              <a:buClr>
                <a:srgbClr val="ff99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f218b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f218b"/>
              </a:solidFill>
              <a:latin typeface="Tahoma"/>
            </a:endParaRPr>
          </a:p>
          <a:p>
            <a:pPr lvl="2" marL="1017000" indent="-203400">
              <a:spcBef>
                <a:spcPts val="799"/>
              </a:spcBef>
              <a:buClr>
                <a:srgbClr val="ff99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f218b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f218b"/>
              </a:solidFill>
              <a:latin typeface="Tahoma"/>
            </a:endParaRPr>
          </a:p>
          <a:p>
            <a:pPr lvl="3" marL="1424160" indent="-203400">
              <a:spcBef>
                <a:spcPts val="799"/>
              </a:spcBef>
              <a:buClr>
                <a:srgbClr val="ff99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f218b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f218b"/>
              </a:solidFill>
              <a:latin typeface="Tahoma"/>
            </a:endParaRPr>
          </a:p>
          <a:p>
            <a:pPr lvl="4" marL="1830960" indent="-203400">
              <a:spcBef>
                <a:spcPts val="799"/>
              </a:spcBef>
              <a:buClr>
                <a:srgbClr val="ff99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f218b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f218b"/>
              </a:solidFill>
              <a:latin typeface="Tahoma"/>
            </a:endParaRPr>
          </a:p>
          <a:p>
            <a:pPr lvl="5" marL="1830960" indent="-2034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f218b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f218b"/>
              </a:solidFill>
              <a:latin typeface="Tahoma"/>
            </a:endParaRPr>
          </a:p>
          <a:p>
            <a:pPr lvl="6" marL="1830960" indent="-2034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f218b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f218b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105E5-36EE-4F76-9005-9BF753D6E547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25000" y="2064960"/>
            <a:ext cx="8683560" cy="15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97CD6-68C9-45AF-83CB-7B1DE8A200BA}" type="slidenum">
              <a:rPr b="0" lang="en-GB" sz="14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218b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f218b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9933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218b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f218b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9933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218b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f218b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9933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218b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f218b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218b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f218b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218b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f218b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60280" y="1866600"/>
            <a:ext cx="8648640" cy="188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c1c6d9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99"/>
                </a:solidFill>
                <a:latin typeface="Tahoma"/>
              </a:rPr>
              <a:t>Delivering lifelong learning for knowledge, creativity and innovation 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236520" y="4808160"/>
            <a:ext cx="840888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ahoma"/>
              </a:rPr>
              <a:t>Draft Joint Progress Report on Education &amp; Training 2010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ahoma"/>
              </a:rPr>
              <a:t>Education Committee, Lisbon, 3 December 2007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ahoma"/>
              </a:rPr>
              <a:t>Gordon Clark, Michael Teutsch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ahoma"/>
              </a:rPr>
              <a:t>European Commission, DG Education and Culture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41000" y="326520"/>
            <a:ext cx="7226280" cy="1132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c1c6d9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99"/>
                </a:solidFill>
                <a:latin typeface="Tahoma"/>
              </a:rPr>
              <a:t>The way forward: </a:t>
            </a:r>
            <a:br>
              <a:rPr sz="3600"/>
            </a:br>
            <a:r>
              <a:rPr b="0" lang="en-GB" sz="3600" spc="-1" strike="noStrike">
                <a:solidFill>
                  <a:srgbClr val="000099"/>
                </a:solidFill>
                <a:latin typeface="Tahoma"/>
              </a:rPr>
              <a:t>Innovation and creativity</a:t>
            </a:r>
            <a:endParaRPr b="0" lang="en-US" sz="3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368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f218b"/>
                </a:solidFill>
                <a:latin typeface="Tahoma"/>
              </a:rPr>
              <a:t>Education as key element in the knowledge triangle </a:t>
            </a:r>
            <a:br>
              <a:rPr sz="3200"/>
            </a:br>
            <a:r>
              <a:rPr b="0" lang="en-GB" sz="3200" spc="-1" strike="noStrike">
                <a:solidFill>
                  <a:srgbClr val="0f218b"/>
                </a:solidFill>
                <a:latin typeface="Tahoma"/>
              </a:rPr>
              <a:t>(education – research – innovation) </a:t>
            </a:r>
            <a:endParaRPr b="0" lang="en-US" sz="3200" spc="-1" strike="noStrike">
              <a:solidFill>
                <a:srgbClr val="0f218b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99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f218b"/>
                </a:solidFill>
                <a:latin typeface="Tahoma"/>
              </a:rPr>
              <a:t>Centres of excellence</a:t>
            </a:r>
            <a:endParaRPr b="0" lang="en-US" sz="3200" spc="-1" strike="noStrike">
              <a:solidFill>
                <a:srgbClr val="0f218b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99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f218b"/>
                </a:solidFill>
                <a:latin typeface="Tahoma"/>
              </a:rPr>
              <a:t>University-business co-operation</a:t>
            </a:r>
            <a:endParaRPr b="0" lang="en-US" sz="3200" spc="-1" strike="noStrike">
              <a:solidFill>
                <a:srgbClr val="0f218b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99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f218b"/>
                </a:solidFill>
                <a:latin typeface="Tahoma"/>
              </a:rPr>
              <a:t>Schools and VET</a:t>
            </a:r>
            <a:endParaRPr b="0" lang="en-US" sz="3200" spc="-1" strike="noStrike">
              <a:solidFill>
                <a:srgbClr val="0f218b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f218b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f218b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f218b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f218b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928CA-BB35-420D-A9A6-07C4D0F438AF}" type="slidenum">
              <a:t>10</a:t>
            </a:fld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41000" y="326520"/>
            <a:ext cx="7226280" cy="1132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c1c6d9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99"/>
                </a:solidFill>
                <a:latin typeface="Tahoma"/>
              </a:rPr>
              <a:t>Areas addressed</a:t>
            </a:r>
            <a:endParaRPr b="0" lang="en-US" sz="3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36680" y="2058480"/>
            <a:ext cx="8229600" cy="36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f218b"/>
                </a:solidFill>
                <a:latin typeface="Tahoma"/>
              </a:rPr>
              <a:t>LLL strategies and transversal issues</a:t>
            </a:r>
            <a:endParaRPr b="0" lang="en-US" sz="3200" spc="-1" strike="noStrike">
              <a:solidFill>
                <a:srgbClr val="0f218b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99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f218b"/>
                </a:solidFill>
                <a:latin typeface="Tahoma"/>
              </a:rPr>
              <a:t>VET and adult learning</a:t>
            </a:r>
            <a:endParaRPr b="0" lang="en-US" sz="3200" spc="-1" strike="noStrike">
              <a:solidFill>
                <a:srgbClr val="0f218b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99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f218b"/>
                </a:solidFill>
                <a:latin typeface="Tahoma"/>
              </a:rPr>
              <a:t>European cooperation</a:t>
            </a:r>
            <a:endParaRPr b="0" lang="en-US" sz="3200" spc="-1" strike="noStrike">
              <a:solidFill>
                <a:srgbClr val="0f218b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f218b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41092-BAAC-427E-8FFC-79AFD6F10FD0}" type="slidenum">
              <a:t>2</a:t>
            </a:fld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55240" y="268200"/>
            <a:ext cx="8317080" cy="12621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c1c6d9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99"/>
                </a:solidFill>
                <a:latin typeface="Tahoma"/>
              </a:rPr>
              <a:t>LLL strategies (2002 resolution, efficiency/equity, guidelines)</a:t>
            </a:r>
            <a:endParaRPr b="0" lang="en-US" sz="3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368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99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21b7d"/>
                </a:solidFill>
                <a:latin typeface="Tahoma"/>
              </a:rPr>
              <a:t>covering all systems and levels </a:t>
            </a:r>
            <a:endParaRPr b="0" lang="en-US" sz="3200" spc="-1" strike="noStrike">
              <a:solidFill>
                <a:srgbClr val="0f218b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99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21b7d"/>
                </a:solidFill>
                <a:latin typeface="Tahoma"/>
              </a:rPr>
              <a:t>coherent set of priorities, evidence-based </a:t>
            </a:r>
            <a:endParaRPr b="0" lang="en-US" sz="3200" spc="-1" strike="noStrike">
              <a:solidFill>
                <a:srgbClr val="0f218b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99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21b7d"/>
                </a:solidFill>
                <a:latin typeface="Tahoma"/>
              </a:rPr>
              <a:t>flexible pathways and transition points: avoid dead-ends</a:t>
            </a:r>
            <a:endParaRPr b="0" lang="en-US" sz="3200" spc="-1" strike="noStrike">
              <a:solidFill>
                <a:srgbClr val="0f218b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99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21b7d"/>
                </a:solidFill>
                <a:latin typeface="Tahoma"/>
              </a:rPr>
              <a:t>implementation and dissemination: partnership with stakeholders</a:t>
            </a:r>
            <a:endParaRPr b="0" lang="en-US" sz="3200" spc="-1" strike="noStrike">
              <a:solidFill>
                <a:srgbClr val="0f218b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BC5BC-8E17-468B-9385-0333B2DC05D4}" type="slidenum">
              <a:t>3</a:t>
            </a:fld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41360" y="282600"/>
            <a:ext cx="6888240" cy="1176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c1c6d9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99"/>
                </a:solidFill>
                <a:latin typeface="Tahoma"/>
              </a:rPr>
              <a:t>Some progress 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67920" y="1239480"/>
            <a:ext cx="877572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ff99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21b7d"/>
                </a:solidFill>
                <a:latin typeface="Tahoma"/>
              </a:rPr>
              <a:t>Majority of countries have explicit strategies</a:t>
            </a:r>
            <a:endParaRPr b="0" lang="en-US" sz="3200" spc="-1" strike="noStrike">
              <a:solidFill>
                <a:srgbClr val="0f218b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ff99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21b7d"/>
                </a:solidFill>
                <a:latin typeface="Tahoma"/>
              </a:rPr>
              <a:t>Comprehensiveness. Progress on validation of non-formal, still focus on formal systems</a:t>
            </a:r>
            <a:endParaRPr b="0" lang="en-US" sz="3200" spc="-1" strike="noStrike">
              <a:solidFill>
                <a:srgbClr val="0f218b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ff99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21b7d"/>
                </a:solidFill>
                <a:latin typeface="Tahoma"/>
              </a:rPr>
              <a:t>Coherence: progress on evidence base + flexible learning pathways (qualification frameworks)</a:t>
            </a:r>
            <a:endParaRPr b="0" lang="en-US" sz="3200" spc="-1" strike="noStrike">
              <a:solidFill>
                <a:srgbClr val="0f218b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ff99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21b7d"/>
                </a:solidFill>
                <a:latin typeface="Tahoma"/>
              </a:rPr>
              <a:t>Implementation and dissemination, partnership and funding as main challenges</a:t>
            </a:r>
            <a:endParaRPr b="0" lang="en-US" sz="3200" spc="-1" strike="noStrike">
              <a:solidFill>
                <a:srgbClr val="0f218b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82F55-8086-4E61-9A69-25E72964EBAB}" type="slidenum">
              <a:t>4</a:t>
            </a:fld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5"/>
          <p:cNvSpPr/>
          <p:nvPr/>
        </p:nvSpPr>
        <p:spPr>
          <a:xfrm>
            <a:off x="6742080" y="6443640"/>
            <a:ext cx="213372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A7E28-0184-49EF-AF80-E7CD1E5ACF2C}" type="slidenum">
              <a:rPr b="0" lang="de-DE" sz="1400" spc="-1" strike="noStrike">
                <a:solidFill>
                  <a:srgbClr val="ffffff"/>
                </a:solidFill>
                <a:latin typeface="Tahoma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Rectangle 312"/>
          <p:cNvSpPr/>
          <p:nvPr/>
        </p:nvSpPr>
        <p:spPr>
          <a:xfrm>
            <a:off x="0" y="5445000"/>
            <a:ext cx="9144000" cy="1413000"/>
          </a:xfrm>
          <a:prstGeom prst="rect">
            <a:avLst/>
          </a:prstGeom>
          <a:solidFill>
            <a:srgbClr val="2b54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4" name="Picture 212" descr="map"/>
          <p:cNvPicPr/>
          <p:nvPr/>
        </p:nvPicPr>
        <p:blipFill>
          <a:blip r:embed="rId2"/>
          <a:stretch/>
        </p:blipFill>
        <p:spPr>
          <a:xfrm>
            <a:off x="2124000" y="1020600"/>
            <a:ext cx="4969080" cy="4784760"/>
          </a:xfrm>
          <a:prstGeom prst="rect">
            <a:avLst/>
          </a:prstGeom>
          <a:ln w="0">
            <a:noFill/>
          </a:ln>
        </p:spPr>
      </p:pic>
      <p:sp>
        <p:nvSpPr>
          <p:cNvPr id="95" name="Text Box 6"/>
          <p:cNvSpPr/>
          <p:nvPr/>
        </p:nvSpPr>
        <p:spPr>
          <a:xfrm>
            <a:off x="0" y="98280"/>
            <a:ext cx="723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6699"/>
                </a:solidFill>
                <a:latin typeface="Tahoma"/>
                <a:ea typeface="Arial"/>
              </a:rPr>
              <a:t>Countries’ situation in relation to development of qualifications framework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336699"/>
                </a:solidFill>
                <a:latin typeface="Tahoma"/>
                <a:ea typeface="Arial"/>
              </a:rPr>
              <a:t>This map represents the situation as of November 2007, which is in constant evolution.  Most of the countries in red are considering the option of having a National Qualifications Framework but have not yet taken a decision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0" y="1163520"/>
          <a:ext cx="1871640" cy="5694480"/>
        </p:xfrm>
        <a:graphic>
          <a:graphicData uri="http://schemas.openxmlformats.org/drawingml/2006/table">
            <a:tbl>
              <a:tblPr/>
              <a:tblGrid>
                <a:gridCol w="1071720"/>
                <a:gridCol w="79992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200" spc="-1" strike="noStrike">
                          <a:solidFill>
                            <a:srgbClr val="2b5481"/>
                          </a:solidFill>
                          <a:latin typeface="Tahoma"/>
                        </a:rPr>
                        <a:t>Countri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600" spc="-1" strike="noStrike">
                          <a:solidFill>
                            <a:srgbClr val="2b5481"/>
                          </a:solidFill>
                          <a:latin typeface="Tahoma"/>
                        </a:rPr>
                        <a:t>NQF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336699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600" spc="-1" strike="noStrike">
                          <a:solidFill>
                            <a:srgbClr val="336699"/>
                          </a:solidFill>
                          <a:latin typeface="Tahoma"/>
                        </a:rPr>
                        <a:t>A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600" spc="-1" strike="noStrike">
                          <a:solidFill>
                            <a:srgbClr val="2b5481"/>
                          </a:solidFill>
                          <a:latin typeface="Tahoma"/>
                        </a:rPr>
                        <a:t>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600" spc="-1" strike="noStrike">
                          <a:solidFill>
                            <a:srgbClr val="336699"/>
                          </a:solidFill>
                          <a:latin typeface="Tahoma"/>
                        </a:rPr>
                        <a:t>BE F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600" spc="-1" strike="noStrike">
                          <a:solidFill>
                            <a:srgbClr val="2b5481"/>
                          </a:solidFill>
                          <a:latin typeface="Tahoma"/>
                        </a:rPr>
                        <a:t>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600" spc="-1" strike="noStrike">
                          <a:solidFill>
                            <a:srgbClr val="336699"/>
                          </a:solidFill>
                          <a:latin typeface="Tahoma"/>
                        </a:rPr>
                        <a:t>BE N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600" spc="-1" strike="noStrike">
                          <a:solidFill>
                            <a:srgbClr val="2b5481"/>
                          </a:solidFill>
                          <a:latin typeface="Tahoma"/>
                        </a:rPr>
                        <a:t>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600" spc="-1" strike="noStrike">
                          <a:solidFill>
                            <a:srgbClr val="336699"/>
                          </a:solidFill>
                          <a:latin typeface="Tahoma"/>
                        </a:rPr>
                        <a:t>B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600" spc="-1" strike="noStrike">
                          <a:solidFill>
                            <a:srgbClr val="2b5481"/>
                          </a:solidFill>
                          <a:latin typeface="Tahoma"/>
                        </a:rPr>
                        <a:t>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600" spc="-1" strike="noStrike">
                          <a:solidFill>
                            <a:srgbClr val="336699"/>
                          </a:solidFill>
                          <a:latin typeface="Tahoma"/>
                        </a:rPr>
                        <a:t>CY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600" spc="-1" strike="noStrike">
                          <a:solidFill>
                            <a:srgbClr val="2b5481"/>
                          </a:solidFill>
                          <a:latin typeface="Tahoma"/>
                        </a:rPr>
                        <a:t>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cc000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600" spc="-1" strike="noStrike">
                          <a:solidFill>
                            <a:srgbClr val="336699"/>
                          </a:solidFill>
                          <a:latin typeface="Tahoma"/>
                        </a:rPr>
                        <a:t>CZ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600" spc="-1" strike="noStrike">
                          <a:solidFill>
                            <a:srgbClr val="2b5481"/>
                          </a:solidFill>
                          <a:latin typeface="Tahoma"/>
                        </a:rPr>
                        <a:t>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600" spc="-1" strike="noStrike">
                          <a:solidFill>
                            <a:srgbClr val="336699"/>
                          </a:solidFill>
                          <a:latin typeface="Tahoma"/>
                        </a:rPr>
                        <a:t>D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600" spc="-1" strike="noStrike">
                          <a:solidFill>
                            <a:srgbClr val="2b5481"/>
                          </a:solidFill>
                          <a:latin typeface="Tahoma"/>
                        </a:rPr>
                        <a:t>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600" spc="-1" strike="noStrike">
                          <a:solidFill>
                            <a:srgbClr val="336699"/>
                          </a:solidFill>
                          <a:latin typeface="Tahoma"/>
                        </a:rPr>
                        <a:t>DK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600" spc="-1" strike="noStrike">
                          <a:solidFill>
                            <a:srgbClr val="2b5481"/>
                          </a:solidFill>
                          <a:latin typeface="Tahoma"/>
                        </a:rPr>
                        <a:t>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600" spc="-1" strike="noStrike">
                          <a:solidFill>
                            <a:srgbClr val="336699"/>
                          </a:solidFill>
                          <a:latin typeface="Tahoma"/>
                        </a:rPr>
                        <a:t>E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600" spc="-1" strike="noStrike">
                          <a:solidFill>
                            <a:srgbClr val="2b5481"/>
                          </a:solidFill>
                          <a:latin typeface="Tahoma"/>
                        </a:rPr>
                        <a:t>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600" spc="-1" strike="noStrike">
                          <a:solidFill>
                            <a:srgbClr val="336699"/>
                          </a:solidFill>
                          <a:latin typeface="Tahoma"/>
                        </a:rPr>
                        <a:t>E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600" spc="-1" strike="noStrike">
                          <a:solidFill>
                            <a:srgbClr val="2b5481"/>
                          </a:solidFill>
                          <a:latin typeface="Tahoma"/>
                        </a:rPr>
                        <a:t>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cc000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600" spc="-1" strike="noStrike">
                          <a:solidFill>
                            <a:srgbClr val="336699"/>
                          </a:solidFill>
                          <a:latin typeface="Tahoma"/>
                        </a:rPr>
                        <a:t>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600" spc="-1" strike="noStrike">
                          <a:solidFill>
                            <a:srgbClr val="2b5481"/>
                          </a:solidFill>
                          <a:latin typeface="Tahoma"/>
                        </a:rPr>
                        <a:t>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600" spc="-1" strike="noStrike">
                          <a:solidFill>
                            <a:srgbClr val="336699"/>
                          </a:solidFill>
                          <a:latin typeface="Tahoma"/>
                        </a:rPr>
                        <a:t>F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600" spc="-1" strike="noStrike">
                          <a:solidFill>
                            <a:srgbClr val="2b5481"/>
                          </a:solidFill>
                          <a:latin typeface="Tahoma"/>
                        </a:rPr>
                        <a:t>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600" spc="-1" strike="noStrike">
                          <a:solidFill>
                            <a:srgbClr val="336699"/>
                          </a:solidFill>
                          <a:latin typeface="Tahoma"/>
                        </a:rPr>
                        <a:t>F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600" spc="-1" strike="noStrike">
                          <a:solidFill>
                            <a:srgbClr val="2b5481"/>
                          </a:solidFill>
                          <a:latin typeface="Tahoma"/>
                        </a:rPr>
                        <a:t>Y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66990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600" spc="-1" strike="noStrike">
                          <a:solidFill>
                            <a:srgbClr val="336699"/>
                          </a:solidFill>
                          <a:latin typeface="Tahoma"/>
                        </a:rPr>
                        <a:t>H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600" spc="-1" strike="noStrike">
                          <a:solidFill>
                            <a:srgbClr val="2b5481"/>
                          </a:solidFill>
                          <a:latin typeface="Tahoma"/>
                        </a:rPr>
                        <a:t>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600" spc="-1" strike="noStrike">
                          <a:solidFill>
                            <a:srgbClr val="336699"/>
                          </a:solidFill>
                          <a:latin typeface="Tahoma"/>
                        </a:rPr>
                        <a:t>HU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600" spc="-1" strike="noStrike">
                          <a:solidFill>
                            <a:srgbClr val="2b5481"/>
                          </a:solidFill>
                          <a:latin typeface="Tahoma"/>
                        </a:rPr>
                        <a:t>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600" spc="-1" strike="noStrike">
                          <a:solidFill>
                            <a:srgbClr val="336699"/>
                          </a:solidFill>
                          <a:latin typeface="Tahoma"/>
                        </a:rPr>
                        <a:t>I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600" spc="-1" strike="noStrike">
                          <a:solidFill>
                            <a:srgbClr val="2b5481"/>
                          </a:solidFill>
                          <a:latin typeface="Tahoma"/>
                        </a:rPr>
                        <a:t>Y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6699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7" name=""/>
          <p:cNvGraphicFramePr/>
          <p:nvPr/>
        </p:nvGraphicFramePr>
        <p:xfrm>
          <a:off x="7199280" y="828720"/>
          <a:ext cx="1944720" cy="6029280"/>
        </p:xfrm>
        <a:graphic>
          <a:graphicData uri="http://schemas.openxmlformats.org/drawingml/2006/table">
            <a:tbl>
              <a:tblPr/>
              <a:tblGrid>
                <a:gridCol w="1108080"/>
                <a:gridCol w="83664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200" spc="-1" strike="noStrike">
                          <a:solidFill>
                            <a:srgbClr val="2b5481"/>
                          </a:solidFill>
                          <a:latin typeface="Tahoma"/>
                        </a:rPr>
                        <a:t>Countri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600" spc="-1" strike="noStrike">
                          <a:solidFill>
                            <a:srgbClr val="2b5481"/>
                          </a:solidFill>
                          <a:latin typeface="Tahoma"/>
                        </a:rPr>
                        <a:t>NQF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336699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600" spc="-1" strike="noStrike">
                          <a:solidFill>
                            <a:srgbClr val="336699"/>
                          </a:solidFill>
                          <a:latin typeface="Tahoma"/>
                        </a:rPr>
                        <a:t>I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600" spc="-1" strike="noStrike">
                          <a:solidFill>
                            <a:srgbClr val="2b5481"/>
                          </a:solidFill>
                          <a:latin typeface="Tahoma"/>
                        </a:rPr>
                        <a:t>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cc000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600" spc="-1" strike="noStrike">
                          <a:solidFill>
                            <a:srgbClr val="336699"/>
                          </a:solidFill>
                          <a:latin typeface="Tahoma"/>
                        </a:rPr>
                        <a:t>I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600" spc="-1" strike="noStrike">
                          <a:solidFill>
                            <a:srgbClr val="2b5481"/>
                          </a:solidFill>
                          <a:latin typeface="Tahoma"/>
                        </a:rPr>
                        <a:t>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600" spc="-1" strike="noStrike">
                          <a:solidFill>
                            <a:srgbClr val="336699"/>
                          </a:solidFill>
                          <a:latin typeface="Tahoma"/>
                        </a:rPr>
                        <a:t>L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600" spc="-1" strike="noStrike">
                          <a:solidFill>
                            <a:srgbClr val="2b5481"/>
                          </a:solidFill>
                          <a:latin typeface="Tahoma"/>
                        </a:rPr>
                        <a:t>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cc000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600" spc="-1" strike="noStrike">
                          <a:solidFill>
                            <a:srgbClr val="336699"/>
                          </a:solidFill>
                          <a:latin typeface="Tahoma"/>
                        </a:rPr>
                        <a:t>L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600" spc="-1" strike="noStrike">
                          <a:solidFill>
                            <a:srgbClr val="2b5481"/>
                          </a:solidFill>
                          <a:latin typeface="Tahoma"/>
                        </a:rPr>
                        <a:t>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600" spc="-1" strike="noStrike">
                          <a:solidFill>
                            <a:srgbClr val="336699"/>
                          </a:solidFill>
                          <a:latin typeface="Tahoma"/>
                        </a:rPr>
                        <a:t>LU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600" spc="-1" strike="noStrike">
                          <a:solidFill>
                            <a:srgbClr val="2b5481"/>
                          </a:solidFill>
                          <a:latin typeface="Tahoma"/>
                        </a:rPr>
                        <a:t>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600" spc="-1" strike="noStrike">
                          <a:solidFill>
                            <a:srgbClr val="336699"/>
                          </a:solidFill>
                          <a:latin typeface="Tahoma"/>
                        </a:rPr>
                        <a:t>LV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600" spc="-1" strike="noStrike">
                          <a:solidFill>
                            <a:srgbClr val="2b5481"/>
                          </a:solidFill>
                          <a:latin typeface="Tahoma"/>
                        </a:rPr>
                        <a:t>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600" spc="-1" strike="noStrike">
                          <a:solidFill>
                            <a:srgbClr val="336699"/>
                          </a:solidFill>
                          <a:latin typeface="Tahoma"/>
                        </a:rPr>
                        <a:t>M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600" spc="-1" strike="noStrike">
                          <a:solidFill>
                            <a:srgbClr val="2b5481"/>
                          </a:solidFill>
                          <a:latin typeface="Tahoma"/>
                        </a:rPr>
                        <a:t>Y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66990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600" spc="-1" strike="noStrike">
                          <a:solidFill>
                            <a:srgbClr val="336699"/>
                          </a:solidFill>
                          <a:latin typeface="Tahoma"/>
                        </a:rPr>
                        <a:t>N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600" spc="-1" strike="noStrike">
                          <a:solidFill>
                            <a:srgbClr val="2b5481"/>
                          </a:solidFill>
                          <a:latin typeface="Tahoma"/>
                        </a:rPr>
                        <a:t>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600" spc="-1" strike="noStrike">
                          <a:solidFill>
                            <a:srgbClr val="336699"/>
                          </a:solidFill>
                          <a:latin typeface="Tahoma"/>
                        </a:rPr>
                        <a:t>N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600" spc="-1" strike="noStrike">
                          <a:solidFill>
                            <a:srgbClr val="2b5481"/>
                          </a:solidFill>
                          <a:latin typeface="Tahoma"/>
                        </a:rPr>
                        <a:t>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cc000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600" spc="-1" strike="noStrike">
                          <a:solidFill>
                            <a:srgbClr val="336699"/>
                          </a:solidFill>
                          <a:latin typeface="Tahoma"/>
                        </a:rPr>
                        <a:t>P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600" spc="-1" strike="noStrike">
                          <a:solidFill>
                            <a:srgbClr val="2b5481"/>
                          </a:solidFill>
                          <a:latin typeface="Tahoma"/>
                        </a:rPr>
                        <a:t>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cc000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600" spc="-1" strike="noStrike">
                          <a:solidFill>
                            <a:srgbClr val="336699"/>
                          </a:solidFill>
                          <a:latin typeface="Tahoma"/>
                        </a:rPr>
                        <a:t>P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600" spc="-1" strike="noStrike">
                          <a:solidFill>
                            <a:srgbClr val="2b5481"/>
                          </a:solidFill>
                          <a:latin typeface="Tahoma"/>
                        </a:rPr>
                        <a:t>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600" spc="-1" strike="noStrike">
                          <a:solidFill>
                            <a:srgbClr val="336699"/>
                          </a:solidFill>
                          <a:latin typeface="Tahoma"/>
                        </a:rPr>
                        <a:t>R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600" spc="-1" strike="noStrike">
                          <a:solidFill>
                            <a:srgbClr val="2b5481"/>
                          </a:solidFill>
                          <a:latin typeface="Tahoma"/>
                        </a:rPr>
                        <a:t>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cc000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600" spc="-1" strike="noStrike">
                          <a:solidFill>
                            <a:srgbClr val="336699"/>
                          </a:solidFill>
                          <a:latin typeface="Tahoma"/>
                        </a:rPr>
                        <a:t>S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600" spc="-1" strike="noStrike">
                          <a:solidFill>
                            <a:srgbClr val="2b5481"/>
                          </a:solidFill>
                          <a:latin typeface="Tahoma"/>
                        </a:rPr>
                        <a:t>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cc000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600" spc="-1" strike="noStrike">
                          <a:solidFill>
                            <a:srgbClr val="336699"/>
                          </a:solidFill>
                          <a:latin typeface="Tahoma"/>
                        </a:rPr>
                        <a:t>S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600" spc="-1" strike="noStrike">
                          <a:solidFill>
                            <a:srgbClr val="2b5481"/>
                          </a:solidFill>
                          <a:latin typeface="Tahoma"/>
                        </a:rPr>
                        <a:t>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600" spc="-1" strike="noStrike">
                          <a:solidFill>
                            <a:srgbClr val="336699"/>
                          </a:solidFill>
                          <a:latin typeface="Tahoma"/>
                        </a:rPr>
                        <a:t>SK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600" spc="-1" strike="noStrike">
                          <a:solidFill>
                            <a:srgbClr val="2b5481"/>
                          </a:solidFill>
                          <a:latin typeface="Tahoma"/>
                        </a:rPr>
                        <a:t>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600" spc="-1" strike="noStrike">
                          <a:solidFill>
                            <a:srgbClr val="336699"/>
                          </a:solidFill>
                          <a:latin typeface="Tahoma"/>
                        </a:rPr>
                        <a:t>T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600" spc="-1" strike="noStrike">
                          <a:solidFill>
                            <a:srgbClr val="2b5481"/>
                          </a:solidFill>
                          <a:latin typeface="Tahoma"/>
                        </a:rPr>
                        <a:t>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600" spc="-1" strike="noStrike">
                          <a:solidFill>
                            <a:srgbClr val="336699"/>
                          </a:solidFill>
                          <a:latin typeface="Tahoma"/>
                        </a:rPr>
                        <a:t>UK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600" spc="-1" strike="noStrike">
                          <a:solidFill>
                            <a:srgbClr val="2b5481"/>
                          </a:solidFill>
                          <a:latin typeface="Tahoma"/>
                        </a:rPr>
                        <a:t>Y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6699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8" name=""/>
          <p:cNvGraphicFramePr/>
          <p:nvPr/>
        </p:nvGraphicFramePr>
        <p:xfrm>
          <a:off x="2124000" y="5805360"/>
          <a:ext cx="4753080" cy="1027080"/>
        </p:xfrm>
        <a:graphic>
          <a:graphicData uri="http://schemas.openxmlformats.org/drawingml/2006/table">
            <a:tbl>
              <a:tblPr/>
              <a:tblGrid>
                <a:gridCol w="962280"/>
                <a:gridCol w="3790800"/>
              </a:tblGrid>
              <a:tr h="27972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600" spc="-1" strike="noStrike">
                          <a:solidFill>
                            <a:srgbClr val="2b5481"/>
                          </a:solidFill>
                          <a:latin typeface="Tahoma"/>
                        </a:rPr>
                        <a:t>Y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1440">
                      <a:solidFill>
                        <a:srgbClr val="336699"/>
                      </a:solidFill>
                    </a:lnL>
                    <a:lnR w="1440">
                      <a:solidFill>
                        <a:srgbClr val="336699"/>
                      </a:solidFill>
                    </a:lnR>
                    <a:lnT w="1440">
                      <a:solidFill>
                        <a:srgbClr val="336699"/>
                      </a:solidFill>
                    </a:lnT>
                    <a:lnB w="1440">
                      <a:solidFill>
                        <a:srgbClr val="336699"/>
                      </a:solidFill>
                    </a:lnB>
                    <a:solidFill>
                      <a:srgbClr val="669900"/>
                    </a:solidFill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f218b"/>
                          </a:solidFill>
                          <a:latin typeface="Tahoma"/>
                        </a:rPr>
                        <a:t>Country has framework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1440">
                      <a:solidFill>
                        <a:srgbClr val="336699"/>
                      </a:solidFill>
                    </a:lnL>
                    <a:lnR w="1440">
                      <a:solidFill>
                        <a:srgbClr val="336699"/>
                      </a:solidFill>
                    </a:lnR>
                    <a:lnT w="1440">
                      <a:solidFill>
                        <a:srgbClr val="336699"/>
                      </a:solidFill>
                    </a:lnT>
                    <a:lnB w="1440">
                      <a:solidFill>
                        <a:srgbClr val="336699"/>
                      </a:solidFill>
                    </a:lnB>
                    <a:solidFill>
                      <a:srgbClr val="2b5481"/>
                    </a:solidFill>
                  </a:tcPr>
                </a:tc>
              </a:tr>
              <a:tr h="27972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600" spc="-1" strike="noStrike">
                          <a:solidFill>
                            <a:srgbClr val="2b5481"/>
                          </a:solidFill>
                          <a:latin typeface="Tahoma"/>
                        </a:rPr>
                        <a:t>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1440">
                      <a:solidFill>
                        <a:srgbClr val="336699"/>
                      </a:solidFill>
                    </a:lnL>
                    <a:lnR w="1440">
                      <a:solidFill>
                        <a:srgbClr val="336699"/>
                      </a:solidFill>
                    </a:lnR>
                    <a:lnT w="1440">
                      <a:solidFill>
                        <a:srgbClr val="336699"/>
                      </a:solidFill>
                    </a:lnT>
                    <a:lnB w="1440">
                      <a:solidFill>
                        <a:srgbClr val="336699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f218b"/>
                          </a:solidFill>
                          <a:latin typeface="Tahoma"/>
                        </a:rPr>
                        <a:t>Country is developing framework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1440">
                      <a:solidFill>
                        <a:srgbClr val="336699"/>
                      </a:solidFill>
                    </a:lnL>
                    <a:lnR w="1440">
                      <a:solidFill>
                        <a:srgbClr val="336699"/>
                      </a:solidFill>
                    </a:lnR>
                    <a:lnT w="1440">
                      <a:solidFill>
                        <a:srgbClr val="336699"/>
                      </a:solidFill>
                    </a:lnT>
                    <a:lnB w="1440">
                      <a:solidFill>
                        <a:srgbClr val="336699"/>
                      </a:solidFill>
                    </a:lnB>
                    <a:solidFill>
                      <a:srgbClr val="2b5481"/>
                    </a:solidFill>
                  </a:tcPr>
                </a:tc>
              </a:tr>
              <a:tr h="46260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600" spc="-1" strike="noStrike">
                          <a:solidFill>
                            <a:srgbClr val="2b5481"/>
                          </a:solidFill>
                          <a:latin typeface="Tahoma"/>
                        </a:rPr>
                        <a:t>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1440">
                      <a:solidFill>
                        <a:srgbClr val="336699"/>
                      </a:solidFill>
                    </a:lnL>
                    <a:lnR w="1440">
                      <a:solidFill>
                        <a:srgbClr val="336699"/>
                      </a:solidFill>
                    </a:lnR>
                    <a:lnT w="1440">
                      <a:solidFill>
                        <a:srgbClr val="336699"/>
                      </a:solidFill>
                    </a:lnT>
                    <a:lnB w="1440">
                      <a:solidFill>
                        <a:srgbClr val="336699"/>
                      </a:solidFill>
                    </a:lnB>
                    <a:solidFill>
                      <a:srgbClr val="cc0000"/>
                    </a:solidFill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f218b"/>
                          </a:solidFill>
                          <a:latin typeface="Tahoma"/>
                        </a:rPr>
                        <a:t>Country which has not yet taken a decision to have a framework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1440">
                      <a:solidFill>
                        <a:srgbClr val="336699"/>
                      </a:solidFill>
                    </a:lnL>
                    <a:lnR w="1440">
                      <a:solidFill>
                        <a:srgbClr val="336699"/>
                      </a:solidFill>
                    </a:lnR>
                    <a:lnT w="1440">
                      <a:solidFill>
                        <a:srgbClr val="336699"/>
                      </a:solidFill>
                    </a:lnT>
                    <a:lnB w="1440">
                      <a:solidFill>
                        <a:srgbClr val="336699"/>
                      </a:solidFill>
                    </a:lnB>
                    <a:solidFill>
                      <a:srgbClr val="2b5481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BCA12-2145-4466-9A78-3C9D44AD8C9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41000" y="326520"/>
            <a:ext cx="7226280" cy="1132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c1c6d9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99"/>
                </a:solidFill>
                <a:latin typeface="Tahoma"/>
              </a:rPr>
              <a:t>VET and adult learning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06280" y="1622520"/>
            <a:ext cx="8724960" cy="369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99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f218b"/>
                </a:solidFill>
                <a:latin typeface="Tahoma"/>
              </a:rPr>
              <a:t>Participation of older workers and low-skilled very low – equity, potential of migrants!</a:t>
            </a:r>
            <a:endParaRPr b="0" lang="en-US" sz="3200" spc="-1" strike="noStrike">
              <a:solidFill>
                <a:srgbClr val="0f218b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99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f218b"/>
                </a:solidFill>
                <a:latin typeface="Tahoma"/>
              </a:rPr>
              <a:t>Quality and attractiveness</a:t>
            </a:r>
            <a:endParaRPr b="0" lang="en-US" sz="3200" spc="-1" strike="noStrike">
              <a:solidFill>
                <a:srgbClr val="0f218b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99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f218b"/>
                </a:solidFill>
                <a:latin typeface="Tahoma"/>
              </a:rPr>
              <a:t>Improve links with labour market needs</a:t>
            </a:r>
            <a:endParaRPr b="0" lang="en-US" sz="3200" spc="-1" strike="noStrike">
              <a:solidFill>
                <a:srgbClr val="0f218b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99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f218b"/>
                </a:solidFill>
                <a:latin typeface="Tahoma"/>
              </a:rPr>
              <a:t>Improve transition and guidance</a:t>
            </a:r>
            <a:endParaRPr b="0" lang="en-US" sz="3200" spc="-1" strike="noStrike">
              <a:solidFill>
                <a:srgbClr val="0f218b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99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f218b"/>
                </a:solidFill>
                <a:latin typeface="Tahoma"/>
              </a:rPr>
              <a:t>Insufficient mobility</a:t>
            </a:r>
            <a:endParaRPr b="0" lang="en-US" sz="3200" spc="-1" strike="noStrike">
              <a:solidFill>
                <a:srgbClr val="0f218b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f218b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f218b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f218b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f218b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98BA9-F08D-4509-B351-46A98DD42D0D}" type="slidenum">
              <a:t>6</a:t>
            </a:fld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41000" y="326520"/>
            <a:ext cx="7226280" cy="1132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c1c6d9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99"/>
                </a:solidFill>
                <a:latin typeface="Tahoma"/>
              </a:rPr>
              <a:t>European co-operation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19040" y="1979640"/>
            <a:ext cx="8229600" cy="368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f218b"/>
                </a:solidFill>
                <a:latin typeface="Tahoma"/>
              </a:rPr>
              <a:t>Mobility: link national measures to LLP</a:t>
            </a:r>
            <a:endParaRPr b="0" lang="en-US" sz="3200" spc="-1" strike="noStrike">
              <a:solidFill>
                <a:srgbClr val="0f218b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99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f218b"/>
                </a:solidFill>
                <a:latin typeface="Tahoma"/>
              </a:rPr>
              <a:t>E&amp;T in national Lisbon programmes</a:t>
            </a:r>
            <a:endParaRPr b="0" lang="en-US" sz="3200" spc="-1" strike="noStrike">
              <a:solidFill>
                <a:srgbClr val="0f218b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99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f218b"/>
                </a:solidFill>
                <a:latin typeface="Tahoma"/>
              </a:rPr>
              <a:t>Link to structural funds</a:t>
            </a:r>
            <a:endParaRPr b="0" lang="en-US" sz="3200" spc="-1" strike="noStrike">
              <a:solidFill>
                <a:srgbClr val="0f218b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99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f218b"/>
                </a:solidFill>
                <a:latin typeface="Tahoma"/>
              </a:rPr>
              <a:t>EU reference tools</a:t>
            </a:r>
            <a:endParaRPr b="0" lang="en-US" sz="3200" spc="-1" strike="noStrike">
              <a:solidFill>
                <a:srgbClr val="0f218b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f218b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f218b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f218b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f218b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f218b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F29CD-342E-46B9-A7CC-91A05D0CE0CF}" type="slidenum">
              <a:t>7</a:t>
            </a:fld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41000" y="326520"/>
            <a:ext cx="7226280" cy="1132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c1c6d9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99"/>
                </a:solidFill>
                <a:latin typeface="Tahoma"/>
              </a:rPr>
              <a:t>European co-operation: </a:t>
            </a:r>
            <a:br>
              <a:rPr sz="3600"/>
            </a:br>
            <a:r>
              <a:rPr b="0" lang="en-GB" sz="3600" spc="-1" strike="noStrike">
                <a:solidFill>
                  <a:srgbClr val="000099"/>
                </a:solidFill>
                <a:latin typeface="Tahoma"/>
              </a:rPr>
              <a:t>improved governance + post-2010</a:t>
            </a:r>
            <a:endParaRPr b="0" lang="en-US" sz="3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19040" y="1766880"/>
            <a:ext cx="8229600" cy="368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99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f218b"/>
                </a:solidFill>
                <a:latin typeface="Tahoma"/>
              </a:rPr>
              <a:t>Strengthen OMC</a:t>
            </a:r>
            <a:endParaRPr b="0" lang="en-US" sz="2800" spc="-1" strike="noStrike">
              <a:solidFill>
                <a:srgbClr val="0f218b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99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f218b"/>
                </a:solidFill>
                <a:latin typeface="Tahoma"/>
              </a:rPr>
              <a:t>Interface with other policies</a:t>
            </a:r>
            <a:endParaRPr b="0" lang="en-US" sz="2800" spc="-1" strike="noStrike">
              <a:solidFill>
                <a:srgbClr val="0f218b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99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f218b"/>
                </a:solidFill>
                <a:latin typeface="Tahoma"/>
              </a:rPr>
              <a:t>Better use of peer learning results</a:t>
            </a:r>
            <a:endParaRPr b="0" lang="en-US" sz="2800" spc="-1" strike="noStrike">
              <a:solidFill>
                <a:srgbClr val="0f218b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99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f218b"/>
                </a:solidFill>
                <a:latin typeface="Tahoma"/>
              </a:rPr>
              <a:t>Close coordination with Lisbon at EU and national levels</a:t>
            </a:r>
            <a:endParaRPr b="0" lang="en-US" sz="2800" spc="-1" strike="noStrike">
              <a:solidFill>
                <a:srgbClr val="0f218b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99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f218b"/>
                </a:solidFill>
                <a:latin typeface="Tahoma"/>
              </a:rPr>
              <a:t>Indicators and benchmarks</a:t>
            </a:r>
            <a:endParaRPr b="0" lang="en-US" sz="2800" spc="-1" strike="noStrike">
              <a:solidFill>
                <a:srgbClr val="0f218b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99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f218b"/>
                </a:solidFill>
                <a:latin typeface="Tahoma"/>
              </a:rPr>
              <a:t>Participation of civil society</a:t>
            </a:r>
            <a:endParaRPr b="0" lang="en-US" sz="2800" spc="-1" strike="noStrike">
              <a:solidFill>
                <a:srgbClr val="0f218b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99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f218b"/>
                </a:solidFill>
                <a:latin typeface="Tahoma"/>
              </a:rPr>
              <a:t>Development of post-2010 strategy</a:t>
            </a:r>
            <a:endParaRPr b="0" lang="en-US" sz="2800" spc="-1" strike="noStrike">
              <a:solidFill>
                <a:srgbClr val="0f218b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218b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218b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218b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218b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87992-19C7-45D0-94F5-39F76946465E}" type="slidenum">
              <a:t>8</a:t>
            </a:fld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41000" y="326520"/>
            <a:ext cx="7226280" cy="1132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c1c6d9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99"/>
                </a:solidFill>
                <a:latin typeface="Tahoma"/>
              </a:rPr>
              <a:t>The way forward: LLL to </a:t>
            </a:r>
            <a:br>
              <a:rPr sz="3600"/>
            </a:br>
            <a:r>
              <a:rPr b="0" lang="en-GB" sz="3600" spc="-1" strike="noStrike">
                <a:solidFill>
                  <a:srgbClr val="000099"/>
                </a:solidFill>
                <a:latin typeface="Tahoma"/>
              </a:rPr>
              <a:t>achieve efficiency and equity</a:t>
            </a:r>
            <a:endParaRPr b="0" lang="en-US" sz="3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368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99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f218b"/>
                </a:solidFill>
                <a:latin typeface="Tahoma"/>
              </a:rPr>
              <a:t>improving the knowledge base </a:t>
            </a:r>
            <a:endParaRPr b="0" lang="en-US" sz="3200" spc="-1" strike="noStrike">
              <a:solidFill>
                <a:srgbClr val="0f218b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99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f218b"/>
                </a:solidFill>
                <a:latin typeface="Tahoma"/>
              </a:rPr>
              <a:t>sustainable funding</a:t>
            </a:r>
            <a:endParaRPr b="0" lang="en-US" sz="3200" spc="-1" strike="noStrike">
              <a:solidFill>
                <a:srgbClr val="0f218b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99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f218b"/>
                </a:solidFill>
                <a:latin typeface="Tahoma"/>
              </a:rPr>
              <a:t>raising skills levels</a:t>
            </a:r>
            <a:endParaRPr b="0" lang="en-US" sz="3200" spc="-1" strike="noStrike">
              <a:solidFill>
                <a:srgbClr val="0f218b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99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f218b"/>
                </a:solidFill>
                <a:latin typeface="Tahoma"/>
              </a:rPr>
              <a:t>addressing socio-economic disadvantage</a:t>
            </a:r>
            <a:endParaRPr b="0" lang="en-US" sz="3200" spc="-1" strike="noStrike">
              <a:solidFill>
                <a:srgbClr val="0f218b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99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f218b"/>
                </a:solidFill>
                <a:latin typeface="Tahoma"/>
              </a:rPr>
              <a:t>using the potential of migrants </a:t>
            </a:r>
            <a:endParaRPr b="0" lang="en-US" sz="3200" spc="-1" strike="noStrike">
              <a:solidFill>
                <a:srgbClr val="0f218b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99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f218b"/>
                </a:solidFill>
                <a:latin typeface="Tahoma"/>
              </a:rPr>
              <a:t>high quality teaching</a:t>
            </a:r>
            <a:endParaRPr b="0" lang="en-US" sz="3200" spc="-1" strike="noStrike">
              <a:solidFill>
                <a:srgbClr val="0f218b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f218b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f218b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f218b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013AF-36CC-445D-9065-18C51D78982B}" type="slidenum">
              <a:t>9</a:t>
            </a:fld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Macdonald</dc:creator>
  <dc:description/>
  <cp:keywords>Culture Economy Lisbon Strategy</cp:keywords>
  <dc:language>en-US</dc:language>
  <cp:lastModifiedBy>verlian</cp:lastModifiedBy>
  <dcterms:modified xsi:type="dcterms:W3CDTF">2008-06-16T17:09:24Z</dcterms:modified>
  <cp:revision>117</cp:revision>
  <dc:subject>Culture</dc:subject>
  <dc:title>The Economy of Culture in Europe</dc:title>
</cp:coreProperties>
</file>