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AFA-6715-451F-BA6A-AA3C1C1A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aria, Romania, Slovak Republic, Hungary, Czech Republic have the lowest % of participation of adults in education and training—all less than 6% vs. 20-35% in more advanced European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C45E-4D9B-4AA0-BBA7-D6C5B47F8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C6BF-F4BC-43F8-9D41-75FE61E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2F72-CCCF-4427-8F64-4A6C939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3131-7B4E-43CB-896D-B3D1AA02D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8301-F736-430E-A6E8-483630F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5F70-46CC-45E7-AD68-31A63E5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03AF-4A23-4276-8F08-0EF50E11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4719-C361-42CC-9B9C-EA370BD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0BFF-E499-42BD-B1D5-7F36408F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7AA1-2482-470B-898A-47E244B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3978-052E-452D-9ABA-E1725DA8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9198-E9EB-4D25-83A3-2AE68E7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D17-9D7D-488F-8838-D174E372D48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0"/>
            <a:ext cx="594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DD70-6A7A-421A-AA40-822DF01DCD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4920" y="2133720"/>
            <a:ext cx="69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4750-3AB9-4B33-B857-DBD78DB738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808080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 Unicode MS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77320" y="0"/>
            <a:ext cx="1066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3"/>
          </p:nvPr>
        </p:nvSpPr>
        <p:spPr>
          <a:xfrm>
            <a:off x="1066320" y="655272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hancing Job Opportunities in 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969696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7652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rdon Betch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IAG Meeting on Huma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7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94920" y="144756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ducation and the Labor Market in the Balkan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sing participation in lifelong learning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376" t="26879" r="12189" b="20879"/>
          <a:stretch/>
        </p:blipFill>
        <p:spPr>
          <a:xfrm>
            <a:off x="1066680" y="2360520"/>
            <a:ext cx="7845480" cy="4019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82440" y="1905120"/>
            <a:ext cx="80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ion of Adults in Education and Training in Selected EU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41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3341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countries have employment rates below EU standards, often well below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523880"/>
          <a:ext cx="73915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391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11600" y="1523880"/>
            <a:ext cx="2262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bon EU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 employmen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76560" y="18288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32600" y="5181480"/>
            <a:ext cx="97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086240" y="36576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4600" y="1736640"/>
            <a:ext cx="1305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s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4760" y="21337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eating more and better job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“MILES” multisectoral framework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4680" y="2109600"/>
            <a:ext cx="5270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cc00"/>
                </a:solidFill>
                <a:latin typeface="Tahoma"/>
              </a:rPr>
              <a:t>L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4760" y="2133720"/>
            <a:ext cx="44514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roeconomic stabi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nvestment climat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bor market refor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ucation and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cial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afety 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2096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657600"/>
            <a:ext cx="76320" cy="1828800"/>
          </a:xfrm>
          <a:custGeom>
            <a:avLst/>
            <a:gdLst>
              <a:gd name="textAreaLeft" fmla="*/ 0 w 76320"/>
              <a:gd name="textAreaRight" fmla="*/ 2736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Job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Labor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14600"/>
            <a:ext cx="19810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267080"/>
            <a:ext cx="1981080" cy="609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838080"/>
          <a:ext cx="87631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763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to firm growth -- SEE (BEEPS 2005)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2286000" cy="304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skills/education of workers as a barrier to growth (BEEPS 2005)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506600"/>
          <a:ext cx="885492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6600"/>
                    <a:ext cx="88549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174280" y="205740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of firms that reporting as a significant con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ng will mean that working age population will need to be productiv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81200"/>
          <a:ext cx="80262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81200"/>
                    <a:ext cx="80262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87560" y="198108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change in population, 1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 of age, 2005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ducation leads to better employment outcomes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-29 year olds, non-agriculture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1828800"/>
          <a:ext cx="7772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 is also rewarded in higher earning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usted wage premium relative to basic edu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agriculture workers under 35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2209680"/>
          <a:ext cx="76964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6964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133720" cy="196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4495680"/>
            <a:ext cx="2362320" cy="1563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51600" y="137160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skills adequ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8006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Lab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good jobs avail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14300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572000"/>
            <a:ext cx="23623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</p:cNvCxnSpPr>
          <p:nvPr/>
        </p:nvCxnSpPr>
        <p:spPr>
          <a:xfrm flipH="1" rot="16200000">
            <a:off x="1770840" y="2476440"/>
            <a:ext cx="2171880" cy="190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3656880" y="30481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9b80"/>
                </a:solidFill>
                <a:latin typeface="Arial"/>
              </a:rPr>
              <a:t>Transition for school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666880"/>
            <a:ext cx="365760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56:19Z</dcterms:created>
  <dc:creator>ED4Admin</dc:creator>
  <dc:description/>
  <dc:language>en-US</dc:language>
  <cp:lastModifiedBy>ED4Admin</cp:lastModifiedBy>
  <dcterms:modified xsi:type="dcterms:W3CDTF">2008-06-16T15:25:45Z</dcterms:modified>
  <cp:revision>8</cp:revision>
  <dc:subject/>
  <dc:title>Education and the Labor Market in the Western Balkans</dc:title>
</cp:coreProperties>
</file>