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028-30C6-4325-AF56-D8705853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BFF-0712-40E7-A613-24A870EE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894-657F-4832-8A66-80BB480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730-B791-4F21-9139-ECF947CD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73CB-53C3-4E08-8FCD-1C8B34BB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C366-5EA2-44A0-8107-62997B5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EA0B-23E2-402D-AC58-1E2A6B54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4172-A24F-4B4B-A9DF-DB5196A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3095-5426-4F31-96AA-AA89110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6E2E-FE03-418B-8E4C-06FA2FA5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422B-170A-46C5-89A3-FE836AA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C1B-E24F-490A-AEAD-F90ED8D5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743E-6E48-476C-A7B7-2D88B61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66D-8317-425D-B3F4-8B67CD3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69A0-2F14-4675-9868-A04F33E4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9C5E-E968-4AFB-9740-17951BE5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3840"/>
            <a:ext cx="264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AE4-4D3C-4393-A213-F4DC1EE2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BEE-6BDC-453A-A37A-830F4EDA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71E-FC75-415E-8C59-432AB237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762-7D66-48E9-914B-7F73BF68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1000" y="326520"/>
            <a:ext cx="7226280" cy="52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B0B-A75A-4DC6-A762-50D0AD5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2FF-F69C-4216-B72C-BFF53FD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384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B67-81EB-4E9E-9C64-3A706ED6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38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0EB-6926-4FC2-A245-2B17D3B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A1E-9B1B-4A23-B89E-AE80B673323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5000" y="2064960"/>
            <a:ext cx="868356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0F98-6BB6-44D3-9BC2-68B43051F747}" type="slidenum">
              <a:rPr b="0" lang="en-GB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218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218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f218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218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f218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0280" y="1866600"/>
            <a:ext cx="8648640" cy="188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Delivering lifelong learning for knowledge, creativity and innovation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6520" y="4808160"/>
            <a:ext cx="8408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Draft Joint Progress Report on Education &amp; Training 2010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ducation Committee, Lisbon, 3 December 2007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Gordon Clark, Michael Teutsch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European Commission, DG Education and Cultur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nnovation and creativ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ducation as key element in the knowledge triangle </a:t>
            </a:r>
            <a:br>
              <a:rPr sz="3200"/>
            </a:b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(education – research – innovation)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Centres of excelle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niversity-business co-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chools and VET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36-90F7-4BEC-9093-1D5716F7F137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reas addressed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6680" y="2058480"/>
            <a:ext cx="8229600" cy="36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LL strategies and transversal issu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VET and adult learn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ropean cooperation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27F-B48D-43BA-BE6C-93362D789D00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240" y="268200"/>
            <a:ext cx="8317080" cy="1262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LLL strategies (2002 resolution, efficiency/equity, guidelines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vering all systems and level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t set of priorities, evidence-based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flexible pathways and transition points: avoid dead-e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: partnership with stakeholder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D0F-B142-45E6-B7B2-5836B948277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360" y="282600"/>
            <a:ext cx="6888240" cy="117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Some progress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920" y="1239480"/>
            <a:ext cx="8775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Majority of countries have explicit strategi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mprehensiveness. Progress on validation of non-formal, still focus on formal system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Coherence: progress on evidence base + flexible learning pathways (qualification frameworks)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1b7d"/>
                </a:solidFill>
                <a:latin typeface="Tahoma"/>
              </a:rPr>
              <a:t>Implementation and dissemination, partnership and funding as main challeng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6CC-5DDB-4FF6-B0B1-CFD7C9330034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742080" y="6443640"/>
            <a:ext cx="21337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6218-E06A-45A1-B11C-D481B0D3C26B}" type="slidenum">
              <a:rPr b="0" lang="de-DE" sz="14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12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12" descr="map"/>
          <p:cNvPicPr/>
          <p:nvPr/>
        </p:nvPicPr>
        <p:blipFill>
          <a:blip r:embed="rId2"/>
          <a:stretch/>
        </p:blipFill>
        <p:spPr>
          <a:xfrm>
            <a:off x="2124000" y="1020600"/>
            <a:ext cx="4969080" cy="4784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98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Tahoma"/>
                <a:ea typeface="Arial"/>
              </a:rPr>
              <a:t>Countries’ situation in relation to development of qualifications framewor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Tahoma"/>
                <a:ea typeface="Arial"/>
              </a:rPr>
              <a:t>This map represents the situation as of November 2007, which is in constant evolution.  Most of the countries in red are considering the option of having a National Qualifications Framework but have not yet taken a decisi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163520"/>
          <a:ext cx="1871640" cy="5694480"/>
        </p:xfrm>
        <a:graphic>
          <a:graphicData uri="http://schemas.openxmlformats.org/drawingml/2006/table">
            <a:tbl>
              <a:tblPr/>
              <a:tblGrid>
                <a:gridCol w="1071720"/>
                <a:gridCol w="7999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E 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B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C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D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H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199280" y="828720"/>
          <a:ext cx="1944720" cy="6029280"/>
        </p:xfrm>
        <a:graphic>
          <a:graphicData uri="http://schemas.openxmlformats.org/drawingml/2006/table">
            <a:tbl>
              <a:tblPr/>
              <a:tblGrid>
                <a:gridCol w="1108080"/>
                <a:gridCol w="836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2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Count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Q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L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T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336699"/>
                          </a:solidFill>
                          <a:latin typeface="Tahoma"/>
                        </a:rPr>
                        <a:t>U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24000" y="5805360"/>
          <a:ext cx="4753080" cy="1027080"/>
        </p:xfrm>
        <a:graphic>
          <a:graphicData uri="http://schemas.openxmlformats.org/drawingml/2006/table">
            <a:tbl>
              <a:tblPr/>
              <a:tblGrid>
                <a:gridCol w="962280"/>
                <a:gridCol w="3790800"/>
              </a:tblGrid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has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is developing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46260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f218b"/>
                          </a:solidFill>
                          <a:latin typeface="Tahoma"/>
                        </a:rPr>
                        <a:t>Country which has not yet taken a decision to have a frame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440">
                      <a:solidFill>
                        <a:srgbClr val="336699"/>
                      </a:solidFill>
                    </a:lnL>
                    <a:lnR w="1440">
                      <a:solidFill>
                        <a:srgbClr val="336699"/>
                      </a:solidFill>
                    </a:lnR>
                    <a:lnT w="1440">
                      <a:solidFill>
                        <a:srgbClr val="336699"/>
                      </a:solidFill>
                    </a:lnT>
                    <a:lnB w="1440">
                      <a:solidFill>
                        <a:srgbClr val="336699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49B-32ED-47A9-86D1-A0C7BE0FB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VET and adult learn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622520"/>
            <a:ext cx="872496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Participation of older workers and low-skilled very low – equity, potential of migrants!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Quality and attractivenes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links with labour market nee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e transition and guidanc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nsufficient mobility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EC3-43CD-48B4-B990-20044D60B9C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uropean co-operatio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9796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Mobility: link national measures to LLP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&amp;T in national Lisbon programme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Link to structural fund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EU reference too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73B-62CB-4726-8F12-01E10390EDD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European co-operation: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improved governance + post-2010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76688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Strengthen OMC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terface with other policie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Better use of peer learning result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Close coordination with Lisbon at EU and national level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Indicators and benchmarks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Participation of civil societ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218b"/>
                </a:solidFill>
                <a:latin typeface="Tahoma"/>
              </a:rPr>
              <a:t>Development of post-2010 strategy</a:t>
            </a: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E73-1A09-43B5-9AD5-BC664BA132C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000" y="326520"/>
            <a:ext cx="7226280" cy="1132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1c6d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The way forward: LLL to 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Tahoma"/>
              </a:rPr>
              <a:t>achieve efficiency and equity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improving the knowledge base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sustainable fund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raising skills levels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addressing socio-economic disadvantage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using the potential of migrants 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99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218b"/>
                </a:solidFill>
                <a:latin typeface="Tahoma"/>
              </a:rPr>
              <a:t>high quality teaching</a:t>
            </a: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f218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375-DAA0-4440-805C-58A7D7F3DA1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Macdonald</dc:creator>
  <dc:description/>
  <cp:keywords>Culture Economy Lisbon Strategy</cp:keywords>
  <dc:language>en-US</dc:language>
  <cp:lastModifiedBy>verlian</cp:lastModifiedBy>
  <dcterms:modified xsi:type="dcterms:W3CDTF">2008-06-16T17:09:24Z</dcterms:modified>
  <cp:revision>117</cp:revision>
  <dc:subject>Culture</dc:subject>
  <dc:title>The Economy of Culture in Europe</dc:title>
</cp:coreProperties>
</file>