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png" ContentType="image/png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0" i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199D1-143C-4061-961A-4EBDA6EBBC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lgaria, Romania, Slovak Republic, Hungary, Czech Republic have the lowest % of participation of adults in education and training—all less than 6% vs. 20-35% in more advanced European econom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2E1B65-0506-4472-8C8E-F12F15D74C3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76964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1066320" y="3984840"/>
            <a:ext cx="76964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C956BE-C17D-40EE-BE6D-7E1101F77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010120" y="167652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1066320" y="398484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010120" y="398484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DB6E0C-44D7-450C-9234-3FE2265F7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24778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668400" y="1676520"/>
            <a:ext cx="24778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270480" y="1676520"/>
            <a:ext cx="24778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1066320" y="3984840"/>
            <a:ext cx="24778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668400" y="3984840"/>
            <a:ext cx="24778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270480" y="3984840"/>
            <a:ext cx="24778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1BDDB2-7A3B-43C1-A409-CE422CCC250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066320" y="1676520"/>
            <a:ext cx="769644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76964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37555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10120" y="1676520"/>
            <a:ext cx="37555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01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10120" y="1676520"/>
            <a:ext cx="37555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8484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1066320" y="1676520"/>
            <a:ext cx="769644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14B23B-F91A-439A-9CA8-42453F0E0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37555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10120" y="167652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010120" y="398484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10120" y="167652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320" y="3984840"/>
            <a:ext cx="76964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76964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066320" y="3984840"/>
            <a:ext cx="76964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010120" y="167652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066320" y="398484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010120" y="398484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24778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668400" y="1676520"/>
            <a:ext cx="24778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70480" y="1676520"/>
            <a:ext cx="24778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066320" y="3984840"/>
            <a:ext cx="24778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668400" y="3984840"/>
            <a:ext cx="24778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70480" y="3984840"/>
            <a:ext cx="24778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76964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D77878-1516-44AA-9EC5-0F3B88499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37555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10120" y="1676520"/>
            <a:ext cx="37555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469229-1BAC-4991-A331-4C514BED3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6AD536-9F29-44FB-AC1B-715DCB53E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01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A15B03-3005-4A51-BAB5-610E62E9B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10120" y="1676520"/>
            <a:ext cx="37555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66320" y="398484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829AFE-F5E8-44B5-9936-A2FCD0C2B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37555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0120" y="167652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0120" y="398484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1FCA67-1D7E-4F53-974B-3211C92B2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10120" y="167652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84840"/>
            <a:ext cx="76964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999BF8-787E-44BC-86EB-8061ABA98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320" y="1676520"/>
            <a:ext cx="76964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086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CCEEF-5421-4656-BC07-AE880C8DBA39}" type="slidenum">
              <a:rPr b="0" lang="en-US" sz="14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0" y="594360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0" y="5181480"/>
            <a:ext cx="914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Unicode MS"/>
              </a:rPr>
              <a:t>The World Ban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1143000" y="0"/>
            <a:ext cx="5943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7772400" y="62485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11993-6C6D-4CF7-B371-A66A5AF143A5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5181480"/>
            <a:ext cx="914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Unicode MS"/>
              </a:rPr>
              <a:t>The World Ban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304920" y="2133720"/>
            <a:ext cx="693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7543800" y="58672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1416C-5FA1-4FC2-BCBB-226769EE4359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>
            <a:off x="0" y="0"/>
            <a:ext cx="914400" cy="685800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"/>
          <p:cNvSpPr/>
          <p:nvPr/>
        </p:nvSpPr>
        <p:spPr>
          <a:xfrm>
            <a:off x="1143000" y="0"/>
            <a:ext cx="8001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"/>
          <p:cNvSpPr/>
          <p:nvPr/>
        </p:nvSpPr>
        <p:spPr>
          <a:xfrm>
            <a:off x="914400" y="0"/>
            <a:ext cx="8229600" cy="304920"/>
          </a:xfrm>
          <a:prstGeom prst="rect">
            <a:avLst/>
          </a:prstGeom>
          <a:gradFill rotWithShape="0">
            <a:gsLst>
              <a:gs pos="0">
                <a:srgbClr val="808080">
                  <a:alpha val="26274"/>
                </a:srgbClr>
              </a:gs>
              <a:gs pos="100000">
                <a:srgbClr val="ff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ff"/>
                </a:solidFill>
                <a:latin typeface="Arial Unicode MS"/>
              </a:rPr>
              <a:t>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dfd6c3"/>
              </a:gs>
              <a:gs pos="100000">
                <a:srgbClr val="4d4d4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" name="" descr=""/>
          <p:cNvPicPr/>
          <p:nvPr/>
        </p:nvPicPr>
        <p:blipFill>
          <a:blip r:embed="rId3">
            <a:grayscl/>
          </a:blip>
          <a:stretch/>
        </p:blipFill>
        <p:spPr>
          <a:xfrm>
            <a:off x="0" y="5943600"/>
            <a:ext cx="914400" cy="914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8077320" y="0"/>
            <a:ext cx="106668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ftr" idx="3"/>
          </p:nvPr>
        </p:nvSpPr>
        <p:spPr>
          <a:xfrm>
            <a:off x="1066320" y="6552720"/>
            <a:ext cx="5334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Enhancing Job Opportunities in E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0"/>
            <a:ext cx="8229600" cy="304920"/>
          </a:xfrm>
          <a:prstGeom prst="rect">
            <a:avLst/>
          </a:prstGeom>
          <a:gradFill rotWithShape="0">
            <a:gsLst>
              <a:gs pos="0">
                <a:srgbClr val="969696">
                  <a:alpha val="26274"/>
                </a:srgbClr>
              </a:gs>
              <a:gs pos="100000">
                <a:srgbClr val="ff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dfd6c3"/>
              </a:gs>
              <a:gs pos="100000">
                <a:srgbClr val="4d4d4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0"/>
            <a:ext cx="914400" cy="685800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0" y="594360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0" y="5181480"/>
            <a:ext cx="914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Unicode MS"/>
              </a:rPr>
              <a:t>The World Ban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43000" y="0"/>
            <a:ext cx="8001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1676520" y="3581280"/>
            <a:ext cx="6400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rdon Betcherm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ld Ba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IAG Meeting on Huma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une 17, 200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title"/>
          </p:nvPr>
        </p:nvSpPr>
        <p:spPr>
          <a:xfrm>
            <a:off x="1294920" y="1447560"/>
            <a:ext cx="7162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Education and the Labor Market in the Balkans</a:t>
            </a:r>
            <a:endParaRPr b="0" i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Raising participation in lifelong learning</a:t>
            </a:r>
            <a:endParaRPr b="0" i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rcRect l="9376" t="26879" r="12189" b="20879"/>
          <a:stretch/>
        </p:blipFill>
        <p:spPr>
          <a:xfrm>
            <a:off x="1066680" y="2360520"/>
            <a:ext cx="7845480" cy="401976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982440" y="1905120"/>
            <a:ext cx="804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ticipation of Adults in Education and Training in Selected EU Cou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553080" y="5334120"/>
            <a:ext cx="609840" cy="5331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057400" y="5334120"/>
            <a:ext cx="53352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E countries have employment rates below EU standards, often well below</a:t>
            </a:r>
            <a:endParaRPr b="0" i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1066680" y="1523880"/>
          <a:ext cx="7391520" cy="4800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523880"/>
                    <a:ext cx="7391520" cy="48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6411600" y="1523880"/>
            <a:ext cx="226260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isbon EU targ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70% employment r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4876560" y="1828800"/>
            <a:ext cx="14475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932600" y="5181480"/>
            <a:ext cx="97920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tio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H="1" flipV="1">
            <a:off x="7086240" y="3657600"/>
            <a:ext cx="121932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974600" y="1736640"/>
            <a:ext cx="13053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Jobs defic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1904760" y="2133720"/>
            <a:ext cx="68580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040" y="3805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reating more and better job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The “MILES” multisectoral framework</a:t>
            </a:r>
            <a:endParaRPr b="0" i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444680" y="2109600"/>
            <a:ext cx="527040" cy="36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0000"/>
                </a:solidFill>
                <a:latin typeface="Tahoma"/>
              </a:rPr>
              <a:t>M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0000"/>
                </a:solidFill>
                <a:latin typeface="Tahoma"/>
              </a:rPr>
              <a:t>I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cccc00"/>
                </a:solidFill>
                <a:latin typeface="Tahoma"/>
              </a:rPr>
              <a:t>L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8000"/>
                </a:solidFill>
                <a:latin typeface="Tahoma"/>
              </a:rPr>
              <a:t>E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8000"/>
                </a:solidFill>
                <a:latin typeface="Tahoma"/>
              </a:rPr>
              <a:t>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1904760" y="2133720"/>
            <a:ext cx="4451400" cy="391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acroeconomic stability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nvestment climate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abor market reforms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ducation and skills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ocial</a:t>
            </a:r>
            <a:r>
              <a:rPr b="1" lang="en-US" sz="3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safety net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"/>
          <p:cNvSpPr/>
          <p:nvPr/>
        </p:nvSpPr>
        <p:spPr>
          <a:xfrm>
            <a:off x="6400800" y="2209680"/>
            <a:ext cx="152280" cy="1905120"/>
          </a:xfrm>
          <a:custGeom>
            <a:avLst/>
            <a:gdLst>
              <a:gd name="textAreaLeft" fmla="*/ 0 w 152280"/>
              <a:gd name="textAreaRight" fmla="*/ 55080 w 152280"/>
              <a:gd name="textAreaTop" fmla="*/ 49680 h 1905120"/>
              <a:gd name="textAreaBottom" fmla="*/ 1855440 h 1905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629400" y="3657600"/>
            <a:ext cx="76320" cy="1828800"/>
          </a:xfrm>
          <a:custGeom>
            <a:avLst/>
            <a:gdLst>
              <a:gd name="textAreaLeft" fmla="*/ 0 w 76320"/>
              <a:gd name="textAreaRight" fmla="*/ 27360 w 7632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934320" y="259092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Job cre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934320" y="4267080"/>
            <a:ext cx="1904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ahoma"/>
              </a:rPr>
              <a:t>Labor suppl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934320" y="2514600"/>
            <a:ext cx="1981080" cy="6094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934320" y="4267080"/>
            <a:ext cx="1981080" cy="609840"/>
          </a:xfrm>
          <a:prstGeom prst="rect">
            <a:avLst/>
          </a:pr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5" name=""/>
          <p:cNvGraphicFramePr/>
          <p:nvPr/>
        </p:nvGraphicFramePr>
        <p:xfrm>
          <a:off x="838080" y="838080"/>
          <a:ext cx="8763120" cy="563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838080"/>
                    <a:ext cx="8763120" cy="563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8153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stacles to firm growth -- SEE (BEEPS 2005)</a:t>
            </a: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"/>
          <p:cNvSpPr/>
          <p:nvPr/>
        </p:nvSpPr>
        <p:spPr>
          <a:xfrm>
            <a:off x="914400" y="3809880"/>
            <a:ext cx="2286000" cy="30492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320" y="456840"/>
            <a:ext cx="80773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ortance of skills/education of workers as a barrier to growth (BEEPS 2005)</a:t>
            </a:r>
            <a:endParaRPr b="0" i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0" y="1506600"/>
          <a:ext cx="8854920" cy="4741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506600"/>
                    <a:ext cx="8854920" cy="474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" name=""/>
          <p:cNvSpPr/>
          <p:nvPr/>
        </p:nvSpPr>
        <p:spPr>
          <a:xfrm>
            <a:off x="5174280" y="2057400"/>
            <a:ext cx="356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% of firms that reporting as a significant constra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ging will mean that working age population will need to be productive</a:t>
            </a:r>
            <a:endParaRPr b="0" i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762120" y="1681200"/>
          <a:ext cx="8026200" cy="468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81200"/>
                    <a:ext cx="8026200" cy="468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1987560" y="1981080"/>
            <a:ext cx="422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centage change in population, 15-6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ears of age, 2005-20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320" y="533160"/>
            <a:ext cx="80773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Education leads to better employment outcomes </a:t>
            </a:r>
            <a:br>
              <a:rPr sz="36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5-29 year olds, non-agriculture</a:t>
            </a:r>
            <a:endParaRPr b="0" i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1066680" y="1828800"/>
          <a:ext cx="7772400" cy="4495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828800"/>
                    <a:ext cx="7772400" cy="449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6668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ucation is also rewarded in higher earnings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justed wage premium relative to basic educa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agriculture workers under 35</a:t>
            </a:r>
            <a:endParaRPr b="0" i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1066680" y="2209680"/>
          <a:ext cx="7696440" cy="4191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209680"/>
                    <a:ext cx="7696440" cy="41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1404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838080" y="380880"/>
            <a:ext cx="2133720" cy="196236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2743200" y="4495680"/>
            <a:ext cx="2362320" cy="1563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3351600" y="1371600"/>
            <a:ext cx="2474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69b80"/>
                </a:solidFill>
                <a:latin typeface="Arial"/>
              </a:rPr>
              <a:t>Education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d69b80"/>
                </a:solidFill>
                <a:latin typeface="Arial"/>
              </a:rPr>
              <a:t>Are skills adequat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029200" y="4800600"/>
            <a:ext cx="2590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69b80"/>
                </a:solidFill>
                <a:latin typeface="Arial"/>
              </a:rPr>
              <a:t>Labor mark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d69b80"/>
                </a:solidFill>
                <a:latin typeface="Arial"/>
              </a:rPr>
              <a:t>Are good jobs available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124080" y="1143000"/>
            <a:ext cx="2743200" cy="1295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257800" y="4572000"/>
            <a:ext cx="2362320" cy="1371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0" name=""/>
          <p:cNvCxnSpPr>
            <a:stCxn id="144" idx="2"/>
          </p:cNvCxnSpPr>
          <p:nvPr/>
        </p:nvCxnSpPr>
        <p:spPr>
          <a:xfrm flipH="1" rot="16200000">
            <a:off x="1770840" y="2476440"/>
            <a:ext cx="2171880" cy="19054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63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1" name=""/>
          <p:cNvSpPr/>
          <p:nvPr/>
        </p:nvSpPr>
        <p:spPr>
          <a:xfrm>
            <a:off x="3656880" y="304812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69b80"/>
                </a:solidFill>
                <a:latin typeface="Arial"/>
              </a:rPr>
              <a:t>Transition for school to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505320" y="2666880"/>
            <a:ext cx="3657600" cy="1067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6T12:56:19Z</dcterms:created>
  <dc:creator>ED4Admin</dc:creator>
  <dc:description/>
  <dc:language>en-US</dc:language>
  <cp:lastModifiedBy>ED4Admin</cp:lastModifiedBy>
  <dcterms:modified xsi:type="dcterms:W3CDTF">2008-06-16T15:25:45Z</dcterms:modified>
  <cp:revision>8</cp:revision>
  <dc:subject/>
  <dc:title>Education and the Labor Market in the Western Balkans</dc:title>
</cp:coreProperties>
</file>