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27240" y="-360"/>
            <a:ext cx="30049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6208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9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75628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27240" y="8756280"/>
            <a:ext cx="30049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EA71BD2-92A2-42CE-A9BB-305198C85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92280" y="4379400"/>
            <a:ext cx="5549760" cy="41482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Step Forward in raising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ddition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cessional financing for climate change mitigation and adaptation. This is the second pillar of the Strategic Framework on Climate Change and Development (SFCCD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worldbank.org/climatecon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7627-8667-4631-9EDB-D8CC35DA4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467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296E-EDF1-4F55-B0D2-8E798DC8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467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467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6765-7B19-47DC-BDE4-2FDA09CC2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103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103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467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467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467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C34E-CA91-4915-BB84-106241FC5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CF42-276F-4782-8A78-927596CB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FC2E-1163-48A5-9BAB-C63694AA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6A79-C15B-4B72-B124-47C2A635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72C6-75AD-4EEF-A22A-F02CDAEF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B377-727E-43DC-888B-C20F69A8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467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A3D1-13B6-4419-84B2-76C15A0D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467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16C5-AD79-42DF-85EC-5D698C67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467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DF11-A204-41D7-A237-22D1811E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5F08-31C1-4674-83BE-5F07E6508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ppt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1295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Climate Investment Fun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www.worldbank.org/ci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7A79-2CD3-4615-9E74-5E73DDAC0F2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22856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F Trust Fund Committee to approve investment criteria and financing terms in Nov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ment Plan joint mission will commence in November/Dec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F likely to consider funding proposals in early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8B25-B516-4848-8619-58A4464FD42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281916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www.worldbank.org/ci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3009-45CE-4518-B541-83CFAEB1FC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Building on New Initi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K Environmental Transformation 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 Clean Technology 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pan Cool Earth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B, AfDB, EBRD, IDB and the WBG joined forces to establish a portfolio of funds to scale up investments to address the challenges of climat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647712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934320" y="64008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666880" y="36576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Joining Fo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9F79-C91E-4057-BD34-3EBB03D7E9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CIF Design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tilize skills and capabilities of MDBs to deliver financing at significant scale to unleash the potential of the public and private sectors to address climat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lement other multilateral financial mechanisms, such as GEF and Adaptation F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lude a “sunset clause” to avoid pre-judging a future agre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 together number of emerging initiatives to address climate change – providing coherence and avoiding proliferation of many small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D335-2B9E-4AC6-B709-B302997976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CIF:  Two New Trust F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ean Technology Fund:  will provide scaled-up financing to contribute to demonstration, deployment and transfer of low-carbon technologies with a significant potential for long-term greenhouse gas emissions 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ategic Climate Funds:  broader and more flexible in scope – overarching fund to support various programs to test innovative approaches to climat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D0D9-BA21-4572-8F24-A243F9A7DC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57800" y="3200400"/>
            <a:ext cx="3276720" cy="342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24480" y="4419720"/>
            <a:ext cx="1143000" cy="2209680"/>
          </a:xfrm>
          <a:prstGeom prst="rect">
            <a:avLst/>
          </a:prstGeom>
          <a:solidFill>
            <a:srgbClr val="ffcc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en-US" sz="900" spc="-1" strike="noStrike">
                <a:solidFill>
                  <a:srgbClr val="cc6600"/>
                </a:solidFill>
                <a:latin typeface="Arial"/>
              </a:rPr>
              <a:t>Other</a:t>
            </a:r>
            <a:br>
              <a:rPr sz="900"/>
            </a:br>
            <a:r>
              <a:rPr b="1" lang="en-US" sz="900" spc="-1" strike="noStrike">
                <a:solidFill>
                  <a:srgbClr val="cc6600"/>
                </a:solidFill>
                <a:latin typeface="Arial"/>
              </a:rPr>
              <a:t>SCF Program </a:t>
            </a:r>
            <a:br>
              <a:rPr sz="900"/>
            </a:b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Sub-Committee</a:t>
            </a:r>
            <a:br>
              <a:rPr sz="900"/>
            </a:br>
            <a:br>
              <a:rPr sz="5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ributors / recipients / observ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tructure of Two Funds </a:t>
            </a:r>
            <a:br>
              <a:rPr sz="3200"/>
            </a:b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Gover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90720" y="2362320"/>
            <a:ext cx="7315200" cy="45972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743040" indent="-285840" algn="ctr">
              <a:spcBef>
                <a:spcPts val="2999"/>
              </a:spcBef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artnership Fo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971800"/>
            <a:ext cx="830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76312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3505320"/>
            <a:ext cx="2971800" cy="380880"/>
          </a:xfrm>
          <a:prstGeom prst="rect">
            <a:avLst/>
          </a:prstGeom>
          <a:solidFill>
            <a:srgbClr val="bbe0e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lean Technology F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57800" y="3200400"/>
            <a:ext cx="3276720" cy="380880"/>
          </a:xfrm>
          <a:prstGeom prst="rect">
            <a:avLst/>
          </a:prstGeom>
          <a:solidFill>
            <a:srgbClr val="99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Strategic Climate F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4038480"/>
            <a:ext cx="2971800" cy="3812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ust Fund Committe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5 contributors/ 5 recipien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57800" y="4419720"/>
            <a:ext cx="1143000" cy="2209680"/>
          </a:xfrm>
          <a:prstGeom prst="rect">
            <a:avLst/>
          </a:prstGeom>
          <a:solidFill>
            <a:srgbClr val="9933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Pilot Program for </a:t>
            </a:r>
            <a:br>
              <a:rPr sz="900"/>
            </a:b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Climate Resilience</a:t>
            </a: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Sub-Committee</a:t>
            </a:r>
            <a:br>
              <a:rPr sz="9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ributors / recipients / observ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91520" y="4419720"/>
            <a:ext cx="1143000" cy="2209680"/>
          </a:xfrm>
          <a:prstGeom prst="rect">
            <a:avLst/>
          </a:prstGeom>
          <a:solidFill>
            <a:srgbClr val="33333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ther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CF Program</a:t>
            </a:r>
            <a:br>
              <a:rPr sz="900"/>
            </a:b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Sub-Committee</a:t>
            </a:r>
            <a:br>
              <a:rPr sz="900"/>
            </a:br>
            <a:br>
              <a:rPr sz="5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ributors / recipients / observ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3200400"/>
            <a:ext cx="3276720" cy="342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3200400"/>
            <a:ext cx="3276720" cy="380880"/>
          </a:xfrm>
          <a:prstGeom prst="rect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Clean Technology F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4648320"/>
            <a:ext cx="3276720" cy="1981080"/>
          </a:xfrm>
          <a:prstGeom prst="rect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bservers from organizations with mandates to provide investment in clean technology, such as GEF and observer from UN for broad strategic discus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5410080"/>
            <a:ext cx="685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553080" y="5410080"/>
            <a:ext cx="685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20120" y="5410080"/>
            <a:ext cx="685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3581280"/>
            <a:ext cx="25909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3581280"/>
            <a:ext cx="25905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5257800"/>
            <a:ext cx="9144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581280"/>
            <a:ext cx="31240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ust Fund Committee</a:t>
            </a:r>
            <a:br>
              <a:rPr sz="12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to include 8 representatives from donors, 8 representatives from recipient countries; the country whose program or project is under consideration; representative of  World Bank; representative of MDBs on rotating basi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3581280"/>
            <a:ext cx="31240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ust Fund Committee</a:t>
            </a:r>
            <a:br>
              <a:rPr sz="12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8 representatives from donors, 8 representatives from recipient countries, representatives from  World Bank, representatives from MDBs on a rotating basis, observers from GEF, UNEP, UNFCCC and civil society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8088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066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Clean Technology 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3160" y="1904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F will focus on high abatement opportunities at the country level - could also support sub-regional and regional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dges:  US$5.2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technology neu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ge of investments in the power and transport sectors as well as energy efficiency in buildings, industry and agri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tilizes blend/suite of concessional financing instruments (grants, concessional loans) and risk mitigation instruments (guarante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FBD0-9632-49EF-B800-0909281E47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088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066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Clean Technology 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3160" y="1904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ntry Eligibility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DA- elig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active MDB country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iteria to prioritize programs and projects to be agreed by Trust Fund Committee to allow an assessment of transformative potential and to maximize GHG reductions per dollar sp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gnificant GHG saving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onstration potential at sca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impact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ation 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3612-6D79-44AD-A7E6-6E0AF6611E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wth in National-Level Market Low-carbon Inno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2171880" y="2565360"/>
          <a:ext cx="4800600" cy="360036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71880" y="2565360"/>
                    <a:ext cx="480060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0B98-99E6-453D-A8B1-D685F0FDDC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Procedures for Approving CIF Fina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22856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F:  Trust Fund Committee will review investment plans and will approve use of CTF funds for projects and programs at pre-appraisal st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perations financed by an MDB will follow the MDB’s operational policies and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2B7D-AB32-4341-831B-8EA25501E0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5:23:34Z</dcterms:created>
  <dc:creator>Wb318597</dc:creator>
  <dc:description/>
  <dc:language>en-US</dc:language>
  <cp:lastModifiedBy>WB145722</cp:lastModifiedBy>
  <dcterms:modified xsi:type="dcterms:W3CDTF">2008-10-22T17:52:48Z</dcterms:modified>
  <cp:revision>336</cp:revision>
  <dc:subject/>
  <dc:title>Towards A Strategic Framework on Climate Change for  the World Bank Group</dc:title>
</cp:coreProperties>
</file>