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27240" y="-360"/>
            <a:ext cx="30049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62080" y="690120"/>
            <a:ext cx="4610160" cy="34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9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756280"/>
            <a:ext cx="300528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27240" y="8756280"/>
            <a:ext cx="30049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27FBA3A-F15A-4F4F-8674-865B0BB44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92280" y="4379400"/>
            <a:ext cx="5549760" cy="41482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rete Step Forward in raising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ddition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cessional financing for climate change mitigation and adaptation. This is the second pillar of the Strategic Framework on Climate Change and Development (SFCCD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worldbank.org/climatecon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F425-FC23-46B7-8F97-175BD26B8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467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67B2-BDDC-4925-8590-3A925F67A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2103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467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467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91F9-4555-4FCE-8DF0-E1059C73C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2103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2103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467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467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467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2452-520A-449F-9BD2-8E05D1446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4565-D3B8-4133-AFF3-BA543856C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23F3-8E76-4A21-A824-231586681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21034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AE11-9422-420F-B867-FD92AB037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E102-39C0-43CE-9C53-99ED16632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D046-21C2-4B5C-9168-FA5020101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1034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467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2BB6-B1AE-4A6E-A59B-C980CFF6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103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467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B920-BE37-4C7B-9E58-6C2594BF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103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467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0DBA-2E4B-454F-B424-105657AB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D0D28-B6BC-4434-8A65-396E5F2A7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ppt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9144000" cy="1295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3399"/>
                </a:solidFill>
                <a:latin typeface="Arial"/>
              </a:rPr>
              <a:t>Climate Investment Fun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Arial"/>
              </a:rPr>
              <a:t>www.worldbank.org/ci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7D7F-069B-44FA-8B0D-07313801149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228564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TF Trust Fund Committee to approve investment criteria and financing terms in Nov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stment Plan joint mission will commence in November/Dec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TF likely to consider funding proposals in early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03680" y="6132600"/>
            <a:ext cx="519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EF24-CC6B-4DF4-BD3A-55CA9D554B1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03680" y="6132600"/>
            <a:ext cx="519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281916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Arial"/>
              </a:rPr>
              <a:t>www.worldbank.org/ci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0E3D-97E3-4AD6-A6B1-E665F1CB3BF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Building on New Initi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K Environmental Transformation F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 Clean Technology F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pan Cool Earth 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B, AfDB, EBRD, IDB and the WBG joined forces to establish a portfolio of funds to scale up investments to address the challenges of climate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28800" y="647712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934320" y="640080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666880" y="365760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Joining Fo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E33A-FFB5-49A6-8453-ADC284E03C8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CIF Design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03680" y="6132600"/>
            <a:ext cx="519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tilize skills and capabilities of MDBs to deliver financing at significant scale to unleash the potential of the public and private sectors to address climate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lement other multilateral financial mechanisms, such as GEF and Adaptation F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lude a “sunset clause” to avoid pre-judging a future agre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 together number of emerging initiatives to address climate change – providing coherence and avoiding proliferation of many small initi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67F0-5C23-4C4C-8373-D3AF95094A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CIF:  Two New Trust F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03680" y="6132600"/>
            <a:ext cx="519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ean Technology Fund:  will provide scaled-up financing to contribute to demonstration, deployment and transfer of low-carbon technologies with a significant potential for long-term greenhouse gas emissions sav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ategic Climate Funds:  broader and more flexible in scope – overarching fund to support various programs to test innovative approaches to climate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786A-6945-4C79-8948-B34E68C3933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57800" y="3200400"/>
            <a:ext cx="3276720" cy="342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324480" y="4419720"/>
            <a:ext cx="1143000" cy="2209680"/>
          </a:xfrm>
          <a:prstGeom prst="rect">
            <a:avLst/>
          </a:prstGeom>
          <a:solidFill>
            <a:srgbClr val="ffcc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1" lang="en-US" sz="900" spc="-1" strike="noStrike">
                <a:solidFill>
                  <a:srgbClr val="cc6600"/>
                </a:solidFill>
                <a:latin typeface="Arial"/>
              </a:rPr>
              <a:t>Other</a:t>
            </a:r>
            <a:br>
              <a:rPr sz="900"/>
            </a:br>
            <a:r>
              <a:rPr b="1" lang="en-US" sz="900" spc="-1" strike="noStrike">
                <a:solidFill>
                  <a:srgbClr val="cc6600"/>
                </a:solidFill>
                <a:latin typeface="Arial"/>
              </a:rPr>
              <a:t>SCF Program </a:t>
            </a:r>
            <a:br>
              <a:rPr sz="900"/>
            </a:br>
            <a:br>
              <a:rPr sz="900"/>
            </a:br>
            <a:br>
              <a:rPr sz="900"/>
            </a:br>
            <a:r>
              <a:rPr b="1" lang="en-US" sz="9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cc0000"/>
                </a:solidFill>
                <a:latin typeface="Arial"/>
              </a:rPr>
              <a:t>Sub-Committee</a:t>
            </a:r>
            <a:br>
              <a:rPr sz="900"/>
            </a:br>
            <a:br>
              <a:rPr sz="5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ributors / recipients / observ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Structure of Two Funds </a:t>
            </a:r>
            <a:br>
              <a:rPr sz="3200"/>
            </a:b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Gover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990720" y="2362320"/>
            <a:ext cx="7315200" cy="459720"/>
          </a:xfrm>
          <a:prstGeom prst="rec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743040" indent="-285840" algn="ctr">
              <a:spcBef>
                <a:spcPts val="2999"/>
              </a:spcBef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artnership Fo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2971800"/>
            <a:ext cx="8305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76312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3505320"/>
            <a:ext cx="2971800" cy="380880"/>
          </a:xfrm>
          <a:prstGeom prst="rect">
            <a:avLst/>
          </a:prstGeom>
          <a:solidFill>
            <a:srgbClr val="bbe0e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lean Technology F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57800" y="3200400"/>
            <a:ext cx="3276720" cy="380880"/>
          </a:xfrm>
          <a:prstGeom prst="rect">
            <a:avLst/>
          </a:prstGeom>
          <a:solidFill>
            <a:srgbClr val="99cc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Strategic Climate F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4038480"/>
            <a:ext cx="2971800" cy="3812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ust Fund Committe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5 contributors/ 5 recipien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257800" y="4419720"/>
            <a:ext cx="1143000" cy="2209680"/>
          </a:xfrm>
          <a:prstGeom prst="rect">
            <a:avLst/>
          </a:prstGeom>
          <a:solidFill>
            <a:srgbClr val="99336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1" lang="en-US" sz="900" spc="-1" strike="noStrike">
                <a:solidFill>
                  <a:srgbClr val="cc0000"/>
                </a:solidFill>
                <a:latin typeface="Arial"/>
              </a:rPr>
              <a:t>Pilot Program for </a:t>
            </a:r>
            <a:br>
              <a:rPr sz="900"/>
            </a:br>
            <a:r>
              <a:rPr b="1" lang="en-US" sz="900" spc="-1" strike="noStrike">
                <a:solidFill>
                  <a:srgbClr val="cc0000"/>
                </a:solidFill>
                <a:latin typeface="Arial"/>
              </a:rPr>
              <a:t>Climate Resilience</a:t>
            </a:r>
            <a:br>
              <a:rPr sz="900"/>
            </a:br>
            <a:br>
              <a:rPr sz="900"/>
            </a:br>
            <a:r>
              <a:rPr b="1" lang="en-US" sz="900" spc="-1" strike="noStrike">
                <a:solidFill>
                  <a:srgbClr val="cc0000"/>
                </a:solidFill>
                <a:latin typeface="Arial"/>
              </a:rPr>
              <a:t>Sub-Committee</a:t>
            </a:r>
            <a:br>
              <a:rPr sz="9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900"/>
            </a:b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ributors / recipients / observ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391520" y="4419720"/>
            <a:ext cx="1143000" cy="2209680"/>
          </a:xfrm>
          <a:prstGeom prst="rect">
            <a:avLst/>
          </a:prstGeom>
          <a:solidFill>
            <a:srgbClr val="33333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ther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CF Program</a:t>
            </a:r>
            <a:br>
              <a:rPr sz="900"/>
            </a:br>
            <a:br>
              <a:rPr sz="900"/>
            </a:b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cc0000"/>
                </a:solidFill>
                <a:latin typeface="Arial"/>
              </a:rPr>
              <a:t>Sub-Committee</a:t>
            </a:r>
            <a:br>
              <a:rPr sz="900"/>
            </a:br>
            <a:br>
              <a:rPr sz="5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ributors / recipients / observ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3200400"/>
            <a:ext cx="3276720" cy="342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3200400"/>
            <a:ext cx="3276720" cy="380880"/>
          </a:xfrm>
          <a:prstGeom prst="rect">
            <a:avLst/>
          </a:prstGeom>
          <a:solidFill>
            <a:srgbClr val="99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Clean Technology F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4648320"/>
            <a:ext cx="3276720" cy="1981080"/>
          </a:xfrm>
          <a:prstGeom prst="rect">
            <a:avLst/>
          </a:prstGeom>
          <a:solidFill>
            <a:srgbClr val="99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bservers from organizations with mandates to provide investment in clean technology, such as GEF and observer from UN for broad strategic discuss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86400" y="5410080"/>
            <a:ext cx="685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553080" y="5410080"/>
            <a:ext cx="685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620120" y="5410080"/>
            <a:ext cx="685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638680" y="3581280"/>
            <a:ext cx="25909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90720" y="3581280"/>
            <a:ext cx="25905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28800" y="5257800"/>
            <a:ext cx="9144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3581280"/>
            <a:ext cx="31240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ust Fund Committee</a:t>
            </a:r>
            <a:br>
              <a:rPr sz="12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to include 8 representatives from donors, 8 representatives from recipient countries; the country whose program or project is under consideration; representative of  World Bank; representative of MDBs on rotating basi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34120" y="3581280"/>
            <a:ext cx="31240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ust Fund Committee</a:t>
            </a:r>
            <a:br>
              <a:rPr sz="12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8 representatives from donors, 8 representatives from recipient countries, representatives from  World Bank, representatives from MDBs on a rotating basis, observers from GEF, UNEP, UNFCCC and civil society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80880" y="609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066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Clean Technology F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33160" y="19047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TF will focus on high abatement opportunities at the country level - could also support sub-regional and regional initi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edges:  US$5.2 b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technology neu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ge of investments in the power and transport sectors as well as energy efficiency in buildings, industry and agri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tilizes blend/suite of concessional financing instruments (grants, concessional loans) and risk mitigation instruments (guarante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B8E8-97F5-4313-B553-3E6DB028BD5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80880" y="609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066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Clean Technology F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533160" y="19047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untry Eligibility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DA- elig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active MDB country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iteria to prioritize programs and projects to be agreed by Trust Fund Committee to allow an assessment of transformative potential and to maximize GHG reductions per dollar sp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gnificant GHG saving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monstration potential at scal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ment impact,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lementation pot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8165-1C0E-44E8-999B-DEB064EDF0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wth in National-Level Market Low-carbon Inno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03680" y="6132600"/>
            <a:ext cx="519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"/>
          <p:cNvGraphicFramePr/>
          <p:nvPr/>
        </p:nvGraphicFramePr>
        <p:xfrm>
          <a:off x="2171880" y="2565360"/>
          <a:ext cx="4800600" cy="360036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71880" y="2565360"/>
                    <a:ext cx="480060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09BB-0F06-4E02-8802-EC64D10C76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Procedures for Approving CIF Finan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228564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TF:  Trust Fund Committee will review investment plans and will approve use of CTF funds for projects and programs at pre-appraisal st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perations financed by an MDB will follow the MDB’s operational policies and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03680" y="6132600"/>
            <a:ext cx="519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5962-318F-4CDA-B3C5-57D44F018A5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15:23:34Z</dcterms:created>
  <dc:creator>Wb318597</dc:creator>
  <dc:description/>
  <dc:language>en-US</dc:language>
  <cp:lastModifiedBy>WB145722</cp:lastModifiedBy>
  <dcterms:modified xsi:type="dcterms:W3CDTF">2008-10-22T17:52:48Z</dcterms:modified>
  <cp:revision>336</cp:revision>
  <dc:subject/>
  <dc:title>Towards A Strategic Framework on Climate Change for  the World Bank Group</dc:title>
</cp:coreProperties>
</file>