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3CD-E122-43A7-B545-A644B4D5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78DB-A48E-404D-8CC1-97AEA310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65EA-E3F2-45DF-AD2C-8CD195BE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8AE-685F-40F5-ABD5-78E9AE17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0D35-D5D9-4C35-BA39-D94AB3DE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E381-963E-4007-9F3A-4AE5D631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78AC-4C1A-4F12-B528-7BB2BAE4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E5E6-E12B-40AB-B5DB-97F19F0A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0252-9697-4927-9590-8DE52897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05BB-5B8A-4EFD-A45C-036A6D1C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C93E-1AAC-4A8A-82E6-49A48B0B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EC0-A214-4A9E-B387-9C0FBF4E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08F7-7916-4DEC-BBD0-CC6FF776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EDA0-228C-4956-926D-5602713C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4465-A4C4-492E-BC00-77542428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67F1-E59D-4621-8C9C-EC9738A8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6A3B-B067-4758-8C4F-F96017F2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77CC-2DBA-4095-B03D-7ED63FD2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DB70-CCFD-46C0-9C7A-161BBDA1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953-D570-4E53-A263-21C36DE8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6C8-AB68-463E-A485-09C66713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610-9A53-4975-A60F-6B276A84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679-E9DA-400F-AA99-5E1DF3E0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BA2-1A47-49F7-94A2-A13F32DF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DB1C-FE51-4702-845F-12D06920C4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3E69-D67F-44AF-9C64-7E7DA6598D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7182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Bank EE Work in Western Balkans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ussels, November 18, 2008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ter Johan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Energy Speci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ries with Ongoing WB EE Projects in S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gar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atia (IBRD and 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edo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enegro (IBRD) – under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bia (IB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bia E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RD loan $21 million implemented in Phase 1 and additional $28 million allocated for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habilitation of Clinical Centre in Belgrade as well as schools, universities, hospitals and orphanages across Se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ings in the order of 40-50% ex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pay-back time around 4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edonia Sustainable Energy Pro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period 2007-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F grant of $5.5m: (TA, ESCO support, EE/RE Financing Facil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financed by $2.8m from GoM and the Macedonian Bank for Development 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emphasis on policy and institutional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ular emphasis on public sector buildings (e.g. schools and hospit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debt finance and guarantees fores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to ESCO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idies often dominate and condition the market for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FIs will need extensive tr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 and hand-holding before they will be willing/able to lend for EE and develop a project pip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 funds can help kick-start EE market and get local FIs invol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procurement regulations can be serious impediments for ESCO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CO projects often need substantial “co-financing” because clients want high-cos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market segments, e.g. hospitals, may need guarantees before EE investments are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 capacity is often main barr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Balkans Energy Efficiency Stu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implementation of NE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alculation of energy efficiency indicators and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gaps in existin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institutional framework and bar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public sect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ector should be first mover - leading by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market for suppliers and consultants that will benefit private sector 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-specific reports during Summ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 sector: Important potential for EE improv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idential sector: complex and with limi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ustrial sector: Statistical data show potential but in reality there are large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jor gaps in the enabling framework for 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titutional capacity to formulate and implement EE policy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otential for overlap between IFIs/donors (e.g. EC, EBRD, EIB, KfW, USAID, UNE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stimation of sector-specific potential and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valuation of the applicability and transferability of promising public-private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dentification of institutional, financing (including carbon finance) and financial intermediation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osing improvements to the institutional and regulatory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ools in the Toolb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BRD loans to governments and directly to companies (including F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s from WB-administered trust funds (e.g. GE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al credit and risk guarant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national loans – WB/IFC co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C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Finance / Green Investmen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6:53:01Z</dcterms:created>
  <dc:creator>wb82334</dc:creator>
  <dc:description/>
  <dc:language>en-US</dc:language>
  <cp:lastModifiedBy>wb82334</cp:lastModifiedBy>
  <dcterms:modified xsi:type="dcterms:W3CDTF">2008-11-18T07:06:04Z</dcterms:modified>
  <cp:revision>9</cp:revision>
  <dc:subject/>
  <dc:title>World Bank Financial Assistance to EE in Buildings.  Scale-Up Options Ljubljana, June 04, 2008 </dc:title>
</cp:coreProperties>
</file>