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6208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5628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27240" y="875628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19AF17-3285-48BB-AB08-69F7ADD7F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2280" y="4379400"/>
            <a:ext cx="5549760" cy="4148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Step Forward in rais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ddit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cessional financing for climate change mitigation and adaptation. This is the second pillar of the Strategic Framework on Climate Change and Development (SFCC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orldbank.org/climatecon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3759-1A50-4C28-9731-44C7B074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091-D399-4215-AB2F-FFC63722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E699-75C8-4E53-A9DE-F4EA3D27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C915-E901-4F08-AF3C-6A18CCD9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7D9-C206-4140-B810-26EC6339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D535-95C6-4533-9E13-53BB2885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792-1220-47BD-AD93-0B7593D5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685-A822-4E33-B5CF-5D6398F6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956-9B7E-464D-8D82-7522DA72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E9E-A6CE-414A-94FE-20790491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73FA-970E-41D3-B448-8E3D0CEF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7595-E4CC-4EEA-B201-8408B076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3066-B3AB-4039-94ED-0F0F331D9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mate Investment F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549-7A59-471E-B3A3-19D3D5E1FD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Trust Fund Committee to approve investment criteria and financing terms in 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Plan joint mission will commence in November/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likely to consider funding proposals in earl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6EC-E294-4BC5-85A6-28D16611E7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28191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1A48-9A4C-4304-9BD9-DCB65748CA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Building on New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 Environmental Transformation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 Cool Earth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B, AfDB, EBRD, IDB and the WBG joined forces to establish a portfolio of funds to scale up investments to address the challenges of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64771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934320" y="64008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6880" y="36576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Joining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EB7-BC3F-4573-96B4-4B9087203A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IF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 skills and capabilities of MDBs to deliver financing at significant scale to unleash the potential of the public and private sectors to address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ment other multilateral financial mechanisms, such as GEF and Adaptation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a “sunset clause” to avoid pre-judging a future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together number of emerging initiatives to address climate change – providing coherence and avoiding proliferation of many smal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5FD-4DA6-41F5-9F72-2B3C7577B8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IF:  Two New Trust F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 Technology Fund:  will provide scaled-up financing to contribute to demonstration, deployment and transfer of low-carbon technologies with a significant potential for long-term greenhouse gas emissions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ic Climate Funds:  broader and more flexible in scope – overarching fund to support various programs to test innovative approaches to clima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57E9-4CF7-43CE-963C-C0E2D516E1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57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419720"/>
            <a:ext cx="1143000" cy="220968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SCF Program 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tructure of Two Funds </a:t>
            </a:r>
            <a:br>
              <a:rPr sz="3200"/>
            </a:b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2362320"/>
            <a:ext cx="7315200" cy="4597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743040" indent="-285840" algn="ctr"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rtnership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971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63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505320"/>
            <a:ext cx="2971800" cy="38088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3200400"/>
            <a:ext cx="3276720" cy="38088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rategic Climate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038480"/>
            <a:ext cx="2971800" cy="3812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 contributors/ 5 recipi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4419720"/>
            <a:ext cx="1143000" cy="2209680"/>
          </a:xfrm>
          <a:prstGeom prst="rect">
            <a:avLst/>
          </a:prstGeom>
          <a:solidFill>
            <a:srgbClr val="9933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Pilot Program for </a:t>
            </a: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Climate Resilience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4419720"/>
            <a:ext cx="1143000" cy="2209680"/>
          </a:xfrm>
          <a:prstGeom prst="rect">
            <a:avLst/>
          </a:prstGeom>
          <a:solidFill>
            <a:srgbClr val="3333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F Program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200400"/>
            <a:ext cx="3276720" cy="3808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648320"/>
            <a:ext cx="3276720" cy="19810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ers from organizations with mandates to provide investment in clean technology, such as GEF and observer from UN for broad strategic discus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2590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581280"/>
            <a:ext cx="2590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14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81280"/>
            <a:ext cx="3124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to include 8 representatives from donors, 8 representatives from recipient countries; the country whose program or project is under consideration; representative of  World Bank; representative of MDBs on rotating ba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581280"/>
            <a:ext cx="3124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8 representatives from donors, 8 representatives from recipient countries, representatives from  World Bank, representatives from MDBs on a rotating basis, observers from GEF, UNEP, UNFCCC and civil societ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F will focus on high abatement opportunities at the country level - could also support sub-regional and regiona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dges:  US$5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echnology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of investments in the power and transport sectors as well as energy efficiency in buildings, industry and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s blend/suite of concessional financing instruments (grants, concessional loans) and risk mitigation instruments (guarante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FC1E-B278-4E9D-891B-E7E93856C0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ry Eligibilit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A- elig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ctive MDB country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eria to prioritize programs and projects to be agreed by Trust Fund Committee to allow an assessment of transformative potential and to maximize GHG reductions per dollar sp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nificant GHG saving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stration potential at sca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impact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A3CF-B1F4-4DE3-9953-56961A0114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in National-Level Market Low-carbon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2171880" y="2565360"/>
          <a:ext cx="4800600" cy="3600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1880" y="2565360"/>
                    <a:ext cx="48006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1C3-54A9-4206-B244-A969D7B33C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Procedures for Approving CIF Fin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:  Trust Fund Committee will review investment plans and will approve use of CTF funds for projects and programs at pre-appraisal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perations financed by an MDB will follow the MDB’s operational polici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EB52-E726-4913-9547-89780DA4DB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5:23:34Z</dcterms:created>
  <dc:creator>Wb318597</dc:creator>
  <dc:description/>
  <dc:language>en-US</dc:language>
  <cp:lastModifiedBy>WB145722</cp:lastModifiedBy>
  <dcterms:modified xsi:type="dcterms:W3CDTF">2008-10-22T17:52:48Z</dcterms:modified>
  <cp:revision>336</cp:revision>
  <dc:subject/>
  <dc:title>Towards A Strategic Framework on Climate Change for  the World Bank Group</dc:title>
</cp:coreProperties>
</file>