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2B42-A3C7-4751-A7E5-1002375D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609F-BC81-4701-A2EF-0C5B2371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4455-150E-49F9-9C8A-14E9667A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A1D1-B6A3-4F09-B297-38BACCF2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EB08-1DF3-4EFE-BCED-C09D8208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161F-F649-4A65-8799-095B0A5A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7E43-7A7B-4377-84A8-70B06EB1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538D-BE74-4384-B15C-4F397635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85F7-0293-4636-9EA7-69713FD9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61EA-5550-461A-AE0C-03285E4B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55A4-28D5-4F0D-952F-536D64CE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023-0B72-43E8-B4A1-255F4F82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27CD-D5A9-4FA1-B1F2-E2A9AEE5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CAC5-48B7-4ABD-A824-C4E6CBB3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B33C-F8F6-474B-B020-B946C030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FFEB-3698-4529-B490-9D8FCE1A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5DCF-7145-49B3-B427-7EBA495B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2A82-BA7B-4033-86FB-076C558B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D2A1-4FA0-47D3-885F-1A208816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A0AC-374B-4C12-90FA-40A53462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EB5D-5AF7-435F-BA2B-DDE5DF2F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1458-3DE0-446F-BDB9-8B915A1A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E86-0FC7-4669-BF05-43F7BBDE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230-FDB5-4FD1-A57C-1074B996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B544-D912-4B02-8ABD-646E144812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DAFB-21A3-4651-818A-3C60C87715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71824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Bank EE Work in Western Balkans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ussels, November 18, 2008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ter Johans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Energy Specia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ries with Ongoing WB EE Projects in S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gar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atia (IBRD and 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cedo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enegro (IBRD) – under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mania (GE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bia (IB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bia EE Proj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BRD loan $21 million implemented in Phase 1 and additional $28 million allocated for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habilitation of Clinical Centre in Belgrade as well as schools, universities, hospitals and orphanages across Serb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ings in the order of 40-50% ex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erage pay-back time around 4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edonia Sustainable Energy Proje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period 2007-201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F grant of $5.5m: (TA, ESCO support, EE/RE Financing Facili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-financed by $2.8m from GoM and the Macedonian Bank for Development Pro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 emphasis on policy and institutional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ular emphasis on public sector buildings (e.g. schools and hospit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debt finance and guarantees forese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to ESCO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idies often dominate and condition the market for 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FIs will need extensive tra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 and hand-holding before they will be willing/able to lend for EE and develop a project pip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 funds can help kick-start EE market and get local FIs involv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procurement regulations can be serious impediments for ESCO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CO projects often need substantial “co-financing” because clients want high-cost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market segments, e.g. hospitals, may need guarantees before EE investments are fea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ation capacity is often main barri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stern Balkans Energy Efficiency Stud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implementation of NEE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alculation of energy efficiency indicators and benchm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gaps in existing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 of institutional framework and barr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 on public sect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sector should be first mover - leading by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 a market for suppliers and consultants that will benefit private sector 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untry-specific reports during Summ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 sector: Important potential for EE improve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idential sector: complex and with limi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ustrial sector: Statistical data show potential but in reality there are large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jor gaps in the enabling framework for 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stitutional capacity to formulate and implement EE policy l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Potential for overlap between IFIs/donors (e.g. EC, EBRD, EIB, KfW, USAID, UNE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stimation of sector-specific potential and barri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valuation of the applicability and transferability of promising public-private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dentification of institutional, financing (including carbon finance) and financial intermediation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posing improvements to the institutional and regulatory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ools in the Toolbo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BRD loans to governments and directly to companies (including F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s from WB-administered trust funds (e.g. GE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al credit and risk guarant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-national loans – WB/IFC co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C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bon Finance / Green Investmen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06:53:01Z</dcterms:created>
  <dc:creator>wb82334</dc:creator>
  <dc:description/>
  <dc:language>en-US</dc:language>
  <cp:lastModifiedBy>wb82334</cp:lastModifiedBy>
  <dcterms:modified xsi:type="dcterms:W3CDTF">2008-11-18T07:06:04Z</dcterms:modified>
  <cp:revision>9</cp:revision>
  <dc:subject/>
  <dc:title>World Bank Financial Assistance to EE in Buildings.  Scale-Up Options Ljubljana, June 04, 2008 </dc:title>
</cp:coreProperties>
</file>