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27240" y="-36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62080" y="690120"/>
            <a:ext cx="4610160" cy="34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56280"/>
            <a:ext cx="300528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27240" y="8756280"/>
            <a:ext cx="30049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F0BFF7E-48C1-489F-9A17-716DA1927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92280" y="4379400"/>
            <a:ext cx="5549760" cy="4148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Step Forward in rais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dit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cessional financing for climate change mitigation and adaptation. This is the second pillar of the Strategic Framework on Climate Change and Development (SFCCD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worldbank.org/climate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597-EC01-474A-8D2F-3FA2BADD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6C7-C0F6-405B-87F7-1400AE0D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E96-00F9-4237-B34C-690170BC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103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467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43E5-B106-4E2A-AF8C-C9C52DAC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F1B-502C-4FBE-B900-6004B9B4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9AA-1CF3-47DD-8E77-030D7AEE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8C9-6D5B-4ED9-8835-F0A4D261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0897-C83F-4A22-B789-B1348C64F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9E97-F3C0-41B9-8837-EF6486A2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D0DF-97B6-4910-86EF-A12BCCC6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467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E1BE-63B7-4730-B135-D53C20DF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103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467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DE3-3191-4572-92DD-9518E0A0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35B2-1E60-41DF-B3FB-8EEF1A851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ppt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9144000" cy="1295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Climate Investment Fun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F61-45D1-450D-854D-22B12C5E06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Trust Fund Committee to approve investment criteria and financing terms in Nov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Plan joint mission will commence in November/Dec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 likely to consider funding proposals in early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CDA-7CEB-453F-83F2-63ED742FBC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81916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86400"/>
            <a:ext cx="914400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www.worldbank.org/ci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EE7-6F68-4628-A910-32148B3116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Building on New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 Environmental Transformation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 Cool Earth 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B, AfDB, EBRD, IDB and the WBG joined forces to establish a portfolio of funds to scale up investments to address the challenges of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28800" y="64771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934320" y="64008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6880" y="365760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Joining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367-BE87-469E-B8B2-550D93ADF0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IF Design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 skills and capabilities of MDBs to deliver financing at significant scale to unleash the potential of the public and private sectors to address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ment other multilateral financial mechanisms, such as GEF and Adaptation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lude a “sunset clause” to avoid pre-judging a future agre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together number of emerging initiatives to address climate change – providing coherence and avoiding proliferation of many smal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EB4-3C9F-4D5A-AEC7-AD54D8EFF3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CIF:  Two New Trust F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Technology Fund:  will provide scaled-up financing to contribute to demonstration, deployment and transfer of low-carbon technologies with a significant potential for long-term greenhouse gas emissions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Climate Funds:  broader and more flexible in scope – overarching fund to support various programs to test innovative approaches to clima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3F14-2062-448F-AACD-F5D189CB60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57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4419720"/>
            <a:ext cx="1143000" cy="220968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SCF Program 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Structure of Two Funds </a:t>
            </a:r>
            <a:br>
              <a:rPr sz="3200"/>
            </a:br>
            <a:r>
              <a:rPr b="1" i="1" lang="en-US" sz="3200" spc="-1" strike="noStrike">
                <a:solidFill>
                  <a:srgbClr val="003399"/>
                </a:solidFill>
                <a:latin typeface="Arial"/>
              </a:rPr>
              <a:t>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2362320"/>
            <a:ext cx="7315200" cy="45972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marL="743040" indent="-285840" algn="ctr">
              <a:spcBef>
                <a:spcPts val="2999"/>
              </a:spcBef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tnership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2971800"/>
            <a:ext cx="8305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6312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505320"/>
            <a:ext cx="2971800" cy="380880"/>
          </a:xfrm>
          <a:prstGeom prst="rect">
            <a:avLst/>
          </a:prstGeom>
          <a:solidFill>
            <a:srgbClr val="bbe0e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3200400"/>
            <a:ext cx="3276720" cy="3808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ategic Climate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4038480"/>
            <a:ext cx="2971800" cy="3812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5 contributors/ 5 recipi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4419720"/>
            <a:ext cx="1143000" cy="2209680"/>
          </a:xfrm>
          <a:prstGeom prst="rect">
            <a:avLst/>
          </a:prstGeom>
          <a:solidFill>
            <a:srgbClr val="9933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Pilot Program for </a:t>
            </a: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Climate Resilience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4419720"/>
            <a:ext cx="1143000" cy="2209680"/>
          </a:xfrm>
          <a:prstGeom prst="rect">
            <a:avLst/>
          </a:prstGeom>
          <a:solidFill>
            <a:srgbClr val="3333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ther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CF Program</a:t>
            </a: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cc0000"/>
                </a:solidFill>
                <a:latin typeface="Arial"/>
              </a:rPr>
              <a:t>Sub-Committee</a:t>
            </a:r>
            <a:br>
              <a:rPr sz="900"/>
            </a:br>
            <a:br>
              <a:rPr sz="5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br>
              <a:rPr sz="900"/>
            </a:br>
            <a:br>
              <a:rPr sz="900"/>
            </a:b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ibutors / recipients / observ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200400"/>
            <a:ext cx="3276720" cy="342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3200400"/>
            <a:ext cx="3276720" cy="3808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ean Technology F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4648320"/>
            <a:ext cx="3276720" cy="19810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ers from organizations with mandates to provide investment in clean technology, such as GEF and observer from UN for broad strategic discus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308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0120" y="54100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38680" y="3581280"/>
            <a:ext cx="2590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581280"/>
            <a:ext cx="259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5257800"/>
            <a:ext cx="9144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81280"/>
            <a:ext cx="31240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to include 8 representatives from donors, 8 representatives from recipient countries; the country whose program or project is under consideration; representative of  World Bank; representative of MDBs on rotating ba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581280"/>
            <a:ext cx="3124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ust Fund Committee</a:t>
            </a:r>
            <a:br>
              <a:rPr sz="12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8 representatives from donors, 8 representatives from recipient countries, representatives from  World Bank, representatives from MDBs on a rotating basis, observers from GEF, UNEP, UNFCCC and civil societ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F will focus on high abatement opportunities at the country level - could also support sub-regional and regional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dges:  US$5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echnology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 of investments in the power and transport sectors as well as energy efficiency in buildings, industry and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tilizes blend/suite of concessional financing instruments (grants, concessional loans) and risk mitigation instruments (guarant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395-BF18-462B-93E6-B03259DF2D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088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Clean Technology 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904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untry Eligibility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DA- elig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ctive MDB country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iteria to prioritize programs and projects to be agreed by Trust Fund Committee to allow an assessment of transformative potential and to maximize GHG reductions per dollar sp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gnificant GHG saving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monstration potential at sca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impact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E20-4239-4F69-8E61-2217AC8D5C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wth in National-Level Market Low-carbon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2171880" y="2565360"/>
          <a:ext cx="4800600" cy="3600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1880" y="2565360"/>
                    <a:ext cx="48006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E77F-B88B-4324-AED1-C29C87250F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Arial"/>
              </a:rPr>
              <a:t>Procedures for Approving CIF Fina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285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TF:  Trust Fund Committee will review investment plans and will approve use of CTF funds for projects and programs at pre-appraisal st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perations financed by an MDB will follow the MDB’s operational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03680" y="6132600"/>
            <a:ext cx="519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477120"/>
            <a:ext cx="54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ustainable Development @ The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781680" y="64008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B7BC-5FDA-4CDD-8A42-F9B0CB358E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5:23:34Z</dcterms:created>
  <dc:creator>Wb318597</dc:creator>
  <dc:description/>
  <dc:language>en-US</dc:language>
  <cp:lastModifiedBy>WB145722</cp:lastModifiedBy>
  <dcterms:modified xsi:type="dcterms:W3CDTF">2008-10-22T17:52:48Z</dcterms:modified>
  <cp:revision>336</cp:revision>
  <dc:subject/>
  <dc:title>Towards A Strategic Framework on Climate Change for  the World Bank Group</dc:title>
</cp:coreProperties>
</file>