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27240" y="-36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6208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9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5628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27240" y="875628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D3D26DF-02B2-46BD-BCFA-CD707B9BE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92280" y="4379400"/>
            <a:ext cx="5549760" cy="41482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Step Forward in raising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ddition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cessional financing for climate change mitigation and adaptation. This is the second pillar of the Strategic Framework on Climate Change and Development (SFCCD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worldbank.org/climatecon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B0BA-10A7-4808-A50C-CCCE65E8C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467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2A05-1331-4841-BDA4-77151A7C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7E73-BD80-4A24-B7D6-05FD1AE3B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103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103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467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467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467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F32C-BFEB-486F-A108-F82D8FAFA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E4FE-0974-48D3-8D45-8690E32D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2501-B449-4A62-9723-C7449F1F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F7FE-6D32-4CC3-BAC1-FFD7D8C3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9F82-4784-48D5-A681-595E911D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8B8C-DB7D-4060-A150-88F60D7B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ACAA-A0C9-48E8-AC92-F8431B60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1329-4654-40FE-AF7C-94CB8FAC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467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D70A-6112-4529-BB40-CC852647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3646-8F89-4919-8845-BD4DB155F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ppt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1295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Climate Investment Fu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www.worldbank.org/ci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8304-F2EC-483C-B8BF-75E502956C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F Trust Fund Committee to approve investment criteria and financing terms in Nov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ment Plan joint mission will commence in November/Dec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F likely to consider funding proposals in early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A579-2FF5-435F-A06F-349E21ABE6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281916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www.worldbank.org/ci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A955-C377-4553-A6B7-74D9EE0FFE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Building on New Initi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 Environmental Transformation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Clean Technolog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pan Cool Earth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B, AfDB, EBRD, IDB and the WBG joined forces to establish a portfolio of funds to scale up investments to address the challenges of climat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64771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934320" y="64008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666880" y="36576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Joining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E55B-B4DF-444F-A4A3-561AF4D3F7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IF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tilize skills and capabilities of MDBs to deliver financing at significant scale to unleash the potential of the public and private sectors to address clim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ment other multilateral financial mechanisms, such as GEF and Adaptation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 a “sunset clause” to avoid pre-judging a future agre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together number of emerging initiatives to address climate change – providing coherence and avoiding proliferation of many small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3C56-1F6E-4D94-9994-63B28E2502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CIF:  Two New Trust F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ean Technology Fund:  will provide scaled-up financing to contribute to demonstration, deployment and transfer of low-carbon technologies with a significant potential for long-term greenhouse gas emissions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ic Climate Funds:  broader and more flexible in scope – overarching fund to support various programs to test innovative approaches to clima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D796-8084-48B3-9865-EA627A68FD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57800" y="3200400"/>
            <a:ext cx="3276720" cy="342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4419720"/>
            <a:ext cx="1143000" cy="2209680"/>
          </a:xfrm>
          <a:prstGeom prst="rect">
            <a:avLst/>
          </a:prstGeom>
          <a:solidFill>
            <a:srgbClr val="ffcc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Other</a:t>
            </a:r>
            <a:br>
              <a:rPr sz="900"/>
            </a:b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SCF Program </a:t>
            </a: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-Committee</a:t>
            </a:r>
            <a:br>
              <a:rPr sz="900"/>
            </a:br>
            <a:br>
              <a:rPr sz="5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ibutors / recipients / obser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tructure of Two Funds </a:t>
            </a:r>
            <a:br>
              <a:rPr sz="3200"/>
            </a:b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Gover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90720" y="2362320"/>
            <a:ext cx="7315200" cy="45972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743040" indent="-285840" algn="ctr">
              <a:spcBef>
                <a:spcPts val="2999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rtnership Fo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9718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76312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505320"/>
            <a:ext cx="2971800" cy="380880"/>
          </a:xfrm>
          <a:prstGeom prst="rect">
            <a:avLst/>
          </a:prstGeom>
          <a:solidFill>
            <a:srgbClr val="bbe0e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lean Technology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3200400"/>
            <a:ext cx="3276720" cy="38088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Strategic Climate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4038480"/>
            <a:ext cx="2971800" cy="3812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ust Fund Committe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5 contributors/ 5 recipi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4419720"/>
            <a:ext cx="1143000" cy="2209680"/>
          </a:xfrm>
          <a:prstGeom prst="rect">
            <a:avLst/>
          </a:prstGeom>
          <a:solidFill>
            <a:srgbClr val="9933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Pilot Program for </a:t>
            </a:r>
            <a:br>
              <a:rPr sz="900"/>
            </a:b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Climate Resilience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-Committee</a:t>
            </a:r>
            <a:br>
              <a:rPr sz="9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ibutors / recipients / obser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4419720"/>
            <a:ext cx="1143000" cy="2209680"/>
          </a:xfrm>
          <a:prstGeom prst="rect">
            <a:avLst/>
          </a:prstGeom>
          <a:solidFill>
            <a:srgbClr val="33333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ther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CF Program</a:t>
            </a: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-Committee</a:t>
            </a:r>
            <a:br>
              <a:rPr sz="900"/>
            </a:br>
            <a:br>
              <a:rPr sz="5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ibutors / recipients / obser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3200400"/>
            <a:ext cx="3276720" cy="342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3200400"/>
            <a:ext cx="3276720" cy="38088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Clean Technology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4648320"/>
            <a:ext cx="3276720" cy="198108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bservers from organizations with mandates to provide investment in clean technology, such as GEF and observer from UN for broad strategic discus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541008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53080" y="541008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0120" y="541008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3581280"/>
            <a:ext cx="25909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581280"/>
            <a:ext cx="25905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5257800"/>
            <a:ext cx="9144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581280"/>
            <a:ext cx="31240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ust Fund Committee</a:t>
            </a:r>
            <a:br>
              <a:rPr sz="12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to include 8 representatives from donors, 8 representatives from recipient countries; the country whose program or project is under consideration; representative of  World Bank; representative of MDBs on rotating basi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3581280"/>
            <a:ext cx="31240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ust Fund Committee</a:t>
            </a:r>
            <a:br>
              <a:rPr sz="12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8 representatives from donors, 8 representatives from recipient countries, representatives from  World Bank, representatives from MDBs on a rotating basis, observers from GEF, UNEP, UNFCCC and civil societ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088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lean Technolog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160" y="1904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F will focus on high abatement opportunities at the country level - could also support sub-regional and regional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dges:  US$5.2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echnology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 of investments in the power and transport sectors as well as energy efficiency in buildings, industry and 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tilizes blend/suite of concessional financing instruments (grants, concessional loans) and risk mitigation instruments (guarante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93AA-B97E-4DA5-BFFB-4A32634631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88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lean Technolog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3160" y="1904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ntry Eligibility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DA- elig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active MDB country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iteria to prioritize programs and projects to be agreed by Trust Fund Committee to allow an assessment of transformative potential and to maximize GHG reductions per dollar sp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gnificant GHG saving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onstration potential at sca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impact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ation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E297-B70B-45E3-AB36-B06745813A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th in National-Level Market Low-carbon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2171880" y="2565360"/>
          <a:ext cx="4800600" cy="360036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71880" y="2565360"/>
                    <a:ext cx="48006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2979-BBF1-427A-8D72-F420ECBE78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Procedures for Approving CIF Fina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F:  Trust Fund Committee will review investment plans and will approve use of CTF funds for projects and programs at pre-appraisal st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perations financed by an MDB will follow the MDB’s operational policies an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BE1F-0A62-4CEF-9306-E558103FB8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5:23:34Z</dcterms:created>
  <dc:creator>Wb318597</dc:creator>
  <dc:description/>
  <dc:language>en-US</dc:language>
  <cp:lastModifiedBy>WB145722</cp:lastModifiedBy>
  <dcterms:modified xsi:type="dcterms:W3CDTF">2008-10-22T17:52:48Z</dcterms:modified>
  <cp:revision>336</cp:revision>
  <dc:subject/>
  <dc:title>Towards A Strategic Framework on Climate Change for  the World Bank Group</dc:title>
</cp:coreProperties>
</file>