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05DA-954D-4175-9009-EFE225CEB4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tion is open to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lbania,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snia and Herzegovina, Croatia, the former Yugoslav Republic of Macedonia, Kosovo under UNSCR 1244, Montenegro, Serbia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untries will be asked to nominat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NA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U Member States neighbou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e region are invited to participate as observers, in order to share experiences from their recent pre-access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Other EU Member Sta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declare their interest to participate in the RENA activities under the proposed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Financing Institu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ilateral dono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Organisa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participate as observers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Environmental Civil Society Organisation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be involved in order to establish a closer co-operation between the civil society and the decision makers in the region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 wil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ilitat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change of experie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best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 t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jointly tack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vironmental challen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foru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for the European Commission to communicate to the whole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pplement to bilateral co-op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between the Commission and th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ke into accou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different stages of the count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garding environmental acquis in the pre-acce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inisterial Meetings wil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political commitment to transposition and implementation of EU environment poli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the visibility of the challenges posed by the environment chapter in the pre-accession process, and of the resources needed to meet the challeng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eer the technical level cooperation process by setting priority issues for attention at the technical level in the 2 year period ahead, in order to avoid spreading activities too thinly and to increase the effectiveness of the co-op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gional Environmental Network for Accession (REN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oncrete RENA activities identified by Environment Ministers in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mplementation through a broad spectrum of activities:  capacity building workshops, seminars, training, pilot projects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nual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4 thematic working groups for the first 2 years (see next sli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mmission will be assisted by a Consultant to be selected by a tendering procedure. The Secretariat of the RENA Network will be responsible f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RENA network work (meetings, reporting, etc.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paration of relevant technical docum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WGs' work (meetings, trainings, seminars, pilot projects, etc.);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 ad hoc assistance to the participating cou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04720" y="0"/>
            <a:ext cx="8639280" cy="6858000"/>
            <a:chOff x="504720" y="0"/>
            <a:chExt cx="8639280" cy="68580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6477120" y="5916600"/>
              <a:ext cx="1143000" cy="78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"/>
            <p:cNvGrpSpPr/>
            <p:nvPr/>
          </p:nvGrpSpPr>
          <p:grpSpPr>
            <a:xfrm>
              <a:off x="504720" y="0"/>
              <a:ext cx="8639280" cy="6858000"/>
              <a:chOff x="504720" y="0"/>
              <a:chExt cx="8639280" cy="6858000"/>
            </a:xfrm>
          </p:grpSpPr>
          <p:sp>
            <p:nvSpPr>
              <p:cNvPr id="5" name=""/>
              <p:cNvSpPr/>
              <p:nvPr/>
            </p:nvSpPr>
            <p:spPr>
              <a:xfrm>
                <a:off x="504720" y="0"/>
                <a:ext cx="863928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64360" y="5143680"/>
                <a:ext cx="1079640" cy="1714320"/>
              </a:xfrm>
              <a:prstGeom prst="rect">
                <a:avLst/>
              </a:prstGeom>
              <a:solidFill>
                <a:srgbClr val="fba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064360" y="0"/>
                <a:ext cx="1079640" cy="1714680"/>
              </a:xfrm>
              <a:prstGeom prst="rect">
                <a:avLst/>
              </a:prstGeom>
              <a:solidFill>
                <a:srgbClr val="0f2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44680" y="444600"/>
                <a:ext cx="1803600" cy="196920"/>
              </a:xfrm>
              <a:custGeom>
                <a:avLst/>
                <a:gdLst/>
                <a:ahLst/>
                <a:rect l="l" t="t" r="r" b="b"/>
                <a:pathLst>
                  <a:path w="1136" h="124">
                    <a:moveTo>
                      <a:pt x="1136" y="124"/>
                    </a:moveTo>
                    <a:lnTo>
                      <a:pt x="1136" y="124"/>
                    </a:lnTo>
                    <a:lnTo>
                      <a:pt x="1110" y="114"/>
                    </a:lnTo>
                    <a:lnTo>
                      <a:pt x="1040" y="92"/>
                    </a:lnTo>
                    <a:lnTo>
                      <a:pt x="992" y="78"/>
                    </a:lnTo>
                    <a:lnTo>
                      <a:pt x="934" y="62"/>
                    </a:lnTo>
                    <a:lnTo>
                      <a:pt x="870" y="46"/>
                    </a:lnTo>
                    <a:lnTo>
                      <a:pt x="800" y="32"/>
                    </a:lnTo>
                    <a:lnTo>
                      <a:pt x="728" y="20"/>
                    </a:lnTo>
                    <a:lnTo>
                      <a:pt x="650" y="10"/>
                    </a:lnTo>
                    <a:lnTo>
                      <a:pt x="570" y="2"/>
                    </a:lnTo>
                    <a:lnTo>
                      <a:pt x="490" y="0"/>
                    </a:lnTo>
                    <a:lnTo>
                      <a:pt x="450" y="0"/>
                    </a:lnTo>
                    <a:lnTo>
                      <a:pt x="408" y="2"/>
                    </a:lnTo>
                    <a:lnTo>
                      <a:pt x="370" y="6"/>
                    </a:lnTo>
                    <a:lnTo>
                      <a:pt x="330" y="10"/>
                    </a:lnTo>
                    <a:lnTo>
                      <a:pt x="290" y="16"/>
                    </a:lnTo>
                    <a:lnTo>
                      <a:pt x="252" y="26"/>
                    </a:lnTo>
                    <a:lnTo>
                      <a:pt x="214" y="36"/>
                    </a:lnTo>
                    <a:lnTo>
                      <a:pt x="178" y="48"/>
                    </a:lnTo>
                    <a:lnTo>
                      <a:pt x="178" y="48"/>
                    </a:lnTo>
                    <a:lnTo>
                      <a:pt x="12" y="110"/>
                    </a:lnTo>
                    <a:lnTo>
                      <a:pt x="0" y="116"/>
                    </a:lnTo>
                    <a:lnTo>
                      <a:pt x="18" y="110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58" y="62"/>
                    </a:lnTo>
                    <a:lnTo>
                      <a:pt x="194" y="58"/>
                    </a:lnTo>
                    <a:lnTo>
                      <a:pt x="258" y="54"/>
                    </a:lnTo>
                    <a:lnTo>
                      <a:pt x="354" y="54"/>
                    </a:lnTo>
                    <a:lnTo>
                      <a:pt x="416" y="54"/>
                    </a:lnTo>
                    <a:lnTo>
                      <a:pt x="486" y="58"/>
                    </a:lnTo>
                    <a:lnTo>
                      <a:pt x="568" y="62"/>
                    </a:lnTo>
                    <a:lnTo>
                      <a:pt x="658" y="68"/>
                    </a:lnTo>
                    <a:lnTo>
                      <a:pt x="760" y="78"/>
                    </a:lnTo>
                    <a:lnTo>
                      <a:pt x="874" y="90"/>
                    </a:lnTo>
                    <a:lnTo>
                      <a:pt x="1000" y="104"/>
                    </a:lnTo>
                    <a:lnTo>
                      <a:pt x="1136" y="124"/>
                    </a:lnTo>
                    <a:lnTo>
                      <a:pt x="1136" y="124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133960" y="612720"/>
                <a:ext cx="393840" cy="292320"/>
              </a:xfrm>
              <a:custGeom>
                <a:avLst/>
                <a:gdLst/>
                <a:ahLst/>
                <a:rect l="l" t="t" r="r" b="b"/>
                <a:pathLst>
                  <a:path w="248" h="184">
                    <a:moveTo>
                      <a:pt x="110" y="168"/>
                    </a:moveTo>
                    <a:lnTo>
                      <a:pt x="110" y="168"/>
                    </a:lnTo>
                    <a:lnTo>
                      <a:pt x="132" y="176"/>
                    </a:lnTo>
                    <a:lnTo>
                      <a:pt x="152" y="180"/>
                    </a:lnTo>
                    <a:lnTo>
                      <a:pt x="172" y="184"/>
                    </a:lnTo>
                    <a:lnTo>
                      <a:pt x="190" y="182"/>
                    </a:lnTo>
                    <a:lnTo>
                      <a:pt x="208" y="180"/>
                    </a:lnTo>
                    <a:lnTo>
                      <a:pt x="224" y="176"/>
                    </a:lnTo>
                    <a:lnTo>
                      <a:pt x="236" y="168"/>
                    </a:lnTo>
                    <a:lnTo>
                      <a:pt x="248" y="160"/>
                    </a:lnTo>
                    <a:lnTo>
                      <a:pt x="248" y="160"/>
                    </a:lnTo>
                    <a:lnTo>
                      <a:pt x="222" y="158"/>
                    </a:lnTo>
                    <a:lnTo>
                      <a:pt x="208" y="156"/>
                    </a:lnTo>
                    <a:lnTo>
                      <a:pt x="194" y="152"/>
                    </a:lnTo>
                    <a:lnTo>
                      <a:pt x="194" y="152"/>
                    </a:lnTo>
                    <a:lnTo>
                      <a:pt x="168" y="140"/>
                    </a:lnTo>
                    <a:lnTo>
                      <a:pt x="144" y="128"/>
                    </a:lnTo>
                    <a:lnTo>
                      <a:pt x="124" y="114"/>
                    </a:lnTo>
                    <a:lnTo>
                      <a:pt x="106" y="98"/>
                    </a:lnTo>
                    <a:lnTo>
                      <a:pt x="94" y="82"/>
                    </a:lnTo>
                    <a:lnTo>
                      <a:pt x="86" y="66"/>
                    </a:lnTo>
                    <a:lnTo>
                      <a:pt x="84" y="58"/>
                    </a:lnTo>
                    <a:lnTo>
                      <a:pt x="82" y="50"/>
                    </a:lnTo>
                    <a:lnTo>
                      <a:pt x="82" y="42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6" y="24"/>
                    </a:lnTo>
                    <a:lnTo>
                      <a:pt x="90" y="14"/>
                    </a:lnTo>
                    <a:lnTo>
                      <a:pt x="96" y="8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84" y="2"/>
                    </a:lnTo>
                    <a:lnTo>
                      <a:pt x="66" y="4"/>
                    </a:lnTo>
                    <a:lnTo>
                      <a:pt x="50" y="8"/>
                    </a:lnTo>
                    <a:lnTo>
                      <a:pt x="36" y="14"/>
                    </a:lnTo>
                    <a:lnTo>
                      <a:pt x="24" y="20"/>
                    </a:lnTo>
                    <a:lnTo>
                      <a:pt x="14" y="28"/>
                    </a:lnTo>
                    <a:lnTo>
                      <a:pt x="6" y="4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2" y="84"/>
                    </a:lnTo>
                    <a:lnTo>
                      <a:pt x="10" y="102"/>
                    </a:lnTo>
                    <a:lnTo>
                      <a:pt x="24" y="118"/>
                    </a:lnTo>
                    <a:lnTo>
                      <a:pt x="40" y="134"/>
                    </a:lnTo>
                    <a:lnTo>
                      <a:pt x="60" y="148"/>
                    </a:lnTo>
                    <a:lnTo>
                      <a:pt x="84" y="160"/>
                    </a:lnTo>
                    <a:lnTo>
                      <a:pt x="110" y="168"/>
                    </a:lnTo>
                    <a:lnTo>
                      <a:pt x="110" y="168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  <a:close/>
                    <a:moveTo>
                      <a:pt x="2982" y="532"/>
                    </a:moveTo>
                    <a:lnTo>
                      <a:pt x="2982" y="532"/>
                    </a:lnTo>
                    <a:lnTo>
                      <a:pt x="3030" y="588"/>
                    </a:lnTo>
                    <a:lnTo>
                      <a:pt x="3030" y="588"/>
                    </a:lnTo>
                    <a:lnTo>
                      <a:pt x="3026" y="604"/>
                    </a:lnTo>
                    <a:lnTo>
                      <a:pt x="3026" y="604"/>
                    </a:lnTo>
                    <a:lnTo>
                      <a:pt x="3020" y="624"/>
                    </a:lnTo>
                    <a:lnTo>
                      <a:pt x="3010" y="646"/>
                    </a:lnTo>
                    <a:lnTo>
                      <a:pt x="3002" y="666"/>
                    </a:lnTo>
                    <a:lnTo>
                      <a:pt x="2992" y="686"/>
                    </a:lnTo>
                    <a:lnTo>
                      <a:pt x="2980" y="706"/>
                    </a:lnTo>
                    <a:lnTo>
                      <a:pt x="2966" y="724"/>
                    </a:lnTo>
                    <a:lnTo>
                      <a:pt x="2938" y="758"/>
                    </a:lnTo>
                    <a:lnTo>
                      <a:pt x="2938" y="758"/>
                    </a:lnTo>
                    <a:lnTo>
                      <a:pt x="2914" y="718"/>
                    </a:lnTo>
                    <a:lnTo>
                      <a:pt x="2914" y="718"/>
                    </a:lnTo>
                    <a:lnTo>
                      <a:pt x="2982" y="532"/>
                    </a:lnTo>
                    <a:lnTo>
                      <a:pt x="2982" y="532"/>
                    </a:lnTo>
                    <a:close/>
                    <a:moveTo>
                      <a:pt x="3026" y="2010"/>
                    </a:moveTo>
                    <a:lnTo>
                      <a:pt x="3026" y="2010"/>
                    </a:lnTo>
                    <a:lnTo>
                      <a:pt x="2994" y="2032"/>
                    </a:lnTo>
                    <a:lnTo>
                      <a:pt x="2960" y="2052"/>
                    </a:lnTo>
                    <a:lnTo>
                      <a:pt x="2926" y="2072"/>
                    </a:lnTo>
                    <a:lnTo>
                      <a:pt x="2892" y="2090"/>
                    </a:lnTo>
                    <a:lnTo>
                      <a:pt x="2856" y="2106"/>
                    </a:lnTo>
                    <a:lnTo>
                      <a:pt x="2820" y="2124"/>
                    </a:lnTo>
                    <a:lnTo>
                      <a:pt x="2782" y="2138"/>
                    </a:lnTo>
                    <a:lnTo>
                      <a:pt x="2744" y="2152"/>
                    </a:lnTo>
                    <a:lnTo>
                      <a:pt x="2706" y="2164"/>
                    </a:lnTo>
                    <a:lnTo>
                      <a:pt x="2666" y="2176"/>
                    </a:lnTo>
                    <a:lnTo>
                      <a:pt x="2626" y="2186"/>
                    </a:lnTo>
                    <a:lnTo>
                      <a:pt x="2584" y="2196"/>
                    </a:lnTo>
                    <a:lnTo>
                      <a:pt x="2542" y="2204"/>
                    </a:lnTo>
                    <a:lnTo>
                      <a:pt x="2500" y="2210"/>
                    </a:lnTo>
                    <a:lnTo>
                      <a:pt x="2458" y="2216"/>
                    </a:lnTo>
                    <a:lnTo>
                      <a:pt x="2414" y="2222"/>
                    </a:lnTo>
                    <a:lnTo>
                      <a:pt x="2414" y="2222"/>
                    </a:lnTo>
                    <a:lnTo>
                      <a:pt x="2434" y="2136"/>
                    </a:lnTo>
                    <a:lnTo>
                      <a:pt x="2452" y="2054"/>
                    </a:lnTo>
                    <a:lnTo>
                      <a:pt x="2466" y="1972"/>
                    </a:lnTo>
                    <a:lnTo>
                      <a:pt x="2480" y="1892"/>
                    </a:lnTo>
                    <a:lnTo>
                      <a:pt x="2492" y="1812"/>
                    </a:lnTo>
                    <a:lnTo>
                      <a:pt x="2500" y="1736"/>
                    </a:lnTo>
                    <a:lnTo>
                      <a:pt x="2508" y="1660"/>
                    </a:lnTo>
                    <a:lnTo>
                      <a:pt x="2514" y="1584"/>
                    </a:lnTo>
                    <a:lnTo>
                      <a:pt x="2514" y="1584"/>
                    </a:lnTo>
                    <a:lnTo>
                      <a:pt x="2582" y="1578"/>
                    </a:lnTo>
                    <a:lnTo>
                      <a:pt x="2646" y="1568"/>
                    </a:lnTo>
                    <a:lnTo>
                      <a:pt x="2710" y="1556"/>
                    </a:lnTo>
                    <a:lnTo>
                      <a:pt x="2770" y="1542"/>
                    </a:lnTo>
                    <a:lnTo>
                      <a:pt x="2830" y="1524"/>
                    </a:lnTo>
                    <a:lnTo>
                      <a:pt x="2888" y="1504"/>
                    </a:lnTo>
                    <a:lnTo>
                      <a:pt x="2944" y="1482"/>
                    </a:lnTo>
                    <a:lnTo>
                      <a:pt x="2998" y="1458"/>
                    </a:lnTo>
                    <a:lnTo>
                      <a:pt x="2998" y="1458"/>
                    </a:lnTo>
                    <a:lnTo>
                      <a:pt x="3008" y="1532"/>
                    </a:lnTo>
                    <a:lnTo>
                      <a:pt x="3018" y="1604"/>
                    </a:lnTo>
                    <a:lnTo>
                      <a:pt x="3024" y="1676"/>
                    </a:lnTo>
                    <a:lnTo>
                      <a:pt x="3028" y="1746"/>
                    </a:lnTo>
                    <a:lnTo>
                      <a:pt x="3030" y="1814"/>
                    </a:lnTo>
                    <a:lnTo>
                      <a:pt x="3030" y="1880"/>
                    </a:lnTo>
                    <a:lnTo>
                      <a:pt x="3028" y="1946"/>
                    </a:lnTo>
                    <a:lnTo>
                      <a:pt x="3026" y="2010"/>
                    </a:lnTo>
                    <a:lnTo>
                      <a:pt x="3026" y="2010"/>
                    </a:lnTo>
                    <a:close/>
                    <a:moveTo>
                      <a:pt x="950" y="2450"/>
                    </a:moveTo>
                    <a:lnTo>
                      <a:pt x="950" y="2450"/>
                    </a:lnTo>
                    <a:lnTo>
                      <a:pt x="900" y="2416"/>
                    </a:lnTo>
                    <a:lnTo>
                      <a:pt x="852" y="2378"/>
                    </a:lnTo>
                    <a:lnTo>
                      <a:pt x="852" y="2378"/>
                    </a:lnTo>
                    <a:lnTo>
                      <a:pt x="870" y="2026"/>
                    </a:lnTo>
                    <a:lnTo>
                      <a:pt x="870" y="2026"/>
                    </a:lnTo>
                    <a:lnTo>
                      <a:pt x="1150" y="1956"/>
                    </a:lnTo>
                    <a:lnTo>
                      <a:pt x="1150" y="1956"/>
                    </a:lnTo>
                    <a:lnTo>
                      <a:pt x="1210" y="1994"/>
                    </a:lnTo>
                    <a:lnTo>
                      <a:pt x="1272" y="2032"/>
                    </a:lnTo>
                    <a:lnTo>
                      <a:pt x="1272" y="2032"/>
                    </a:lnTo>
                    <a:lnTo>
                      <a:pt x="1414" y="2314"/>
                    </a:lnTo>
                    <a:lnTo>
                      <a:pt x="1414" y="2314"/>
                    </a:lnTo>
                    <a:lnTo>
                      <a:pt x="1436" y="2120"/>
                    </a:lnTo>
                    <a:lnTo>
                      <a:pt x="1436" y="2120"/>
                    </a:lnTo>
                    <a:lnTo>
                      <a:pt x="1488" y="2144"/>
                    </a:lnTo>
                    <a:lnTo>
                      <a:pt x="1488" y="2144"/>
                    </a:lnTo>
                    <a:lnTo>
                      <a:pt x="1562" y="2176"/>
                    </a:lnTo>
                    <a:lnTo>
                      <a:pt x="1562" y="2176"/>
                    </a:lnTo>
                    <a:lnTo>
                      <a:pt x="1390" y="2682"/>
                    </a:lnTo>
                    <a:lnTo>
                      <a:pt x="1390" y="2682"/>
                    </a:lnTo>
                    <a:lnTo>
                      <a:pt x="1332" y="2658"/>
                    </a:lnTo>
                    <a:lnTo>
                      <a:pt x="1276" y="2634"/>
                    </a:lnTo>
                    <a:lnTo>
                      <a:pt x="1220" y="2610"/>
                    </a:lnTo>
                    <a:lnTo>
                      <a:pt x="1164" y="2582"/>
                    </a:lnTo>
                    <a:lnTo>
                      <a:pt x="1164" y="2582"/>
                    </a:lnTo>
                    <a:lnTo>
                      <a:pt x="1220" y="2566"/>
                    </a:lnTo>
                    <a:lnTo>
                      <a:pt x="1220" y="2566"/>
                    </a:lnTo>
                    <a:lnTo>
                      <a:pt x="950" y="2450"/>
                    </a:lnTo>
                    <a:lnTo>
                      <a:pt x="950" y="2450"/>
                    </a:lnTo>
                    <a:close/>
                    <a:moveTo>
                      <a:pt x="1808" y="1460"/>
                    </a:moveTo>
                    <a:lnTo>
                      <a:pt x="1808" y="1460"/>
                    </a:lnTo>
                    <a:lnTo>
                      <a:pt x="1748" y="1440"/>
                    </a:lnTo>
                    <a:lnTo>
                      <a:pt x="1690" y="1418"/>
                    </a:lnTo>
                    <a:lnTo>
                      <a:pt x="1632" y="1392"/>
                    </a:lnTo>
                    <a:lnTo>
                      <a:pt x="1578" y="1366"/>
                    </a:lnTo>
                    <a:lnTo>
                      <a:pt x="1578" y="1366"/>
                    </a:lnTo>
                    <a:lnTo>
                      <a:pt x="1610" y="1236"/>
                    </a:lnTo>
                    <a:lnTo>
                      <a:pt x="1610" y="1236"/>
                    </a:lnTo>
                    <a:lnTo>
                      <a:pt x="1630" y="1240"/>
                    </a:lnTo>
                    <a:lnTo>
                      <a:pt x="1664" y="1242"/>
                    </a:lnTo>
                    <a:lnTo>
                      <a:pt x="1718" y="1242"/>
                    </a:lnTo>
                    <a:lnTo>
                      <a:pt x="1792" y="1240"/>
                    </a:lnTo>
                    <a:lnTo>
                      <a:pt x="1792" y="1240"/>
                    </a:lnTo>
                    <a:lnTo>
                      <a:pt x="1886" y="1236"/>
                    </a:lnTo>
                    <a:lnTo>
                      <a:pt x="1886" y="1236"/>
                    </a:lnTo>
                    <a:lnTo>
                      <a:pt x="1808" y="1460"/>
                    </a:lnTo>
                    <a:lnTo>
                      <a:pt x="1808" y="1460"/>
                    </a:lnTo>
                    <a:close/>
                    <a:moveTo>
                      <a:pt x="1912" y="1234"/>
                    </a:moveTo>
                    <a:lnTo>
                      <a:pt x="1912" y="1234"/>
                    </a:lnTo>
                    <a:lnTo>
                      <a:pt x="1960" y="1232"/>
                    </a:lnTo>
                    <a:lnTo>
                      <a:pt x="1960" y="1232"/>
                    </a:lnTo>
                    <a:lnTo>
                      <a:pt x="1992" y="1356"/>
                    </a:lnTo>
                    <a:lnTo>
                      <a:pt x="2012" y="1438"/>
                    </a:lnTo>
                    <a:lnTo>
                      <a:pt x="2034" y="1512"/>
                    </a:lnTo>
                    <a:lnTo>
                      <a:pt x="2034" y="1512"/>
                    </a:lnTo>
                    <a:lnTo>
                      <a:pt x="1984" y="1504"/>
                    </a:lnTo>
                    <a:lnTo>
                      <a:pt x="1934" y="1494"/>
                    </a:lnTo>
                    <a:lnTo>
                      <a:pt x="1884" y="1482"/>
                    </a:lnTo>
                    <a:lnTo>
                      <a:pt x="1836" y="1468"/>
                    </a:lnTo>
                    <a:lnTo>
                      <a:pt x="1912" y="1234"/>
                    </a:lnTo>
                    <a:close/>
                    <a:moveTo>
                      <a:pt x="1794" y="1502"/>
                    </a:moveTo>
                    <a:lnTo>
                      <a:pt x="1794" y="1502"/>
                    </a:lnTo>
                    <a:lnTo>
                      <a:pt x="1706" y="1758"/>
                    </a:lnTo>
                    <a:lnTo>
                      <a:pt x="1706" y="1758"/>
                    </a:lnTo>
                    <a:lnTo>
                      <a:pt x="1516" y="1618"/>
                    </a:lnTo>
                    <a:lnTo>
                      <a:pt x="1516" y="1618"/>
                    </a:lnTo>
                    <a:lnTo>
                      <a:pt x="1566" y="1412"/>
                    </a:lnTo>
                    <a:lnTo>
                      <a:pt x="1566" y="1412"/>
                    </a:lnTo>
                    <a:lnTo>
                      <a:pt x="1620" y="1436"/>
                    </a:lnTo>
                    <a:lnTo>
                      <a:pt x="1678" y="1460"/>
                    </a:lnTo>
                    <a:lnTo>
                      <a:pt x="1734" y="1482"/>
                    </a:lnTo>
                    <a:lnTo>
                      <a:pt x="1794" y="1502"/>
                    </a:lnTo>
                    <a:lnTo>
                      <a:pt x="1794" y="1502"/>
                    </a:lnTo>
                    <a:close/>
                    <a:moveTo>
                      <a:pt x="1624" y="1178"/>
                    </a:moveTo>
                    <a:lnTo>
                      <a:pt x="1624" y="1178"/>
                    </a:lnTo>
                    <a:lnTo>
                      <a:pt x="1624" y="1174"/>
                    </a:lnTo>
                    <a:lnTo>
                      <a:pt x="1588" y="1210"/>
                    </a:lnTo>
                    <a:lnTo>
                      <a:pt x="1588" y="1210"/>
                    </a:lnTo>
                    <a:lnTo>
                      <a:pt x="1478" y="1314"/>
                    </a:lnTo>
                    <a:lnTo>
                      <a:pt x="1478" y="1314"/>
                    </a:lnTo>
                    <a:lnTo>
                      <a:pt x="1438" y="1288"/>
                    </a:lnTo>
                    <a:lnTo>
                      <a:pt x="1400" y="1264"/>
                    </a:lnTo>
                    <a:lnTo>
                      <a:pt x="1362" y="1236"/>
                    </a:lnTo>
                    <a:lnTo>
                      <a:pt x="1324" y="1210"/>
                    </a:lnTo>
                    <a:lnTo>
                      <a:pt x="1288" y="1182"/>
                    </a:lnTo>
                    <a:lnTo>
                      <a:pt x="1254" y="1152"/>
                    </a:lnTo>
                    <a:lnTo>
                      <a:pt x="1222" y="1122"/>
                    </a:lnTo>
                    <a:lnTo>
                      <a:pt x="1190" y="1090"/>
                    </a:lnTo>
                    <a:lnTo>
                      <a:pt x="1190" y="1090"/>
                    </a:lnTo>
                    <a:lnTo>
                      <a:pt x="1282" y="964"/>
                    </a:lnTo>
                    <a:lnTo>
                      <a:pt x="1368" y="850"/>
                    </a:lnTo>
                    <a:lnTo>
                      <a:pt x="1450" y="750"/>
                    </a:lnTo>
                    <a:lnTo>
                      <a:pt x="1526" y="662"/>
                    </a:lnTo>
                    <a:lnTo>
                      <a:pt x="1526" y="662"/>
                    </a:lnTo>
                    <a:lnTo>
                      <a:pt x="1560" y="694"/>
                    </a:lnTo>
                    <a:lnTo>
                      <a:pt x="1596" y="726"/>
                    </a:lnTo>
                    <a:lnTo>
                      <a:pt x="1634" y="756"/>
                    </a:lnTo>
                    <a:lnTo>
                      <a:pt x="1674" y="784"/>
                    </a:lnTo>
                    <a:lnTo>
                      <a:pt x="1714" y="812"/>
                    </a:lnTo>
                    <a:lnTo>
                      <a:pt x="1758" y="838"/>
                    </a:lnTo>
                    <a:lnTo>
                      <a:pt x="1802" y="864"/>
                    </a:lnTo>
                    <a:lnTo>
                      <a:pt x="1848" y="888"/>
                    </a:lnTo>
                    <a:lnTo>
                      <a:pt x="1848" y="888"/>
                    </a:lnTo>
                    <a:lnTo>
                      <a:pt x="1870" y="958"/>
                    </a:lnTo>
                    <a:lnTo>
                      <a:pt x="1870" y="958"/>
                    </a:lnTo>
                    <a:lnTo>
                      <a:pt x="1756" y="1058"/>
                    </a:lnTo>
                    <a:lnTo>
                      <a:pt x="1624" y="1178"/>
                    </a:lnTo>
                    <a:lnTo>
                      <a:pt x="1624" y="1178"/>
                    </a:lnTo>
                    <a:close/>
                    <a:moveTo>
                      <a:pt x="1444" y="1346"/>
                    </a:moveTo>
                    <a:lnTo>
                      <a:pt x="1444" y="1346"/>
                    </a:lnTo>
                    <a:lnTo>
                      <a:pt x="1304" y="1480"/>
                    </a:lnTo>
                    <a:lnTo>
                      <a:pt x="1304" y="1480"/>
                    </a:lnTo>
                    <a:lnTo>
                      <a:pt x="1034" y="1332"/>
                    </a:lnTo>
                    <a:lnTo>
                      <a:pt x="1034" y="1332"/>
                    </a:lnTo>
                    <a:lnTo>
                      <a:pt x="1078" y="1260"/>
                    </a:lnTo>
                    <a:lnTo>
                      <a:pt x="1122" y="1190"/>
                    </a:lnTo>
                    <a:lnTo>
                      <a:pt x="1122" y="1190"/>
                    </a:lnTo>
                    <a:lnTo>
                      <a:pt x="1160" y="1134"/>
                    </a:lnTo>
                    <a:lnTo>
                      <a:pt x="1160" y="1134"/>
                    </a:lnTo>
                    <a:lnTo>
                      <a:pt x="1192" y="1162"/>
                    </a:lnTo>
                    <a:lnTo>
                      <a:pt x="1224" y="1192"/>
                    </a:lnTo>
                    <a:lnTo>
                      <a:pt x="1258" y="1220"/>
                    </a:lnTo>
                    <a:lnTo>
                      <a:pt x="1292" y="1246"/>
                    </a:lnTo>
                    <a:lnTo>
                      <a:pt x="1328" y="1272"/>
                    </a:lnTo>
                    <a:lnTo>
                      <a:pt x="1366" y="1298"/>
                    </a:lnTo>
                    <a:lnTo>
                      <a:pt x="1404" y="1322"/>
                    </a:lnTo>
                    <a:lnTo>
                      <a:pt x="1444" y="1346"/>
                    </a:lnTo>
                    <a:lnTo>
                      <a:pt x="1444" y="1346"/>
                    </a:lnTo>
                    <a:close/>
                    <a:moveTo>
                      <a:pt x="1096" y="1688"/>
                    </a:moveTo>
                    <a:lnTo>
                      <a:pt x="1096" y="1688"/>
                    </a:lnTo>
                    <a:lnTo>
                      <a:pt x="1030" y="1774"/>
                    </a:lnTo>
                    <a:lnTo>
                      <a:pt x="1030" y="1774"/>
                    </a:lnTo>
                    <a:lnTo>
                      <a:pt x="956" y="1710"/>
                    </a:lnTo>
                    <a:lnTo>
                      <a:pt x="888" y="1644"/>
                    </a:lnTo>
                    <a:lnTo>
                      <a:pt x="888" y="1644"/>
                    </a:lnTo>
                    <a:lnTo>
                      <a:pt x="910" y="1586"/>
                    </a:lnTo>
                    <a:lnTo>
                      <a:pt x="936" y="1528"/>
                    </a:lnTo>
                    <a:lnTo>
                      <a:pt x="962" y="1470"/>
                    </a:lnTo>
                    <a:lnTo>
                      <a:pt x="990" y="1414"/>
                    </a:lnTo>
                    <a:lnTo>
                      <a:pt x="1096" y="1688"/>
                    </a:lnTo>
                    <a:close/>
                    <a:moveTo>
                      <a:pt x="986" y="1830"/>
                    </a:moveTo>
                    <a:lnTo>
                      <a:pt x="986" y="1830"/>
                    </a:lnTo>
                    <a:lnTo>
                      <a:pt x="874" y="1978"/>
                    </a:lnTo>
                    <a:lnTo>
                      <a:pt x="874" y="1978"/>
                    </a:lnTo>
                    <a:lnTo>
                      <a:pt x="874" y="1956"/>
                    </a:lnTo>
                    <a:lnTo>
                      <a:pt x="844" y="2000"/>
                    </a:lnTo>
                    <a:lnTo>
                      <a:pt x="844" y="2000"/>
                    </a:lnTo>
                    <a:lnTo>
                      <a:pt x="746" y="2148"/>
                    </a:lnTo>
                    <a:lnTo>
                      <a:pt x="746" y="2148"/>
                    </a:lnTo>
                    <a:lnTo>
                      <a:pt x="768" y="2042"/>
                    </a:lnTo>
                    <a:lnTo>
                      <a:pt x="794" y="1934"/>
                    </a:lnTo>
                    <a:lnTo>
                      <a:pt x="824" y="1826"/>
                    </a:lnTo>
                    <a:lnTo>
                      <a:pt x="842" y="1772"/>
                    </a:lnTo>
                    <a:lnTo>
                      <a:pt x="860" y="1718"/>
                    </a:lnTo>
                    <a:lnTo>
                      <a:pt x="860" y="1718"/>
                    </a:lnTo>
                    <a:lnTo>
                      <a:pt x="922" y="1774"/>
                    </a:lnTo>
                    <a:lnTo>
                      <a:pt x="986" y="1830"/>
                    </a:lnTo>
                    <a:lnTo>
                      <a:pt x="986" y="1830"/>
                    </a:lnTo>
                    <a:close/>
                    <a:moveTo>
                      <a:pt x="1476" y="2052"/>
                    </a:moveTo>
                    <a:lnTo>
                      <a:pt x="1476" y="2052"/>
                    </a:lnTo>
                    <a:lnTo>
                      <a:pt x="1444" y="2038"/>
                    </a:lnTo>
                    <a:lnTo>
                      <a:pt x="1444" y="2038"/>
                    </a:lnTo>
                    <a:lnTo>
                      <a:pt x="1462" y="1876"/>
                    </a:lnTo>
                    <a:lnTo>
                      <a:pt x="1462" y="1876"/>
                    </a:lnTo>
                    <a:lnTo>
                      <a:pt x="1666" y="1870"/>
                    </a:lnTo>
                    <a:lnTo>
                      <a:pt x="1666" y="1870"/>
                    </a:lnTo>
                    <a:lnTo>
                      <a:pt x="1588" y="2098"/>
                    </a:lnTo>
                    <a:lnTo>
                      <a:pt x="1588" y="2098"/>
                    </a:lnTo>
                    <a:lnTo>
                      <a:pt x="1532" y="2076"/>
                    </a:lnTo>
                    <a:lnTo>
                      <a:pt x="1476" y="2052"/>
                    </a:lnTo>
                    <a:lnTo>
                      <a:pt x="1476" y="2052"/>
                    </a:lnTo>
                    <a:close/>
                    <a:moveTo>
                      <a:pt x="1706" y="1870"/>
                    </a:moveTo>
                    <a:lnTo>
                      <a:pt x="1706" y="1870"/>
                    </a:lnTo>
                    <a:lnTo>
                      <a:pt x="1850" y="1866"/>
                    </a:lnTo>
                    <a:lnTo>
                      <a:pt x="1850" y="1866"/>
                    </a:lnTo>
                    <a:lnTo>
                      <a:pt x="1734" y="1780"/>
                    </a:lnTo>
                    <a:lnTo>
                      <a:pt x="1822" y="1510"/>
                    </a:lnTo>
                    <a:lnTo>
                      <a:pt x="1822" y="1510"/>
                    </a:lnTo>
                    <a:lnTo>
                      <a:pt x="1878" y="1526"/>
                    </a:lnTo>
                    <a:lnTo>
                      <a:pt x="1934" y="1540"/>
                    </a:lnTo>
                    <a:lnTo>
                      <a:pt x="1992" y="1554"/>
                    </a:lnTo>
                    <a:lnTo>
                      <a:pt x="2050" y="1564"/>
                    </a:lnTo>
                    <a:lnTo>
                      <a:pt x="2050" y="1564"/>
                    </a:lnTo>
                    <a:lnTo>
                      <a:pt x="2058" y="1582"/>
                    </a:lnTo>
                    <a:lnTo>
                      <a:pt x="2058" y="1582"/>
                    </a:lnTo>
                    <a:lnTo>
                      <a:pt x="2064" y="1590"/>
                    </a:lnTo>
                    <a:lnTo>
                      <a:pt x="2070" y="1594"/>
                    </a:lnTo>
                    <a:lnTo>
                      <a:pt x="2074" y="1596"/>
                    </a:lnTo>
                    <a:lnTo>
                      <a:pt x="2078" y="1596"/>
                    </a:lnTo>
                    <a:lnTo>
                      <a:pt x="2078" y="1596"/>
                    </a:lnTo>
                    <a:lnTo>
                      <a:pt x="2084" y="1594"/>
                    </a:lnTo>
                    <a:lnTo>
                      <a:pt x="2088" y="1592"/>
                    </a:lnTo>
                    <a:lnTo>
                      <a:pt x="2094" y="1584"/>
                    </a:lnTo>
                    <a:lnTo>
                      <a:pt x="2102" y="1572"/>
                    </a:lnTo>
                    <a:lnTo>
                      <a:pt x="2102" y="1572"/>
                    </a:lnTo>
                    <a:lnTo>
                      <a:pt x="2150" y="1578"/>
                    </a:lnTo>
                    <a:lnTo>
                      <a:pt x="2200" y="1584"/>
                    </a:lnTo>
                    <a:lnTo>
                      <a:pt x="2248" y="1588"/>
                    </a:lnTo>
                    <a:lnTo>
                      <a:pt x="2296" y="1590"/>
                    </a:lnTo>
                    <a:lnTo>
                      <a:pt x="2344" y="1590"/>
                    </a:lnTo>
                    <a:lnTo>
                      <a:pt x="2392" y="1590"/>
                    </a:lnTo>
                    <a:lnTo>
                      <a:pt x="2438" y="1590"/>
                    </a:lnTo>
                    <a:lnTo>
                      <a:pt x="2484" y="1588"/>
                    </a:lnTo>
                    <a:lnTo>
                      <a:pt x="2484" y="1588"/>
                    </a:lnTo>
                    <a:lnTo>
                      <a:pt x="2476" y="1674"/>
                    </a:lnTo>
                    <a:lnTo>
                      <a:pt x="2466" y="1758"/>
                    </a:lnTo>
                    <a:lnTo>
                      <a:pt x="2454" y="1840"/>
                    </a:lnTo>
                    <a:lnTo>
                      <a:pt x="2440" y="1920"/>
                    </a:lnTo>
                    <a:lnTo>
                      <a:pt x="2424" y="2000"/>
                    </a:lnTo>
                    <a:lnTo>
                      <a:pt x="2408" y="2076"/>
                    </a:lnTo>
                    <a:lnTo>
                      <a:pt x="2392" y="2152"/>
                    </a:lnTo>
                    <a:lnTo>
                      <a:pt x="2374" y="2224"/>
                    </a:lnTo>
                    <a:lnTo>
                      <a:pt x="2374" y="2224"/>
                    </a:lnTo>
                    <a:lnTo>
                      <a:pt x="2330" y="2226"/>
                    </a:lnTo>
                    <a:lnTo>
                      <a:pt x="2286" y="2228"/>
                    </a:lnTo>
                    <a:lnTo>
                      <a:pt x="2240" y="2228"/>
                    </a:lnTo>
                    <a:lnTo>
                      <a:pt x="2194" y="2226"/>
                    </a:lnTo>
                    <a:lnTo>
                      <a:pt x="2148" y="2224"/>
                    </a:lnTo>
                    <a:lnTo>
                      <a:pt x="2102" y="2220"/>
                    </a:lnTo>
                    <a:lnTo>
                      <a:pt x="2056" y="2214"/>
                    </a:lnTo>
                    <a:lnTo>
                      <a:pt x="2010" y="2208"/>
                    </a:lnTo>
                    <a:lnTo>
                      <a:pt x="1962" y="2200"/>
                    </a:lnTo>
                    <a:lnTo>
                      <a:pt x="1914" y="2192"/>
                    </a:lnTo>
                    <a:lnTo>
                      <a:pt x="1868" y="2182"/>
                    </a:lnTo>
                    <a:lnTo>
                      <a:pt x="1820" y="2170"/>
                    </a:lnTo>
                    <a:lnTo>
                      <a:pt x="1772" y="2158"/>
                    </a:lnTo>
                    <a:lnTo>
                      <a:pt x="1724" y="2144"/>
                    </a:lnTo>
                    <a:lnTo>
                      <a:pt x="1676" y="2128"/>
                    </a:lnTo>
                    <a:lnTo>
                      <a:pt x="1628" y="2112"/>
                    </a:lnTo>
                    <a:lnTo>
                      <a:pt x="1706" y="1870"/>
                    </a:lnTo>
                    <a:close/>
                    <a:moveTo>
                      <a:pt x="2496" y="1032"/>
                    </a:moveTo>
                    <a:lnTo>
                      <a:pt x="2496" y="1032"/>
                    </a:lnTo>
                    <a:lnTo>
                      <a:pt x="2500" y="1156"/>
                    </a:lnTo>
                    <a:lnTo>
                      <a:pt x="2502" y="1278"/>
                    </a:lnTo>
                    <a:lnTo>
                      <a:pt x="2492" y="1268"/>
                    </a:lnTo>
                    <a:lnTo>
                      <a:pt x="2492" y="1268"/>
                    </a:lnTo>
                    <a:lnTo>
                      <a:pt x="2356" y="1128"/>
                    </a:lnTo>
                    <a:lnTo>
                      <a:pt x="2296" y="1066"/>
                    </a:lnTo>
                    <a:lnTo>
                      <a:pt x="2260" y="1026"/>
                    </a:lnTo>
                    <a:lnTo>
                      <a:pt x="2260" y="1026"/>
                    </a:lnTo>
                    <a:lnTo>
                      <a:pt x="2262" y="1020"/>
                    </a:lnTo>
                    <a:lnTo>
                      <a:pt x="2262" y="1020"/>
                    </a:lnTo>
                    <a:lnTo>
                      <a:pt x="2322" y="1028"/>
                    </a:lnTo>
                    <a:lnTo>
                      <a:pt x="2382" y="1032"/>
                    </a:lnTo>
                    <a:lnTo>
                      <a:pt x="2440" y="1034"/>
                    </a:lnTo>
                    <a:lnTo>
                      <a:pt x="2496" y="1032"/>
                    </a:lnTo>
                    <a:lnTo>
                      <a:pt x="2496" y="1032"/>
                    </a:lnTo>
                    <a:close/>
                    <a:moveTo>
                      <a:pt x="2288" y="946"/>
                    </a:moveTo>
                    <a:lnTo>
                      <a:pt x="2288" y="946"/>
                    </a:lnTo>
                    <a:lnTo>
                      <a:pt x="2378" y="700"/>
                    </a:lnTo>
                    <a:lnTo>
                      <a:pt x="2384" y="702"/>
                    </a:lnTo>
                    <a:lnTo>
                      <a:pt x="2384" y="702"/>
                    </a:lnTo>
                    <a:lnTo>
                      <a:pt x="2464" y="730"/>
                    </a:lnTo>
                    <a:lnTo>
                      <a:pt x="2464" y="730"/>
                    </a:lnTo>
                    <a:lnTo>
                      <a:pt x="2478" y="840"/>
                    </a:lnTo>
                    <a:lnTo>
                      <a:pt x="2490" y="950"/>
                    </a:lnTo>
                    <a:lnTo>
                      <a:pt x="2490" y="950"/>
                    </a:lnTo>
                    <a:lnTo>
                      <a:pt x="2440" y="952"/>
                    </a:lnTo>
                    <a:lnTo>
                      <a:pt x="2390" y="952"/>
                    </a:lnTo>
                    <a:lnTo>
                      <a:pt x="2340" y="950"/>
                    </a:lnTo>
                    <a:lnTo>
                      <a:pt x="2288" y="946"/>
                    </a:lnTo>
                    <a:lnTo>
                      <a:pt x="2288" y="946"/>
                    </a:lnTo>
                    <a:close/>
                    <a:moveTo>
                      <a:pt x="2500" y="1300"/>
                    </a:moveTo>
                    <a:lnTo>
                      <a:pt x="2500" y="1300"/>
                    </a:lnTo>
                    <a:lnTo>
                      <a:pt x="2498" y="1412"/>
                    </a:lnTo>
                    <a:lnTo>
                      <a:pt x="2490" y="1522"/>
                    </a:lnTo>
                    <a:lnTo>
                      <a:pt x="2490" y="1522"/>
                    </a:lnTo>
                    <a:lnTo>
                      <a:pt x="2422" y="1528"/>
                    </a:lnTo>
                    <a:lnTo>
                      <a:pt x="2352" y="1532"/>
                    </a:lnTo>
                    <a:lnTo>
                      <a:pt x="2282" y="1534"/>
                    </a:lnTo>
                    <a:lnTo>
                      <a:pt x="2212" y="1532"/>
                    </a:lnTo>
                    <a:lnTo>
                      <a:pt x="2212" y="1532"/>
                    </a:lnTo>
                    <a:lnTo>
                      <a:pt x="2164" y="1530"/>
                    </a:lnTo>
                    <a:lnTo>
                      <a:pt x="2118" y="1524"/>
                    </a:lnTo>
                    <a:lnTo>
                      <a:pt x="2118" y="1524"/>
                    </a:lnTo>
                    <a:lnTo>
                      <a:pt x="2132" y="1478"/>
                    </a:lnTo>
                    <a:lnTo>
                      <a:pt x="2150" y="1412"/>
                    </a:lnTo>
                    <a:lnTo>
                      <a:pt x="2150" y="1412"/>
                    </a:lnTo>
                    <a:lnTo>
                      <a:pt x="2170" y="1322"/>
                    </a:lnTo>
                    <a:lnTo>
                      <a:pt x="2184" y="1258"/>
                    </a:lnTo>
                    <a:lnTo>
                      <a:pt x="2184" y="1258"/>
                    </a:lnTo>
                    <a:lnTo>
                      <a:pt x="2500" y="1300"/>
                    </a:lnTo>
                    <a:lnTo>
                      <a:pt x="2500" y="1300"/>
                    </a:lnTo>
                    <a:close/>
                    <a:moveTo>
                      <a:pt x="2726" y="992"/>
                    </a:moveTo>
                    <a:lnTo>
                      <a:pt x="2726" y="992"/>
                    </a:lnTo>
                    <a:lnTo>
                      <a:pt x="2752" y="1142"/>
                    </a:lnTo>
                    <a:lnTo>
                      <a:pt x="2762" y="1204"/>
                    </a:lnTo>
                    <a:lnTo>
                      <a:pt x="2762" y="1204"/>
                    </a:lnTo>
                    <a:lnTo>
                      <a:pt x="2844" y="940"/>
                    </a:lnTo>
                    <a:lnTo>
                      <a:pt x="2844" y="940"/>
                    </a:lnTo>
                    <a:lnTo>
                      <a:pt x="2852" y="936"/>
                    </a:lnTo>
                    <a:lnTo>
                      <a:pt x="2852" y="936"/>
                    </a:lnTo>
                    <a:lnTo>
                      <a:pt x="2874" y="994"/>
                    </a:lnTo>
                    <a:lnTo>
                      <a:pt x="2894" y="1052"/>
                    </a:lnTo>
                    <a:lnTo>
                      <a:pt x="2914" y="1110"/>
                    </a:lnTo>
                    <a:lnTo>
                      <a:pt x="2930" y="1166"/>
                    </a:lnTo>
                    <a:lnTo>
                      <a:pt x="2946" y="1222"/>
                    </a:lnTo>
                    <a:lnTo>
                      <a:pt x="2960" y="1278"/>
                    </a:lnTo>
                    <a:lnTo>
                      <a:pt x="2974" y="1334"/>
                    </a:lnTo>
                    <a:lnTo>
                      <a:pt x="2986" y="1390"/>
                    </a:lnTo>
                    <a:lnTo>
                      <a:pt x="2986" y="1390"/>
                    </a:lnTo>
                    <a:lnTo>
                      <a:pt x="2932" y="1412"/>
                    </a:lnTo>
                    <a:lnTo>
                      <a:pt x="2878" y="1434"/>
                    </a:lnTo>
                    <a:lnTo>
                      <a:pt x="2822" y="1452"/>
                    </a:lnTo>
                    <a:lnTo>
                      <a:pt x="2764" y="1470"/>
                    </a:lnTo>
                    <a:lnTo>
                      <a:pt x="2704" y="1486"/>
                    </a:lnTo>
                    <a:lnTo>
                      <a:pt x="2644" y="1498"/>
                    </a:lnTo>
                    <a:lnTo>
                      <a:pt x="2582" y="1510"/>
                    </a:lnTo>
                    <a:lnTo>
                      <a:pt x="2520" y="1518"/>
                    </a:lnTo>
                    <a:lnTo>
                      <a:pt x="2520" y="1518"/>
                    </a:lnTo>
                    <a:lnTo>
                      <a:pt x="2524" y="1410"/>
                    </a:lnTo>
                    <a:lnTo>
                      <a:pt x="2526" y="1304"/>
                    </a:lnTo>
                    <a:lnTo>
                      <a:pt x="2526" y="1304"/>
                    </a:lnTo>
                    <a:lnTo>
                      <a:pt x="2528" y="1304"/>
                    </a:lnTo>
                    <a:lnTo>
                      <a:pt x="2526" y="1302"/>
                    </a:lnTo>
                    <a:lnTo>
                      <a:pt x="2526" y="1302"/>
                    </a:lnTo>
                    <a:lnTo>
                      <a:pt x="2524" y="1232"/>
                    </a:lnTo>
                    <a:lnTo>
                      <a:pt x="2522" y="1162"/>
                    </a:lnTo>
                    <a:lnTo>
                      <a:pt x="2518" y="1096"/>
                    </a:lnTo>
                    <a:lnTo>
                      <a:pt x="2514" y="1030"/>
                    </a:lnTo>
                    <a:lnTo>
                      <a:pt x="2514" y="1030"/>
                    </a:lnTo>
                    <a:lnTo>
                      <a:pt x="2570" y="1026"/>
                    </a:lnTo>
                    <a:lnTo>
                      <a:pt x="2624" y="1016"/>
                    </a:lnTo>
                    <a:lnTo>
                      <a:pt x="2676" y="1006"/>
                    </a:lnTo>
                    <a:lnTo>
                      <a:pt x="2726" y="992"/>
                    </a:lnTo>
                    <a:lnTo>
                      <a:pt x="2726" y="992"/>
                    </a:lnTo>
                    <a:close/>
                    <a:moveTo>
                      <a:pt x="2710" y="906"/>
                    </a:moveTo>
                    <a:lnTo>
                      <a:pt x="2710" y="906"/>
                    </a:lnTo>
                    <a:lnTo>
                      <a:pt x="2664" y="920"/>
                    </a:lnTo>
                    <a:lnTo>
                      <a:pt x="2614" y="932"/>
                    </a:lnTo>
                    <a:lnTo>
                      <a:pt x="2562" y="942"/>
                    </a:lnTo>
                    <a:lnTo>
                      <a:pt x="2508" y="948"/>
                    </a:lnTo>
                    <a:lnTo>
                      <a:pt x="2508" y="948"/>
                    </a:lnTo>
                    <a:lnTo>
                      <a:pt x="2494" y="838"/>
                    </a:lnTo>
                    <a:lnTo>
                      <a:pt x="2478" y="734"/>
                    </a:lnTo>
                    <a:lnTo>
                      <a:pt x="2478" y="734"/>
                    </a:lnTo>
                    <a:lnTo>
                      <a:pt x="2632" y="784"/>
                    </a:lnTo>
                    <a:lnTo>
                      <a:pt x="2690" y="802"/>
                    </a:lnTo>
                    <a:lnTo>
                      <a:pt x="2690" y="802"/>
                    </a:lnTo>
                    <a:lnTo>
                      <a:pt x="2698" y="840"/>
                    </a:lnTo>
                    <a:lnTo>
                      <a:pt x="2710" y="906"/>
                    </a:lnTo>
                    <a:lnTo>
                      <a:pt x="2710" y="906"/>
                    </a:lnTo>
                    <a:close/>
                    <a:moveTo>
                      <a:pt x="2606" y="520"/>
                    </a:moveTo>
                    <a:lnTo>
                      <a:pt x="2606" y="520"/>
                    </a:lnTo>
                    <a:lnTo>
                      <a:pt x="2620" y="560"/>
                    </a:lnTo>
                    <a:lnTo>
                      <a:pt x="2620" y="560"/>
                    </a:lnTo>
                    <a:lnTo>
                      <a:pt x="2460" y="636"/>
                    </a:lnTo>
                    <a:lnTo>
                      <a:pt x="2460" y="636"/>
                    </a:lnTo>
                    <a:lnTo>
                      <a:pt x="2444" y="558"/>
                    </a:lnTo>
                    <a:lnTo>
                      <a:pt x="2444" y="558"/>
                    </a:lnTo>
                    <a:lnTo>
                      <a:pt x="2488" y="554"/>
                    </a:lnTo>
                    <a:lnTo>
                      <a:pt x="2530" y="546"/>
                    </a:lnTo>
                    <a:lnTo>
                      <a:pt x="2570" y="534"/>
                    </a:lnTo>
                    <a:lnTo>
                      <a:pt x="2606" y="520"/>
                    </a:lnTo>
                    <a:lnTo>
                      <a:pt x="2606" y="520"/>
                    </a:lnTo>
                    <a:close/>
                    <a:moveTo>
                      <a:pt x="2158" y="520"/>
                    </a:moveTo>
                    <a:lnTo>
                      <a:pt x="2158" y="520"/>
                    </a:lnTo>
                    <a:lnTo>
                      <a:pt x="2194" y="530"/>
                    </a:lnTo>
                    <a:lnTo>
                      <a:pt x="2230" y="540"/>
                    </a:lnTo>
                    <a:lnTo>
                      <a:pt x="2266" y="548"/>
                    </a:lnTo>
                    <a:lnTo>
                      <a:pt x="2300" y="552"/>
                    </a:lnTo>
                    <a:lnTo>
                      <a:pt x="2336" y="558"/>
                    </a:lnTo>
                    <a:lnTo>
                      <a:pt x="2368" y="560"/>
                    </a:lnTo>
                    <a:lnTo>
                      <a:pt x="2402" y="560"/>
                    </a:lnTo>
                    <a:lnTo>
                      <a:pt x="2434" y="560"/>
                    </a:lnTo>
                    <a:lnTo>
                      <a:pt x="2434" y="560"/>
                    </a:lnTo>
                    <a:lnTo>
                      <a:pt x="2450" y="640"/>
                    </a:lnTo>
                    <a:lnTo>
                      <a:pt x="2450" y="640"/>
                    </a:lnTo>
                    <a:lnTo>
                      <a:pt x="2390" y="668"/>
                    </a:lnTo>
                    <a:lnTo>
                      <a:pt x="2394" y="656"/>
                    </a:lnTo>
                    <a:lnTo>
                      <a:pt x="2362" y="672"/>
                    </a:lnTo>
                    <a:lnTo>
                      <a:pt x="2362" y="672"/>
                    </a:lnTo>
                    <a:lnTo>
                      <a:pt x="2312" y="694"/>
                    </a:lnTo>
                    <a:lnTo>
                      <a:pt x="2228" y="738"/>
                    </a:lnTo>
                    <a:lnTo>
                      <a:pt x="2182" y="764"/>
                    </a:lnTo>
                    <a:lnTo>
                      <a:pt x="2140" y="790"/>
                    </a:lnTo>
                    <a:lnTo>
                      <a:pt x="2106" y="814"/>
                    </a:lnTo>
                    <a:lnTo>
                      <a:pt x="2092" y="824"/>
                    </a:lnTo>
                    <a:lnTo>
                      <a:pt x="2084" y="836"/>
                    </a:lnTo>
                    <a:lnTo>
                      <a:pt x="2084" y="836"/>
                    </a:lnTo>
                    <a:lnTo>
                      <a:pt x="2078" y="836"/>
                    </a:lnTo>
                    <a:lnTo>
                      <a:pt x="2070" y="834"/>
                    </a:lnTo>
                    <a:lnTo>
                      <a:pt x="2058" y="828"/>
                    </a:lnTo>
                    <a:lnTo>
                      <a:pt x="2046" y="822"/>
                    </a:lnTo>
                    <a:lnTo>
                      <a:pt x="2144" y="514"/>
                    </a:lnTo>
                    <a:lnTo>
                      <a:pt x="2144" y="514"/>
                    </a:lnTo>
                    <a:lnTo>
                      <a:pt x="2158" y="520"/>
                    </a:lnTo>
                    <a:lnTo>
                      <a:pt x="2158" y="520"/>
                    </a:lnTo>
                    <a:close/>
                    <a:moveTo>
                      <a:pt x="2138" y="512"/>
                    </a:moveTo>
                    <a:lnTo>
                      <a:pt x="2138" y="512"/>
                    </a:lnTo>
                    <a:lnTo>
                      <a:pt x="2032" y="814"/>
                    </a:lnTo>
                    <a:lnTo>
                      <a:pt x="2032" y="814"/>
                    </a:lnTo>
                    <a:lnTo>
                      <a:pt x="2010" y="798"/>
                    </a:lnTo>
                    <a:lnTo>
                      <a:pt x="1984" y="778"/>
                    </a:lnTo>
                    <a:lnTo>
                      <a:pt x="1924" y="728"/>
                    </a:lnTo>
                    <a:lnTo>
                      <a:pt x="1858" y="668"/>
                    </a:lnTo>
                    <a:lnTo>
                      <a:pt x="1788" y="600"/>
                    </a:lnTo>
                    <a:lnTo>
                      <a:pt x="1764" y="616"/>
                    </a:lnTo>
                    <a:lnTo>
                      <a:pt x="1764" y="616"/>
                    </a:lnTo>
                    <a:lnTo>
                      <a:pt x="1822" y="804"/>
                    </a:lnTo>
                    <a:lnTo>
                      <a:pt x="1822" y="804"/>
                    </a:lnTo>
                    <a:lnTo>
                      <a:pt x="1786" y="784"/>
                    </a:lnTo>
                    <a:lnTo>
                      <a:pt x="1752" y="764"/>
                    </a:lnTo>
                    <a:lnTo>
                      <a:pt x="1718" y="742"/>
                    </a:lnTo>
                    <a:lnTo>
                      <a:pt x="1686" y="718"/>
                    </a:lnTo>
                    <a:lnTo>
                      <a:pt x="1654" y="694"/>
                    </a:lnTo>
                    <a:lnTo>
                      <a:pt x="1624" y="670"/>
                    </a:lnTo>
                    <a:lnTo>
                      <a:pt x="1594" y="646"/>
                    </a:lnTo>
                    <a:lnTo>
                      <a:pt x="1566" y="620"/>
                    </a:lnTo>
                    <a:lnTo>
                      <a:pt x="1566" y="620"/>
                    </a:lnTo>
                    <a:lnTo>
                      <a:pt x="1610" y="574"/>
                    </a:lnTo>
                    <a:lnTo>
                      <a:pt x="1652" y="532"/>
                    </a:lnTo>
                    <a:lnTo>
                      <a:pt x="1692" y="494"/>
                    </a:lnTo>
                    <a:lnTo>
                      <a:pt x="1730" y="458"/>
                    </a:lnTo>
                    <a:lnTo>
                      <a:pt x="1768" y="428"/>
                    </a:lnTo>
                    <a:lnTo>
                      <a:pt x="1804" y="398"/>
                    </a:lnTo>
                    <a:lnTo>
                      <a:pt x="1838" y="374"/>
                    </a:lnTo>
                    <a:lnTo>
                      <a:pt x="1870" y="350"/>
                    </a:lnTo>
                    <a:lnTo>
                      <a:pt x="1870" y="350"/>
                    </a:lnTo>
                    <a:lnTo>
                      <a:pt x="1898" y="374"/>
                    </a:lnTo>
                    <a:lnTo>
                      <a:pt x="1926" y="398"/>
                    </a:lnTo>
                    <a:lnTo>
                      <a:pt x="1958" y="420"/>
                    </a:lnTo>
                    <a:lnTo>
                      <a:pt x="1990" y="440"/>
                    </a:lnTo>
                    <a:lnTo>
                      <a:pt x="2024" y="460"/>
                    </a:lnTo>
                    <a:lnTo>
                      <a:pt x="2060" y="480"/>
                    </a:lnTo>
                    <a:lnTo>
                      <a:pt x="2098" y="496"/>
                    </a:lnTo>
                    <a:lnTo>
                      <a:pt x="2138" y="512"/>
                    </a:lnTo>
                    <a:lnTo>
                      <a:pt x="2138" y="512"/>
                    </a:lnTo>
                    <a:close/>
                    <a:moveTo>
                      <a:pt x="1748" y="156"/>
                    </a:moveTo>
                    <a:lnTo>
                      <a:pt x="1748" y="156"/>
                    </a:lnTo>
                    <a:lnTo>
                      <a:pt x="1756" y="180"/>
                    </a:lnTo>
                    <a:lnTo>
                      <a:pt x="1764" y="204"/>
                    </a:lnTo>
                    <a:lnTo>
                      <a:pt x="1776" y="228"/>
                    </a:lnTo>
                    <a:lnTo>
                      <a:pt x="1790" y="250"/>
                    </a:lnTo>
                    <a:lnTo>
                      <a:pt x="1804" y="274"/>
                    </a:lnTo>
                    <a:lnTo>
                      <a:pt x="1822" y="296"/>
                    </a:lnTo>
                    <a:lnTo>
                      <a:pt x="1842" y="320"/>
                    </a:lnTo>
                    <a:lnTo>
                      <a:pt x="1862" y="342"/>
                    </a:lnTo>
                    <a:lnTo>
                      <a:pt x="1862" y="342"/>
                    </a:lnTo>
                    <a:lnTo>
                      <a:pt x="1788" y="394"/>
                    </a:lnTo>
                    <a:lnTo>
                      <a:pt x="1712" y="456"/>
                    </a:lnTo>
                    <a:lnTo>
                      <a:pt x="1630" y="524"/>
                    </a:lnTo>
                    <a:lnTo>
                      <a:pt x="1546" y="600"/>
                    </a:lnTo>
                    <a:lnTo>
                      <a:pt x="1546" y="600"/>
                    </a:lnTo>
                    <a:lnTo>
                      <a:pt x="1512" y="566"/>
                    </a:lnTo>
                    <a:lnTo>
                      <a:pt x="1482" y="530"/>
                    </a:lnTo>
                    <a:lnTo>
                      <a:pt x="1452" y="494"/>
                    </a:lnTo>
                    <a:lnTo>
                      <a:pt x="1426" y="456"/>
                    </a:lnTo>
                    <a:lnTo>
                      <a:pt x="1400" y="420"/>
                    </a:lnTo>
                    <a:lnTo>
                      <a:pt x="1378" y="382"/>
                    </a:lnTo>
                    <a:lnTo>
                      <a:pt x="1358" y="344"/>
                    </a:lnTo>
                    <a:lnTo>
                      <a:pt x="1342" y="306"/>
                    </a:lnTo>
                    <a:lnTo>
                      <a:pt x="1342" y="306"/>
                    </a:lnTo>
                    <a:lnTo>
                      <a:pt x="1396" y="280"/>
                    </a:lnTo>
                    <a:lnTo>
                      <a:pt x="1450" y="258"/>
                    </a:lnTo>
                    <a:lnTo>
                      <a:pt x="1504" y="236"/>
                    </a:lnTo>
                    <a:lnTo>
                      <a:pt x="1556" y="216"/>
                    </a:lnTo>
                    <a:lnTo>
                      <a:pt x="1656" y="184"/>
                    </a:lnTo>
                    <a:lnTo>
                      <a:pt x="1748" y="156"/>
                    </a:lnTo>
                    <a:lnTo>
                      <a:pt x="1748" y="156"/>
                    </a:lnTo>
                    <a:close/>
                    <a:moveTo>
                      <a:pt x="1306" y="322"/>
                    </a:moveTo>
                    <a:lnTo>
                      <a:pt x="1306" y="322"/>
                    </a:lnTo>
                    <a:lnTo>
                      <a:pt x="1320" y="364"/>
                    </a:lnTo>
                    <a:lnTo>
                      <a:pt x="1338" y="404"/>
                    </a:lnTo>
                    <a:lnTo>
                      <a:pt x="1358" y="446"/>
                    </a:lnTo>
                    <a:lnTo>
                      <a:pt x="1382" y="486"/>
                    </a:lnTo>
                    <a:lnTo>
                      <a:pt x="1408" y="526"/>
                    </a:lnTo>
                    <a:lnTo>
                      <a:pt x="1438" y="564"/>
                    </a:lnTo>
                    <a:lnTo>
                      <a:pt x="1470" y="604"/>
                    </a:lnTo>
                    <a:lnTo>
                      <a:pt x="1504" y="642"/>
                    </a:lnTo>
                    <a:lnTo>
                      <a:pt x="1504" y="642"/>
                    </a:lnTo>
                    <a:lnTo>
                      <a:pt x="1460" y="686"/>
                    </a:lnTo>
                    <a:lnTo>
                      <a:pt x="1418" y="732"/>
                    </a:lnTo>
                    <a:lnTo>
                      <a:pt x="1374" y="780"/>
                    </a:lnTo>
                    <a:lnTo>
                      <a:pt x="1330" y="832"/>
                    </a:lnTo>
                    <a:lnTo>
                      <a:pt x="1286" y="884"/>
                    </a:lnTo>
                    <a:lnTo>
                      <a:pt x="1244" y="940"/>
                    </a:lnTo>
                    <a:lnTo>
                      <a:pt x="1202" y="998"/>
                    </a:lnTo>
                    <a:lnTo>
                      <a:pt x="1160" y="1058"/>
                    </a:lnTo>
                    <a:lnTo>
                      <a:pt x="1160" y="1058"/>
                    </a:lnTo>
                    <a:lnTo>
                      <a:pt x="1112" y="1004"/>
                    </a:lnTo>
                    <a:lnTo>
                      <a:pt x="1068" y="946"/>
                    </a:lnTo>
                    <a:lnTo>
                      <a:pt x="1028" y="888"/>
                    </a:lnTo>
                    <a:lnTo>
                      <a:pt x="1012" y="858"/>
                    </a:lnTo>
                    <a:lnTo>
                      <a:pt x="994" y="828"/>
                    </a:lnTo>
                    <a:lnTo>
                      <a:pt x="980" y="796"/>
                    </a:lnTo>
                    <a:lnTo>
                      <a:pt x="964" y="766"/>
                    </a:lnTo>
                    <a:lnTo>
                      <a:pt x="952" y="734"/>
                    </a:lnTo>
                    <a:lnTo>
                      <a:pt x="940" y="704"/>
                    </a:lnTo>
                    <a:lnTo>
                      <a:pt x="930" y="672"/>
                    </a:lnTo>
                    <a:lnTo>
                      <a:pt x="922" y="640"/>
                    </a:lnTo>
                    <a:lnTo>
                      <a:pt x="914" y="608"/>
                    </a:lnTo>
                    <a:lnTo>
                      <a:pt x="908" y="576"/>
                    </a:lnTo>
                    <a:lnTo>
                      <a:pt x="908" y="576"/>
                    </a:lnTo>
                    <a:lnTo>
                      <a:pt x="956" y="538"/>
                    </a:lnTo>
                    <a:lnTo>
                      <a:pt x="1006" y="500"/>
                    </a:lnTo>
                    <a:lnTo>
                      <a:pt x="1056" y="466"/>
                    </a:lnTo>
                    <a:lnTo>
                      <a:pt x="1106" y="434"/>
                    </a:lnTo>
                    <a:lnTo>
                      <a:pt x="1156" y="402"/>
                    </a:lnTo>
                    <a:lnTo>
                      <a:pt x="1206" y="374"/>
                    </a:lnTo>
                    <a:lnTo>
                      <a:pt x="1256" y="348"/>
                    </a:lnTo>
                    <a:lnTo>
                      <a:pt x="1306" y="322"/>
                    </a:lnTo>
                    <a:lnTo>
                      <a:pt x="1306" y="322"/>
                    </a:lnTo>
                    <a:close/>
                    <a:moveTo>
                      <a:pt x="860" y="616"/>
                    </a:moveTo>
                    <a:lnTo>
                      <a:pt x="860" y="616"/>
                    </a:lnTo>
                    <a:lnTo>
                      <a:pt x="866" y="648"/>
                    </a:lnTo>
                    <a:lnTo>
                      <a:pt x="876" y="680"/>
                    </a:lnTo>
                    <a:lnTo>
                      <a:pt x="884" y="712"/>
                    </a:lnTo>
                    <a:lnTo>
                      <a:pt x="896" y="744"/>
                    </a:lnTo>
                    <a:lnTo>
                      <a:pt x="908" y="776"/>
                    </a:lnTo>
                    <a:lnTo>
                      <a:pt x="922" y="806"/>
                    </a:lnTo>
                    <a:lnTo>
                      <a:pt x="938" y="838"/>
                    </a:lnTo>
                    <a:lnTo>
                      <a:pt x="954" y="868"/>
                    </a:lnTo>
                    <a:lnTo>
                      <a:pt x="972" y="900"/>
                    </a:lnTo>
                    <a:lnTo>
                      <a:pt x="990" y="930"/>
                    </a:lnTo>
                    <a:lnTo>
                      <a:pt x="1012" y="960"/>
                    </a:lnTo>
                    <a:lnTo>
                      <a:pt x="1032" y="988"/>
                    </a:lnTo>
                    <a:lnTo>
                      <a:pt x="1078" y="1046"/>
                    </a:lnTo>
                    <a:lnTo>
                      <a:pt x="1130" y="1102"/>
                    </a:lnTo>
                    <a:lnTo>
                      <a:pt x="1130" y="1102"/>
                    </a:lnTo>
                    <a:lnTo>
                      <a:pt x="1098" y="1154"/>
                    </a:lnTo>
                    <a:lnTo>
                      <a:pt x="1066" y="1206"/>
                    </a:lnTo>
                    <a:lnTo>
                      <a:pt x="1034" y="1260"/>
                    </a:lnTo>
                    <a:lnTo>
                      <a:pt x="1004" y="1316"/>
                    </a:lnTo>
                    <a:lnTo>
                      <a:pt x="1004" y="1316"/>
                    </a:lnTo>
                    <a:lnTo>
                      <a:pt x="940" y="1280"/>
                    </a:lnTo>
                    <a:lnTo>
                      <a:pt x="940" y="1280"/>
                    </a:lnTo>
                    <a:lnTo>
                      <a:pt x="976" y="1372"/>
                    </a:lnTo>
                    <a:lnTo>
                      <a:pt x="976" y="1372"/>
                    </a:lnTo>
                    <a:lnTo>
                      <a:pt x="946" y="1432"/>
                    </a:lnTo>
                    <a:lnTo>
                      <a:pt x="918" y="1494"/>
                    </a:lnTo>
                    <a:lnTo>
                      <a:pt x="890" y="1556"/>
                    </a:lnTo>
                    <a:lnTo>
                      <a:pt x="864" y="1622"/>
                    </a:lnTo>
                    <a:lnTo>
                      <a:pt x="864" y="1622"/>
                    </a:lnTo>
                    <a:lnTo>
                      <a:pt x="804" y="1556"/>
                    </a:lnTo>
                    <a:lnTo>
                      <a:pt x="748" y="1490"/>
                    </a:lnTo>
                    <a:lnTo>
                      <a:pt x="694" y="1420"/>
                    </a:lnTo>
                    <a:lnTo>
                      <a:pt x="644" y="1350"/>
                    </a:lnTo>
                    <a:lnTo>
                      <a:pt x="598" y="1280"/>
                    </a:lnTo>
                    <a:lnTo>
                      <a:pt x="556" y="1208"/>
                    </a:lnTo>
                    <a:lnTo>
                      <a:pt x="518" y="1134"/>
                    </a:lnTo>
                    <a:lnTo>
                      <a:pt x="484" y="1062"/>
                    </a:lnTo>
                    <a:lnTo>
                      <a:pt x="484" y="1062"/>
                    </a:lnTo>
                    <a:lnTo>
                      <a:pt x="526" y="996"/>
                    </a:lnTo>
                    <a:lnTo>
                      <a:pt x="568" y="932"/>
                    </a:lnTo>
                    <a:lnTo>
                      <a:pt x="614" y="872"/>
                    </a:lnTo>
                    <a:lnTo>
                      <a:pt x="660" y="816"/>
                    </a:lnTo>
                    <a:lnTo>
                      <a:pt x="708" y="762"/>
                    </a:lnTo>
                    <a:lnTo>
                      <a:pt x="758" y="710"/>
                    </a:lnTo>
                    <a:lnTo>
                      <a:pt x="808" y="662"/>
                    </a:lnTo>
                    <a:lnTo>
                      <a:pt x="860" y="616"/>
                    </a:lnTo>
                    <a:lnTo>
                      <a:pt x="860" y="616"/>
                    </a:lnTo>
                    <a:close/>
                    <a:moveTo>
                      <a:pt x="454" y="1110"/>
                    </a:moveTo>
                    <a:lnTo>
                      <a:pt x="454" y="1110"/>
                    </a:lnTo>
                    <a:lnTo>
                      <a:pt x="470" y="1150"/>
                    </a:lnTo>
                    <a:lnTo>
                      <a:pt x="486" y="1188"/>
                    </a:lnTo>
                    <a:lnTo>
                      <a:pt x="522" y="1264"/>
                    </a:lnTo>
                    <a:lnTo>
                      <a:pt x="564" y="1340"/>
                    </a:lnTo>
                    <a:lnTo>
                      <a:pt x="610" y="1414"/>
                    </a:lnTo>
                    <a:lnTo>
                      <a:pt x="660" y="1486"/>
                    </a:lnTo>
                    <a:lnTo>
                      <a:pt x="714" y="1556"/>
                    </a:lnTo>
                    <a:lnTo>
                      <a:pt x="774" y="1626"/>
                    </a:lnTo>
                    <a:lnTo>
                      <a:pt x="836" y="1694"/>
                    </a:lnTo>
                    <a:lnTo>
                      <a:pt x="836" y="1694"/>
                    </a:lnTo>
                    <a:lnTo>
                      <a:pt x="816" y="1754"/>
                    </a:lnTo>
                    <a:lnTo>
                      <a:pt x="796" y="1816"/>
                    </a:lnTo>
                    <a:lnTo>
                      <a:pt x="776" y="1880"/>
                    </a:lnTo>
                    <a:lnTo>
                      <a:pt x="758" y="1944"/>
                    </a:lnTo>
                    <a:lnTo>
                      <a:pt x="742" y="2012"/>
                    </a:lnTo>
                    <a:lnTo>
                      <a:pt x="726" y="2078"/>
                    </a:lnTo>
                    <a:lnTo>
                      <a:pt x="712" y="2148"/>
                    </a:lnTo>
                    <a:lnTo>
                      <a:pt x="698" y="2218"/>
                    </a:lnTo>
                    <a:lnTo>
                      <a:pt x="698" y="2218"/>
                    </a:lnTo>
                    <a:lnTo>
                      <a:pt x="688" y="2234"/>
                    </a:lnTo>
                    <a:lnTo>
                      <a:pt x="688" y="2234"/>
                    </a:lnTo>
                    <a:lnTo>
                      <a:pt x="622" y="2166"/>
                    </a:lnTo>
                    <a:lnTo>
                      <a:pt x="560" y="2096"/>
                    </a:lnTo>
                    <a:lnTo>
                      <a:pt x="500" y="2024"/>
                    </a:lnTo>
                    <a:lnTo>
                      <a:pt x="444" y="1950"/>
                    </a:lnTo>
                    <a:lnTo>
                      <a:pt x="390" y="1874"/>
                    </a:lnTo>
                    <a:lnTo>
                      <a:pt x="340" y="1796"/>
                    </a:lnTo>
                    <a:lnTo>
                      <a:pt x="294" y="1716"/>
                    </a:lnTo>
                    <a:lnTo>
                      <a:pt x="252" y="1636"/>
                    </a:lnTo>
                    <a:lnTo>
                      <a:pt x="252" y="1636"/>
                    </a:lnTo>
                    <a:lnTo>
                      <a:pt x="270" y="1562"/>
                    </a:lnTo>
                    <a:lnTo>
                      <a:pt x="292" y="1490"/>
                    </a:lnTo>
                    <a:lnTo>
                      <a:pt x="314" y="1422"/>
                    </a:lnTo>
                    <a:lnTo>
                      <a:pt x="340" y="1356"/>
                    </a:lnTo>
                    <a:lnTo>
                      <a:pt x="366" y="1290"/>
                    </a:lnTo>
                    <a:lnTo>
                      <a:pt x="394" y="1228"/>
                    </a:lnTo>
                    <a:lnTo>
                      <a:pt x="424" y="1168"/>
                    </a:lnTo>
                    <a:lnTo>
                      <a:pt x="454" y="1110"/>
                    </a:lnTo>
                    <a:lnTo>
                      <a:pt x="454" y="1110"/>
                    </a:lnTo>
                    <a:close/>
                    <a:moveTo>
                      <a:pt x="182" y="2216"/>
                    </a:moveTo>
                    <a:lnTo>
                      <a:pt x="182" y="2216"/>
                    </a:lnTo>
                    <a:lnTo>
                      <a:pt x="184" y="2148"/>
                    </a:lnTo>
                    <a:lnTo>
                      <a:pt x="188" y="2080"/>
                    </a:lnTo>
                    <a:lnTo>
                      <a:pt x="192" y="2014"/>
                    </a:lnTo>
                    <a:lnTo>
                      <a:pt x="198" y="1948"/>
                    </a:lnTo>
                    <a:lnTo>
                      <a:pt x="206" y="1886"/>
                    </a:lnTo>
                    <a:lnTo>
                      <a:pt x="214" y="1824"/>
                    </a:lnTo>
                    <a:lnTo>
                      <a:pt x="224" y="1764"/>
                    </a:lnTo>
                    <a:lnTo>
                      <a:pt x="236" y="1704"/>
                    </a:lnTo>
                    <a:lnTo>
                      <a:pt x="236" y="1704"/>
                    </a:lnTo>
                    <a:lnTo>
                      <a:pt x="276" y="1786"/>
                    </a:lnTo>
                    <a:lnTo>
                      <a:pt x="318" y="1866"/>
                    </a:lnTo>
                    <a:lnTo>
                      <a:pt x="364" y="1946"/>
                    </a:lnTo>
                    <a:lnTo>
                      <a:pt x="412" y="2022"/>
                    </a:lnTo>
                    <a:lnTo>
                      <a:pt x="464" y="2096"/>
                    </a:lnTo>
                    <a:lnTo>
                      <a:pt x="520" y="2168"/>
                    </a:lnTo>
                    <a:lnTo>
                      <a:pt x="548" y="2202"/>
                    </a:lnTo>
                    <a:lnTo>
                      <a:pt x="580" y="2236"/>
                    </a:lnTo>
                    <a:lnTo>
                      <a:pt x="610" y="2270"/>
                    </a:lnTo>
                    <a:lnTo>
                      <a:pt x="642" y="2302"/>
                    </a:lnTo>
                    <a:lnTo>
                      <a:pt x="642" y="2302"/>
                    </a:lnTo>
                    <a:lnTo>
                      <a:pt x="640" y="2308"/>
                    </a:lnTo>
                    <a:lnTo>
                      <a:pt x="640" y="2308"/>
                    </a:lnTo>
                    <a:lnTo>
                      <a:pt x="282" y="2142"/>
                    </a:lnTo>
                    <a:lnTo>
                      <a:pt x="282" y="2142"/>
                    </a:lnTo>
                    <a:lnTo>
                      <a:pt x="500" y="2522"/>
                    </a:lnTo>
                    <a:lnTo>
                      <a:pt x="500" y="2522"/>
                    </a:lnTo>
                    <a:lnTo>
                      <a:pt x="446" y="2634"/>
                    </a:lnTo>
                    <a:lnTo>
                      <a:pt x="446" y="2634"/>
                    </a:lnTo>
                    <a:lnTo>
                      <a:pt x="408" y="2586"/>
                    </a:lnTo>
                    <a:lnTo>
                      <a:pt x="370" y="2536"/>
                    </a:lnTo>
                    <a:lnTo>
                      <a:pt x="334" y="2486"/>
                    </a:lnTo>
                    <a:lnTo>
                      <a:pt x="300" y="2434"/>
                    </a:lnTo>
                    <a:lnTo>
                      <a:pt x="268" y="2380"/>
                    </a:lnTo>
                    <a:lnTo>
                      <a:pt x="238" y="2326"/>
                    </a:lnTo>
                    <a:lnTo>
                      <a:pt x="208" y="2272"/>
                    </a:lnTo>
                    <a:lnTo>
                      <a:pt x="182" y="2216"/>
                    </a:lnTo>
                    <a:lnTo>
                      <a:pt x="182" y="2216"/>
                    </a:lnTo>
                    <a:close/>
                    <a:moveTo>
                      <a:pt x="648" y="2744"/>
                    </a:moveTo>
                    <a:lnTo>
                      <a:pt x="648" y="2744"/>
                    </a:lnTo>
                    <a:lnTo>
                      <a:pt x="648" y="2844"/>
                    </a:lnTo>
                    <a:lnTo>
                      <a:pt x="648" y="2844"/>
                    </a:lnTo>
                    <a:lnTo>
                      <a:pt x="608" y="2806"/>
                    </a:lnTo>
                    <a:lnTo>
                      <a:pt x="568" y="2768"/>
                    </a:lnTo>
                    <a:lnTo>
                      <a:pt x="568" y="2768"/>
                    </a:lnTo>
                    <a:lnTo>
                      <a:pt x="648" y="2744"/>
                    </a:lnTo>
                    <a:lnTo>
                      <a:pt x="648" y="2744"/>
                    </a:lnTo>
                    <a:close/>
                    <a:moveTo>
                      <a:pt x="708" y="3198"/>
                    </a:moveTo>
                    <a:lnTo>
                      <a:pt x="708" y="3198"/>
                    </a:lnTo>
                    <a:lnTo>
                      <a:pt x="470" y="3134"/>
                    </a:lnTo>
                    <a:lnTo>
                      <a:pt x="470" y="3134"/>
                    </a:lnTo>
                    <a:lnTo>
                      <a:pt x="386" y="2822"/>
                    </a:lnTo>
                    <a:lnTo>
                      <a:pt x="386" y="2822"/>
                    </a:lnTo>
                    <a:lnTo>
                      <a:pt x="492" y="2790"/>
                    </a:lnTo>
                    <a:lnTo>
                      <a:pt x="492" y="2790"/>
                    </a:lnTo>
                    <a:lnTo>
                      <a:pt x="530" y="2830"/>
                    </a:lnTo>
                    <a:lnTo>
                      <a:pt x="568" y="2868"/>
                    </a:lnTo>
                    <a:lnTo>
                      <a:pt x="608" y="2904"/>
                    </a:lnTo>
                    <a:lnTo>
                      <a:pt x="650" y="2940"/>
                    </a:lnTo>
                    <a:lnTo>
                      <a:pt x="650" y="2940"/>
                    </a:lnTo>
                    <a:lnTo>
                      <a:pt x="654" y="3048"/>
                    </a:lnTo>
                    <a:lnTo>
                      <a:pt x="660" y="3156"/>
                    </a:lnTo>
                    <a:lnTo>
                      <a:pt x="708" y="3198"/>
                    </a:lnTo>
                    <a:close/>
                    <a:moveTo>
                      <a:pt x="686" y="2878"/>
                    </a:moveTo>
                    <a:lnTo>
                      <a:pt x="686" y="2878"/>
                    </a:lnTo>
                    <a:lnTo>
                      <a:pt x="686" y="2770"/>
                    </a:lnTo>
                    <a:lnTo>
                      <a:pt x="686" y="2770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3010"/>
                    </a:lnTo>
                    <a:lnTo>
                      <a:pt x="798" y="2968"/>
                    </a:lnTo>
                    <a:lnTo>
                      <a:pt x="742" y="2924"/>
                    </a:lnTo>
                    <a:lnTo>
                      <a:pt x="686" y="2878"/>
                    </a:lnTo>
                    <a:lnTo>
                      <a:pt x="686" y="2878"/>
                    </a:lnTo>
                    <a:close/>
                    <a:moveTo>
                      <a:pt x="1216" y="3208"/>
                    </a:moveTo>
                    <a:lnTo>
                      <a:pt x="1216" y="3208"/>
                    </a:lnTo>
                    <a:lnTo>
                      <a:pt x="1140" y="3172"/>
                    </a:lnTo>
                    <a:lnTo>
                      <a:pt x="1064" y="3134"/>
                    </a:lnTo>
                    <a:lnTo>
                      <a:pt x="990" y="3094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2668"/>
                    </a:lnTo>
                    <a:lnTo>
                      <a:pt x="858" y="2668"/>
                    </a:lnTo>
                    <a:lnTo>
                      <a:pt x="1070" y="2608"/>
                    </a:lnTo>
                    <a:lnTo>
                      <a:pt x="1070" y="2608"/>
                    </a:lnTo>
                    <a:lnTo>
                      <a:pt x="1140" y="2642"/>
                    </a:lnTo>
                    <a:lnTo>
                      <a:pt x="1216" y="2674"/>
                    </a:lnTo>
                    <a:lnTo>
                      <a:pt x="1294" y="2702"/>
                    </a:lnTo>
                    <a:lnTo>
                      <a:pt x="1374" y="2730"/>
                    </a:lnTo>
                    <a:lnTo>
                      <a:pt x="1374" y="2730"/>
                    </a:lnTo>
                    <a:lnTo>
                      <a:pt x="1286" y="2998"/>
                    </a:lnTo>
                    <a:lnTo>
                      <a:pt x="1216" y="3208"/>
                    </a:lnTo>
                    <a:lnTo>
                      <a:pt x="1216" y="3208"/>
                    </a:lnTo>
                    <a:close/>
                    <a:moveTo>
                      <a:pt x="2070" y="3064"/>
                    </a:moveTo>
                    <a:lnTo>
                      <a:pt x="2070" y="3064"/>
                    </a:lnTo>
                    <a:lnTo>
                      <a:pt x="2016" y="3162"/>
                    </a:lnTo>
                    <a:lnTo>
                      <a:pt x="1900" y="3370"/>
                    </a:lnTo>
                    <a:lnTo>
                      <a:pt x="1900" y="3370"/>
                    </a:lnTo>
                    <a:lnTo>
                      <a:pt x="1818" y="3364"/>
                    </a:lnTo>
                    <a:lnTo>
                      <a:pt x="1734" y="3354"/>
                    </a:lnTo>
                    <a:lnTo>
                      <a:pt x="1654" y="3340"/>
                    </a:lnTo>
                    <a:lnTo>
                      <a:pt x="1574" y="3324"/>
                    </a:lnTo>
                    <a:lnTo>
                      <a:pt x="1494" y="3304"/>
                    </a:lnTo>
                    <a:lnTo>
                      <a:pt x="1416" y="3282"/>
                    </a:lnTo>
                    <a:lnTo>
                      <a:pt x="1340" y="3256"/>
                    </a:lnTo>
                    <a:lnTo>
                      <a:pt x="1266" y="3228"/>
                    </a:lnTo>
                    <a:lnTo>
                      <a:pt x="1422" y="2744"/>
                    </a:lnTo>
                    <a:lnTo>
                      <a:pt x="1422" y="2744"/>
                    </a:lnTo>
                    <a:lnTo>
                      <a:pt x="1462" y="2754"/>
                    </a:lnTo>
                    <a:lnTo>
                      <a:pt x="1462" y="2754"/>
                    </a:lnTo>
                    <a:lnTo>
                      <a:pt x="1560" y="2780"/>
                    </a:lnTo>
                    <a:lnTo>
                      <a:pt x="1656" y="2802"/>
                    </a:lnTo>
                    <a:lnTo>
                      <a:pt x="1750" y="2820"/>
                    </a:lnTo>
                    <a:lnTo>
                      <a:pt x="1838" y="2834"/>
                    </a:lnTo>
                    <a:lnTo>
                      <a:pt x="1924" y="2844"/>
                    </a:lnTo>
                    <a:lnTo>
                      <a:pt x="2008" y="2852"/>
                    </a:lnTo>
                    <a:lnTo>
                      <a:pt x="2088" y="2856"/>
                    </a:lnTo>
                    <a:lnTo>
                      <a:pt x="2164" y="2858"/>
                    </a:lnTo>
                    <a:lnTo>
                      <a:pt x="2164" y="2858"/>
                    </a:lnTo>
                    <a:lnTo>
                      <a:pt x="2126" y="2946"/>
                    </a:lnTo>
                    <a:lnTo>
                      <a:pt x="2096" y="3012"/>
                    </a:lnTo>
                    <a:lnTo>
                      <a:pt x="2070" y="3064"/>
                    </a:lnTo>
                    <a:lnTo>
                      <a:pt x="2070" y="3064"/>
                    </a:lnTo>
                    <a:close/>
                    <a:moveTo>
                      <a:pt x="2190" y="2798"/>
                    </a:moveTo>
                    <a:lnTo>
                      <a:pt x="2190" y="2798"/>
                    </a:lnTo>
                    <a:lnTo>
                      <a:pt x="2100" y="2802"/>
                    </a:lnTo>
                    <a:lnTo>
                      <a:pt x="2010" y="2802"/>
                    </a:lnTo>
                    <a:lnTo>
                      <a:pt x="1920" y="2796"/>
                    </a:lnTo>
                    <a:lnTo>
                      <a:pt x="1830" y="2788"/>
                    </a:lnTo>
                    <a:lnTo>
                      <a:pt x="1738" y="2774"/>
                    </a:lnTo>
                    <a:lnTo>
                      <a:pt x="1646" y="2756"/>
                    </a:lnTo>
                    <a:lnTo>
                      <a:pt x="1554" y="2732"/>
                    </a:lnTo>
                    <a:lnTo>
                      <a:pt x="1462" y="2704"/>
                    </a:lnTo>
                    <a:lnTo>
                      <a:pt x="1462" y="2704"/>
                    </a:lnTo>
                    <a:lnTo>
                      <a:pt x="1438" y="2698"/>
                    </a:lnTo>
                    <a:lnTo>
                      <a:pt x="1602" y="2190"/>
                    </a:lnTo>
                    <a:lnTo>
                      <a:pt x="1602" y="2190"/>
                    </a:lnTo>
                    <a:lnTo>
                      <a:pt x="1650" y="2208"/>
                    </a:lnTo>
                    <a:lnTo>
                      <a:pt x="1700" y="2222"/>
                    </a:lnTo>
                    <a:lnTo>
                      <a:pt x="1748" y="2238"/>
                    </a:lnTo>
                    <a:lnTo>
                      <a:pt x="1796" y="2250"/>
                    </a:lnTo>
                    <a:lnTo>
                      <a:pt x="1844" y="2262"/>
                    </a:lnTo>
                    <a:lnTo>
                      <a:pt x="1894" y="2270"/>
                    </a:lnTo>
                    <a:lnTo>
                      <a:pt x="1940" y="2280"/>
                    </a:lnTo>
                    <a:lnTo>
                      <a:pt x="1988" y="2286"/>
                    </a:lnTo>
                    <a:lnTo>
                      <a:pt x="2036" y="2292"/>
                    </a:lnTo>
                    <a:lnTo>
                      <a:pt x="2082" y="2296"/>
                    </a:lnTo>
                    <a:lnTo>
                      <a:pt x="2130" y="2298"/>
                    </a:lnTo>
                    <a:lnTo>
                      <a:pt x="2176" y="2300"/>
                    </a:lnTo>
                    <a:lnTo>
                      <a:pt x="2222" y="2300"/>
                    </a:lnTo>
                    <a:lnTo>
                      <a:pt x="2268" y="2300"/>
                    </a:lnTo>
                    <a:lnTo>
                      <a:pt x="2312" y="2298"/>
                    </a:lnTo>
                    <a:lnTo>
                      <a:pt x="2356" y="2294"/>
                    </a:lnTo>
                    <a:lnTo>
                      <a:pt x="2356" y="2294"/>
                    </a:lnTo>
                    <a:lnTo>
                      <a:pt x="2336" y="2368"/>
                    </a:lnTo>
                    <a:lnTo>
                      <a:pt x="2314" y="2440"/>
                    </a:lnTo>
                    <a:lnTo>
                      <a:pt x="2272" y="2574"/>
                    </a:lnTo>
                    <a:lnTo>
                      <a:pt x="2230" y="2694"/>
                    </a:lnTo>
                    <a:lnTo>
                      <a:pt x="2190" y="2798"/>
                    </a:lnTo>
                    <a:lnTo>
                      <a:pt x="2190" y="2798"/>
                    </a:lnTo>
                    <a:close/>
                    <a:moveTo>
                      <a:pt x="2918" y="2592"/>
                    </a:moveTo>
                    <a:lnTo>
                      <a:pt x="2918" y="2592"/>
                    </a:lnTo>
                    <a:lnTo>
                      <a:pt x="2840" y="2632"/>
                    </a:lnTo>
                    <a:lnTo>
                      <a:pt x="2758" y="2668"/>
                    </a:lnTo>
                    <a:lnTo>
                      <a:pt x="2676" y="2700"/>
                    </a:lnTo>
                    <a:lnTo>
                      <a:pt x="2590" y="2728"/>
                    </a:lnTo>
                    <a:lnTo>
                      <a:pt x="2502" y="2750"/>
                    </a:lnTo>
                    <a:lnTo>
                      <a:pt x="2414" y="2770"/>
                    </a:lnTo>
                    <a:lnTo>
                      <a:pt x="2322" y="2784"/>
                    </a:lnTo>
                    <a:lnTo>
                      <a:pt x="2230" y="2796"/>
                    </a:lnTo>
                    <a:lnTo>
                      <a:pt x="2230" y="2796"/>
                    </a:lnTo>
                    <a:lnTo>
                      <a:pt x="2280" y="2666"/>
                    </a:lnTo>
                    <a:lnTo>
                      <a:pt x="2324" y="2538"/>
                    </a:lnTo>
                    <a:lnTo>
                      <a:pt x="2364" y="2412"/>
                    </a:lnTo>
                    <a:lnTo>
                      <a:pt x="2398" y="2290"/>
                    </a:lnTo>
                    <a:lnTo>
                      <a:pt x="2398" y="2290"/>
                    </a:lnTo>
                    <a:lnTo>
                      <a:pt x="2442" y="2284"/>
                    </a:lnTo>
                    <a:lnTo>
                      <a:pt x="2484" y="2276"/>
                    </a:lnTo>
                    <a:lnTo>
                      <a:pt x="2528" y="2268"/>
                    </a:lnTo>
                    <a:lnTo>
                      <a:pt x="2570" y="2258"/>
                    </a:lnTo>
                    <a:lnTo>
                      <a:pt x="2612" y="2248"/>
                    </a:lnTo>
                    <a:lnTo>
                      <a:pt x="2654" y="2236"/>
                    </a:lnTo>
                    <a:lnTo>
                      <a:pt x="2694" y="2224"/>
                    </a:lnTo>
                    <a:lnTo>
                      <a:pt x="2734" y="2210"/>
                    </a:lnTo>
                    <a:lnTo>
                      <a:pt x="2772" y="2194"/>
                    </a:lnTo>
                    <a:lnTo>
                      <a:pt x="2810" y="2178"/>
                    </a:lnTo>
                    <a:lnTo>
                      <a:pt x="2848" y="2162"/>
                    </a:lnTo>
                    <a:lnTo>
                      <a:pt x="2884" y="2144"/>
                    </a:lnTo>
                    <a:lnTo>
                      <a:pt x="2920" y="2124"/>
                    </a:lnTo>
                    <a:lnTo>
                      <a:pt x="2954" y="2104"/>
                    </a:lnTo>
                    <a:lnTo>
                      <a:pt x="2988" y="2084"/>
                    </a:lnTo>
                    <a:lnTo>
                      <a:pt x="3022" y="2062"/>
                    </a:lnTo>
                    <a:lnTo>
                      <a:pt x="3022" y="2062"/>
                    </a:lnTo>
                    <a:lnTo>
                      <a:pt x="3014" y="2138"/>
                    </a:lnTo>
                    <a:lnTo>
                      <a:pt x="3004" y="2212"/>
                    </a:lnTo>
                    <a:lnTo>
                      <a:pt x="2994" y="2284"/>
                    </a:lnTo>
                    <a:lnTo>
                      <a:pt x="2980" y="2352"/>
                    </a:lnTo>
                    <a:lnTo>
                      <a:pt x="2966" y="2416"/>
                    </a:lnTo>
                    <a:lnTo>
                      <a:pt x="2950" y="2478"/>
                    </a:lnTo>
                    <a:lnTo>
                      <a:pt x="2936" y="2536"/>
                    </a:lnTo>
                    <a:lnTo>
                      <a:pt x="2918" y="2592"/>
                    </a:lnTo>
                    <a:lnTo>
                      <a:pt x="2918" y="259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34200" y="1444680"/>
                <a:ext cx="183960" cy="358560"/>
              </a:xfrm>
              <a:custGeom>
                <a:avLst/>
                <a:gdLst/>
                <a:ahLst/>
                <a:rect l="l" t="t" r="r" b="b"/>
                <a:pathLst>
                  <a:path w="116" h="226">
                    <a:moveTo>
                      <a:pt x="68" y="0"/>
                    </a:moveTo>
                    <a:lnTo>
                      <a:pt x="68" y="0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2" y="72"/>
                    </a:lnTo>
                    <a:lnTo>
                      <a:pt x="112" y="72"/>
                    </a:lnTo>
                    <a:lnTo>
                      <a:pt x="106" y="92"/>
                    </a:lnTo>
                    <a:lnTo>
                      <a:pt x="96" y="114"/>
                    </a:lnTo>
                    <a:lnTo>
                      <a:pt x="88" y="134"/>
                    </a:lnTo>
                    <a:lnTo>
                      <a:pt x="78" y="154"/>
                    </a:lnTo>
                    <a:lnTo>
                      <a:pt x="66" y="174"/>
                    </a:lnTo>
                    <a:lnTo>
                      <a:pt x="52" y="192"/>
                    </a:lnTo>
                    <a:lnTo>
                      <a:pt x="24" y="226"/>
                    </a:lnTo>
                    <a:lnTo>
                      <a:pt x="24" y="226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540400" y="2914560"/>
                <a:ext cx="977760" cy="1212840"/>
              </a:xfrm>
              <a:custGeom>
                <a:avLst/>
                <a:gdLst/>
                <a:ahLst/>
                <a:rect l="l" t="t" r="r" b="b"/>
                <a:pathLst>
                  <a:path w="616" h="764">
                    <a:moveTo>
                      <a:pt x="612" y="552"/>
                    </a:moveTo>
                    <a:lnTo>
                      <a:pt x="612" y="552"/>
                    </a:lnTo>
                    <a:lnTo>
                      <a:pt x="580" y="574"/>
                    </a:lnTo>
                    <a:lnTo>
                      <a:pt x="546" y="594"/>
                    </a:lnTo>
                    <a:lnTo>
                      <a:pt x="512" y="614"/>
                    </a:lnTo>
                    <a:lnTo>
                      <a:pt x="478" y="632"/>
                    </a:lnTo>
                    <a:lnTo>
                      <a:pt x="442" y="648"/>
                    </a:lnTo>
                    <a:lnTo>
                      <a:pt x="406" y="666"/>
                    </a:lnTo>
                    <a:lnTo>
                      <a:pt x="368" y="680"/>
                    </a:lnTo>
                    <a:lnTo>
                      <a:pt x="330" y="694"/>
                    </a:lnTo>
                    <a:lnTo>
                      <a:pt x="292" y="706"/>
                    </a:lnTo>
                    <a:lnTo>
                      <a:pt x="252" y="718"/>
                    </a:lnTo>
                    <a:lnTo>
                      <a:pt x="212" y="728"/>
                    </a:lnTo>
                    <a:lnTo>
                      <a:pt x="170" y="738"/>
                    </a:lnTo>
                    <a:lnTo>
                      <a:pt x="128" y="746"/>
                    </a:lnTo>
                    <a:lnTo>
                      <a:pt x="86" y="752"/>
                    </a:lnTo>
                    <a:lnTo>
                      <a:pt x="44" y="758"/>
                    </a:lnTo>
                    <a:lnTo>
                      <a:pt x="0" y="764"/>
                    </a:lnTo>
                    <a:lnTo>
                      <a:pt x="0" y="764"/>
                    </a:lnTo>
                    <a:lnTo>
                      <a:pt x="20" y="678"/>
                    </a:lnTo>
                    <a:lnTo>
                      <a:pt x="38" y="596"/>
                    </a:lnTo>
                    <a:lnTo>
                      <a:pt x="52" y="514"/>
                    </a:lnTo>
                    <a:lnTo>
                      <a:pt x="66" y="434"/>
                    </a:lnTo>
                    <a:lnTo>
                      <a:pt x="78" y="354"/>
                    </a:lnTo>
                    <a:lnTo>
                      <a:pt x="86" y="278"/>
                    </a:lnTo>
                    <a:lnTo>
                      <a:pt x="94" y="202"/>
                    </a:lnTo>
                    <a:lnTo>
                      <a:pt x="100" y="126"/>
                    </a:lnTo>
                    <a:lnTo>
                      <a:pt x="100" y="126"/>
                    </a:lnTo>
                    <a:lnTo>
                      <a:pt x="168" y="120"/>
                    </a:lnTo>
                    <a:lnTo>
                      <a:pt x="232" y="110"/>
                    </a:lnTo>
                    <a:lnTo>
                      <a:pt x="296" y="98"/>
                    </a:lnTo>
                    <a:lnTo>
                      <a:pt x="356" y="84"/>
                    </a:lnTo>
                    <a:lnTo>
                      <a:pt x="416" y="66"/>
                    </a:lnTo>
                    <a:lnTo>
                      <a:pt x="474" y="46"/>
                    </a:lnTo>
                    <a:lnTo>
                      <a:pt x="530" y="24"/>
                    </a:lnTo>
                    <a:lnTo>
                      <a:pt x="584" y="0"/>
                    </a:lnTo>
                    <a:lnTo>
                      <a:pt x="584" y="0"/>
                    </a:lnTo>
                    <a:lnTo>
                      <a:pt x="594" y="74"/>
                    </a:lnTo>
                    <a:lnTo>
                      <a:pt x="604" y="146"/>
                    </a:lnTo>
                    <a:lnTo>
                      <a:pt x="610" y="218"/>
                    </a:lnTo>
                    <a:lnTo>
                      <a:pt x="614" y="288"/>
                    </a:lnTo>
                    <a:lnTo>
                      <a:pt x="616" y="356"/>
                    </a:lnTo>
                    <a:lnTo>
                      <a:pt x="616" y="422"/>
                    </a:lnTo>
                    <a:lnTo>
                      <a:pt x="614" y="488"/>
                    </a:lnTo>
                    <a:lnTo>
                      <a:pt x="612" y="552"/>
                    </a:lnTo>
                    <a:lnTo>
                      <a:pt x="612" y="5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060720" y="3705120"/>
                <a:ext cx="1127160" cy="1152720"/>
              </a:xfrm>
              <a:custGeom>
                <a:avLst/>
                <a:gdLst/>
                <a:ahLst/>
                <a:rect l="l" t="t" r="r" b="b"/>
                <a:pathLst>
                  <a:path w="710" h="726">
                    <a:moveTo>
                      <a:pt x="98" y="494"/>
                    </a:moveTo>
                    <a:lnTo>
                      <a:pt x="98" y="494"/>
                    </a:lnTo>
                    <a:lnTo>
                      <a:pt x="48" y="460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358" y="38"/>
                    </a:lnTo>
                    <a:lnTo>
                      <a:pt x="420" y="76"/>
                    </a:lnTo>
                    <a:lnTo>
                      <a:pt x="420" y="76"/>
                    </a:lnTo>
                    <a:lnTo>
                      <a:pt x="562" y="358"/>
                    </a:lnTo>
                    <a:lnTo>
                      <a:pt x="562" y="358"/>
                    </a:lnTo>
                    <a:lnTo>
                      <a:pt x="584" y="164"/>
                    </a:lnTo>
                    <a:lnTo>
                      <a:pt x="584" y="164"/>
                    </a:lnTo>
                    <a:lnTo>
                      <a:pt x="636" y="188"/>
                    </a:lnTo>
                    <a:lnTo>
                      <a:pt x="636" y="188"/>
                    </a:lnTo>
                    <a:lnTo>
                      <a:pt x="710" y="220"/>
                    </a:lnTo>
                    <a:lnTo>
                      <a:pt x="710" y="220"/>
                    </a:lnTo>
                    <a:lnTo>
                      <a:pt x="538" y="726"/>
                    </a:lnTo>
                    <a:lnTo>
                      <a:pt x="538" y="726"/>
                    </a:lnTo>
                    <a:lnTo>
                      <a:pt x="480" y="702"/>
                    </a:lnTo>
                    <a:lnTo>
                      <a:pt x="424" y="678"/>
                    </a:lnTo>
                    <a:lnTo>
                      <a:pt x="368" y="654"/>
                    </a:lnTo>
                    <a:lnTo>
                      <a:pt x="312" y="626"/>
                    </a:lnTo>
                    <a:lnTo>
                      <a:pt x="312" y="626"/>
                    </a:lnTo>
                    <a:lnTo>
                      <a:pt x="368" y="610"/>
                    </a:lnTo>
                    <a:lnTo>
                      <a:pt x="368" y="610"/>
                    </a:lnTo>
                    <a:lnTo>
                      <a:pt x="98" y="494"/>
                    </a:lnTo>
                    <a:lnTo>
                      <a:pt x="98" y="49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13080" y="2562120"/>
                <a:ext cx="489240" cy="355680"/>
              </a:xfrm>
              <a:custGeom>
                <a:avLst/>
                <a:gdLst/>
                <a:ahLst/>
                <a:rect l="l" t="t" r="r" b="b"/>
                <a:pathLst>
                  <a:path w="308" h="224">
                    <a:moveTo>
                      <a:pt x="230" y="224"/>
                    </a:moveTo>
                    <a:lnTo>
                      <a:pt x="230" y="224"/>
                    </a:lnTo>
                    <a:lnTo>
                      <a:pt x="170" y="204"/>
                    </a:lnTo>
                    <a:lnTo>
                      <a:pt x="112" y="182"/>
                    </a:lnTo>
                    <a:lnTo>
                      <a:pt x="54" y="156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4"/>
                    </a:lnTo>
                    <a:lnTo>
                      <a:pt x="86" y="6"/>
                    </a:lnTo>
                    <a:lnTo>
                      <a:pt x="140" y="6"/>
                    </a:lnTo>
                    <a:lnTo>
                      <a:pt x="214" y="4"/>
                    </a:lnTo>
                    <a:lnTo>
                      <a:pt x="214" y="4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230" y="224"/>
                    </a:lnTo>
                    <a:lnTo>
                      <a:pt x="230" y="2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622760" y="2556000"/>
                <a:ext cx="314280" cy="444240"/>
              </a:xfrm>
              <a:custGeom>
                <a:avLst/>
                <a:gdLst/>
                <a:ahLst/>
                <a:rect l="l" t="t" r="r" b="b"/>
                <a:pathLst>
                  <a:path w="198" h="280">
                    <a:moveTo>
                      <a:pt x="76" y="2"/>
                    </a:moveTo>
                    <a:lnTo>
                      <a:pt x="76" y="2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56" y="124"/>
                    </a:lnTo>
                    <a:lnTo>
                      <a:pt x="176" y="206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48" y="272"/>
                    </a:lnTo>
                    <a:lnTo>
                      <a:pt x="98" y="262"/>
                    </a:lnTo>
                    <a:lnTo>
                      <a:pt x="48" y="250"/>
                    </a:lnTo>
                    <a:lnTo>
                      <a:pt x="0" y="236"/>
                    </a:lnTo>
                    <a:lnTo>
                      <a:pt x="76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114800" y="2841480"/>
                <a:ext cx="441360" cy="549360"/>
              </a:xfrm>
              <a:custGeom>
                <a:avLst/>
                <a:gdLst/>
                <a:ahLst/>
                <a:rect l="l" t="t" r="r" b="b"/>
                <a:pathLst>
                  <a:path w="278" h="346">
                    <a:moveTo>
                      <a:pt x="278" y="90"/>
                    </a:moveTo>
                    <a:lnTo>
                      <a:pt x="278" y="90"/>
                    </a:lnTo>
                    <a:lnTo>
                      <a:pt x="190" y="346"/>
                    </a:lnTo>
                    <a:lnTo>
                      <a:pt x="190" y="346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04" y="24"/>
                    </a:lnTo>
                    <a:lnTo>
                      <a:pt x="162" y="48"/>
                    </a:lnTo>
                    <a:lnTo>
                      <a:pt x="218" y="70"/>
                    </a:lnTo>
                    <a:lnTo>
                      <a:pt x="278" y="90"/>
                    </a:lnTo>
                    <a:lnTo>
                      <a:pt x="278" y="9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97120" y="1650960"/>
                <a:ext cx="1079640" cy="1035000"/>
              </a:xfrm>
              <a:custGeom>
                <a:avLst/>
                <a:gdLst/>
                <a:ahLst/>
                <a:rect l="l" t="t" r="r" b="b"/>
                <a:pathLst>
                  <a:path w="680" h="652">
                    <a:moveTo>
                      <a:pt x="434" y="516"/>
                    </a:moveTo>
                    <a:lnTo>
                      <a:pt x="434" y="516"/>
                    </a:lnTo>
                    <a:lnTo>
                      <a:pt x="434" y="512"/>
                    </a:lnTo>
                    <a:lnTo>
                      <a:pt x="398" y="548"/>
                    </a:lnTo>
                    <a:lnTo>
                      <a:pt x="398" y="548"/>
                    </a:lnTo>
                    <a:lnTo>
                      <a:pt x="288" y="652"/>
                    </a:lnTo>
                    <a:lnTo>
                      <a:pt x="288" y="652"/>
                    </a:lnTo>
                    <a:lnTo>
                      <a:pt x="248" y="626"/>
                    </a:lnTo>
                    <a:lnTo>
                      <a:pt x="210" y="602"/>
                    </a:lnTo>
                    <a:lnTo>
                      <a:pt x="172" y="574"/>
                    </a:lnTo>
                    <a:lnTo>
                      <a:pt x="134" y="548"/>
                    </a:lnTo>
                    <a:lnTo>
                      <a:pt x="98" y="520"/>
                    </a:lnTo>
                    <a:lnTo>
                      <a:pt x="64" y="490"/>
                    </a:lnTo>
                    <a:lnTo>
                      <a:pt x="32" y="460"/>
                    </a:lnTo>
                    <a:lnTo>
                      <a:pt x="0" y="428"/>
                    </a:lnTo>
                    <a:lnTo>
                      <a:pt x="0" y="428"/>
                    </a:lnTo>
                    <a:lnTo>
                      <a:pt x="92" y="302"/>
                    </a:lnTo>
                    <a:lnTo>
                      <a:pt x="178" y="188"/>
                    </a:lnTo>
                    <a:lnTo>
                      <a:pt x="260" y="88"/>
                    </a:lnTo>
                    <a:lnTo>
                      <a:pt x="336" y="0"/>
                    </a:lnTo>
                    <a:lnTo>
                      <a:pt x="336" y="0"/>
                    </a:lnTo>
                    <a:lnTo>
                      <a:pt x="370" y="32"/>
                    </a:lnTo>
                    <a:lnTo>
                      <a:pt x="406" y="64"/>
                    </a:lnTo>
                    <a:lnTo>
                      <a:pt x="444" y="94"/>
                    </a:lnTo>
                    <a:lnTo>
                      <a:pt x="484" y="122"/>
                    </a:lnTo>
                    <a:lnTo>
                      <a:pt x="524" y="150"/>
                    </a:lnTo>
                    <a:lnTo>
                      <a:pt x="568" y="176"/>
                    </a:lnTo>
                    <a:lnTo>
                      <a:pt x="612" y="202"/>
                    </a:lnTo>
                    <a:lnTo>
                      <a:pt x="658" y="226"/>
                    </a:lnTo>
                    <a:lnTo>
                      <a:pt x="658" y="226"/>
                    </a:lnTo>
                    <a:lnTo>
                      <a:pt x="680" y="296"/>
                    </a:lnTo>
                    <a:lnTo>
                      <a:pt x="680" y="296"/>
                    </a:lnTo>
                    <a:lnTo>
                      <a:pt x="566" y="396"/>
                    </a:lnTo>
                    <a:lnTo>
                      <a:pt x="434" y="516"/>
                    </a:lnTo>
                    <a:lnTo>
                      <a:pt x="434" y="5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9800" y="2400480"/>
                <a:ext cx="650880" cy="54900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410" y="212"/>
                    </a:moveTo>
                    <a:lnTo>
                      <a:pt x="410" y="212"/>
                    </a:lnTo>
                    <a:lnTo>
                      <a:pt x="270" y="346"/>
                    </a:lnTo>
                    <a:lnTo>
                      <a:pt x="270" y="346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44" y="12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58" y="28"/>
                    </a:lnTo>
                    <a:lnTo>
                      <a:pt x="190" y="58"/>
                    </a:lnTo>
                    <a:lnTo>
                      <a:pt x="224" y="86"/>
                    </a:lnTo>
                    <a:lnTo>
                      <a:pt x="258" y="112"/>
                    </a:lnTo>
                    <a:lnTo>
                      <a:pt x="294" y="138"/>
                    </a:lnTo>
                    <a:lnTo>
                      <a:pt x="332" y="164"/>
                    </a:lnTo>
                    <a:lnTo>
                      <a:pt x="370" y="188"/>
                    </a:lnTo>
                    <a:lnTo>
                      <a:pt x="410" y="212"/>
                    </a:lnTo>
                    <a:lnTo>
                      <a:pt x="410" y="2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17960" y="2844720"/>
                <a:ext cx="330120" cy="571680"/>
              </a:xfrm>
              <a:custGeom>
                <a:avLst/>
                <a:gdLst/>
                <a:ahLst/>
                <a:rect l="l" t="t" r="r" b="b"/>
                <a:pathLst>
                  <a:path w="208" h="360">
                    <a:moveTo>
                      <a:pt x="208" y="274"/>
                    </a:moveTo>
                    <a:lnTo>
                      <a:pt x="208" y="274"/>
                    </a:lnTo>
                    <a:lnTo>
                      <a:pt x="142" y="360"/>
                    </a:lnTo>
                    <a:lnTo>
                      <a:pt x="142" y="360"/>
                    </a:lnTo>
                    <a:lnTo>
                      <a:pt x="68" y="296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2" y="172"/>
                    </a:lnTo>
                    <a:lnTo>
                      <a:pt x="48" y="114"/>
                    </a:lnTo>
                    <a:lnTo>
                      <a:pt x="74" y="56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92600" y="3327480"/>
                <a:ext cx="380880" cy="682560"/>
              </a:xfrm>
              <a:custGeom>
                <a:avLst/>
                <a:gdLst/>
                <a:ahLst/>
                <a:rect l="l" t="t" r="r" b="b"/>
                <a:pathLst>
                  <a:path w="240" h="430">
                    <a:moveTo>
                      <a:pt x="240" y="112"/>
                    </a:moveTo>
                    <a:lnTo>
                      <a:pt x="240" y="112"/>
                    </a:lnTo>
                    <a:lnTo>
                      <a:pt x="128" y="260"/>
                    </a:lnTo>
                    <a:lnTo>
                      <a:pt x="128" y="260"/>
                    </a:lnTo>
                    <a:lnTo>
                      <a:pt x="128" y="238"/>
                    </a:lnTo>
                    <a:lnTo>
                      <a:pt x="98" y="282"/>
                    </a:lnTo>
                    <a:lnTo>
                      <a:pt x="98" y="282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22" y="324"/>
                    </a:lnTo>
                    <a:lnTo>
                      <a:pt x="48" y="216"/>
                    </a:lnTo>
                    <a:lnTo>
                      <a:pt x="78" y="108"/>
                    </a:lnTo>
                    <a:lnTo>
                      <a:pt x="96" y="5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76" y="56"/>
                    </a:lnTo>
                    <a:lnTo>
                      <a:pt x="240" y="112"/>
                    </a:lnTo>
                    <a:lnTo>
                      <a:pt x="24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000680" y="3568680"/>
                <a:ext cx="352080" cy="36180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32" y="182"/>
                    </a:moveTo>
                    <a:lnTo>
                      <a:pt x="32" y="18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144" y="228"/>
                    </a:lnTo>
                    <a:lnTo>
                      <a:pt x="144" y="228"/>
                    </a:lnTo>
                    <a:lnTo>
                      <a:pt x="88" y="206"/>
                    </a:lnTo>
                    <a:lnTo>
                      <a:pt x="32" y="182"/>
                    </a:lnTo>
                    <a:lnTo>
                      <a:pt x="32" y="18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92640" y="2997360"/>
                <a:ext cx="1359000" cy="1139760"/>
              </a:xfrm>
              <a:custGeom>
                <a:avLst/>
                <a:gdLst/>
                <a:ahLst/>
                <a:rect l="l" t="t" r="r" b="b"/>
                <a:pathLst>
                  <a:path w="856" h="718">
                    <a:moveTo>
                      <a:pt x="78" y="360"/>
                    </a:moveTo>
                    <a:lnTo>
                      <a:pt x="78" y="360"/>
                    </a:lnTo>
                    <a:lnTo>
                      <a:pt x="222" y="356"/>
                    </a:lnTo>
                    <a:lnTo>
                      <a:pt x="222" y="356"/>
                    </a:lnTo>
                    <a:lnTo>
                      <a:pt x="106" y="270"/>
                    </a:lnTo>
                    <a:lnTo>
                      <a:pt x="194" y="0"/>
                    </a:lnTo>
                    <a:lnTo>
                      <a:pt x="194" y="0"/>
                    </a:lnTo>
                    <a:lnTo>
                      <a:pt x="250" y="16"/>
                    </a:lnTo>
                    <a:lnTo>
                      <a:pt x="306" y="30"/>
                    </a:lnTo>
                    <a:lnTo>
                      <a:pt x="364" y="44"/>
                    </a:lnTo>
                    <a:lnTo>
                      <a:pt x="422" y="54"/>
                    </a:lnTo>
                    <a:lnTo>
                      <a:pt x="422" y="54"/>
                    </a:lnTo>
                    <a:lnTo>
                      <a:pt x="430" y="72"/>
                    </a:lnTo>
                    <a:lnTo>
                      <a:pt x="430" y="72"/>
                    </a:lnTo>
                    <a:lnTo>
                      <a:pt x="436" y="80"/>
                    </a:lnTo>
                    <a:lnTo>
                      <a:pt x="442" y="84"/>
                    </a:lnTo>
                    <a:lnTo>
                      <a:pt x="446" y="86"/>
                    </a:lnTo>
                    <a:lnTo>
                      <a:pt x="450" y="86"/>
                    </a:lnTo>
                    <a:lnTo>
                      <a:pt x="450" y="86"/>
                    </a:lnTo>
                    <a:lnTo>
                      <a:pt x="456" y="84"/>
                    </a:lnTo>
                    <a:lnTo>
                      <a:pt x="460" y="82"/>
                    </a:lnTo>
                    <a:lnTo>
                      <a:pt x="466" y="74"/>
                    </a:lnTo>
                    <a:lnTo>
                      <a:pt x="474" y="62"/>
                    </a:lnTo>
                    <a:lnTo>
                      <a:pt x="474" y="62"/>
                    </a:lnTo>
                    <a:lnTo>
                      <a:pt x="522" y="68"/>
                    </a:lnTo>
                    <a:lnTo>
                      <a:pt x="572" y="74"/>
                    </a:lnTo>
                    <a:lnTo>
                      <a:pt x="620" y="78"/>
                    </a:lnTo>
                    <a:lnTo>
                      <a:pt x="668" y="80"/>
                    </a:lnTo>
                    <a:lnTo>
                      <a:pt x="716" y="80"/>
                    </a:lnTo>
                    <a:lnTo>
                      <a:pt x="764" y="80"/>
                    </a:lnTo>
                    <a:lnTo>
                      <a:pt x="810" y="80"/>
                    </a:lnTo>
                    <a:lnTo>
                      <a:pt x="856" y="78"/>
                    </a:lnTo>
                    <a:lnTo>
                      <a:pt x="856" y="78"/>
                    </a:lnTo>
                    <a:lnTo>
                      <a:pt x="848" y="164"/>
                    </a:lnTo>
                    <a:lnTo>
                      <a:pt x="838" y="248"/>
                    </a:lnTo>
                    <a:lnTo>
                      <a:pt x="826" y="330"/>
                    </a:lnTo>
                    <a:lnTo>
                      <a:pt x="812" y="410"/>
                    </a:lnTo>
                    <a:lnTo>
                      <a:pt x="796" y="490"/>
                    </a:lnTo>
                    <a:lnTo>
                      <a:pt x="780" y="566"/>
                    </a:lnTo>
                    <a:lnTo>
                      <a:pt x="764" y="642"/>
                    </a:lnTo>
                    <a:lnTo>
                      <a:pt x="746" y="714"/>
                    </a:lnTo>
                    <a:lnTo>
                      <a:pt x="746" y="714"/>
                    </a:lnTo>
                    <a:lnTo>
                      <a:pt x="702" y="716"/>
                    </a:lnTo>
                    <a:lnTo>
                      <a:pt x="658" y="718"/>
                    </a:lnTo>
                    <a:lnTo>
                      <a:pt x="612" y="718"/>
                    </a:lnTo>
                    <a:lnTo>
                      <a:pt x="566" y="716"/>
                    </a:lnTo>
                    <a:lnTo>
                      <a:pt x="520" y="714"/>
                    </a:lnTo>
                    <a:lnTo>
                      <a:pt x="474" y="710"/>
                    </a:lnTo>
                    <a:lnTo>
                      <a:pt x="428" y="704"/>
                    </a:lnTo>
                    <a:lnTo>
                      <a:pt x="382" y="698"/>
                    </a:lnTo>
                    <a:lnTo>
                      <a:pt x="334" y="690"/>
                    </a:lnTo>
                    <a:lnTo>
                      <a:pt x="286" y="682"/>
                    </a:lnTo>
                    <a:lnTo>
                      <a:pt x="240" y="672"/>
                    </a:lnTo>
                    <a:lnTo>
                      <a:pt x="192" y="660"/>
                    </a:lnTo>
                    <a:lnTo>
                      <a:pt x="144" y="648"/>
                    </a:lnTo>
                    <a:lnTo>
                      <a:pt x="96" y="634"/>
                    </a:lnTo>
                    <a:lnTo>
                      <a:pt x="48" y="618"/>
                    </a:lnTo>
                    <a:lnTo>
                      <a:pt x="0" y="602"/>
                    </a:lnTo>
                    <a:lnTo>
                      <a:pt x="78" y="3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295960" y="2219400"/>
                <a:ext cx="384120" cy="409680"/>
              </a:xfrm>
              <a:custGeom>
                <a:avLst/>
                <a:gdLst/>
                <a:ahLst/>
                <a:rect l="l" t="t" r="r" b="b"/>
                <a:pathLst>
                  <a:path w="242" h="258">
                    <a:moveTo>
                      <a:pt x="236" y="12"/>
                    </a:moveTo>
                    <a:lnTo>
                      <a:pt x="236" y="12"/>
                    </a:lnTo>
                    <a:lnTo>
                      <a:pt x="240" y="136"/>
                    </a:lnTo>
                    <a:lnTo>
                      <a:pt x="242" y="258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96" y="108"/>
                    </a:lnTo>
                    <a:lnTo>
                      <a:pt x="36" y="4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2" y="8"/>
                    </a:lnTo>
                    <a:lnTo>
                      <a:pt x="122" y="12"/>
                    </a:lnTo>
                    <a:lnTo>
                      <a:pt x="180" y="14"/>
                    </a:lnTo>
                    <a:lnTo>
                      <a:pt x="236" y="12"/>
                    </a:lnTo>
                    <a:lnTo>
                      <a:pt x="236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40240" y="1711440"/>
                <a:ext cx="320760" cy="399960"/>
              </a:xfrm>
              <a:custGeom>
                <a:avLst/>
                <a:gdLst/>
                <a:ahLst/>
                <a:rect l="l" t="t" r="r" b="b"/>
                <a:pathLst>
                  <a:path w="202" h="252">
                    <a:moveTo>
                      <a:pt x="0" y="246"/>
                    </a:moveTo>
                    <a:lnTo>
                      <a:pt x="0" y="246"/>
                    </a:lnTo>
                    <a:lnTo>
                      <a:pt x="90" y="0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90" y="140"/>
                    </a:lnTo>
                    <a:lnTo>
                      <a:pt x="202" y="250"/>
                    </a:lnTo>
                    <a:lnTo>
                      <a:pt x="202" y="250"/>
                    </a:lnTo>
                    <a:lnTo>
                      <a:pt x="152" y="252"/>
                    </a:lnTo>
                    <a:lnTo>
                      <a:pt x="102" y="252"/>
                    </a:lnTo>
                    <a:lnTo>
                      <a:pt x="52" y="250"/>
                    </a:lnTo>
                    <a:lnTo>
                      <a:pt x="0" y="246"/>
                    </a:lnTo>
                    <a:lnTo>
                      <a:pt x="0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070600" y="2597040"/>
                <a:ext cx="606240" cy="438120"/>
              </a:xfrm>
              <a:custGeom>
                <a:avLst/>
                <a:gdLst/>
                <a:ahLst/>
                <a:rect l="l" t="t" r="r" b="b"/>
                <a:pathLst>
                  <a:path w="382" h="276">
                    <a:moveTo>
                      <a:pt x="382" y="42"/>
                    </a:moveTo>
                    <a:lnTo>
                      <a:pt x="382" y="42"/>
                    </a:lnTo>
                    <a:lnTo>
                      <a:pt x="380" y="154"/>
                    </a:lnTo>
                    <a:lnTo>
                      <a:pt x="372" y="264"/>
                    </a:lnTo>
                    <a:lnTo>
                      <a:pt x="372" y="264"/>
                    </a:lnTo>
                    <a:lnTo>
                      <a:pt x="304" y="270"/>
                    </a:lnTo>
                    <a:lnTo>
                      <a:pt x="234" y="274"/>
                    </a:lnTo>
                    <a:lnTo>
                      <a:pt x="164" y="276"/>
                    </a:lnTo>
                    <a:lnTo>
                      <a:pt x="94" y="274"/>
                    </a:lnTo>
                    <a:lnTo>
                      <a:pt x="94" y="274"/>
                    </a:lnTo>
                    <a:lnTo>
                      <a:pt x="46" y="272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14" y="220"/>
                    </a:lnTo>
                    <a:lnTo>
                      <a:pt x="32" y="154"/>
                    </a:lnTo>
                    <a:lnTo>
                      <a:pt x="32" y="154"/>
                    </a:lnTo>
                    <a:lnTo>
                      <a:pt x="52" y="64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382" y="42"/>
                    </a:lnTo>
                    <a:lnTo>
                      <a:pt x="382" y="4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699160" y="2085840"/>
                <a:ext cx="749160" cy="924120"/>
              </a:xfrm>
              <a:custGeom>
                <a:avLst/>
                <a:gdLst/>
                <a:ahLst/>
                <a:rect l="l" t="t" r="r" b="b"/>
                <a:pathLst>
                  <a:path w="472" h="582">
                    <a:moveTo>
                      <a:pt x="212" y="56"/>
                    </a:moveTo>
                    <a:lnTo>
                      <a:pt x="212" y="56"/>
                    </a:lnTo>
                    <a:lnTo>
                      <a:pt x="238" y="206"/>
                    </a:lnTo>
                    <a:lnTo>
                      <a:pt x="248" y="268"/>
                    </a:lnTo>
                    <a:lnTo>
                      <a:pt x="248" y="268"/>
                    </a:lnTo>
                    <a:lnTo>
                      <a:pt x="330" y="4"/>
                    </a:lnTo>
                    <a:lnTo>
                      <a:pt x="330" y="4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60" y="58"/>
                    </a:lnTo>
                    <a:lnTo>
                      <a:pt x="380" y="116"/>
                    </a:lnTo>
                    <a:lnTo>
                      <a:pt x="400" y="174"/>
                    </a:lnTo>
                    <a:lnTo>
                      <a:pt x="416" y="230"/>
                    </a:lnTo>
                    <a:lnTo>
                      <a:pt x="432" y="286"/>
                    </a:lnTo>
                    <a:lnTo>
                      <a:pt x="446" y="342"/>
                    </a:lnTo>
                    <a:lnTo>
                      <a:pt x="460" y="398"/>
                    </a:lnTo>
                    <a:lnTo>
                      <a:pt x="472" y="454"/>
                    </a:lnTo>
                    <a:lnTo>
                      <a:pt x="472" y="454"/>
                    </a:lnTo>
                    <a:lnTo>
                      <a:pt x="418" y="476"/>
                    </a:lnTo>
                    <a:lnTo>
                      <a:pt x="364" y="498"/>
                    </a:lnTo>
                    <a:lnTo>
                      <a:pt x="308" y="516"/>
                    </a:lnTo>
                    <a:lnTo>
                      <a:pt x="250" y="534"/>
                    </a:lnTo>
                    <a:lnTo>
                      <a:pt x="190" y="550"/>
                    </a:lnTo>
                    <a:lnTo>
                      <a:pt x="130" y="562"/>
                    </a:lnTo>
                    <a:lnTo>
                      <a:pt x="68" y="574"/>
                    </a:lnTo>
                    <a:lnTo>
                      <a:pt x="6" y="582"/>
                    </a:lnTo>
                    <a:lnTo>
                      <a:pt x="6" y="582"/>
                    </a:lnTo>
                    <a:lnTo>
                      <a:pt x="10" y="474"/>
                    </a:lnTo>
                    <a:lnTo>
                      <a:pt x="12" y="368"/>
                    </a:lnTo>
                    <a:lnTo>
                      <a:pt x="12" y="368"/>
                    </a:lnTo>
                    <a:lnTo>
                      <a:pt x="14" y="368"/>
                    </a:lnTo>
                    <a:lnTo>
                      <a:pt x="12" y="366"/>
                    </a:lnTo>
                    <a:lnTo>
                      <a:pt x="12" y="366"/>
                    </a:lnTo>
                    <a:lnTo>
                      <a:pt x="10" y="296"/>
                    </a:lnTo>
                    <a:lnTo>
                      <a:pt x="8" y="226"/>
                    </a:lnTo>
                    <a:lnTo>
                      <a:pt x="4" y="160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6" y="90"/>
                    </a:lnTo>
                    <a:lnTo>
                      <a:pt x="110" y="80"/>
                    </a:lnTo>
                    <a:lnTo>
                      <a:pt x="162" y="70"/>
                    </a:lnTo>
                    <a:lnTo>
                      <a:pt x="212" y="56"/>
                    </a:lnTo>
                    <a:lnTo>
                      <a:pt x="212" y="5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641920" y="1765440"/>
                <a:ext cx="368280" cy="339480"/>
              </a:xfrm>
              <a:custGeom>
                <a:avLst/>
                <a:gdLst/>
                <a:ahLst/>
                <a:rect l="l" t="t" r="r" b="b"/>
                <a:pathLst>
                  <a:path w="232" h="214">
                    <a:moveTo>
                      <a:pt x="232" y="172"/>
                    </a:moveTo>
                    <a:lnTo>
                      <a:pt x="232" y="172"/>
                    </a:lnTo>
                    <a:lnTo>
                      <a:pt x="186" y="186"/>
                    </a:lnTo>
                    <a:lnTo>
                      <a:pt x="136" y="198"/>
                    </a:lnTo>
                    <a:lnTo>
                      <a:pt x="84" y="208"/>
                    </a:lnTo>
                    <a:lnTo>
                      <a:pt x="30" y="214"/>
                    </a:lnTo>
                    <a:lnTo>
                      <a:pt x="30" y="214"/>
                    </a:lnTo>
                    <a:lnTo>
                      <a:pt x="16" y="10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4" y="50"/>
                    </a:lnTo>
                    <a:lnTo>
                      <a:pt x="212" y="68"/>
                    </a:lnTo>
                    <a:lnTo>
                      <a:pt x="212" y="68"/>
                    </a:lnTo>
                    <a:lnTo>
                      <a:pt x="220" y="106"/>
                    </a:lnTo>
                    <a:lnTo>
                      <a:pt x="232" y="172"/>
                    </a:lnTo>
                    <a:lnTo>
                      <a:pt x="232" y="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587920" y="1425600"/>
                <a:ext cx="279360" cy="183960"/>
              </a:xfrm>
              <a:custGeom>
                <a:avLst/>
                <a:gdLst/>
                <a:ahLst/>
                <a:rect l="l" t="t" r="r" b="b"/>
                <a:pathLst>
                  <a:path w="176" h="116">
                    <a:moveTo>
                      <a:pt x="162" y="0"/>
                    </a:moveTo>
                    <a:lnTo>
                      <a:pt x="162" y="0"/>
                    </a:lnTo>
                    <a:lnTo>
                      <a:pt x="176" y="40"/>
                    </a:lnTo>
                    <a:lnTo>
                      <a:pt x="176" y="40"/>
                    </a:lnTo>
                    <a:lnTo>
                      <a:pt x="16" y="116"/>
                    </a:lnTo>
                    <a:lnTo>
                      <a:pt x="16" y="11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4" y="34"/>
                    </a:lnTo>
                    <a:lnTo>
                      <a:pt x="86" y="26"/>
                    </a:lnTo>
                    <a:lnTo>
                      <a:pt x="126" y="14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956120" y="1415880"/>
                <a:ext cx="641520" cy="511200"/>
              </a:xfrm>
              <a:custGeom>
                <a:avLst/>
                <a:gdLst/>
                <a:ahLst/>
                <a:rect l="l" t="t" r="r" b="b"/>
                <a:pathLst>
                  <a:path w="404" h="322">
                    <a:moveTo>
                      <a:pt x="112" y="6"/>
                    </a:moveTo>
                    <a:lnTo>
                      <a:pt x="112" y="6"/>
                    </a:lnTo>
                    <a:lnTo>
                      <a:pt x="148" y="16"/>
                    </a:lnTo>
                    <a:lnTo>
                      <a:pt x="184" y="26"/>
                    </a:lnTo>
                    <a:lnTo>
                      <a:pt x="220" y="34"/>
                    </a:lnTo>
                    <a:lnTo>
                      <a:pt x="254" y="38"/>
                    </a:lnTo>
                    <a:lnTo>
                      <a:pt x="290" y="44"/>
                    </a:lnTo>
                    <a:lnTo>
                      <a:pt x="322" y="46"/>
                    </a:lnTo>
                    <a:lnTo>
                      <a:pt x="356" y="46"/>
                    </a:lnTo>
                    <a:lnTo>
                      <a:pt x="388" y="46"/>
                    </a:lnTo>
                    <a:lnTo>
                      <a:pt x="388" y="46"/>
                    </a:lnTo>
                    <a:lnTo>
                      <a:pt x="404" y="126"/>
                    </a:lnTo>
                    <a:lnTo>
                      <a:pt x="404" y="126"/>
                    </a:lnTo>
                    <a:lnTo>
                      <a:pt x="344" y="154"/>
                    </a:lnTo>
                    <a:lnTo>
                      <a:pt x="348" y="142"/>
                    </a:lnTo>
                    <a:lnTo>
                      <a:pt x="316" y="158"/>
                    </a:lnTo>
                    <a:lnTo>
                      <a:pt x="316" y="158"/>
                    </a:lnTo>
                    <a:lnTo>
                      <a:pt x="266" y="180"/>
                    </a:lnTo>
                    <a:lnTo>
                      <a:pt x="182" y="224"/>
                    </a:lnTo>
                    <a:lnTo>
                      <a:pt x="136" y="250"/>
                    </a:lnTo>
                    <a:lnTo>
                      <a:pt x="94" y="276"/>
                    </a:lnTo>
                    <a:lnTo>
                      <a:pt x="60" y="300"/>
                    </a:lnTo>
                    <a:lnTo>
                      <a:pt x="46" y="310"/>
                    </a:lnTo>
                    <a:lnTo>
                      <a:pt x="38" y="322"/>
                    </a:lnTo>
                    <a:lnTo>
                      <a:pt x="38" y="322"/>
                    </a:lnTo>
                    <a:lnTo>
                      <a:pt x="32" y="322"/>
                    </a:lnTo>
                    <a:lnTo>
                      <a:pt x="24" y="320"/>
                    </a:lnTo>
                    <a:lnTo>
                      <a:pt x="12" y="314"/>
                    </a:lnTo>
                    <a:lnTo>
                      <a:pt x="0" y="308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12" y="6"/>
                    </a:lnTo>
                    <a:lnTo>
                      <a:pt x="11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194000" y="1155600"/>
                <a:ext cx="908280" cy="736560"/>
              </a:xfrm>
              <a:custGeom>
                <a:avLst/>
                <a:gdLst/>
                <a:ahLst/>
                <a:rect l="l" t="t" r="r" b="b"/>
                <a:pathLst>
                  <a:path w="572" h="464">
                    <a:moveTo>
                      <a:pt x="572" y="162"/>
                    </a:moveTo>
                    <a:lnTo>
                      <a:pt x="572" y="162"/>
                    </a:lnTo>
                    <a:lnTo>
                      <a:pt x="466" y="464"/>
                    </a:lnTo>
                    <a:lnTo>
                      <a:pt x="466" y="464"/>
                    </a:lnTo>
                    <a:lnTo>
                      <a:pt x="444" y="448"/>
                    </a:lnTo>
                    <a:lnTo>
                      <a:pt x="418" y="428"/>
                    </a:lnTo>
                    <a:lnTo>
                      <a:pt x="358" y="378"/>
                    </a:lnTo>
                    <a:lnTo>
                      <a:pt x="292" y="318"/>
                    </a:lnTo>
                    <a:lnTo>
                      <a:pt x="222" y="250"/>
                    </a:lnTo>
                    <a:lnTo>
                      <a:pt x="198" y="266"/>
                    </a:lnTo>
                    <a:lnTo>
                      <a:pt x="198" y="266"/>
                    </a:lnTo>
                    <a:lnTo>
                      <a:pt x="256" y="454"/>
                    </a:lnTo>
                    <a:lnTo>
                      <a:pt x="256" y="454"/>
                    </a:lnTo>
                    <a:lnTo>
                      <a:pt x="220" y="434"/>
                    </a:lnTo>
                    <a:lnTo>
                      <a:pt x="186" y="414"/>
                    </a:lnTo>
                    <a:lnTo>
                      <a:pt x="152" y="392"/>
                    </a:lnTo>
                    <a:lnTo>
                      <a:pt x="120" y="368"/>
                    </a:lnTo>
                    <a:lnTo>
                      <a:pt x="88" y="344"/>
                    </a:lnTo>
                    <a:lnTo>
                      <a:pt x="58" y="320"/>
                    </a:lnTo>
                    <a:lnTo>
                      <a:pt x="28" y="29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44" y="224"/>
                    </a:lnTo>
                    <a:lnTo>
                      <a:pt x="86" y="182"/>
                    </a:lnTo>
                    <a:lnTo>
                      <a:pt x="126" y="144"/>
                    </a:lnTo>
                    <a:lnTo>
                      <a:pt x="164" y="108"/>
                    </a:lnTo>
                    <a:lnTo>
                      <a:pt x="202" y="78"/>
                    </a:lnTo>
                    <a:lnTo>
                      <a:pt x="238" y="48"/>
                    </a:lnTo>
                    <a:lnTo>
                      <a:pt x="272" y="24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32" y="24"/>
                    </a:lnTo>
                    <a:lnTo>
                      <a:pt x="360" y="48"/>
                    </a:lnTo>
                    <a:lnTo>
                      <a:pt x="392" y="70"/>
                    </a:lnTo>
                    <a:lnTo>
                      <a:pt x="424" y="90"/>
                    </a:lnTo>
                    <a:lnTo>
                      <a:pt x="458" y="110"/>
                    </a:lnTo>
                    <a:lnTo>
                      <a:pt x="494" y="130"/>
                    </a:lnTo>
                    <a:lnTo>
                      <a:pt x="532" y="146"/>
                    </a:lnTo>
                    <a:lnTo>
                      <a:pt x="572" y="162"/>
                    </a:lnTo>
                    <a:lnTo>
                      <a:pt x="572" y="16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838680" y="847800"/>
                <a:ext cx="825480" cy="704880"/>
              </a:xfrm>
              <a:custGeom>
                <a:avLst/>
                <a:gdLst/>
                <a:ahLst/>
                <a:rect l="l" t="t" r="r" b="b"/>
                <a:pathLst>
                  <a:path w="520" h="444">
                    <a:moveTo>
                      <a:pt x="406" y="0"/>
                    </a:moveTo>
                    <a:lnTo>
                      <a:pt x="406" y="0"/>
                    </a:lnTo>
                    <a:lnTo>
                      <a:pt x="414" y="24"/>
                    </a:lnTo>
                    <a:lnTo>
                      <a:pt x="422" y="48"/>
                    </a:lnTo>
                    <a:lnTo>
                      <a:pt x="434" y="72"/>
                    </a:lnTo>
                    <a:lnTo>
                      <a:pt x="448" y="94"/>
                    </a:lnTo>
                    <a:lnTo>
                      <a:pt x="462" y="118"/>
                    </a:lnTo>
                    <a:lnTo>
                      <a:pt x="480" y="140"/>
                    </a:lnTo>
                    <a:lnTo>
                      <a:pt x="500" y="164"/>
                    </a:lnTo>
                    <a:lnTo>
                      <a:pt x="520" y="186"/>
                    </a:lnTo>
                    <a:lnTo>
                      <a:pt x="520" y="186"/>
                    </a:lnTo>
                    <a:lnTo>
                      <a:pt x="446" y="238"/>
                    </a:lnTo>
                    <a:lnTo>
                      <a:pt x="370" y="300"/>
                    </a:lnTo>
                    <a:lnTo>
                      <a:pt x="288" y="368"/>
                    </a:lnTo>
                    <a:lnTo>
                      <a:pt x="204" y="444"/>
                    </a:lnTo>
                    <a:lnTo>
                      <a:pt x="204" y="444"/>
                    </a:lnTo>
                    <a:lnTo>
                      <a:pt x="170" y="410"/>
                    </a:lnTo>
                    <a:lnTo>
                      <a:pt x="140" y="374"/>
                    </a:lnTo>
                    <a:lnTo>
                      <a:pt x="110" y="338"/>
                    </a:lnTo>
                    <a:lnTo>
                      <a:pt x="84" y="300"/>
                    </a:lnTo>
                    <a:lnTo>
                      <a:pt x="58" y="264"/>
                    </a:lnTo>
                    <a:lnTo>
                      <a:pt x="36" y="226"/>
                    </a:lnTo>
                    <a:lnTo>
                      <a:pt x="16" y="188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54" y="124"/>
                    </a:lnTo>
                    <a:lnTo>
                      <a:pt x="108" y="102"/>
                    </a:lnTo>
                    <a:lnTo>
                      <a:pt x="162" y="80"/>
                    </a:lnTo>
                    <a:lnTo>
                      <a:pt x="214" y="60"/>
                    </a:lnTo>
                    <a:lnTo>
                      <a:pt x="314" y="28"/>
                    </a:ln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49640" y="1111320"/>
                <a:ext cx="946080" cy="1168200"/>
              </a:xfrm>
              <a:custGeom>
                <a:avLst/>
                <a:gdLst/>
                <a:ahLst/>
                <a:rect l="l" t="t" r="r" b="b"/>
                <a:pathLst>
                  <a:path w="596" h="736">
                    <a:moveTo>
                      <a:pt x="398" y="0"/>
                    </a:moveTo>
                    <a:lnTo>
                      <a:pt x="398" y="0"/>
                    </a:lnTo>
                    <a:lnTo>
                      <a:pt x="412" y="42"/>
                    </a:lnTo>
                    <a:lnTo>
                      <a:pt x="430" y="82"/>
                    </a:lnTo>
                    <a:lnTo>
                      <a:pt x="450" y="124"/>
                    </a:lnTo>
                    <a:lnTo>
                      <a:pt x="474" y="164"/>
                    </a:lnTo>
                    <a:lnTo>
                      <a:pt x="500" y="204"/>
                    </a:lnTo>
                    <a:lnTo>
                      <a:pt x="530" y="242"/>
                    </a:lnTo>
                    <a:lnTo>
                      <a:pt x="562" y="282"/>
                    </a:lnTo>
                    <a:lnTo>
                      <a:pt x="596" y="320"/>
                    </a:lnTo>
                    <a:lnTo>
                      <a:pt x="596" y="320"/>
                    </a:lnTo>
                    <a:lnTo>
                      <a:pt x="552" y="364"/>
                    </a:lnTo>
                    <a:lnTo>
                      <a:pt x="510" y="410"/>
                    </a:lnTo>
                    <a:lnTo>
                      <a:pt x="466" y="458"/>
                    </a:lnTo>
                    <a:lnTo>
                      <a:pt x="422" y="510"/>
                    </a:lnTo>
                    <a:lnTo>
                      <a:pt x="378" y="562"/>
                    </a:lnTo>
                    <a:lnTo>
                      <a:pt x="336" y="618"/>
                    </a:lnTo>
                    <a:lnTo>
                      <a:pt x="294" y="676"/>
                    </a:lnTo>
                    <a:lnTo>
                      <a:pt x="252" y="736"/>
                    </a:lnTo>
                    <a:lnTo>
                      <a:pt x="252" y="736"/>
                    </a:lnTo>
                    <a:lnTo>
                      <a:pt x="204" y="682"/>
                    </a:lnTo>
                    <a:lnTo>
                      <a:pt x="160" y="624"/>
                    </a:lnTo>
                    <a:lnTo>
                      <a:pt x="120" y="566"/>
                    </a:lnTo>
                    <a:lnTo>
                      <a:pt x="104" y="536"/>
                    </a:lnTo>
                    <a:lnTo>
                      <a:pt x="86" y="506"/>
                    </a:lnTo>
                    <a:lnTo>
                      <a:pt x="72" y="474"/>
                    </a:lnTo>
                    <a:lnTo>
                      <a:pt x="56" y="444"/>
                    </a:lnTo>
                    <a:lnTo>
                      <a:pt x="44" y="412"/>
                    </a:lnTo>
                    <a:lnTo>
                      <a:pt x="32" y="382"/>
                    </a:lnTo>
                    <a:lnTo>
                      <a:pt x="22" y="350"/>
                    </a:lnTo>
                    <a:lnTo>
                      <a:pt x="14" y="318"/>
                    </a:lnTo>
                    <a:lnTo>
                      <a:pt x="6" y="28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48" y="216"/>
                    </a:lnTo>
                    <a:lnTo>
                      <a:pt x="98" y="178"/>
                    </a:lnTo>
                    <a:lnTo>
                      <a:pt x="148" y="144"/>
                    </a:lnTo>
                    <a:lnTo>
                      <a:pt x="198" y="112"/>
                    </a:lnTo>
                    <a:lnTo>
                      <a:pt x="248" y="80"/>
                    </a:lnTo>
                    <a:lnTo>
                      <a:pt x="298" y="52"/>
                    </a:lnTo>
                    <a:lnTo>
                      <a:pt x="348" y="26"/>
                    </a:lnTo>
                    <a:lnTo>
                      <a:pt x="398" y="0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76440" y="1577880"/>
                <a:ext cx="1025640" cy="1596960"/>
              </a:xfrm>
              <a:custGeom>
                <a:avLst/>
                <a:gdLst/>
                <a:ahLst/>
                <a:rect l="l" t="t" r="r" b="b"/>
                <a:pathLst>
                  <a:path w="646" h="1006">
                    <a:moveTo>
                      <a:pt x="376" y="0"/>
                    </a:moveTo>
                    <a:lnTo>
                      <a:pt x="376" y="0"/>
                    </a:lnTo>
                    <a:lnTo>
                      <a:pt x="382" y="32"/>
                    </a:lnTo>
                    <a:lnTo>
                      <a:pt x="392" y="64"/>
                    </a:lnTo>
                    <a:lnTo>
                      <a:pt x="400" y="96"/>
                    </a:lnTo>
                    <a:lnTo>
                      <a:pt x="412" y="128"/>
                    </a:lnTo>
                    <a:lnTo>
                      <a:pt x="424" y="160"/>
                    </a:lnTo>
                    <a:lnTo>
                      <a:pt x="438" y="190"/>
                    </a:lnTo>
                    <a:lnTo>
                      <a:pt x="454" y="222"/>
                    </a:lnTo>
                    <a:lnTo>
                      <a:pt x="470" y="252"/>
                    </a:lnTo>
                    <a:lnTo>
                      <a:pt x="488" y="284"/>
                    </a:lnTo>
                    <a:lnTo>
                      <a:pt x="506" y="314"/>
                    </a:lnTo>
                    <a:lnTo>
                      <a:pt x="528" y="344"/>
                    </a:lnTo>
                    <a:lnTo>
                      <a:pt x="548" y="372"/>
                    </a:lnTo>
                    <a:lnTo>
                      <a:pt x="594" y="430"/>
                    </a:lnTo>
                    <a:lnTo>
                      <a:pt x="646" y="486"/>
                    </a:lnTo>
                    <a:lnTo>
                      <a:pt x="646" y="486"/>
                    </a:lnTo>
                    <a:lnTo>
                      <a:pt x="614" y="538"/>
                    </a:lnTo>
                    <a:lnTo>
                      <a:pt x="582" y="590"/>
                    </a:lnTo>
                    <a:lnTo>
                      <a:pt x="550" y="644"/>
                    </a:lnTo>
                    <a:lnTo>
                      <a:pt x="520" y="700"/>
                    </a:lnTo>
                    <a:lnTo>
                      <a:pt x="520" y="700"/>
                    </a:lnTo>
                    <a:lnTo>
                      <a:pt x="456" y="664"/>
                    </a:lnTo>
                    <a:lnTo>
                      <a:pt x="456" y="664"/>
                    </a:lnTo>
                    <a:lnTo>
                      <a:pt x="492" y="756"/>
                    </a:lnTo>
                    <a:lnTo>
                      <a:pt x="492" y="756"/>
                    </a:lnTo>
                    <a:lnTo>
                      <a:pt x="462" y="816"/>
                    </a:lnTo>
                    <a:lnTo>
                      <a:pt x="434" y="878"/>
                    </a:lnTo>
                    <a:lnTo>
                      <a:pt x="406" y="940"/>
                    </a:lnTo>
                    <a:lnTo>
                      <a:pt x="380" y="1006"/>
                    </a:lnTo>
                    <a:lnTo>
                      <a:pt x="380" y="1006"/>
                    </a:lnTo>
                    <a:lnTo>
                      <a:pt x="320" y="940"/>
                    </a:lnTo>
                    <a:lnTo>
                      <a:pt x="264" y="874"/>
                    </a:lnTo>
                    <a:lnTo>
                      <a:pt x="210" y="804"/>
                    </a:lnTo>
                    <a:lnTo>
                      <a:pt x="160" y="734"/>
                    </a:lnTo>
                    <a:lnTo>
                      <a:pt x="114" y="664"/>
                    </a:lnTo>
                    <a:lnTo>
                      <a:pt x="72" y="592"/>
                    </a:lnTo>
                    <a:lnTo>
                      <a:pt x="34" y="518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42" y="380"/>
                    </a:lnTo>
                    <a:lnTo>
                      <a:pt x="84" y="316"/>
                    </a:lnTo>
                    <a:lnTo>
                      <a:pt x="130" y="256"/>
                    </a:lnTo>
                    <a:lnTo>
                      <a:pt x="176" y="200"/>
                    </a:lnTo>
                    <a:lnTo>
                      <a:pt x="224" y="146"/>
                    </a:lnTo>
                    <a:lnTo>
                      <a:pt x="274" y="94"/>
                    </a:lnTo>
                    <a:lnTo>
                      <a:pt x="324" y="46"/>
                    </a:lnTo>
                    <a:lnTo>
                      <a:pt x="376" y="0"/>
                    </a:lnTo>
                    <a:lnTo>
                      <a:pt x="3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108160" y="2362320"/>
                <a:ext cx="927000" cy="1784160"/>
              </a:xfrm>
              <a:custGeom>
                <a:avLst/>
                <a:gdLst/>
                <a:ahLst/>
                <a:rect l="l" t="t" r="r" b="b"/>
                <a:pathLst>
                  <a:path w="584" h="1124">
                    <a:moveTo>
                      <a:pt x="202" y="0"/>
                    </a:moveTo>
                    <a:lnTo>
                      <a:pt x="202" y="0"/>
                    </a:lnTo>
                    <a:lnTo>
                      <a:pt x="218" y="40"/>
                    </a:lnTo>
                    <a:lnTo>
                      <a:pt x="234" y="78"/>
                    </a:lnTo>
                    <a:lnTo>
                      <a:pt x="270" y="154"/>
                    </a:lnTo>
                    <a:lnTo>
                      <a:pt x="312" y="230"/>
                    </a:lnTo>
                    <a:lnTo>
                      <a:pt x="358" y="304"/>
                    </a:lnTo>
                    <a:lnTo>
                      <a:pt x="408" y="376"/>
                    </a:lnTo>
                    <a:lnTo>
                      <a:pt x="462" y="446"/>
                    </a:lnTo>
                    <a:lnTo>
                      <a:pt x="522" y="516"/>
                    </a:lnTo>
                    <a:lnTo>
                      <a:pt x="584" y="584"/>
                    </a:lnTo>
                    <a:lnTo>
                      <a:pt x="584" y="584"/>
                    </a:lnTo>
                    <a:lnTo>
                      <a:pt x="564" y="644"/>
                    </a:lnTo>
                    <a:lnTo>
                      <a:pt x="544" y="706"/>
                    </a:lnTo>
                    <a:lnTo>
                      <a:pt x="524" y="770"/>
                    </a:lnTo>
                    <a:lnTo>
                      <a:pt x="506" y="834"/>
                    </a:lnTo>
                    <a:lnTo>
                      <a:pt x="490" y="902"/>
                    </a:lnTo>
                    <a:lnTo>
                      <a:pt x="474" y="968"/>
                    </a:lnTo>
                    <a:lnTo>
                      <a:pt x="460" y="1038"/>
                    </a:lnTo>
                    <a:lnTo>
                      <a:pt x="446" y="1108"/>
                    </a:lnTo>
                    <a:lnTo>
                      <a:pt x="446" y="1108"/>
                    </a:lnTo>
                    <a:lnTo>
                      <a:pt x="436" y="1124"/>
                    </a:lnTo>
                    <a:lnTo>
                      <a:pt x="436" y="1124"/>
                    </a:lnTo>
                    <a:lnTo>
                      <a:pt x="370" y="1056"/>
                    </a:lnTo>
                    <a:lnTo>
                      <a:pt x="308" y="986"/>
                    </a:lnTo>
                    <a:lnTo>
                      <a:pt x="248" y="914"/>
                    </a:lnTo>
                    <a:lnTo>
                      <a:pt x="192" y="840"/>
                    </a:lnTo>
                    <a:lnTo>
                      <a:pt x="138" y="764"/>
                    </a:lnTo>
                    <a:lnTo>
                      <a:pt x="88" y="686"/>
                    </a:lnTo>
                    <a:lnTo>
                      <a:pt x="42" y="606"/>
                    </a:lnTo>
                    <a:lnTo>
                      <a:pt x="0" y="526"/>
                    </a:lnTo>
                    <a:lnTo>
                      <a:pt x="0" y="526"/>
                    </a:lnTo>
                    <a:lnTo>
                      <a:pt x="18" y="452"/>
                    </a:lnTo>
                    <a:lnTo>
                      <a:pt x="40" y="380"/>
                    </a:lnTo>
                    <a:lnTo>
                      <a:pt x="62" y="312"/>
                    </a:lnTo>
                    <a:lnTo>
                      <a:pt x="88" y="246"/>
                    </a:lnTo>
                    <a:lnTo>
                      <a:pt x="114" y="180"/>
                    </a:lnTo>
                    <a:lnTo>
                      <a:pt x="142" y="118"/>
                    </a:lnTo>
                    <a:lnTo>
                      <a:pt x="172" y="58"/>
                    </a:lnTo>
                    <a:lnTo>
                      <a:pt x="202" y="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96920" y="3305160"/>
                <a:ext cx="730440" cy="1476360"/>
              </a:xfrm>
              <a:custGeom>
                <a:avLst/>
                <a:gdLst/>
                <a:ahLst/>
                <a:rect l="l" t="t" r="r" b="b"/>
                <a:pathLst>
                  <a:path w="460" h="930">
                    <a:moveTo>
                      <a:pt x="0" y="512"/>
                    </a:moveTo>
                    <a:lnTo>
                      <a:pt x="0" y="512"/>
                    </a:lnTo>
                    <a:lnTo>
                      <a:pt x="2" y="444"/>
                    </a:lnTo>
                    <a:lnTo>
                      <a:pt x="6" y="376"/>
                    </a:lnTo>
                    <a:lnTo>
                      <a:pt x="10" y="310"/>
                    </a:lnTo>
                    <a:lnTo>
                      <a:pt x="16" y="244"/>
                    </a:lnTo>
                    <a:lnTo>
                      <a:pt x="24" y="182"/>
                    </a:lnTo>
                    <a:lnTo>
                      <a:pt x="32" y="120"/>
                    </a:lnTo>
                    <a:lnTo>
                      <a:pt x="42" y="6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94" y="82"/>
                    </a:lnTo>
                    <a:lnTo>
                      <a:pt x="136" y="162"/>
                    </a:lnTo>
                    <a:lnTo>
                      <a:pt x="182" y="242"/>
                    </a:lnTo>
                    <a:lnTo>
                      <a:pt x="230" y="318"/>
                    </a:lnTo>
                    <a:lnTo>
                      <a:pt x="282" y="392"/>
                    </a:lnTo>
                    <a:lnTo>
                      <a:pt x="338" y="464"/>
                    </a:lnTo>
                    <a:lnTo>
                      <a:pt x="366" y="498"/>
                    </a:lnTo>
                    <a:lnTo>
                      <a:pt x="398" y="532"/>
                    </a:lnTo>
                    <a:lnTo>
                      <a:pt x="428" y="566"/>
                    </a:lnTo>
                    <a:lnTo>
                      <a:pt x="460" y="598"/>
                    </a:lnTo>
                    <a:lnTo>
                      <a:pt x="460" y="598"/>
                    </a:lnTo>
                    <a:lnTo>
                      <a:pt x="458" y="604"/>
                    </a:lnTo>
                    <a:lnTo>
                      <a:pt x="458" y="604"/>
                    </a:lnTo>
                    <a:lnTo>
                      <a:pt x="100" y="438"/>
                    </a:lnTo>
                    <a:lnTo>
                      <a:pt x="100" y="438"/>
                    </a:lnTo>
                    <a:lnTo>
                      <a:pt x="318" y="818"/>
                    </a:lnTo>
                    <a:lnTo>
                      <a:pt x="318" y="818"/>
                    </a:lnTo>
                    <a:lnTo>
                      <a:pt x="264" y="930"/>
                    </a:lnTo>
                    <a:lnTo>
                      <a:pt x="264" y="930"/>
                    </a:lnTo>
                    <a:lnTo>
                      <a:pt x="226" y="882"/>
                    </a:lnTo>
                    <a:lnTo>
                      <a:pt x="188" y="832"/>
                    </a:lnTo>
                    <a:lnTo>
                      <a:pt x="152" y="782"/>
                    </a:lnTo>
                    <a:lnTo>
                      <a:pt x="118" y="730"/>
                    </a:lnTo>
                    <a:lnTo>
                      <a:pt x="86" y="676"/>
                    </a:lnTo>
                    <a:lnTo>
                      <a:pt x="56" y="622"/>
                    </a:lnTo>
                    <a:lnTo>
                      <a:pt x="26" y="568"/>
                    </a:lnTo>
                    <a:lnTo>
                      <a:pt x="0" y="512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610000" y="4956120"/>
                <a:ext cx="126720" cy="158760"/>
              </a:xfrm>
              <a:custGeom>
                <a:avLst/>
                <a:gdLst/>
                <a:ahLst/>
                <a:rect l="l" t="t" r="r" b="b"/>
                <a:pathLst>
                  <a:path w="80" h="100">
                    <a:moveTo>
                      <a:pt x="80" y="0"/>
                    </a:moveTo>
                    <a:lnTo>
                      <a:pt x="80" y="0"/>
                    </a:lnTo>
                    <a:lnTo>
                      <a:pt x="80" y="100"/>
                    </a:lnTo>
                    <a:lnTo>
                      <a:pt x="80" y="100"/>
                    </a:lnTo>
                    <a:lnTo>
                      <a:pt x="40" y="6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0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320920" y="5029200"/>
                <a:ext cx="511200" cy="647640"/>
              </a:xfrm>
              <a:custGeom>
                <a:avLst/>
                <a:gdLst/>
                <a:ahLst/>
                <a:rect l="l" t="t" r="r" b="b"/>
                <a:pathLst>
                  <a:path w="322" h="408">
                    <a:moveTo>
                      <a:pt x="322" y="408"/>
                    </a:moveTo>
                    <a:lnTo>
                      <a:pt x="322" y="408"/>
                    </a:lnTo>
                    <a:lnTo>
                      <a:pt x="84" y="344"/>
                    </a:lnTo>
                    <a:lnTo>
                      <a:pt x="84" y="34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44" y="40"/>
                    </a:lnTo>
                    <a:lnTo>
                      <a:pt x="182" y="78"/>
                    </a:lnTo>
                    <a:lnTo>
                      <a:pt x="222" y="114"/>
                    </a:lnTo>
                    <a:lnTo>
                      <a:pt x="264" y="150"/>
                    </a:lnTo>
                    <a:lnTo>
                      <a:pt x="264" y="150"/>
                    </a:lnTo>
                    <a:lnTo>
                      <a:pt x="268" y="258"/>
                    </a:lnTo>
                    <a:lnTo>
                      <a:pt x="274" y="366"/>
                    </a:lnTo>
                    <a:lnTo>
                      <a:pt x="322" y="4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797200" y="4997520"/>
                <a:ext cx="368280" cy="444600"/>
              </a:xfrm>
              <a:custGeom>
                <a:avLst/>
                <a:gdLst/>
                <a:ahLst/>
                <a:rect l="l" t="t" r="r" b="b"/>
                <a:pathLst>
                  <a:path w="232" h="280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2" y="280"/>
                    </a:lnTo>
                    <a:lnTo>
                      <a:pt x="232" y="280"/>
                    </a:lnTo>
                    <a:lnTo>
                      <a:pt x="172" y="240"/>
                    </a:lnTo>
                    <a:lnTo>
                      <a:pt x="112" y="198"/>
                    </a:lnTo>
                    <a:lnTo>
                      <a:pt x="56" y="154"/>
                    </a:lnTo>
                    <a:lnTo>
                      <a:pt x="0" y="108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070080" y="4740120"/>
                <a:ext cx="819360" cy="952560"/>
              </a:xfrm>
              <a:custGeom>
                <a:avLst/>
                <a:gdLst/>
                <a:ahLst/>
                <a:rect l="l" t="t" r="r" b="b"/>
                <a:pathLst>
                  <a:path w="516" h="600">
                    <a:moveTo>
                      <a:pt x="358" y="600"/>
                    </a:moveTo>
                    <a:lnTo>
                      <a:pt x="358" y="600"/>
                    </a:lnTo>
                    <a:lnTo>
                      <a:pt x="282" y="564"/>
                    </a:lnTo>
                    <a:lnTo>
                      <a:pt x="206" y="526"/>
                    </a:lnTo>
                    <a:lnTo>
                      <a:pt x="132" y="486"/>
                    </a:lnTo>
                    <a:lnTo>
                      <a:pt x="60" y="442"/>
                    </a:lnTo>
                    <a:lnTo>
                      <a:pt x="60" y="442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12" y="0"/>
                    </a:lnTo>
                    <a:lnTo>
                      <a:pt x="212" y="0"/>
                    </a:lnTo>
                    <a:lnTo>
                      <a:pt x="282" y="34"/>
                    </a:lnTo>
                    <a:lnTo>
                      <a:pt x="358" y="66"/>
                    </a:lnTo>
                    <a:lnTo>
                      <a:pt x="436" y="94"/>
                    </a:lnTo>
                    <a:lnTo>
                      <a:pt x="516" y="122"/>
                    </a:lnTo>
                    <a:lnTo>
                      <a:pt x="516" y="122"/>
                    </a:lnTo>
                    <a:lnTo>
                      <a:pt x="428" y="390"/>
                    </a:lnTo>
                    <a:lnTo>
                      <a:pt x="358" y="600"/>
                    </a:lnTo>
                    <a:lnTo>
                      <a:pt x="358" y="60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718080" y="4956120"/>
                <a:ext cx="1425600" cy="993960"/>
              </a:xfrm>
              <a:custGeom>
                <a:avLst/>
                <a:gdLst/>
                <a:ahLst/>
                <a:rect l="l" t="t" r="r" b="b"/>
                <a:pathLst>
                  <a:path w="898" h="626">
                    <a:moveTo>
                      <a:pt x="804" y="320"/>
                    </a:moveTo>
                    <a:lnTo>
                      <a:pt x="804" y="320"/>
                    </a:lnTo>
                    <a:lnTo>
                      <a:pt x="750" y="418"/>
                    </a:lnTo>
                    <a:lnTo>
                      <a:pt x="634" y="626"/>
                    </a:lnTo>
                    <a:lnTo>
                      <a:pt x="634" y="626"/>
                    </a:lnTo>
                    <a:lnTo>
                      <a:pt x="552" y="620"/>
                    </a:lnTo>
                    <a:lnTo>
                      <a:pt x="468" y="610"/>
                    </a:lnTo>
                    <a:lnTo>
                      <a:pt x="388" y="596"/>
                    </a:lnTo>
                    <a:lnTo>
                      <a:pt x="308" y="580"/>
                    </a:lnTo>
                    <a:lnTo>
                      <a:pt x="228" y="560"/>
                    </a:lnTo>
                    <a:lnTo>
                      <a:pt x="150" y="538"/>
                    </a:lnTo>
                    <a:lnTo>
                      <a:pt x="74" y="512"/>
                    </a:lnTo>
                    <a:lnTo>
                      <a:pt x="0" y="484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96" y="10"/>
                    </a:lnTo>
                    <a:lnTo>
                      <a:pt x="196" y="10"/>
                    </a:lnTo>
                    <a:lnTo>
                      <a:pt x="294" y="36"/>
                    </a:lnTo>
                    <a:lnTo>
                      <a:pt x="390" y="58"/>
                    </a:lnTo>
                    <a:lnTo>
                      <a:pt x="484" y="76"/>
                    </a:lnTo>
                    <a:lnTo>
                      <a:pt x="572" y="90"/>
                    </a:lnTo>
                    <a:lnTo>
                      <a:pt x="658" y="100"/>
                    </a:lnTo>
                    <a:lnTo>
                      <a:pt x="742" y="108"/>
                    </a:lnTo>
                    <a:lnTo>
                      <a:pt x="822" y="112"/>
                    </a:lnTo>
                    <a:lnTo>
                      <a:pt x="898" y="114"/>
                    </a:lnTo>
                    <a:lnTo>
                      <a:pt x="898" y="114"/>
                    </a:lnTo>
                    <a:lnTo>
                      <a:pt x="860" y="202"/>
                    </a:lnTo>
                    <a:lnTo>
                      <a:pt x="830" y="268"/>
                    </a:lnTo>
                    <a:lnTo>
                      <a:pt x="804" y="320"/>
                    </a:lnTo>
                    <a:lnTo>
                      <a:pt x="804" y="3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990960" y="4076640"/>
                <a:ext cx="1457280" cy="971640"/>
              </a:xfrm>
              <a:custGeom>
                <a:avLst/>
                <a:gdLst/>
                <a:ahLst/>
                <a:rect l="l" t="t" r="r" b="b"/>
                <a:pathLst>
                  <a:path w="918" h="612">
                    <a:moveTo>
                      <a:pt x="752" y="608"/>
                    </a:moveTo>
                    <a:lnTo>
                      <a:pt x="752" y="608"/>
                    </a:lnTo>
                    <a:lnTo>
                      <a:pt x="662" y="612"/>
                    </a:lnTo>
                    <a:lnTo>
                      <a:pt x="572" y="612"/>
                    </a:lnTo>
                    <a:lnTo>
                      <a:pt x="482" y="606"/>
                    </a:lnTo>
                    <a:lnTo>
                      <a:pt x="392" y="598"/>
                    </a:lnTo>
                    <a:lnTo>
                      <a:pt x="300" y="584"/>
                    </a:lnTo>
                    <a:lnTo>
                      <a:pt x="208" y="566"/>
                    </a:lnTo>
                    <a:lnTo>
                      <a:pt x="116" y="542"/>
                    </a:lnTo>
                    <a:lnTo>
                      <a:pt x="24" y="514"/>
                    </a:lnTo>
                    <a:lnTo>
                      <a:pt x="24" y="514"/>
                    </a:lnTo>
                    <a:lnTo>
                      <a:pt x="0" y="5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212" y="18"/>
                    </a:lnTo>
                    <a:lnTo>
                      <a:pt x="262" y="32"/>
                    </a:lnTo>
                    <a:lnTo>
                      <a:pt x="310" y="48"/>
                    </a:lnTo>
                    <a:lnTo>
                      <a:pt x="358" y="60"/>
                    </a:lnTo>
                    <a:lnTo>
                      <a:pt x="406" y="72"/>
                    </a:lnTo>
                    <a:lnTo>
                      <a:pt x="456" y="80"/>
                    </a:lnTo>
                    <a:lnTo>
                      <a:pt x="502" y="90"/>
                    </a:lnTo>
                    <a:lnTo>
                      <a:pt x="550" y="96"/>
                    </a:lnTo>
                    <a:lnTo>
                      <a:pt x="598" y="102"/>
                    </a:lnTo>
                    <a:lnTo>
                      <a:pt x="644" y="106"/>
                    </a:lnTo>
                    <a:lnTo>
                      <a:pt x="692" y="108"/>
                    </a:lnTo>
                    <a:lnTo>
                      <a:pt x="738" y="110"/>
                    </a:lnTo>
                    <a:lnTo>
                      <a:pt x="784" y="110"/>
                    </a:lnTo>
                    <a:lnTo>
                      <a:pt x="830" y="110"/>
                    </a:lnTo>
                    <a:lnTo>
                      <a:pt x="874" y="108"/>
                    </a:lnTo>
                    <a:lnTo>
                      <a:pt x="918" y="104"/>
                    </a:lnTo>
                    <a:lnTo>
                      <a:pt x="918" y="104"/>
                    </a:lnTo>
                    <a:lnTo>
                      <a:pt x="898" y="178"/>
                    </a:lnTo>
                    <a:lnTo>
                      <a:pt x="876" y="250"/>
                    </a:lnTo>
                    <a:lnTo>
                      <a:pt x="834" y="384"/>
                    </a:lnTo>
                    <a:lnTo>
                      <a:pt x="792" y="504"/>
                    </a:lnTo>
                    <a:lnTo>
                      <a:pt x="752" y="608"/>
                    </a:lnTo>
                    <a:lnTo>
                      <a:pt x="752" y="6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248440" y="3873600"/>
                <a:ext cx="1257120" cy="1164960"/>
              </a:xfrm>
              <a:custGeom>
                <a:avLst/>
                <a:gdLst/>
                <a:ahLst/>
                <a:rect l="l" t="t" r="r" b="b"/>
                <a:pathLst>
                  <a:path w="792" h="734">
                    <a:moveTo>
                      <a:pt x="688" y="530"/>
                    </a:moveTo>
                    <a:lnTo>
                      <a:pt x="688" y="530"/>
                    </a:lnTo>
                    <a:lnTo>
                      <a:pt x="610" y="570"/>
                    </a:lnTo>
                    <a:lnTo>
                      <a:pt x="528" y="606"/>
                    </a:lnTo>
                    <a:lnTo>
                      <a:pt x="446" y="638"/>
                    </a:lnTo>
                    <a:lnTo>
                      <a:pt x="360" y="666"/>
                    </a:lnTo>
                    <a:lnTo>
                      <a:pt x="272" y="688"/>
                    </a:lnTo>
                    <a:lnTo>
                      <a:pt x="184" y="708"/>
                    </a:lnTo>
                    <a:lnTo>
                      <a:pt x="92" y="722"/>
                    </a:lnTo>
                    <a:lnTo>
                      <a:pt x="0" y="734"/>
                    </a:lnTo>
                    <a:lnTo>
                      <a:pt x="0" y="734"/>
                    </a:lnTo>
                    <a:lnTo>
                      <a:pt x="50" y="604"/>
                    </a:lnTo>
                    <a:lnTo>
                      <a:pt x="94" y="476"/>
                    </a:lnTo>
                    <a:lnTo>
                      <a:pt x="134" y="350"/>
                    </a:lnTo>
                    <a:lnTo>
                      <a:pt x="168" y="228"/>
                    </a:lnTo>
                    <a:lnTo>
                      <a:pt x="168" y="228"/>
                    </a:lnTo>
                    <a:lnTo>
                      <a:pt x="212" y="222"/>
                    </a:lnTo>
                    <a:lnTo>
                      <a:pt x="254" y="214"/>
                    </a:lnTo>
                    <a:lnTo>
                      <a:pt x="298" y="206"/>
                    </a:lnTo>
                    <a:lnTo>
                      <a:pt x="340" y="196"/>
                    </a:lnTo>
                    <a:lnTo>
                      <a:pt x="382" y="186"/>
                    </a:lnTo>
                    <a:lnTo>
                      <a:pt x="424" y="174"/>
                    </a:lnTo>
                    <a:lnTo>
                      <a:pt x="464" y="162"/>
                    </a:lnTo>
                    <a:lnTo>
                      <a:pt x="504" y="148"/>
                    </a:lnTo>
                    <a:lnTo>
                      <a:pt x="542" y="132"/>
                    </a:lnTo>
                    <a:lnTo>
                      <a:pt x="580" y="116"/>
                    </a:lnTo>
                    <a:lnTo>
                      <a:pt x="618" y="100"/>
                    </a:lnTo>
                    <a:lnTo>
                      <a:pt x="654" y="82"/>
                    </a:lnTo>
                    <a:lnTo>
                      <a:pt x="690" y="62"/>
                    </a:lnTo>
                    <a:lnTo>
                      <a:pt x="724" y="42"/>
                    </a:lnTo>
                    <a:lnTo>
                      <a:pt x="758" y="22"/>
                    </a:lnTo>
                    <a:lnTo>
                      <a:pt x="792" y="0"/>
                    </a:lnTo>
                    <a:lnTo>
                      <a:pt x="792" y="0"/>
                    </a:lnTo>
                    <a:lnTo>
                      <a:pt x="784" y="76"/>
                    </a:lnTo>
                    <a:lnTo>
                      <a:pt x="774" y="150"/>
                    </a:lnTo>
                    <a:lnTo>
                      <a:pt x="764" y="222"/>
                    </a:lnTo>
                    <a:lnTo>
                      <a:pt x="750" y="290"/>
                    </a:lnTo>
                    <a:lnTo>
                      <a:pt x="736" y="354"/>
                    </a:lnTo>
                    <a:lnTo>
                      <a:pt x="720" y="416"/>
                    </a:lnTo>
                    <a:lnTo>
                      <a:pt x="706" y="474"/>
                    </a:lnTo>
                    <a:lnTo>
                      <a:pt x="688" y="530"/>
                    </a:lnTo>
                    <a:lnTo>
                      <a:pt x="688" y="5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975200" y="3111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640" y="1393560"/>
            <a:ext cx="759456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3645000"/>
            <a:ext cx="8064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oanna Fied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ment and Neighbouring Countries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92000" y="1125000"/>
            <a:ext cx="7740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ReP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→ </a:t>
            </a:r>
            <a:r>
              <a:rPr b="1" lang="en-GB" sz="3600" spc="-1" strike="noStrike">
                <a:solidFill>
                  <a:srgbClr val="000080"/>
                </a:solidFill>
                <a:latin typeface="Verdana"/>
                <a:ea typeface="Times New Roman"/>
              </a:rPr>
              <a:t>RENA</a:t>
            </a:r>
            <a:br>
              <a:rPr sz="36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Vision of the European Commission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Meeting of the IFIs AG – working group on environment</a:t>
            </a:r>
            <a:endParaRPr b="0" lang="en-US" sz="24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021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8 Nov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stakeholders</a:t>
            </a:r>
            <a:r>
              <a:rPr b="0" lang="en-GB" sz="4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205000"/>
            <a:ext cx="22334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97000"/>
            <a:ext cx="273672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eighbouring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357720"/>
            <a:ext cx="252108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ther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1916280"/>
            <a:ext cx="2881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FIs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Bilateral Donors,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nternation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4508640"/>
            <a:ext cx="25923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Environment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- Financing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ancing through the IPA multi-beneficiary program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tative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8: 2,9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9: 3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ertain activities will only be started in 2010 – but most in 2009 (as these are currently covered by on-going EU proj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plit between activities is indicative and will be further fine-tuned, taking into account relevant developments, before the launch of the 1st t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Next Steps…..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at REReP meeting (this we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ies to consolidate their positions and provide comments in writing to the Commission before 1 Januar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 to finalise the RENA road map before March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erial meeting to endorse the RENA road map/mandates for the working groups – spring/early summ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unch of RENA – target date - Septemb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916280"/>
            <a:ext cx="662436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improve the environmental situation in the region in a post-conflict con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re-establish and facilitate an environmental dialogue between the Western Balkan 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20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028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hy a need for RE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5724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197000"/>
            <a:ext cx="6192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Establishment of the Regional Environmental Reconstruction Programme: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73360"/>
            <a:ext cx="13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Why?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429000"/>
            <a:ext cx="88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Since then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The European political landscape has changed substanti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5516640"/>
            <a:ext cx="73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proposes to replace REReP with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: a new Regional Environmental Network for Acce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149720"/>
            <a:ext cx="676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future in the EU possible for all the Western Balkans and Tur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need for further strengthening of the pre-accession element in regional co-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501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80" indent="-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474840"/>
            <a:ext cx="8101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RENA – the launch of the process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Ministers for Environment from the Candidate Countries and potential Candidates plus Bulgaria and Romania  welcoming the initiative (June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was asked to provide a Road Map from REReP to R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213000"/>
            <a:ext cx="230508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223200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i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213000"/>
            <a:ext cx="1800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4653000"/>
            <a:ext cx="2303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bi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4724280"/>
            <a:ext cx="208908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74840"/>
            <a:ext cx="8028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the compon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Ministerial Meeting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political commi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the visibility of the challenges posed by the environment chapt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Steer the technical level cooperation process by setting priority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Regional Environmental Network for Accession (RENA)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Concrete RENA activities identified by Environment Ministers in 200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Annual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4 thematic working group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for the first 2 years (see next sli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The Secretariat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of the RENA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80"/>
                </a:solidFill>
                <a:latin typeface="Verdana"/>
              </a:rPr>
              <a:t>The Commission will be assisted by a Consultant to be selected by a tendering proced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</a:t>
            </a: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the thematic working group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1 "Strategic Planning &amp; Investments"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2 "Climate Change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3 "Cross-Border Cooperation on water, nature, EIA &amp; SEA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4 “Implementation and Enforcement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87440"/>
            <a:ext cx="8569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1 Strategic Planning &amp; Investm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trategic planning of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approximation proces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e.g approxim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Effective implement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enforcement of acquis including fina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Maintaining and updating a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regional list of priority environment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draft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investment and financing strategie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, exchange of information on financing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Public particip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in the planning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provid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tools for tracking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assessing progress in preparation for acc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pecific capacity building/information exchange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2 Climate Change</a:t>
            </a:r>
            <a:br>
              <a:rPr sz="3600"/>
            </a:b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eping the countries fully aware of developments in relation to Climate change policy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paring countries for implementing EU Climate Change requirements once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activities may include; creation of inventories, development of strategies, establishment of ETS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ticular attention will be given to adaptation and mit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3 Cross-Border Cooperation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291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ure Protec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cluding Natura 2000 preparations in a transboundary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ater Manage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ransboundary context , including the Water Framework dir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ublic participati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relation to the above areas as well as general requirements on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vironmental Impact Assess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EIA),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rategic Environmental Assess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EA) and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mplementation of the Aarhus Con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4 Environmental Compliance and Enforcement Network for Accession (ECENA)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CENA established in 2005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change best practices on implementation and enforcement of environmental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sion of ECENA in RENA will allow the work on implementation and enforcement to be more closely linked with other pre-accession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5:36:59Z</dcterms:created>
  <dc:creator>Sieber Andrea</dc:creator>
  <dc:description/>
  <dc:language>en-US</dc:language>
  <cp:lastModifiedBy>fiedljo</cp:lastModifiedBy>
  <dcterms:modified xsi:type="dcterms:W3CDTF">2008-11-18T11:23:56Z</dcterms:modified>
  <cp:revision>3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