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6208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5628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27240" y="875628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D9D237-DD11-4B82-A4BE-26DE86BF7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2280" y="4379400"/>
            <a:ext cx="5549760" cy="4148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Step Forward in rais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ddit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cessional financing for climate change mitigation and adaptation. This is the second pillar of the Strategic Framework on Climate Change and Development (SFCC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orldbank.org/climatecon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F4D1-87B5-4AAF-B460-14FDCA55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CA05-0354-4611-8849-A8CA1448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900-9B56-45E3-AD90-490D91DD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17A7-7474-495D-BCB9-BF303F80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F03-238B-4873-8F0E-B581FDA6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F0E4-0576-46ED-A845-3736F6C0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8A71-5E92-4032-85FD-58F2C3FF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EDBF-2BF0-4A4D-B65E-2147DF7E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DC6A-EFFD-4BFD-80B1-3F786AF8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4A4-46F3-44DB-84F9-1FA4F04D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F9D-2110-44BC-9DCB-87582861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B17A-9B05-49E2-B47A-082CFB4F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625D-49EC-4B00-AD9C-4D206AC0C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mate Investment F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639-2427-48B0-95C4-7CC560CFBA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Trust Fund Committee to approve investment criteria and financing terms in 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Plan joint mission will commence in November/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likely to consider funding proposals in earl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46A-E591-4701-8803-40463C4601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28191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7258-8E99-4EA9-AEE0-636654A5DF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Building on New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 Environmental Transformation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 Cool Earth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B, AfDB, EBRD, IDB and the WBG joined forces to establish a portfolio of funds to scale up investments to address the challenges of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64771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934320" y="64008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6880" y="36576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Joining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3AE-61D7-46B5-8E00-7AE2A2D9D4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IF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 skills and capabilities of MDBs to deliver financing at significant scale to unleash the potential of the public and private sectors to address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ment other multilateral financial mechanisms, such as GEF and Adaptation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a “sunset clause” to avoid pre-judging a future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together number of emerging initiatives to address climate change – providing coherence and avoiding proliferation of many smal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435-F54F-4B4F-924A-A3038A4E63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IF:  Two New Trust F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 Technology Fund:  will provide scaled-up financing to contribute to demonstration, deployment and transfer of low-carbon technologies with a significant potential for long-term greenhouse gas emissions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ic Climate Funds:  broader and more flexible in scope – overarching fund to support various programs to test innovative approaches to clima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5389-3245-41C9-8FC0-C1443F7D9D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57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419720"/>
            <a:ext cx="1143000" cy="220968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SCF Program 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tructure of Two Funds </a:t>
            </a:r>
            <a:br>
              <a:rPr sz="3200"/>
            </a:b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2362320"/>
            <a:ext cx="7315200" cy="4597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743040" indent="-285840" algn="ctr"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rtnership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971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63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505320"/>
            <a:ext cx="2971800" cy="38088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3200400"/>
            <a:ext cx="3276720" cy="38088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rategic Climate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038480"/>
            <a:ext cx="2971800" cy="3812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 contributors/ 5 recipi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4419720"/>
            <a:ext cx="1143000" cy="2209680"/>
          </a:xfrm>
          <a:prstGeom prst="rect">
            <a:avLst/>
          </a:prstGeom>
          <a:solidFill>
            <a:srgbClr val="9933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Pilot Program for </a:t>
            </a: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Climate Resilience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4419720"/>
            <a:ext cx="1143000" cy="2209680"/>
          </a:xfrm>
          <a:prstGeom prst="rect">
            <a:avLst/>
          </a:prstGeom>
          <a:solidFill>
            <a:srgbClr val="3333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F Program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200400"/>
            <a:ext cx="3276720" cy="3808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648320"/>
            <a:ext cx="3276720" cy="19810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ers from organizations with mandates to provide investment in clean technology, such as GEF and observer from UN for broad strategic discus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2590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581280"/>
            <a:ext cx="2590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14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81280"/>
            <a:ext cx="3124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to include 8 representatives from donors, 8 representatives from recipient countries; the country whose program or project is under consideration; representative of  World Bank; representative of MDBs on rotating ba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581280"/>
            <a:ext cx="3124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8 representatives from donors, 8 representatives from recipient countries, representatives from  World Bank, representatives from MDBs on a rotating basis, observers from GEF, UNEP, UNFCCC and civil societ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F will focus on high abatement opportunities at the country level - could also support sub-regional and regiona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dges:  US$5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echnology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of investments in the power and transport sectors as well as energy efficiency in buildings, industry and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s blend/suite of concessional financing instruments (grants, concessional loans) and risk mitigation instruments (guarante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A6D0-7540-4961-957F-92DD0391B4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ry Eligibilit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A- elig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ctive MDB country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eria to prioritize programs and projects to be agreed by Trust Fund Committee to allow an assessment of transformative potential and to maximize GHG reductions per dollar sp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nificant GHG saving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stration potential at sca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impact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D0B-8BD5-490B-A108-F3FB7F0A00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in National-Level Market Low-carbon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2171880" y="2565360"/>
          <a:ext cx="4800600" cy="3600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1880" y="2565360"/>
                    <a:ext cx="48006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4D9-B34F-4EE9-A85C-F061A682EC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Procedures for Approving CIF Fin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:  Trust Fund Committee will review investment plans and will approve use of CTF funds for projects and programs at pre-appraisal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perations financed by an MDB will follow the MDB’s operational polici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45D-C841-4060-B9F2-EC5FA83D15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5:23:34Z</dcterms:created>
  <dc:creator>Wb318597</dc:creator>
  <dc:description/>
  <dc:language>en-US</dc:language>
  <cp:lastModifiedBy>WB145722</cp:lastModifiedBy>
  <dcterms:modified xsi:type="dcterms:W3CDTF">2008-10-22T17:52:48Z</dcterms:modified>
  <cp:revision>336</cp:revision>
  <dc:subject/>
  <dc:title>Towards A Strategic Framework on Climate Change for  the World Bank Group</dc:title>
</cp:coreProperties>
</file>