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084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4760" y="148392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692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084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4760" y="3477240"/>
            <a:ext cx="252720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8840" y="347724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8840" y="1483920"/>
            <a:ext cx="3830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920" y="3477240"/>
            <a:ext cx="78487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courbe"/>
          <p:cNvPicPr/>
          <p:nvPr/>
        </p:nvPicPr>
        <p:blipFill>
          <a:blip r:embed="rId2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Picture 54" descr=""/>
          <p:cNvPicPr/>
          <p:nvPr/>
        </p:nvPicPr>
        <p:blipFill>
          <a:blip r:embed="rId3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6" descr=""/>
          <p:cNvPicPr/>
          <p:nvPr/>
        </p:nvPicPr>
        <p:blipFill>
          <a:blip r:embed="rId4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7" descr=""/>
          <p:cNvPicPr/>
          <p:nvPr/>
        </p:nvPicPr>
        <p:blipFill>
          <a:blip r:embed="rId5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0"/>
          <p:cNvSpPr/>
          <p:nvPr/>
        </p:nvSpPr>
        <p:spPr>
          <a:xfrm>
            <a:off x="-42840" y="-34920"/>
            <a:ext cx="9294840" cy="5776920"/>
          </a:xfrm>
          <a:prstGeom prst="pie">
            <a:avLst/>
          </a:prstGeom>
          <a:solidFill>
            <a:srgbClr val="4e8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1" descr="courbe"/>
          <p:cNvPicPr/>
          <p:nvPr/>
        </p:nvPicPr>
        <p:blipFill>
          <a:blip r:embed="rId2"/>
          <a:srcRect l="764" t="0" r="1168" b="21872"/>
          <a:stretch/>
        </p:blipFill>
        <p:spPr>
          <a:xfrm>
            <a:off x="0" y="5229360"/>
            <a:ext cx="9142560" cy="1630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8" descr=""/>
          <p:cNvPicPr/>
          <p:nvPr/>
        </p:nvPicPr>
        <p:blipFill>
          <a:blip r:embed="rId3"/>
          <a:stretch/>
        </p:blipFill>
        <p:spPr>
          <a:xfrm>
            <a:off x="6886440" y="6165720"/>
            <a:ext cx="2016360" cy="28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5" descr=""/>
          <p:cNvPicPr/>
          <p:nvPr/>
        </p:nvPicPr>
        <p:blipFill>
          <a:blip r:embed="rId4"/>
          <a:stretch/>
        </p:blipFill>
        <p:spPr>
          <a:xfrm>
            <a:off x="324000" y="6161040"/>
            <a:ext cx="568080" cy="561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7" descr=""/>
          <p:cNvPicPr/>
          <p:nvPr/>
        </p:nvPicPr>
        <p:blipFill>
          <a:blip r:embed="rId5"/>
          <a:stretch/>
        </p:blipFill>
        <p:spPr>
          <a:xfrm>
            <a:off x="7192800" y="6499080"/>
            <a:ext cx="1403640" cy="169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2" marL="1406520" indent="-228600">
              <a:spcBef>
                <a:spcPts val="499"/>
              </a:spcBef>
              <a:spcAft>
                <a:spcPts val="499"/>
              </a:spcAft>
              <a:buClr>
                <a:srgbClr val="006c9a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3" marL="1814400" indent="-228600">
              <a:spcBef>
                <a:spcPts val="499"/>
              </a:spcBef>
              <a:spcAft>
                <a:spcPts val="499"/>
              </a:spcAft>
              <a:buClr>
                <a:srgbClr val="82cbee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222640" indent="-228600">
              <a:spcBef>
                <a:spcPts val="499"/>
              </a:spcBef>
              <a:spcAft>
                <a:spcPts val="499"/>
              </a:spcAft>
              <a:buClr>
                <a:srgbClr val="80808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22264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32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Verdana"/>
              </a:rPr>
              <a:t>IPA 2008 – support to environment</a:t>
            </a:r>
            <a:br>
              <a:rPr sz="3200"/>
            </a:b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russels, 18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Novembe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FIs AG working group on environment</a:t>
            </a:r>
            <a:endParaRPr b="1" lang="en-US" sz="24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3715920"/>
            <a:ext cx="7848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r>
              <a:rPr b="1" i="1" lang="en-GB" sz="2400" spc="-1" strike="noStrike">
                <a:solidFill>
                  <a:srgbClr val="006c9a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Turkey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67328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The REACH Chemicals Project  (2.25 mln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mproving Emissions Control  (1.9 mln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to transpose and implement National Emission Ceilings Directive (2001/81/EC) in Turkey.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ntegrated Pollution Prevention and Control (2.3)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reform of the administrative, legal and technical structures to implement integrated environmental permitting systems/procedures for IPPC installations in Turkey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Mining Waste Management (4 mnl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-360"/>
            <a:ext cx="78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172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oanna Fiedler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sk Officer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 with IFIs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rbia and Syria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urkey investments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ordinator of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ISPA/PHARE/CARDS/ IPA </a:t>
            </a:r>
            <a:br>
              <a:rPr sz="2000"/>
            </a:b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t for Enlargement and Neighbouring Countries</a:t>
            </a:r>
            <a:br>
              <a:rPr sz="2000"/>
            </a:b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ropean Commission – DG Environmen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ail: joanna.fiedler@ec.europa.eu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172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: 0032-2-2990310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Structure of IPA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385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51"/>
              </a:spcBef>
              <a:spcAft>
                <a:spcPts val="22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Component I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51"/>
              </a:spcBef>
              <a:spcAft>
                <a:spcPts val="22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Component II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51"/>
              </a:spcBef>
              <a:spcAft>
                <a:spcPts val="22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mponent III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51"/>
              </a:spcBef>
              <a:spcAft>
                <a:spcPts val="22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mponent IV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51"/>
              </a:spcBef>
              <a:spcAft>
                <a:spcPts val="225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mponent V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4360" y="1483920"/>
            <a:ext cx="385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00"/>
              </a:spcBef>
              <a:spcAft>
                <a:spcPts val="1100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1c1c"/>
                </a:solidFill>
                <a:latin typeface="Arial"/>
              </a:rPr>
              <a:t>Transition Assistance and Institution Building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00"/>
              </a:spcBef>
              <a:spcAft>
                <a:spcPts val="1100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c1c1c"/>
                </a:solidFill>
                <a:latin typeface="Arial"/>
              </a:rPr>
              <a:t>Cross-border Co-operation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00"/>
              </a:spcBef>
              <a:spcAft>
                <a:spcPts val="200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Regional development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00"/>
              </a:spcBef>
              <a:spcAft>
                <a:spcPts val="130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uman resources development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00"/>
              </a:spcBef>
              <a:spcAft>
                <a:spcPts val="130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Rural development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421000"/>
            <a:ext cx="7345080" cy="2952720"/>
          </a:xfrm>
          <a:prstGeom prst="ellipse">
            <a:avLst/>
          </a:prstGeom>
          <a:solidFill>
            <a:srgbClr val="ccffcc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 III, IV, V for Candidat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Component I </a:t>
            </a:r>
            <a:br>
              <a:rPr sz="2600"/>
            </a:b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Institution building and transition assistance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1c1c1c"/>
                </a:solidFill>
                <a:latin typeface="Arial"/>
              </a:rPr>
              <a:t>National programmes (environmental projects)</a:t>
            </a: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1c1c1c"/>
                </a:solidFill>
                <a:latin typeface="Arial"/>
              </a:rPr>
              <a:t>Regional and horizontal programmes (multi-beneficiary programmes)  environmental projects</a:t>
            </a: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1c1c1c"/>
                </a:solidFill>
                <a:latin typeface="Arial"/>
              </a:rPr>
              <a:t>Status in November – approved by IPA Committee awaiting Commission decision </a:t>
            </a: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1c1c1c"/>
                </a:solidFill>
                <a:latin typeface="Arial"/>
              </a:rPr>
              <a:t>Presenting an overview of main environmental projects in IPA Component I – details in the Commission Decisions – DG ELARG web site. </a:t>
            </a:r>
            <a:endParaRPr b="1" lang="en-US" sz="1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Verdana"/>
              </a:rPr>
              <a:t>Albania</a:t>
            </a:r>
            <a:endParaRPr b="1" lang="en-US" sz="28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01"/>
              </a:spcBef>
              <a:spcAft>
                <a:spcPts val="60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Arial"/>
              </a:rPr>
              <a:t>Consolidation of the Environmental Monitoring system in Albania (2.0 mln Euro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Improvement of environmental data quality through expansion and consolidation of a sustainable, integrated and </a:t>
            </a:r>
            <a:r>
              <a:rPr b="1" lang="en-GB" sz="2000" spc="-1" strike="noStrike" u="sng">
                <a:solidFill>
                  <a:srgbClr val="1c1c1c"/>
                </a:solidFill>
                <a:uFillTx/>
                <a:latin typeface="Arial"/>
              </a:rPr>
              <a:t>effective environmental monitoring system</a:t>
            </a: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 capable of using the environmental norms and directives of EU as a general reference framework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Bosnia and Herzegovina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86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0f0f"/>
                </a:solidFill>
                <a:latin typeface="Arial"/>
              </a:rPr>
              <a:t>Strengthening of Bosnia and Herzegovina Environmental Institutions, preparation for pre-accession funds and support to environmental infrastructure development   (4 mln Euro)</a:t>
            </a: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0f0f"/>
                </a:solidFill>
                <a:latin typeface="Arial"/>
              </a:rPr>
              <a:t>Component 1 – capacity building on project preparation</a:t>
            </a: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-374760">
              <a:spcBef>
                <a:spcPts val="499"/>
              </a:spcBef>
              <a:spcAft>
                <a:spcPts val="499"/>
              </a:spcAft>
              <a:buClr>
                <a:srgbClr val="4f8851"/>
              </a:buClr>
              <a:buSzPct val="8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0f0f"/>
                </a:solidFill>
                <a:latin typeface="Arial"/>
              </a:rPr>
              <a:t>Component 2 – support to needed investments project (project preparation actions)</a:t>
            </a: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lvl="1" marL="998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0f0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Croatia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Enforcement of the new Environmental Protection Act harmonised with EU legislation in cases of criminal offences against the environment (1.045 mln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Former Yugoslav Republic of Macedonia</a:t>
            </a:r>
            <a:endParaRPr b="1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Strengthening the central and local level capacities for environmental management (EUR 3.1 mn)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Tahoma"/>
              </a:rPr>
              <a:t>Focus on waste management, IPPC, air quality, EIA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Montenegro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c1c1c"/>
                </a:solidFill>
                <a:latin typeface="Arial"/>
              </a:rPr>
              <a:t>Upgrading of Environmental Infrastructure</a:t>
            </a: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 (3.5 mnl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- Construction of the Niksic wastewater treatment plant to standards that meet EU Directives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- Supervision of the procurement and construction activities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- Training of operational and maintenance staff. Tariffs will be increased, taking account of affordability, to meet operating and maintenance costs. 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c1c1c"/>
                </a:solidFill>
                <a:latin typeface="Arial"/>
              </a:rPr>
              <a:t>Support for Environmental Management</a:t>
            </a: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  (1 mln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- EPA development, polluter register, awareness raising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Serbia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Hazardous waste management (1.5 mnl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Municipal Infrastructure support programme (45 mnl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(project preparation and implementation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Assistance in Implementing of Chemical Management System  (1.5 mln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f71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c1c1c"/>
                </a:solidFill>
                <a:latin typeface="Arial"/>
              </a:rPr>
              <a:t>Environmental Protection at Thermal Power Plants (11 mln euro)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1c1c1c"/>
                </a:solidFill>
                <a:latin typeface="Tahoma"/>
              </a:rPr>
              <a:t>Kosovo under UNSC 1244/99</a:t>
            </a:r>
            <a:endParaRPr b="1" lang="en-US" sz="2600" spc="-1" strike="noStrike">
              <a:solidFill>
                <a:srgbClr val="1c1c1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01"/>
              </a:spcBef>
              <a:spcAft>
                <a:spcPts val="601"/>
              </a:spcAft>
              <a:buClr>
                <a:srgbClr val="9f713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c1c1c"/>
                </a:solidFill>
                <a:latin typeface="Arial"/>
              </a:rPr>
              <a:t>Improving Environment</a:t>
            </a:r>
            <a:r>
              <a:rPr b="1" lang="en-GB" sz="2400" spc="-1" strike="noStrike">
                <a:solidFill>
                  <a:srgbClr val="1c1c1c"/>
                </a:solidFill>
                <a:latin typeface="Arial"/>
              </a:rPr>
              <a:t>  (18 mln Euro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c1c1c"/>
                </a:solidFill>
                <a:latin typeface="Arial"/>
              </a:rPr>
              <a:t>Drinking water supply is improved in Mitrovica and Pristina regions and remaining dumpsites are  to be closed.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21:49:04Z</dcterms:created>
  <dc:creator>JB</dc:creator>
  <dc:description/>
  <dc:language>en-US</dc:language>
  <cp:lastModifiedBy>fiedljo</cp:lastModifiedBy>
  <dcterms:modified xsi:type="dcterms:W3CDTF">2008-11-18T11:23:21Z</dcterms:modified>
  <cp:revision>101</cp:revision>
  <dc:subject/>
  <dc:title>Slide 1</dc:title>
</cp:coreProperties>
</file>