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B19E-7B25-4ABC-AF40-25A98AC0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E5C-98B3-4F89-80EA-7E5F8F50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B600-4D14-4012-94AE-7B5A802A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B987-0B10-4B87-BD4E-CE30AC21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2626-472D-4060-9376-E0ADEE87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C9FA-C406-498A-BAD2-CB24A379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2C9A-0614-4476-B29C-EEEA91E9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E969-C755-46E2-9C6A-67D6771E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0E67-0D19-4260-85A4-2118E9F6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AC63-4EAD-4693-83D0-5779B8D0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CC4C-94DE-4A16-BAF5-07963C4C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AD7-4C75-46F4-B673-7DAC1198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17AA-C5AB-4086-A60A-E0F67DC2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515D-3F99-446A-BE7F-442D03BF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9161-AAEA-484F-B20F-109E858B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B7F6-CD1F-4CF9-94EC-52F37816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D7A0-F2BE-4A8F-84DF-D3000E2E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BB1-F676-4D31-B868-C39BDCFC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188B-9652-457D-A84D-9CA1DE40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4F47-317D-4F45-A1EE-9F786353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5C55-50AC-4FEF-AD80-38BCA4CE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8987-AF79-43EB-8E62-96A43C99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B7F8-DB4C-4207-AA1D-084815C9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5617-C02A-4D1C-9D30-A3F81032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81B8-8DAD-4CE9-8BEB-63272BC0340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1FE6-DDCC-42B9-97D4-26B5006DFA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croeconomic Developments: Western Balka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I Advisory Group Video Confer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cember 15, 200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tional Monetary Fu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our them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d of a strong-growth/stable-inflation period in Western Balkan (SEE) countr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od internal balance outcomes came at the cost of rising external/financial stability risks. Crisis is now “unmasking” these risk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hindsight, past fiscal policy behavior was quite procyclica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thinking of macro outlook: work in progress, along several dimens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owth in SEE has been strong, and inflation performance satisfactor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32448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..but internal balance came at the cost of large and growing external imbalances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324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... and growing risks to financial stability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286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hindsight, fiscal policy stance was procyclical. Implication: Now no scope for countercyclical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752480"/>
            <a:ext cx="6477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 very different environment has shaped up over the last few months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ding partner import growth dow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(still) V-shaped recovery in 201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mittances: downside ris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s of trade: metals vs. energ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no “Ukraine-style” meltdow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ital inflows smaller and more cost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how fas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ere we are in terms of macro outlook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owth: V-shaped, but rethinking seems underwa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flation: stable/re-assuring, but what role will exchange rate play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ternal imbalances: little adjustment projected, but how realistic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20:26:28Z</dcterms:created>
  <dc:creator>Tokhir Mirzoev</dc:creator>
  <dc:description/>
  <dc:language>en-US</dc:language>
  <cp:lastModifiedBy>bodinol</cp:lastModifiedBy>
  <dcterms:modified xsi:type="dcterms:W3CDTF">2008-12-19T18:44:44Z</dcterms:modified>
  <cp:revision>11</cp:revision>
  <dc:subject/>
  <dc:title>Macroeconomic Developments: Western Balk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