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414D-133A-42BB-B66D-CBAB27A4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7417-B72F-42A6-8FF5-779DC9D3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4967-9C46-4FB0-9292-DE06B0C1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22860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16584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10272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2C63-00D7-4094-8904-BADA09EB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D311-D86B-4903-AFC4-86FA05DA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81BB-1ED2-4958-AD0E-68F4F86C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C164-C78C-430C-BA7B-EF39D003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8D79-7A1C-456B-B06D-AE0A8411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E1C9-2ED8-4AD3-AFB2-A299EBB6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81B9-FF44-4493-8FEA-7CDC3027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EEB4-D449-4138-89B3-B2B724F9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91A7-F036-4737-BBD5-0C82E970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7889-842F-42E4-92B3-40A0405C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3ECE-AA2C-4406-87DC-B5AF4650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EA2D-6B86-46B0-8FB6-5CF4EBA5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B41B-309F-4A89-8450-CFAB8EAD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22860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16584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10272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5AC4-0D67-46E0-9AFB-B8A8C0B3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D748-50CD-4552-9F8B-7E01C202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9225-BCA1-4C9A-AC99-22640243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82C8-0C42-4222-99F5-BE74BE25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C23E-10B0-4F04-8109-71A5EBE0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D07E-7671-405A-930E-A4052F76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C32B-FADA-4484-9DFE-0FE26B28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936D-DE9E-4183-B02B-B66587F3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26FB-082E-495C-9D43-36671ECC93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8305920" y="594360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D5F5-A929-4456-9431-4638146BCE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496360" y="6210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IFI Advisory Group meeting: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The Financial crisis – Current view and preparation for Plenary session</a:t>
            </a:r>
            <a:br>
              <a:rPr sz="36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conomic Crisis: the regional outlook and fiscal space for crisis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rnard Funck, World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u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ember 15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velopments in steel sector illustrate broader challeng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ly, steel production is being cut significantly as price of hot rolled steel coil has fallen to almost $400 per ton, from near $1200 earlier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of steel industry in exports and employment is sizeable in Macedonia (37% of exports), Serbia (25%), Montenegro and Albania (20%) and BiH (1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s already being cut in Albania and Macedonia, significant decrease in production announced in Albania, BiH and Maced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edonia most severely hit: production of metals (11% share in industrial output and employment) fell by 38% y-o-y in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urkey, automotive industry is hurt badly from reduced demand (Turkey is net importer of ste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2438280"/>
          <a:ext cx="8991720" cy="271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38280"/>
                    <a:ext cx="899172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51814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fixed exchange rates in most economies, much of the burden of adjustment on fiscal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304920"/>
            <a:ext cx="7620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omestic response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295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rtia in wage setting following rapid wage growth (real wage growth ranging from 5% per annum in BiH to 12% in Ser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xternal imbalances may correct only slowl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p improvement of CAB (as % of GDP) only expected for Monteneg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ss external financing needs (as % of GDP) are expected to increase or remain high in most econo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l over of corporate (and banking) debt in Turkey adds to uncertainty on external financing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962520" y="3621240"/>
          <a:ext cx="5181480" cy="224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621240"/>
                    <a:ext cx="51814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3962520" y="1600200"/>
          <a:ext cx="5181480" cy="2131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1600200"/>
                    <a:ext cx="518148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clusion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respond to the tightening of financial markets, policy makers need to take measur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maintain prudent fiscal 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engthen ban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untries may seek to shift funding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xist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la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rom private sources (including PPPs and lines of cred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official sources, including IF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IBRD financing of South Africa’s power development pla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 turn to them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 fact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ebt refinanc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bt performances are expected to be mixed among the SEE economi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333440"/>
          <a:ext cx="7467480" cy="29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33440"/>
                    <a:ext cx="74674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57200" y="3581280"/>
          <a:ext cx="7467480" cy="2925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581280"/>
                    <a:ext cx="746748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ten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ent Economic Developments in SEE and Tur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erging vulnerabilities from the cri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look and risks for SEE and Tur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acroeconomic trends improved in recent years throughout the reg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growth has been healthy: GDP grew by around 5% in 2000-06; growth peaked in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2007, all SEEs and Turkey had either reduced fiscal deficits or moved to surpluses, reflecting greater government commitment to fiscal responsibility (while decreasing tax r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2003 and 2007, public debt/GDP was cut in all countries except BiH, sometimes substantially (achieved through GDP growth, stronger policy efforts, real appreciation and prepayment of de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ing pressures have reemerged strongly in 2008 (e.g., Serbia, Macedonia, Turke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36972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 vulnerabilities remain and new imbalances have emerge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st SEE economies have one or more macroeconomic vulnerabiliti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46483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441972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urrent account deficits worsened in all economies except BiH (which had high CAD) between 2003 and 2007 (1-3 percentage points in Albania, Croatia, Macedonia, Kosovo and Turkey, 9 pp in Serbia and 33 pp in Montenegr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343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merging vulnerabilities from the crisis and potential impac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and Turkey faced with three shocks as a result of the crisi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) global demand slowd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i) drying up of external finan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ii) falling commodity pr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 remittances (Albania, BiH, Macedonia and Kosovo have substantial remittance inflow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1752480"/>
            <a:ext cx="136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$ bill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2136600"/>
          <a:ext cx="7391160" cy="41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6600"/>
                    <a:ext cx="739116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2057400" y="1600200"/>
            <a:ext cx="4724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t private debt and equity 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990-2007, projected 2008-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72400" y="1752480"/>
            <a:ext cx="83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Per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66880" y="2971800"/>
            <a:ext cx="2097360" cy="5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cent of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right ax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6845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ivate capital flows expected to decline furthe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64087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teriorating external environmen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358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private credit growth has been to large extent funded by bank-led capital in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 are facing slowdown of inflows and higher interest rates (Croatia’s CDS spread up by over 400 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s of European banks dominating the region also r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809880" y="2514600"/>
          <a:ext cx="5334120" cy="25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514600"/>
                    <a:ext cx="53341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ownward trends are beginning to emerge in most economi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342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tober statistics rais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red flag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several countries, in particular Croatia, Montenegro, Macedo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457200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ction and tourism sectors may also be hit hard (no data available yet plus effects there come with a time la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429000" y="1752480"/>
          <a:ext cx="5715000" cy="27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752480"/>
                    <a:ext cx="5715000" cy="27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GDP growth is projected to slow down in 2009 throughout SEE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8600" y="1719360"/>
          <a:ext cx="8686800" cy="41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19360"/>
                    <a:ext cx="8686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2:59:37Z</dcterms:created>
  <dc:creator>Teuta Kacaniku</dc:creator>
  <dc:description/>
  <dc:language>en-US</dc:language>
  <cp:lastModifiedBy>wb296747</cp:lastModifiedBy>
  <dcterms:modified xsi:type="dcterms:W3CDTF">2008-12-15T11:47:26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05763783</vt:r8>
  </property>
  <property fmtid="{D5CDD505-2E9C-101B-9397-08002B2CF9AE}" pid="3" name="_AuthorEmail">
    <vt:lpwstr>Ollivier.Bodin@ec.europa.eu</vt:lpwstr>
  </property>
  <property fmtid="{D5CDD505-2E9C-101B-9397-08002B2CF9AE}" pid="4" name="_AuthorEmailDisplayName">
    <vt:lpwstr>BODIN Ollivier (ELARG)</vt:lpwstr>
  </property>
  <property fmtid="{D5CDD505-2E9C-101B-9397-08002B2CF9AE}" pid="5" name="_EmailSubject">
    <vt:lpwstr>Temporary Webpage IFIAG</vt:lpwstr>
  </property>
  <property fmtid="{D5CDD505-2E9C-101B-9397-08002B2CF9AE}" pid="6" name="_NewReviewCycle">
    <vt:lpwstr/>
  </property>
</Properties>
</file>