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F79D-FF27-440D-862E-104205581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EEC7-61E3-406E-AD68-8195BEB3D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024E-2A7F-4994-ADC8-4B07EC90D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2D40-2F07-48E9-BFD9-B36E2E026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5328-92AA-482D-8E58-6EE1376C7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012C-E954-409A-B834-B8248CF5E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C8F5-606B-4684-A304-C35B28B87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0E6E-2889-4ABC-96D6-94D0E2F82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801D-B75D-45B6-A43D-B49288178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2F98-4D45-450F-B6CD-F316DB28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967D-CF49-441F-8DE5-A763339B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13E6-E861-45C9-90DF-A4F6A9D9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1888C-A5B5-4E42-BE03-98EF4570E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763120" y="6513480"/>
            <a:ext cx="38088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76312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C8A4F-A606-46F9-A743-0D6BF1632A4A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626920" y="4724280"/>
            <a:ext cx="6553080" cy="14414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56000" y="4724280"/>
            <a:ext cx="6624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PA CRISIS RESPPONSE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The Financial Cri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IFI Advisory Group, </a:t>
            </a:r>
            <a:r>
              <a:rPr b="0" i="1" lang="en-GB" sz="1400" spc="-1" strike="noStrike">
                <a:solidFill>
                  <a:srgbClr val="ffffff"/>
                </a:solidFill>
                <a:latin typeface="Arial"/>
              </a:rPr>
              <a:t>15 December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6513480"/>
            <a:ext cx="38088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6312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11FB2-D15B-41A4-A04D-96640859BD29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78920" y="232200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7120" indent="-609480"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99"/>
                </a:solidFill>
                <a:latin typeface="Arial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04880" indent="-533160"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ase constraints of financial institutions to continue lending to 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604880" indent="-533160"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celerate the implementation of highly needed municipal infrastructure invest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604880" indent="-533160"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cure sustaining finance in the field of energy efficien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604880" indent="-533160"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titution building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reforms &amp; measures to increase competitiv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60488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Mean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€120 million grant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€500 million loan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1480" y="7621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23640" y="549000"/>
            <a:ext cx="8280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00"/>
                </a:solidFill>
                <a:latin typeface="Arial"/>
              </a:rPr>
              <a:t>The IPA Crisis Response Package</a:t>
            </a:r>
            <a:br>
              <a:rPr sz="2800"/>
            </a:b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bjectives and mean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763120" y="6513480"/>
            <a:ext cx="38088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76312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90553-A26E-4B38-8BFD-23A1E6AB99B3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78920" y="232200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7120" indent="-609480">
              <a:lnSpc>
                <a:spcPct val="15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€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10 million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for micro-credits through EF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lnSpc>
                <a:spcPct val="15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€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10 million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for SME Loans through new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lnSpc>
                <a:spcPct val="15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€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30 million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for lending to increase Energy Efficiency through the EEFF (Energy Efficiency Finance Fac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lnSpc>
                <a:spcPct val="15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€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60 million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for Municipal inve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lnSpc>
                <a:spcPct val="15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€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6 million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for a Regional Competitiveness Program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lnSpc>
                <a:spcPct val="15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€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2 million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for strengthening cooperation between financial sector supervisors and regulators in South East Europe and the 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1480" y="7621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323640" y="549000"/>
            <a:ext cx="8280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The IPA Crisis Response Package</a:t>
            </a:r>
            <a:br>
              <a:rPr sz="3200"/>
            </a:b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Individual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-Beneficiary IPA Discussion                    Brussels, 21 Sept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763120" y="6513480"/>
            <a:ext cx="38088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76312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23907-F932-4AF4-831C-D3B860CB8803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78920" y="232200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7120" indent="-60948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Maximise visibility among business, investors and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Close cooperation with partner IFIs (EIB, EBRD, CEB, KfW, World Bank Group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Cooperation with OECD Investment Compact for competitiveness related 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Cooperation with European Central Bank and national central banks for financial sector and super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1480" y="7621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323640" y="549000"/>
            <a:ext cx="8280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The IPA Crisis Response Package</a:t>
            </a:r>
            <a:br>
              <a:rPr sz="3200"/>
            </a:b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Key Principles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-Beneficiary IPA Discussion                    Brussels, 21 Sept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8763120" y="6513480"/>
            <a:ext cx="38088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76312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2EE16-1FFC-4CFA-8477-260623257FFF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1480" y="7621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3640" y="2793600"/>
            <a:ext cx="8280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Meanwhile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-Beneficiary IPA Discussion                    Brussels, 21 Sept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8763120" y="6513480"/>
            <a:ext cx="38088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76312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C3720-F139-4A01-87EA-0F212F96679B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78920" y="232200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7120" indent="-60948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Accelerate implementation of ongoing programmes, particularly for infrastructure investment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IPF endowed already with significant resources: €87 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04880" indent="-53316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IPF – TA Window: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€ 16 million + € 16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604880" indent="-53316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IPF - Municipal Window: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€ 24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604880" indent="-53316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99"/>
                </a:solidFill>
                <a:latin typeface="Arial"/>
              </a:rPr>
              <a:t>IPF Kosovo Window: </a:t>
            </a:r>
            <a:r>
              <a:rPr b="1" lang="fr-BE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fr-BE" sz="1800" spc="-1" strike="noStrike">
                <a:solidFill>
                  <a:srgbClr val="000099"/>
                </a:solidFill>
                <a:latin typeface="Arial"/>
              </a:rPr>
              <a:t>€24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604880" indent="-53316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99"/>
                </a:solidFill>
                <a:latin typeface="Arial"/>
              </a:rPr>
              <a:t>IPF Albania Window: </a:t>
            </a:r>
            <a:r>
              <a:rPr b="1" lang="fr-BE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fr-BE" sz="1800" spc="-1" strike="noStrike">
                <a:solidFill>
                  <a:srgbClr val="000099"/>
                </a:solidFill>
                <a:latin typeface="Arial"/>
              </a:rPr>
              <a:t>€7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1480" y="7621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323640" y="549000"/>
            <a:ext cx="8280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The IPA Crisis Response Package</a:t>
            </a:r>
            <a:br>
              <a:rPr sz="3200"/>
            </a:b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Focus on short-te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-Beneficiary IPA Discussion                    Brussels, 21 Sept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900880" y="2882880"/>
            <a:ext cx="3443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8:42:32Z</dcterms:created>
  <dc:creator>Caitriona Ni Raghallaigh</dc:creator>
  <dc:description/>
  <dc:language>en-US</dc:language>
  <cp:lastModifiedBy>bummado</cp:lastModifiedBy>
  <dcterms:modified xsi:type="dcterms:W3CDTF">2008-12-15T12:18:35Z</dcterms:modified>
  <cp:revision>12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06793237</vt:r8>
  </property>
  <property fmtid="{D5CDD505-2E9C-101B-9397-08002B2CF9AE}" pid="3" name="_AuthorEmail">
    <vt:lpwstr>Domenica.BUMMA@ext.ec.europa.eu</vt:lpwstr>
  </property>
  <property fmtid="{D5CDD505-2E9C-101B-9397-08002B2CF9AE}" pid="4" name="_AuthorEmailDisplayName">
    <vt:lpwstr>BUMMA Domenica (ELARG-EXT)</vt:lpwstr>
  </property>
  <property fmtid="{D5CDD505-2E9C-101B-9397-08002B2CF9AE}" pid="5" name="_EmailSubject">
    <vt:lpwstr>Temporary Webpage IFIAG</vt:lpwstr>
  </property>
  <property fmtid="{D5CDD505-2E9C-101B-9397-08002B2CF9AE}" pid="6" name="_NewReviewCycle">
    <vt:lpwstr/>
  </property>
  <property fmtid="{D5CDD505-2E9C-101B-9397-08002B2CF9AE}" pid="7" name="_PreviousAdHocReviewCycleID">
    <vt:r8>-584475454</vt:r8>
  </property>
</Properties>
</file>