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0DD5-C725-4385-B5BE-369971B21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28600" y="387540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5246-0C95-4028-A810-79746D97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800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8969-C3FE-48DB-8FEC-DBA9F310E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22860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16584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10272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8099-1DCA-4C9B-8622-1EAF95363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68A0-9D19-4B95-8428-66C9F56B5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5031-D764-48EC-8434-73FCB8D4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15AA-8292-410B-8020-CFAC4B85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0AFC-9409-401E-ACE8-70A54610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DEC2-BC10-44CC-AF17-2DD16554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10F4-77A1-460F-95C8-F5D14694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4231A-8A60-4E26-8F0C-9AAB100B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94D6-28B3-47D2-A2E6-6D805394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800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8815-46E6-4BE0-B753-1D024E17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1B309-335E-4483-9783-6DBC12F6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28600" y="387540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CA46-2374-4210-A41F-4F43ACD0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800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0729-ED78-4931-9FEB-FC8197E2C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22860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16584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10272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0E7D2-54FA-4D88-8AE9-2F3D0C030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3357-2896-4A4D-8E24-EFEDD0CA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43B8-E804-400B-8D3D-FD81D647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2E02-B641-4894-A75A-11615CCF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D024-8514-44F7-A74F-C8D6CD65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A57E-F80F-4392-BA66-6E72B764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800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1522-E0CA-4BD9-9931-D60B8035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96C6-5B76-4E7C-B338-BDBFEEF5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F161-5944-4723-A82D-A4246B01A96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" name="" descr=""/>
          <p:cNvPicPr/>
          <p:nvPr/>
        </p:nvPicPr>
        <p:blipFill>
          <a:blip r:embed="rId2"/>
          <a:stretch/>
        </p:blipFill>
        <p:spPr>
          <a:xfrm>
            <a:off x="8305920" y="594360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C577-A785-468A-BE47-8141248D21B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1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496360" y="621036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6781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IFI Advisory Group meeting:</a:t>
            </a: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The Financial crisis – Current view and preparation for Plenary session</a:t>
            </a:r>
            <a:br>
              <a:rPr sz="3600"/>
            </a:b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48880" y="3049200"/>
            <a:ext cx="624852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conomic Crisis: the regional outlook and fiscal space for crisis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rnard Funck, World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ru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cember 15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evelopments in steel sector illustrate broader challeng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ly, steel production is being cut significantly as price of hot rolled steel coil has fallen to almost $400 per ton, from near $1200 earlier in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of steel industry in exports and employment is sizeable in Macedonia (37% of exports), Serbia (25%), Montenegro and Albania (20%) and BiH (14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s already being cut in Albania and Macedonia, significant decrease in production announced in Albania, BiH and Maced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edonia most severely hit: production of metals (11% share in industrial output and employment) fell by 38% y-o-y in Octo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urkey, automotive industry is hurt badly from reduced demand (Turkey is net importer of ste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2438280"/>
          <a:ext cx="8991720" cy="271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38280"/>
                    <a:ext cx="8991720" cy="27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2280" y="51814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fixed exchange rates in most economies, much of the burden of adjustment on fiscal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304920"/>
            <a:ext cx="7620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omestic responses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12952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rtia in wage setting following rapid wage growth (real wage growth ranging from 5% per annum in BiH to 12% in Serb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xternal imbalances may correct only slowly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p improvement of CAB (as % of GDP) only expected for Monteneg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ss external financing needs (as % of GDP) are expected to increase or remain high in most econom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l over of corporate (and banking) debt in Turkey adds to uncertainty on external financing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962520" y="3621240"/>
          <a:ext cx="5181480" cy="224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3621240"/>
                    <a:ext cx="518148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3962520" y="1600200"/>
          <a:ext cx="5181480" cy="2131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1600200"/>
                    <a:ext cx="5181480" cy="21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nclusion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respond to the tightening of financial markets, policy makers need to take measur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maintain prudent fiscal pos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engthen ban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untries may seek to shift funding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xist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pla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rom private sources (including PPPs and lines of cred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official sources, including IFI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mple: IBRD financing of South Africa’s power development pla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 turn to them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de fact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debt refinanc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ebt performances are expected to be mixed among the SEE economi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57200" y="1333440"/>
          <a:ext cx="7467480" cy="295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33440"/>
                    <a:ext cx="746748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457200" y="3581280"/>
          <a:ext cx="7467480" cy="2925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581280"/>
                    <a:ext cx="7467480" cy="29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ntent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ent Economic Developments in SEE and Turk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erging vulnerabilities from the cri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tlook and risks for SEE and Turk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Macroeconomic trends improved in recent years throughout the reg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growth has been healthy: GDP grew by around 5% in 2000-06; growth peaked in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2007, all SEEs and Turkey had either reduced fiscal deficits or moved to surpluses, reflecting greater government commitment to fiscal responsibility (while decreasing tax ra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2003 and 2007, public debt/GDP was cut in all countries except BiH, sometimes substantially (achieved through GDP growth, stronger policy efforts, real appreciation and prepayment of deb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nding pressures have reemerged strongly in 2008 (e.g., Serbia, Macedonia, Turke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369720"/>
            <a:ext cx="777240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Key vulnerabilities remain and new imbalances have emerged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st SEE economies have one or more macroeconomic vulnerabiliti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464832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4419720"/>
            <a:ext cx="8686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urrent account deficits worsened in all economies except BiH (which had high CAD) between 2003 and 2007 (1-3 percentage points in Albania, Croatia, Macedonia, Kosovo and Turkey, 9 pp in Serbia and 33 pp in Montenegr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590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4343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merging vulnerabilities from the crisis and potential impac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E and Turkey faced with three shocks as a result of the crisi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i) global demand slowdow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ii) drying up of external financ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iii) falling commodity pr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ss remittances (Albania, BiH, Macedonia and Kosovo have substantial remittance inflow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85800" y="1752480"/>
            <a:ext cx="136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$ bill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33520" y="2136600"/>
          <a:ext cx="7391160" cy="418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6600"/>
                    <a:ext cx="7391160" cy="41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2057400" y="1600200"/>
            <a:ext cx="47242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et private debt and equity f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990-2007, projected 2008-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772400" y="1752480"/>
            <a:ext cx="83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Perc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66880" y="2971800"/>
            <a:ext cx="2097360" cy="5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cent of G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right ax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6845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rivate capital flows expected to decline further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6408720"/>
            <a:ext cx="31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: World Ban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eteriorating external environmen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3581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7e9ce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 private credit growth has been to large extent funded by bank-led capital inf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7e9ce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ies are facing slowdown of inflows and higher interest rates (Croatia’s CDS spread up by over 400 b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7e9ce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ads of European banks dominating the region also r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809880" y="2514600"/>
          <a:ext cx="5334120" cy="251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514600"/>
                    <a:ext cx="53341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ownward trends are beginning to emerge in most economi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342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7e9ce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ctober statistics rais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red flag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several countries, in particular Croatia, Montenegro, Macedo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4572000"/>
            <a:ext cx="8001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truction and tourism sectors may also be hit hard (no data available yet plus effects there come with a time la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429000" y="1752480"/>
          <a:ext cx="5715000" cy="27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752480"/>
                    <a:ext cx="5715000" cy="27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GDP growth is projected to slow down in 2009 throughout SEE…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28600" y="1719360"/>
          <a:ext cx="8686800" cy="410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19360"/>
                    <a:ext cx="8686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22:59:37Z</dcterms:created>
  <dc:creator>Teuta Kacaniku</dc:creator>
  <dc:description/>
  <dc:language>en-US</dc:language>
  <cp:lastModifiedBy>wb296747</cp:lastModifiedBy>
  <dcterms:modified xsi:type="dcterms:W3CDTF">2008-12-15T11:47:26Z</dcterms:modified>
  <cp:revision>8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05763783</vt:r8>
  </property>
  <property fmtid="{D5CDD505-2E9C-101B-9397-08002B2CF9AE}" pid="3" name="_AuthorEmail">
    <vt:lpwstr>Ollivier.Bodin@ec.europa.eu</vt:lpwstr>
  </property>
  <property fmtid="{D5CDD505-2E9C-101B-9397-08002B2CF9AE}" pid="4" name="_AuthorEmailDisplayName">
    <vt:lpwstr>BODIN Ollivier (ELARG)</vt:lpwstr>
  </property>
  <property fmtid="{D5CDD505-2E9C-101B-9397-08002B2CF9AE}" pid="5" name="_EmailSubject">
    <vt:lpwstr>Temporary Webpage IFIAG</vt:lpwstr>
  </property>
  <property fmtid="{D5CDD505-2E9C-101B-9397-08002B2CF9AE}" pid="6" name="_NewReviewCycle">
    <vt:lpwstr/>
  </property>
</Properties>
</file>