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687B-22D0-4379-BF9A-93F37472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2D8-6CF2-4AC2-80A1-B0E14C20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80A-5CE6-460B-9B3C-079577E9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CCC-8486-4CB9-B5BB-99B0950A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7E5-CE6E-466E-9375-077EF52F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BB5-9677-4137-8744-AEB100C2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ECB3-1738-4C37-8322-375951F0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64B7-9E6C-41E0-9A51-18C80710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3BFA-4A8E-43B0-A658-113D90AB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25B0-D82E-47CA-AEA6-7F7FC1B4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15E3-BE1C-469B-AE8D-C652DA12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663-90AB-4862-88D4-B13F91EE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9667-A3F3-4E57-8646-EA7912E9B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0D84-92FA-463D-91C7-C3959BA70C0E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26920" y="4724280"/>
            <a:ext cx="6553080" cy="1441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4724280"/>
            <a:ext cx="662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A CRISIS RESPPONSE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Financial Cr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FI Advisory Group,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15 Decem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89B6-9621-4E0A-B168-6158A77AF012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99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e constraints of financial institutions to continue lending to 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the implementation of highly needed municipal infrastructure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ure sustaining finance in the field of energy effici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itution building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forms &amp; measures to increase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ea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€120 million grant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€500 million loa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2800"/>
            </a:b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bjectives and mea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69EB-74B0-4FA7-B30D-7D3E7ED926DB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micro-credits through EF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SME Loans through new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lending to increase Energy Efficiency through the EEFF (Energy Efficiency Finance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Municipal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a Regional Competitiveness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strengthening cooperation between financial sector supervisors and regulators in South East Europe and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Individu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E40E-2DA2-4A50-B015-ED688F25DA92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aximise visibility among business, investors an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lose cooperation with partner IFIs (EIB, EBRD, CEB, KfW, World Bank Grou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operation with OECD Investment Compact for competitiveness related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operation with European Central Bank and national central banks for financial sector and super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Key Principle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FD77-A42D-41EC-85B7-6DEEAE6080A4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27936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Meanwhil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07C5-7C84-4FAB-ACFA-16143E3DC313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Accelerate implementation of ongoing programmes, particularly for infrastructure investmen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PF endowed already with significant resources: €87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PF – TA Window: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€ 16 million + € 16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PF - Municipal Window: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€ 2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PF Kosovo Window: 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€2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PF Albania Window: 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€7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Focus on short-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00880" y="2882880"/>
            <a:ext cx="344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42:32Z</dcterms:created>
  <dc:creator>Caitriona Ni Raghallaigh</dc:creator>
  <dc:description/>
  <dc:language>en-US</dc:language>
  <cp:lastModifiedBy>bummado</cp:lastModifiedBy>
  <dcterms:modified xsi:type="dcterms:W3CDTF">2008-12-15T12:18:35Z</dcterms:modified>
  <cp:revision>1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06793237</vt:r8>
  </property>
  <property fmtid="{D5CDD505-2E9C-101B-9397-08002B2CF9AE}" pid="3" name="_AuthorEmail">
    <vt:lpwstr>Domenica.BUMMA@ext.ec.europa.eu</vt:lpwstr>
  </property>
  <property fmtid="{D5CDD505-2E9C-101B-9397-08002B2CF9AE}" pid="4" name="_AuthorEmailDisplayName">
    <vt:lpwstr>BUMMA Domenica (ELARG-EXT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  <property fmtid="{D5CDD505-2E9C-101B-9397-08002B2CF9AE}" pid="7" name="_PreviousAdHocReviewCycleID">
    <vt:r8>-584475454</vt:r8>
  </property>
</Properties>
</file>