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E72B-9AB8-4081-94FF-FFB2E6660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06BB-40D4-4344-9B36-4DF68393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9C15-6B3C-4B20-95F2-760BB39B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C5F7-072F-4C2A-8211-E9AA70F7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CB5D-B4E5-44A3-9137-7E20579B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1F88-6434-422D-ADA7-E696A797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2B93-8128-42B5-A371-EF0A0AEA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29BE-48F5-4A91-A715-8D488E1F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7911-32F0-4686-9EED-C784FE1F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4FB9-FB00-4BFF-AB53-4B3C17CC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15CE-66CE-4FAF-B536-A46EF471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C27C-81E3-4DDC-AD63-38B4155F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7C11-85ED-4256-ADD0-C7FB66F5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7A0D-A6D1-4096-8F10-EAAD12CA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033C-1B31-42AE-B6FB-CE5DD3D7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B60D-AC6E-4CED-90A2-2F28E69B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9491-E942-4D03-9EF9-FFAD4828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B3B0-0395-4152-B90C-1E37F29F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50D0-382B-413F-A555-0E080B9F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2BF6-B969-4D2B-B41F-C42029F3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A672-EEA4-4BB3-98E2-E7CB8438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50DF-321F-401C-8342-3FA00733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C6FB-BA05-467C-A936-DE76D9AF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0038-303B-4A94-B2D6-EB7F8B9B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18A0-A601-4C67-9B5C-11773BC52B7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FDC8-486D-4743-8580-8FD23D34B67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croeconomic Developments: Western Balka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I Advisory Group Video Confere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cember 15, 200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tional Monetary Fu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our them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d of a strong-growth/stable-inflation period in Western Balkan (SEE) countr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od internal balance outcomes came at the cost of rising external/financial stability risks. Crisis is now “unmasking” these risk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hindsight, past fiscal policy behavior was quite procyclical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thinking of macro outlook: work in progress, along several dimens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owth in SEE has been strong, and inflation performance satisfactory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632448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..but internal balance came at the cost of large and growing external imbalances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6324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... and growing risks to financial stability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8229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7696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286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 hindsight, fiscal policy stance was procyclical. Implication: Now no scope for countercyclical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1752480"/>
            <a:ext cx="6477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A very different environment has shaped up over the last few months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ding partner import growth dow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(still) V-shaped recovery in 201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mittances: downside ris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rms of trade: metals vs. energ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no “Ukraine-style” meltdow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pital inflows smaller and more cost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how fas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here we are in terms of macro outlook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owth: V-shaped, but rethinking seems underwa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flation: stable/re-assuring, but what role will exchange rate play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ternal imbalances: little adjustment projected, but how realistic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20:26:28Z</dcterms:created>
  <dc:creator>Tokhir Mirzoev</dc:creator>
  <dc:description/>
  <dc:language>en-US</dc:language>
  <cp:lastModifiedBy>bodinol</cp:lastModifiedBy>
  <dcterms:modified xsi:type="dcterms:W3CDTF">2008-12-19T18:44:44Z</dcterms:modified>
  <cp:revision>11</cp:revision>
  <dc:subject/>
  <dc:title>Macroeconomic Developments: Western Balk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