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82E-141B-4D52-A19B-EB34EA91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775-B546-44C0-A15A-5F16EB0E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3EF-3555-439A-895B-B6352EA0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195-51A5-45B0-9959-8182524F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F36-851C-42B3-8A89-B7A8DF2B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92D-41C5-4D3D-BF72-5484D022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9BD-17EE-4602-A46F-357C786C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9F9-74E7-4C1C-A219-CF8478A3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386-0F0B-4FF9-848D-15AD7E7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688-A5FC-49B6-B29A-E276BCC4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A72-5FCE-4F62-BDBA-CA189E45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A4D-D9CC-44AA-858A-012D870F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ED49-92DA-4802-93BF-E59F66D3B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4C84-CF76-4C80-B2B8-57F32B772A2F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724280"/>
            <a:ext cx="6553080" cy="144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724280"/>
            <a:ext cx="662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 CRISIS RESPPONS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Financial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FI Advisory Group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15 Dec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671B-127F-4AF4-B98E-53BB51C78308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e constraints of financial institutions to continue lending to 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 implementation of highly needed municipal infrastructur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 sustaining finance in the field of energy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 building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forms &amp; measures to increase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a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€120 million gra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€500 million lo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2800"/>
            </a:b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bjectives and mea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0DA7-A5E4-4388-BE24-EEC82F20A23E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icro-credits through EF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ME Loans through new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lending to increase Energy Efficiency through the EEFF (Energy Efficiency Finance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unicipal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a Regional Competitivenes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trengthening cooperation between financial sector supervisors and regulators in South East Europe and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269C-0B3C-4946-BB2F-444E0547F9D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aximise visibility among business, investors an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lose cooperation with partner IFIs (EIB, EBRD, CEB, KfW, World Bank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OECD Investment Compact for competitiveness related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European Central Bank and national central banks for financial sector and 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Key Principle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63A0-0660-49B4-9095-37F8FA4A120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7936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Meanwhil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1013-17BA-4386-BBF1-B06F349CFE1C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ccelerate implementation of ongoing programmes, particularly for infrastructure invest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PF endowed already with significant resources: €87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– TA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16 million + € 1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- Municipal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Kosovo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Albania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7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Focus on short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00880" y="2882880"/>
            <a:ext cx="34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bummado</cp:lastModifiedBy>
  <dcterms:modified xsi:type="dcterms:W3CDTF">2008-12-15T12:18:35Z</dcterms:modified>
  <cp:revision>1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6793237</vt:r8>
  </property>
  <property fmtid="{D5CDD505-2E9C-101B-9397-08002B2CF9AE}" pid="3" name="_AuthorEmail">
    <vt:lpwstr>Domenica.BUMMA@ext.ec.europa.eu</vt:lpwstr>
  </property>
  <property fmtid="{D5CDD505-2E9C-101B-9397-08002B2CF9AE}" pid="4" name="_AuthorEmailDisplayName">
    <vt:lpwstr>BUMMA Domenica (ELARG-EXT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  <property fmtid="{D5CDD505-2E9C-101B-9397-08002B2CF9AE}" pid="7" name="_PreviousAdHocReviewCycleID">
    <vt:r8>-584475454</vt:r8>
  </property>
</Properties>
</file>